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54109-F4FC-412B-B802-BD1C25D70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63B83-B419-4B4E-B83A-F9F412853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92176-01D9-4715-8D14-FCF9EDC68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D57E2-D9DF-41AA-AD14-24110F08C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28F62-28CC-4537-9F1C-74C04CEDC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EB083-406C-4636-8826-F5BE20DCB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FA650-9422-4F0D-B36C-F7A3D5C01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644DE-F548-430C-A473-C6FED0627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0AF78-8177-4F41-B56C-90EB6DD4E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33AEF-9AAE-4BF8-A068-D04ECEC63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7E83D-D70C-40C4-B399-FD033B712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ED01E-AC21-4984-8649-870A8DF13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93F1F-AC4C-40A5-8E09-675A371E8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02197-3510-453C-82F1-0B7FE1874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6A42F-62D6-45D6-ABDB-2567ADA06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95BBC-4773-461A-9366-5B8D7F6F2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722CA-B519-4BD8-AD31-E647FE7E1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0EE93-F712-4739-9DEF-9292180BC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25977-7264-44B8-8CB6-6F1366C67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9D54D-367C-411B-9742-E221A3A1A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9C93F-33B7-4D01-8725-B6A8D30CD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E1BE9-D709-4F50-B5A5-3E8679909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FBA8C-4EDB-44CA-94C9-6D873268C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46012-84C3-49AC-87B5-FF1AFED63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425F4-0B48-4797-8D05-56577F7DE609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9CE96-B42C-4F33-8706-7E193C78E74A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Родительский клуб </a:t>
            </a:r>
            <a:br>
              <a:rPr sz="4800"/>
            </a:b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«Улыбка»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26920" y="3428640"/>
            <a:ext cx="784872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2013-2014 учебном год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ыполнила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Чурсина М.П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57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В 2013-2014 году в клубе было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организовано (согласно плану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 заседаний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Основными задачами проводимых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заседаний являлись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Повышение родительской компетентности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Налаживание конструктивного диалога между родителями и педагогами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Создание доверительной атмосферы в общении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250920" y="476280"/>
            <a:ext cx="7559640" cy="565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330066"/>
                </a:solidFill>
                <a:latin typeface="Arial"/>
              </a:rPr>
              <a:t>Спасибо педагогам, принявшим активное и творческое участие в работе клуба.</a:t>
            </a:r>
            <a:endParaRPr b="1" lang="en-US" sz="27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Токаревой И.А., </a:t>
            </a: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Курамшиной А.В.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Большаковой Е.Н., </a:t>
            </a: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Дуваниной Ю.В.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Рыбкиной Е.В., </a:t>
            </a: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Дорофеевой И.Х.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Фокиной А.В.</a:t>
            </a: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Гостениной Е.Е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Филипповой О.В.</a:t>
            </a: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Сизоненко М.О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Рыбковой Е.Н.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330066"/>
                </a:solidFill>
                <a:latin typeface="Arial"/>
              </a:rPr>
              <a:t>Надеемся на ваше активное участие в реализации заседаний в следующем году.</a:t>
            </a:r>
            <a:endParaRPr b="1" lang="en-US" sz="27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457200" y="1719360"/>
          <a:ext cx="8229600" cy="4884480"/>
        </p:xfrm>
        <a:graphic>
          <a:graphicData uri="http://schemas.openxmlformats.org/drawingml/2006/table">
            <a:tbl>
              <a:tblPr/>
              <a:tblGrid>
                <a:gridCol w="2284560"/>
                <a:gridCol w="1250640"/>
                <a:gridCol w="1721160"/>
                <a:gridCol w="2973240"/>
              </a:tblGrid>
              <a:tr h="296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роприят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дагог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держание работ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1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минар Татьяны Вячеславовны Грузиновой, руководителя логопедического центра “Территория речи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.09.20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атьяна Вячеславовна Грузинова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ководитель клуба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формирование родителей о работе родительского клуба в 2014-2015 учебном году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минар Татьяны Вячеславовны Грузиново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дительский всеобуч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Зачем человеку родители…»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.10.20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ководитель клуба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дагог-психолог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циальный педаго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формирование родителей о работе родительского клуба в 2014-2015 учебном году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ско-родительское взаимодействие: сущность, характеристика, типология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стер-класс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Конструктивная аппликация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родители с детьми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.11. 20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ководитель клуба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спитател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ирование у родителей базовых технических умений и осознание развивающих возможностей конструктивно- и изобразительной деятельности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углый сто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Мамины тревоги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ли Когда нужен специалист?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12.20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дагог-психолог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ководитель клуба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означение роли близких в выявлении признаков неблагополучия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учение приемам выявления неблагополучия в развитии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формирование о специалистах и организациях, способных оказать помощь семье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26560" y="278136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СПАСИБО ЗА ВНИМАНИЕ!!!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6T14:22:31Z</dcterms:created>
  <dc:creator>Мария</dc:creator>
  <dc:description/>
  <dc:language>en-US</dc:language>
  <cp:lastModifiedBy>Мария</cp:lastModifiedBy>
  <dcterms:modified xsi:type="dcterms:W3CDTF">2015-04-30T08:14:41Z</dcterms:modified>
  <cp:revision>8</cp:revision>
  <dc:subject/>
  <dc:title>Родительский клуб  «Улыбка»</dc:title>
</cp:coreProperties>
</file>