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458FE-3B01-4419-99DC-1A1FA6341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69BAF-FC76-468F-BC70-E6FCF9404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05C8C-8CDE-4C55-9C39-444BAF0C3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A114B-C979-474A-B20E-7D40C2CED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1242B-0316-4259-852B-0A2352F16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6CBC1-059D-4DAE-876F-4F27626DE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2FF8A-AE21-40F6-B681-76199B800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6DCE5-0CE4-4720-B859-431137C2F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F4DF0-7706-4886-B992-5E9E94F1F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F8EFB-4F3A-49FA-966B-346C1FBED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61BF1-BB57-4FA8-B2F5-AF08B29F3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4FDED-BF72-4800-81A3-7002DC713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77F06-F488-4A5E-A7DC-35EDFBBB4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5AE1A-0524-485F-8EE1-C42E614D2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BEE81-6220-4237-991F-2EBA0B262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7FF80-ECA9-4665-8FB9-61EDE0BE8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9741E-4185-483A-9E37-D7C4886D8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741CA-5AFF-4F1E-BCB1-F3126743C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7D31C-4738-419D-81D3-89759B6CF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63A28-8699-4F77-BCCC-9151A7294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17FE2-7E3E-44DA-B447-C43CAFB34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2B9CE-1B1E-4F1C-B0FD-A003F527A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45562-FCBE-4A44-9A3C-6DFC10A73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6FA97-1AA2-49DA-9211-8D62513DB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6A196-FA47-4BE5-AE1B-C8FD43EA134D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F554A-B52C-4498-A1A4-9F1F98D37AAE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Родительский клуб </a:t>
            </a:r>
            <a:br>
              <a:rPr sz="4800"/>
            </a:b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«Улыбка»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26920" y="3428640"/>
            <a:ext cx="784872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2013-2014 учебном год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ыполнила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Чурсина М.П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57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В 2013-2014 году в клубе было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организовано (согласно плану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 заседаний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Основными задачами проводимых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заседаний являлись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Повышение родительской компетентности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Налаживание конструктивного диалога между родителями и педагогами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Создание доверительной атмосферы в общении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250920" y="476280"/>
            <a:ext cx="7559640" cy="565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330066"/>
                </a:solidFill>
                <a:latin typeface="Arial"/>
              </a:rPr>
              <a:t>Спасибо педагогам, принявшим активное и творческое участие в работе клуба.</a:t>
            </a:r>
            <a:endParaRPr b="1" lang="en-US" sz="27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Токаревой И.А., </a:t>
            </a: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Курамшиной А.В.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Большаковой Е.Н., </a:t>
            </a: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Дуваниной Ю.В.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Рыбкиной Е.В., </a:t>
            </a: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Дорофеевой И.Х.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Фокиной А.В.</a:t>
            </a: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Гостениной Е.Е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Филипповой О.В.</a:t>
            </a: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Сизоненко М.О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Рыбковой Е.Н.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330066"/>
                </a:solidFill>
                <a:latin typeface="Arial"/>
              </a:rPr>
              <a:t>Надеемся на ваше активное участие в реализации заседаний в следующем году.</a:t>
            </a:r>
            <a:endParaRPr b="1" lang="en-US" sz="27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457200" y="1719360"/>
          <a:ext cx="8229600" cy="4884480"/>
        </p:xfrm>
        <a:graphic>
          <a:graphicData uri="http://schemas.openxmlformats.org/drawingml/2006/table">
            <a:tbl>
              <a:tblPr/>
              <a:tblGrid>
                <a:gridCol w="2284560"/>
                <a:gridCol w="1250640"/>
                <a:gridCol w="1721160"/>
                <a:gridCol w="2973240"/>
              </a:tblGrid>
              <a:tr h="296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роприят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дагог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держание работ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1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минар Татьяны Вячеславовны Грузиновой, руководителя логопедического центра “Территория речи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.09.20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атьяна Вячеславовна Грузинова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ководитель клуба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формирование родителей о работе родительского клуба в 2014-2015 учебном году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минар Татьяны Вячеславовны Грузиново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дительский всеобуч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Зачем человеку родители…»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.10.20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ководитель клуба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дагог-психолог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циальный педаго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формирование родителей о работе родительского клуба в 2014-2015 учебном году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ско-родительское взаимодействие: сущность, характеристика, типология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стер-класс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Конструктивная аппликация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родители с детьми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.11. 20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ководитель клуба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спитател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ирование у родителей базовых технических умений и осознание развивающих возможностей конструктивно- и изобразительной деятельности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углый сто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Мамины тревоги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ли Когда нужен специалист?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12.20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дагог-психолог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ководитель клуба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означение роли близких в выявлении признаков неблагополучия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учение приемам выявления неблагополучия в развитии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формирование о специалистах и организациях, способных оказать помощь семье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26560" y="278136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СПАСИБО ЗА ВНИМАНИЕ!!!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6T14:22:31Z</dcterms:created>
  <dc:creator>Мария</dc:creator>
  <dc:description/>
  <dc:language>en-US</dc:language>
  <cp:lastModifiedBy>Мария</cp:lastModifiedBy>
  <dcterms:modified xsi:type="dcterms:W3CDTF">2015-04-30T08:14:41Z</dcterms:modified>
  <cp:revision>8</cp:revision>
  <dc:subject/>
  <dc:title>Родительский клуб  «Улыбка»</dc:title>
</cp:coreProperties>
</file>