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9CA4-ECE3-4DFB-9F91-1AE79D7A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63A2-3CB5-4C9D-A7DE-D601A029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D0F0-CEB1-4FA0-BE1D-37F757EB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F72F-71EC-419B-92B8-7A819ED5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BEA-A462-429E-B272-D5070C98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7C7-3ABA-4070-BF27-D573BFBA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633C-4DA6-4784-A24A-C6003A85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27EC-67A7-43C6-B54B-61DC96C7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E38B-C100-4153-8C70-9FCEA704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2F0E-5931-45DA-BD9C-5200C290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73E-B623-4AFF-A597-E2420DCE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0F44-9C10-4725-A543-7E41D91C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1926-EE99-4A8B-844E-F487F356C3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жданско-патриотическое воспитание дошколь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User\Desktop\Патриотическое воспитание\патриотизм\сканированные фото\1.jpg"/>
          <p:cNvPicPr/>
          <p:nvPr/>
        </p:nvPicPr>
        <p:blipFill>
          <a:blip r:embed="rId1"/>
          <a:stretch/>
        </p:blipFill>
        <p:spPr>
          <a:xfrm>
            <a:off x="571680" y="357120"/>
            <a:ext cx="1763640" cy="290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User\Desktop\Патриотическое воспитание\патриотизм\сканированные фото\2.jpg"/>
          <p:cNvPicPr/>
          <p:nvPr/>
        </p:nvPicPr>
        <p:blipFill>
          <a:blip r:embed="rId2"/>
          <a:stretch/>
        </p:blipFill>
        <p:spPr>
          <a:xfrm>
            <a:off x="4857840" y="3643200"/>
            <a:ext cx="337824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5715000" y="1071720"/>
            <a:ext cx="3267000" cy="241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4"/>
          <a:stretch/>
        </p:blipFill>
        <p:spPr>
          <a:xfrm>
            <a:off x="1000080" y="371484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5"/>
          <a:stretch/>
        </p:blipFill>
        <p:spPr>
          <a:xfrm>
            <a:off x="2428920" y="1214280"/>
            <a:ext cx="32148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4286160" y="857160"/>
            <a:ext cx="3929040" cy="2946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3000240" y="3571920"/>
            <a:ext cx="3786480" cy="2838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642960" y="785880"/>
            <a:ext cx="312408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 rot="20483400">
            <a:off x="374400" y="460080"/>
            <a:ext cx="3357360" cy="2894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 rot="667800">
            <a:off x="6117840" y="182160"/>
            <a:ext cx="2176560" cy="2903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3500280" y="214200"/>
            <a:ext cx="2678400" cy="3643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4"/>
          <a:stretch/>
        </p:blipFill>
        <p:spPr>
          <a:xfrm rot="20275200">
            <a:off x="1143000" y="2863440"/>
            <a:ext cx="2235240" cy="3478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5"/>
          <a:stretch/>
        </p:blipFill>
        <p:spPr>
          <a:xfrm rot="742200">
            <a:off x="6072120" y="2785680"/>
            <a:ext cx="2598840" cy="3579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6"/>
          <a:stretch/>
        </p:blipFill>
        <p:spPr>
          <a:xfrm>
            <a:off x="3857760" y="3429000"/>
            <a:ext cx="20001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3976920" cy="2982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4500720" y="857160"/>
            <a:ext cx="4214520" cy="2970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357120" y="3929040"/>
            <a:ext cx="3857760" cy="2575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4"/>
          <a:stretch/>
        </p:blipFill>
        <p:spPr>
          <a:xfrm>
            <a:off x="4714920" y="3905280"/>
            <a:ext cx="37861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714240" y="571680"/>
            <a:ext cx="3571920" cy="2678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14880" y="10000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1785960" y="3429000"/>
            <a:ext cx="3571920" cy="2679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5143680" y="364320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-360" y="1214280"/>
            <a:ext cx="407196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«Воспитание любви к родному краю, к родной культуре, к родному городу, к родной речи – задача первостепенной важности, и нет необходимости это доказывать. Но как воспитать эту любовь? Она начинается с малого – с любви к своей семье, к своему дому. Постоянно расширяясь, эта любовь к родному переходит в любовь к своему государству, к его истории, его прошлому и настоящему, а затем ко всему человечеству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 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Академик Д.С.Лихач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C:\Users\User\Desktop\береза.jpg"/>
          <p:cNvPicPr/>
          <p:nvPr/>
        </p:nvPicPr>
        <p:blipFill>
          <a:blip r:embed="rId1"/>
          <a:stretch/>
        </p:blipFill>
        <p:spPr>
          <a:xfrm>
            <a:off x="4143240" y="128592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785880" y="785880"/>
            <a:ext cx="785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Как у маленького деревца, еле поднявшегося над землей, заботливый садовник укрепляет корень, от мощности которого зависит жизнь растения на протяжении нескольких десятилетий, так педагог должен заботиться о воспитании у своих детей чувства безграничной любви к Роди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                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В.А. Сухомл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:\Users\User\Desktop\алейск.jpg"/>
          <p:cNvPicPr/>
          <p:nvPr/>
        </p:nvPicPr>
        <p:blipFill>
          <a:blip r:embed="rId1"/>
          <a:stretch/>
        </p:blipFill>
        <p:spPr>
          <a:xfrm>
            <a:off x="714240" y="27860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Users\User\Desktop\алейск 2.jpg"/>
          <p:cNvPicPr/>
          <p:nvPr/>
        </p:nvPicPr>
        <p:blipFill>
          <a:blip r:embed="rId2"/>
          <a:stretch/>
        </p:blipFill>
        <p:spPr>
          <a:xfrm>
            <a:off x="2143080" y="4572000"/>
            <a:ext cx="2906640" cy="1928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C:\Users\User\Desktop\алейск3.jpg"/>
          <p:cNvPicPr/>
          <p:nvPr/>
        </p:nvPicPr>
        <p:blipFill>
          <a:blip r:embed="rId3"/>
          <a:stretch/>
        </p:blipFill>
        <p:spPr>
          <a:xfrm>
            <a:off x="4071960" y="2786040"/>
            <a:ext cx="2714760" cy="1976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C:\Users\User\Desktop\алейск4.jpg"/>
          <p:cNvPicPr/>
          <p:nvPr/>
        </p:nvPicPr>
        <p:blipFill>
          <a:blip r:embed="rId4"/>
          <a:stretch/>
        </p:blipFill>
        <p:spPr>
          <a:xfrm>
            <a:off x="6143760" y="4429080"/>
            <a:ext cx="27622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900108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ормативно-правовая база по патриотическому воспитанию дошколь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5480" y="18568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нституция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осударственная программа «Патриотическое воспитание граждан Российской Федерации на 2011-2015 год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Федеральный закон  «Об образовании в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Федеральный закон «О днях воинской славы и памятных датах России» от 13 марта 1995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Федеральный закон «Об увековечении  Победы советского народа в Великой Отечественной войне 1941-1945 г.г.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ациональная доктрина образования в Р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нцепция патриотического воспитания граждан РФ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14200" y="740520"/>
            <a:ext cx="85726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Патриотическое воспитание – это процесс освоения, наследия традиционной отечественной культуры, формирование отношения к стране и государству, где живёт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Патриотизм – это преданность и любовь к Родине, к ее природе, культуре, на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Куда делись русские имена?"/>
          <p:cNvPicPr/>
          <p:nvPr/>
        </p:nvPicPr>
        <p:blipFill>
          <a:blip r:embed="rId1"/>
          <a:stretch/>
        </p:blipFill>
        <p:spPr>
          <a:xfrm>
            <a:off x="357120" y="4000680"/>
            <a:ext cx="3714840" cy="247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C:\Users\User\Desktop\кремль.jpg"/>
          <p:cNvPicPr/>
          <p:nvPr/>
        </p:nvPicPr>
        <p:blipFill>
          <a:blip r:embed="rId2"/>
          <a:stretch/>
        </p:blipFill>
        <p:spPr>
          <a:xfrm>
            <a:off x="5500800" y="3929040"/>
            <a:ext cx="3357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4486320" y="642960"/>
            <a:ext cx="4371840" cy="2928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2928960" y="3643200"/>
            <a:ext cx="371304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C:\Users\User\Desktop\Патриотическое воспитание\алтай\getImage (3).jpg"/>
          <p:cNvPicPr/>
          <p:nvPr/>
        </p:nvPicPr>
        <p:blipFill>
          <a:blip r:embed="rId1"/>
          <a:stretch/>
        </p:blipFill>
        <p:spPr>
          <a:xfrm>
            <a:off x="3071880" y="1643040"/>
            <a:ext cx="2840040" cy="4022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Users\User\Desktop\Патриотическое воспитание\алтай\getImage (1).jpg"/>
          <p:cNvPicPr/>
          <p:nvPr/>
        </p:nvPicPr>
        <p:blipFill>
          <a:blip r:embed="rId2"/>
          <a:stretch/>
        </p:blipFill>
        <p:spPr>
          <a:xfrm>
            <a:off x="285840" y="857160"/>
            <a:ext cx="2808360" cy="397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User\Desktop\Патриотическое воспитание\алтай\getImage (4).jpg"/>
          <p:cNvPicPr/>
          <p:nvPr/>
        </p:nvPicPr>
        <p:blipFill>
          <a:blip r:embed="rId3"/>
          <a:stretch/>
        </p:blipFill>
        <p:spPr>
          <a:xfrm>
            <a:off x="5929200" y="2286000"/>
            <a:ext cx="294336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3690720" cy="2768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4572000" y="785880"/>
            <a:ext cx="3689280" cy="2766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2714760" y="3643200"/>
            <a:ext cx="36907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C:\Users\User\Desktop\кжель.jpg"/>
          <p:cNvPicPr/>
          <p:nvPr/>
        </p:nvPicPr>
        <p:blipFill>
          <a:blip r:embed="rId1"/>
          <a:stretch/>
        </p:blipFill>
        <p:spPr>
          <a:xfrm>
            <a:off x="857160" y="785880"/>
            <a:ext cx="3495600" cy="2703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Users\User\Desktop\хохлома.jpg"/>
          <p:cNvPicPr/>
          <p:nvPr/>
        </p:nvPicPr>
        <p:blipFill>
          <a:blip r:embed="rId2"/>
          <a:stretch/>
        </p:blipFill>
        <p:spPr>
          <a:xfrm>
            <a:off x="4500720" y="3714840"/>
            <a:ext cx="4405320" cy="2643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C:\Users\User\Desktop\дымковская.jpg"/>
          <p:cNvPicPr/>
          <p:nvPr/>
        </p:nvPicPr>
        <p:blipFill>
          <a:blip r:embed="rId3"/>
          <a:stretch/>
        </p:blipFill>
        <p:spPr>
          <a:xfrm>
            <a:off x="428760" y="3714840"/>
            <a:ext cx="3524040" cy="264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Users\User\Desktop\городец.jpg"/>
          <p:cNvPicPr/>
          <p:nvPr/>
        </p:nvPicPr>
        <p:blipFill>
          <a:blip r:embed="rId4"/>
          <a:stretch/>
        </p:blipFill>
        <p:spPr>
          <a:xfrm>
            <a:off x="4643280" y="1214280"/>
            <a:ext cx="39006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7:49:41Z</dcterms:created>
  <dc:creator>User</dc:creator>
  <dc:description/>
  <dc:language>en-US</dc:language>
  <cp:lastModifiedBy>ДС № 10</cp:lastModifiedBy>
  <dcterms:modified xsi:type="dcterms:W3CDTF">2015-03-23T09:33:18Z</dcterms:modified>
  <cp:revision>44</cp:revision>
  <dc:subject/>
  <dc:title>Слайд 1</dc:title>
</cp:coreProperties>
</file>