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64D-77B9-446C-869E-92F92A55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281-AA08-46DD-B5FD-3EDDC0CB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767-E2F2-4C34-A403-77BC8C08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6EF-07ED-48DE-8250-71BA6EA3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81E-EA4E-4A66-B5E7-243F902E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437-22FB-4758-A8AB-D489FA4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27D-A9AE-4CD0-8275-F31C3568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18E-A3E6-4219-B63C-CA02CBBE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862-CD5E-4CC2-B2AF-D0F62246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F43-8065-4357-B491-F2A8558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99B-5188-4629-B847-0F34A7D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10E-3C12-48C0-B5EF-9BFCA21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FEA-7AB9-47AD-B593-3DEAEFEAF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ятно как средство выра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Ритм пят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62520" y="4343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Горбатовская Оксана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зобразительного искусства МБОУ СОШ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МАО – Югра, город Ур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6560" y="9144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А. Дейн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 у ок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уашь, бел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.20 в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6" descr="000200.jpg"/>
          <p:cNvPicPr/>
          <p:nvPr/>
        </p:nvPicPr>
        <p:blipFill>
          <a:blip r:embed="rId1"/>
          <a:stretch/>
        </p:blipFill>
        <p:spPr>
          <a:xfrm>
            <a:off x="152280" y="609480"/>
            <a:ext cx="4676760" cy="606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609480" y="2209680"/>
            <a:ext cx="7925040" cy="2895840"/>
          </a:xfrm>
          <a:prstGeom prst="rect">
            <a:avLst/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4572000" y="2209680"/>
            <a:ext cx="3962520" cy="2895840"/>
          </a:xfrm>
          <a:prstGeom prst="rect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295280" y="2819520"/>
            <a:ext cx="6553440" cy="1523880"/>
          </a:xfrm>
          <a:prstGeom prst="rect">
            <a:avLst/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и тоже пятно может выглядеть светлым на более темном фоне и темным на более светлом ф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ное и светлое образуют контра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ст –  это противопо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ий контраст( черное и бел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контраст- противоположности сближ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523880" y="2666880"/>
            <a:ext cx="281952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523880" y="2666880"/>
            <a:ext cx="13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3657600" y="4800600"/>
            <a:ext cx="1447920" cy="914400"/>
          </a:xfrm>
          <a:prstGeom prst="rect">
            <a:avLst/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105520" y="4800600"/>
            <a:ext cx="1447560" cy="914400"/>
          </a:xfrm>
          <a:prstGeom prst="rect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нальная ш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23.jpg"/>
          <p:cNvPicPr/>
          <p:nvPr/>
        </p:nvPicPr>
        <p:blipFill>
          <a:blip r:embed="rId1"/>
          <a:stretch/>
        </p:blipFill>
        <p:spPr>
          <a:xfrm>
            <a:off x="304920" y="15238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роматические цвета – черный, белый и все оттенки се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23.jpg"/>
          <p:cNvPicPr/>
          <p:nvPr/>
        </p:nvPicPr>
        <p:blipFill>
          <a:blip r:embed="rId1"/>
          <a:stretch/>
        </p:blipFill>
        <p:spPr>
          <a:xfrm>
            <a:off x="2057400" y="2971800"/>
            <a:ext cx="4952880" cy="32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0492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рисунок используя  резкий контраст (например изображение пан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panda-finished.gif"/>
          <p:cNvPicPr/>
          <p:nvPr/>
        </p:nvPicPr>
        <p:blipFill>
          <a:blip r:embed="rId1"/>
          <a:stretch/>
        </p:blipFill>
        <p:spPr>
          <a:xfrm>
            <a:off x="2514600" y="1676520"/>
            <a:ext cx="2381400" cy="1780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i (2).jpg"/>
          <p:cNvPicPr/>
          <p:nvPr/>
        </p:nvPicPr>
        <p:blipFill>
          <a:blip r:embed="rId2"/>
          <a:stretch/>
        </p:blipFill>
        <p:spPr>
          <a:xfrm>
            <a:off x="7086600" y="1371600"/>
            <a:ext cx="175248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1329538-panda3.gif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desktopwallpapers.org.ua-6526.jpg"/>
          <p:cNvPicPr/>
          <p:nvPr/>
        </p:nvPicPr>
        <p:blipFill>
          <a:blip r:embed="rId4"/>
          <a:stretch/>
        </p:blipFill>
        <p:spPr>
          <a:xfrm>
            <a:off x="45720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ятн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основное средство изображения на плоск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на бывают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attitude-black-spots-white-31000.jpg"/>
          <p:cNvPicPr/>
          <p:nvPr/>
        </p:nvPicPr>
        <p:blipFill>
          <a:blip r:embed="rId1"/>
          <a:stretch/>
        </p:blipFill>
        <p:spPr>
          <a:xfrm>
            <a:off x="228600" y="137160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ink-spots-black-white.jpg"/>
          <p:cNvPicPr/>
          <p:nvPr/>
        </p:nvPicPr>
        <p:blipFill>
          <a:blip r:embed="rId2"/>
          <a:stretch/>
        </p:blipFill>
        <p:spPr>
          <a:xfrm>
            <a:off x="3200400" y="1295280"/>
            <a:ext cx="1981080" cy="2597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20425353_seruye_pyatna.jpg"/>
          <p:cNvPicPr/>
          <p:nvPr/>
        </p:nvPicPr>
        <p:blipFill>
          <a:blip r:embed="rId3"/>
          <a:stretch/>
        </p:blipFill>
        <p:spPr>
          <a:xfrm>
            <a:off x="5257800" y="1143000"/>
            <a:ext cx="3505320" cy="301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108826.jpg"/>
          <p:cNvPicPr/>
          <p:nvPr/>
        </p:nvPicPr>
        <p:blipFill>
          <a:blip r:embed="rId4"/>
          <a:stretch/>
        </p:blipFill>
        <p:spPr>
          <a:xfrm>
            <a:off x="228600" y="419112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3170478-black-stains.jpg"/>
          <p:cNvPicPr/>
          <p:nvPr/>
        </p:nvPicPr>
        <p:blipFill>
          <a:blip r:embed="rId5"/>
          <a:stretch/>
        </p:blipFill>
        <p:spPr>
          <a:xfrm>
            <a:off x="5562720" y="4114800"/>
            <a:ext cx="2539800" cy="252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ассоциации которые вызывает у вас черный ц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139760" y="12193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941880" y="9144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01160" y="5410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019920" y="548640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950440" y="36576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ин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10200" y="32004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в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035960" y="10666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 чем ассоциируется бел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507840" y="28195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103800" y="1371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712120" y="53341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40000" y="50292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848520" y="838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481800" y="36576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может назвать какие ассоциации вызывает серый ц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нылый, монотонный, безразличн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90520" y="106668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415840" y="5486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072440" y="48769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1T06:12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