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534D-72DD-4BFA-9085-16D70457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288D-D606-42DD-A206-F89892F4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E93-7789-41C3-B25A-081D1198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607B-9509-4EAA-9D2D-6EEADEF4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214-BCE7-4392-A35E-AC5FEB44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2DC4-802A-4D5C-AE8A-E0DB6C9A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1A0-A13B-4FFF-9672-600789AB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428-C01C-4AF5-9104-183CADE3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330-E325-4A80-82A1-6CBDBBF2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9EC-858A-45B7-AB3B-C8338C4A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B4F-BD46-4F83-AAC8-C98B64EA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C5D-AFE2-4103-BB12-34341486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D6A1-2BD1-4388-B7D5-5D2851D033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960" y="9792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Tahoma"/>
                <a:ea typeface="Tahoma"/>
              </a:rPr>
              <a:t>Семейное чтение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1550880" y="2637000"/>
            <a:ext cx="59817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11280" y="476280"/>
            <a:ext cx="7921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гры в ударение: правильное и неправиль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ение в словах звук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  показывать яркие, хорошо иллюстрированные книги, где мало текста и много картин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) Соблюдать возрастной подбор при выборе книг для чт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) Использовать  прием прерванного чт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) Попросить почитать книгу младшим братьям или бабуш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) Использовать метод подбадривания, похвалу, поощр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гативным фактором в формировании читателя-ребенка является и утрата традиций семейного чт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ая проблема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6560" y="1483920"/>
            <a:ext cx="77043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облема формирования правильного сознательного, беглого и выразительного чт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лавная задача учителя состоит в том, чтобы в беседах с родителями убедить их, что духовное развитие ребенка невозможно без постоянного общения с книг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80024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мятка для родителей (эта памятка дается родителям на собрании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00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ома должна быть библиотека не только взрослых книг, но и детск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дбор книг для детского чтения должен соответствовать возрасту, быть разнообразным по жанру и темат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и знакомстве с новой книгой научите ребенка рассматривать обложку, читать фамилию и инициалы автора, название книг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чите ребенка внимательно рассматривать иллюст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620640"/>
            <a:ext cx="842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итайте  вслух с ребенком не менее 20 – 30 минут ежеднев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бъяснить смысл трудных и непонятных слов, фраз и выраж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Хвалите ребенка за хорошее чтение, исправляйте ошибок, если он их допусти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просите, чем понравилась книга ребенку, что нового из нее узна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чите наизусть стихи, так как они развивают речь, память творческое мышление и фантаз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Просто чтение с ребенк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-первых, приносит младшим школьникам радость и сохраняет у них приоритетную любовь к книг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-вторых, помогает накоплению у детей разнообразных читательских пере­живаний, расширяет кругозор ребен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-третьих, такое чтение приучает к совместной деятельности со взрослы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00424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ПАМЯТК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бсуждать с ребенком прочитанное ?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1773000"/>
            <a:ext cx="8075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ясните перед чтением или во время чтения трудные сл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росите, понравилось ли ребенку прочитанное. Че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Что нового узна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просите его рассказать о главном герое, главном событии. Какие слова и выражения запомнились? Чему научила книг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едложите ребенку нарисовать картину к понравившемуся эпизоду, выучить отрывок, если это стихотвор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07552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А ДЛЯ ЧИТА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99640" y="1412640"/>
            <a:ext cx="7355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арайтесь читать вслух, не торопясь, глубже вникай в смысл прочитан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братите внимание на то, как ведут себя  герои книг, учись у них хороше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Закрывая книгу, подумай, чему она тебя научи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мей беречь кни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907920"/>
            <a:ext cx="68518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нятия, посвященные чтению, для учеников начальной школ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00000" y="2060640"/>
            <a:ext cx="650088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ные час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и внеклассного чт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000" y="162864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Семья – это особый социальный институт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вводящий ребёнка в мир культуры, в том числе и читательской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роприятия по семейному чтению с участием детей и родител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26920" y="1915920"/>
            <a:ext cx="734544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глый сто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наша любимая книг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«Книжка малышка»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565000"/>
            <a:ext cx="77864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вод: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емейное чт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целенаправленный непрерывный психолого-педагогический процесс совместного чтения детей и родителей с последующим обсуждением, анализом в любых форм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814716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ниги дают ребенку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ллектуальное и эмоциональное развит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язы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альное и образовательное развит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лияют на социализацию ли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14716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Плюсы семейного чтения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(на что направлено)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обствует овладению самостоятельным чтение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ирует эмоционально-эстетическое восприятие книг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ивает способности, являющиеся основой для восприятия художественных образов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процессе семейного: чтения дети учатся внимательно слушать, усваивать и пересказывать прочитанное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ый способ социализации подрастающего покол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мейное чтение может служить для профилактики ста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блемы семейного чтения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4920" y="126828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ирокое распространение новых технологий отодвинули книгу на второй план.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яется отношение к чтению у детей. Для чтения детей характерн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епенное снижение интереса к печатному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у,    падение престижа чт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кращение чтения в свободное врем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600200"/>
            <a:ext cx="82184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характера чт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обладание “делового” чтения на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ободным”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ание числа учащихс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раничивающихся чтением литера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ько по школьной програм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0424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сли чтение дается плохо (рекомендации и советы родителям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42920" y="1989000"/>
            <a:ext cx="7212240" cy="36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меть читать и хотеть читать – это не одно и то же.  К умению читать надо добавить желание  читать, желание общаться с книгой, рассматривать картинки в ней, узнавать что-то новое интересно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47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же делать если ребенок не умеет читать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280" y="1700280"/>
            <a:ext cx="7859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 Оценить уровень речевого развития ребен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ля речевого развития можно использовать следующие игры 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Я ласка, все вещи называю ласково: книга – книжечка и т.д.» У меня увеличительные очки. Все вокруг вижу в большом объеме. Например,  дом – домище и т.д. У каждой вещи свой характер. Например, у книжки - книжный и т.д.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5:57:40Z</dcterms:created>
  <dc:creator>111</dc:creator>
  <dc:description/>
  <dc:language>en-US</dc:language>
  <cp:lastModifiedBy>111</cp:lastModifiedBy>
  <dcterms:modified xsi:type="dcterms:W3CDTF">2014-03-27T17:22:41Z</dcterms:modified>
  <cp:revision>16</cp:revision>
  <dc:subject/>
  <dc:title>Семейное чтение</dc:title>
</cp:coreProperties>
</file>