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DF1-84D5-43B4-BF65-0012C8C2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B2B-A4A2-4516-98B3-F7B48E3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82A-E9ED-4137-904A-36509E8E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244-3C97-490E-A03A-73F6ECC4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3EA-0C46-4CB6-9312-F84F297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2E3-35DD-42FB-B32F-9819AF0F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9FE-7536-45F2-A4AD-1432CE16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CC7-0E38-43E2-9841-4FED55D6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2EB-22DA-453C-B294-F5F8B41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476-98F9-407C-89D9-5B1ECE4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30F-3B45-4D21-854B-F5F2B3A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635-5A8C-47E2-8E49-8BF931B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CC6-013E-436F-9BAD-41579E13E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9792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Tahoma"/>
                <a:ea typeface="Tahoma"/>
              </a:rPr>
              <a:t>Семейное чте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1550880" y="2637000"/>
            <a:ext cx="59817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476280"/>
            <a:ext cx="7921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гры в ударение: правильное и неправи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ение в словах зву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 показывать яркие, хорошо иллюстрированные книги, где мало текста и много картин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) Соблюдать возрастной подбор при выборе книг для чт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) Использовать  прием прерванного чт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) Попросить почитать книгу младшим братьям или бабуш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) Использовать метод подбадривания, похвалу, поощ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гативным фактором в формировании читателя-ребенка является и утрата традиций семей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ая проблем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560" y="1483920"/>
            <a:ext cx="77043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блема формирования правильного сознательного, беглого и выразительного чт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лавная задача учителя состоит в том, чтобы в беседах с родителями убедить их, что духовное развитие ребенка невозможно без постоянного общения с кни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024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мятка для родителей (эта памятка дается родителям на собрании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ома должна быть библиотека не только взрослых книг, но и детск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дбор книг для детского чтения должен соответствовать возрасту, быть разнообразным по жанру и тема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 знакомстве с новой книгой научите ребенка рассматривать обложку, читать фамилию и инициалы автора, название книг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е ребенка внимательно рассматривать иллюст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62064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итайте  вслух с ребенком не менее 20 – 30 минут ежедне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ъяснить смысл трудных и непонятных слов, фраз и выра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Хвалите ребенка за хорошее чтение, исправляйте ошибок, если он их допуст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росите, чем понравилась книга ребенку, что нового из нее узн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е наизусть стихи, так как они развивают речь, память творческое мышление и фантаз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Просто чтение с ребенк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-первых, приносит младшим школьникам радость и сохраняет у них приоритетную любовь к книг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-вторых, помогает накоплению у детей разнообразных читательских пере­живаний, расширяет кругозор ребен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-третьих, такое чтение приучает к совместной деятельности со взросл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00424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АМЯТ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бсуждать с ребенком прочитанное 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773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сните перед чтением или во время чтения трудные с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росите, понравилось ли ребенку прочитанное. Ч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то нового узна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просите его рассказать о главном герое, главном событии. Какие слова и выражения запомнились? Чему научила книг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ложите ребенку нарисовать картину к понравившемуся эпизоду, выучить отрывок, если это стихотво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07552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ДЛЯ ЧИТ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99640" y="1412640"/>
            <a:ext cx="7355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айтесь читать вслух, не торопясь, глубже вникай в смысл прочита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на то, как ведут себя  герои книг, учись у них хорош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крывая книгу, подумай, чему она тебя науч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мей беречь кни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68518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ятия, посвященные чтению, для учеников начальной школ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2060640"/>
            <a:ext cx="650088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ные час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и внекласс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162864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емья – это особый социальный институт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вводящий ребёнка в мир культуры, в том числе и читательской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оприятия по семейному чтению с участием детей и родит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920" y="1915920"/>
            <a:ext cx="73454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лый сто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наша любимая книг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«Книжка малышка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77864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емейное чт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целенаправленный непрерывный психолого-педагогический процесс совместного чтения детей и родителей с последующим обсуждением, анализом в любых фор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14716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ниги дают ребенк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ое и эмоциональное развит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язы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е и образовательное развит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ияют на социализацию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471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люсы семейного чт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на что направлено)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обствует овладению самостоятельным чтение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ует эмоционально-эстетическое восприятие книг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вает способности, являющиеся основой для восприятия художественных образ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роцессе семейного: чтения дети учатся внимательно слушать, усваивать и пересказывать прочитанное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ый способ социализации подрастающего поко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ейное чтение может служить для профилактики ста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блемы семейного чт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26828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окое распространение новых технологий отодвинули книгу на второй план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яется отношение к чтению у детей. Для чтения детей характер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епенное снижение интереса к печатному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у,    падение престижа чт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ие чтения в свободное врем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00200"/>
            <a:ext cx="82184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характера чт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обладание “делового” чтения н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ным”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ание числа учащих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ивающихся чтением литера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по школьной програм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042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чтение дается плохо (рекомендации и советы родителям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920" y="1989000"/>
            <a:ext cx="7212240" cy="36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меть читать и хотеть читать – это не одно и то же.  К умению читать надо добавить желание  читать, желание общаться с книгой, рассматривать картинки в ней, узнавать что-то новое интересно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же делать если ребенок не умеет читат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1700280"/>
            <a:ext cx="7859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Оценить уровень речевого развития ребен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ля речевого развития можно использовать следующие игры 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Я ласка, все вещи называю ласково: книга – книжечка и т.д.» У меня увеличительные очки. Все вокруг вижу в большом объеме. Например,  дом – домище и т.д. У каждой вещи свой характер. Например, у книжки - книжный и т.д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5:57:40Z</dcterms:created>
  <dc:creator>111</dc:creator>
  <dc:description/>
  <dc:language>en-US</dc:language>
  <cp:lastModifiedBy>111</cp:lastModifiedBy>
  <dcterms:modified xsi:type="dcterms:W3CDTF">2014-03-27T17:22:41Z</dcterms:modified>
  <cp:revision>16</cp:revision>
  <dc:subject/>
  <dc:title>Семейное чтение</dc:title>
</cp:coreProperties>
</file>