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19.jpeg" ContentType="image/jpeg"/>
  <Override PartName="/ppt/media/image5.png" ContentType="image/png"/>
  <Override PartName="/ppt/media/image18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A44-646F-487D-93F6-A8C3988D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B99-58A6-481A-B548-58EF567A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B57-3DB5-465C-82F0-0B72E8F1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98F-ECCD-472B-8CF1-15A0D5A4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B156-5533-4A12-8FE2-ADBCD58C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A657-2A7F-4279-A562-A5AB877B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DBDD-6710-479D-8527-8FB9DA74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463A-0ACD-42FD-943C-E40A4583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5B29-7009-486F-AAB6-1772DCAC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823E-23F2-42DE-8D69-816159EF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1C01-C5D6-4754-AFC3-57408A15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939-B780-4E65-9B65-71317C2B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6E16-B96C-424B-8031-2503F1F4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37D4-858E-4EE6-8FE7-743D6877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5911-F31A-4069-AAFC-D40FF613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C0B9-D733-4F7B-AE3A-E73AF5C3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0706-79BF-4320-9ADC-F3E3C33A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5BA-B29F-48B3-8173-1ECE5A7B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B0A-0774-4189-AED8-149E3776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702-AD00-48F3-96E9-DA0A4F42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D0B-F3FB-4E5E-9F6E-618598B2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02B-C0BB-44C1-8B89-3AE137E0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EDB6-AB78-4567-8C60-EDA5C0B7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943-FF6B-4CBF-8D90-3A1C2BFF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104F-3E43-481F-95C4-CBF1D6255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308D-6F44-4495-833B-32DDB6330E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javascript:void(0)" TargetMode="External"/><Relationship Id="rId2" Type="http://schemas.openxmlformats.org/officeDocument/2006/relationships/image" Target="../media/image1.png"/><Relationship Id="rId3" Type="http://schemas.openxmlformats.org/officeDocument/2006/relationships/hyperlink" Target="javascript:void(0)" TargetMode="External"/><Relationship Id="rId4" Type="http://schemas.openxmlformats.org/officeDocument/2006/relationships/image" Target="../media/image2.png"/><Relationship Id="rId5" Type="http://schemas.openxmlformats.org/officeDocument/2006/relationships/hyperlink" Target="javascript:void(0)" TargetMode="External"/><Relationship Id="rId6" Type="http://schemas.openxmlformats.org/officeDocument/2006/relationships/image" Target="../media/image3.png"/><Relationship Id="rId7" Type="http://schemas.openxmlformats.org/officeDocument/2006/relationships/hyperlink" Target="javascript:void(0)" TargetMode="External"/><Relationship Id="rId8" Type="http://schemas.openxmlformats.org/officeDocument/2006/relationships/image" Target="../media/image4.png"/><Relationship Id="rId9" Type="http://schemas.openxmlformats.org/officeDocument/2006/relationships/hyperlink" Target="javascript:void(0)" TargetMode="External"/><Relationship Id="rId10" Type="http://schemas.openxmlformats.org/officeDocument/2006/relationships/image" Target="../media/image5.png"/><Relationship Id="rId11" Type="http://schemas.openxmlformats.org/officeDocument/2006/relationships/hyperlink" Target="javascript:void(0)" TargetMode="Externa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ecff"/>
                </a:solidFill>
                <a:latin typeface="Edwardian Script ITC"/>
              </a:rPr>
              <a:t>Выбор </a:t>
            </a:r>
            <a:br>
              <a:rPr sz="7200"/>
            </a:br>
            <a:r>
              <a:rPr b="1" i="1" lang="en-US" sz="7200" spc="-1" strike="noStrike">
                <a:solidFill>
                  <a:srgbClr val="ccecff"/>
                </a:solidFill>
                <a:latin typeface="Edwardian Script ITC"/>
              </a:rPr>
              <a:t>профессии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tb_MCj0411061" descr="Имя файла: j0411061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8400" y="836640"/>
            <a:ext cx="1352520" cy="1512720"/>
          </a:xfrm>
          <a:prstGeom prst="rect">
            <a:avLst/>
          </a:prstGeom>
          <a:ln w="0">
            <a:noFill/>
          </a:ln>
        </p:spPr>
      </p:pic>
      <p:pic>
        <p:nvPicPr>
          <p:cNvPr id="213" name="tb_MCj0409835" descr="Имя файла: j0409835.wm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60280"/>
            <a:ext cx="1266840" cy="1584360"/>
          </a:xfrm>
          <a:prstGeom prst="rect">
            <a:avLst/>
          </a:prstGeom>
          <a:ln w="0">
            <a:noFill/>
          </a:ln>
        </p:spPr>
      </p:pic>
      <p:pic>
        <p:nvPicPr>
          <p:cNvPr id="214" name="tb_MCj0408010" descr="Имя файла: j0408010.wm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08720" y="981000"/>
            <a:ext cx="1171800" cy="1440000"/>
          </a:xfrm>
          <a:prstGeom prst="rect">
            <a:avLst/>
          </a:prstGeom>
          <a:ln w="0">
            <a:noFill/>
          </a:ln>
        </p:spPr>
      </p:pic>
      <p:pic>
        <p:nvPicPr>
          <p:cNvPr id="215" name="tb_MCj0404229" descr="Имя файла: j0404229.wm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941720"/>
            <a:ext cx="1393560" cy="1484640"/>
          </a:xfrm>
          <a:prstGeom prst="rect">
            <a:avLst/>
          </a:prstGeom>
          <a:ln w="0">
            <a:noFill/>
          </a:ln>
        </p:spPr>
      </p:pic>
      <p:pic>
        <p:nvPicPr>
          <p:cNvPr id="216" name="tb_MCj0404377" descr="Имя файла: j0404377.wm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4360" y="3716280"/>
            <a:ext cx="1290600" cy="1368360"/>
          </a:xfrm>
          <a:prstGeom prst="rect">
            <a:avLst/>
          </a:prstGeom>
          <a:ln w="0">
            <a:noFill/>
          </a:ln>
        </p:spPr>
      </p:pic>
      <p:pic>
        <p:nvPicPr>
          <p:cNvPr id="217" name="tb_MCj0404161" descr="Имя файла: j0404161.wm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86760" y="3860640"/>
            <a:ext cx="1280880" cy="136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87280" y="1413000"/>
            <a:ext cx="69138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Труд – это не только способ занять себя работой, но и возможность получения материального вознаграж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Деньги – это еще не 100% успеха, но без них в нашей жизни обойтись слож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http://animashky.ru/flist/obludi/14/11.gif"/>
          <p:cNvPicPr/>
          <p:nvPr/>
        </p:nvPicPr>
        <p:blipFill>
          <a:blip r:embed="rId1"/>
          <a:stretch/>
        </p:blipFill>
        <p:spPr>
          <a:xfrm>
            <a:off x="6804000" y="4653000"/>
            <a:ext cx="176868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39640" y="549360"/>
            <a:ext cx="80647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Edwardian Script ITC"/>
              </a:rPr>
              <a:t>Выб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В каком городе или стране вы находите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Какое у вас время год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Что вы будете делать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Что вы умеете дел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Что будет пот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В общем устройте свою жиз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6"/>
          <p:cNvPicPr/>
          <p:nvPr/>
        </p:nvPicPr>
        <p:blipFill>
          <a:blip r:embed="rId1"/>
          <a:stretch/>
        </p:blipFill>
        <p:spPr>
          <a:xfrm>
            <a:off x="6588000" y="2637000"/>
            <a:ext cx="2160720" cy="2052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9640" y="112536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Edwardian Script ITC"/>
              </a:rPr>
              <a:t>Подсобные работы – это временный заработок, а в целом необходимо учиться. Для того чтобы учиться какому-либо делу, необходимо для начала все-таки определиться в выборе, а для этого нужно знать свои возможности и способ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55640" y="1354320"/>
            <a:ext cx="817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Edwardian Script ITC"/>
              </a:rPr>
              <a:t>Профессий много на Земл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Edwardian Script ITC"/>
              </a:rPr>
              <a:t>Но выбирай, любя. Решай, мой друг, кем быть тебе. Ведь каждая из них важн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87440" cy="1727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7667640" y="260280"/>
            <a:ext cx="1328760" cy="165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3492360" y="4437000"/>
            <a:ext cx="2448000" cy="1806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9640" y="3213000"/>
            <a:ext cx="830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Edwardian Script ITC"/>
              </a:rPr>
              <a:t>Нет профессий плохих и хороших, бывают плохие и хорошие работник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979640" y="981000"/>
            <a:ext cx="547200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вам </a:t>
            </a:r>
            <a:endParaRPr b="1" i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пеха</a:t>
            </a:r>
            <a:endParaRPr b="1" i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16000" y="47628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e1ff"/>
                </a:solidFill>
                <a:latin typeface="Monotype Corsiva"/>
              </a:rPr>
              <a:t>Что такое профессия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2133720"/>
            <a:ext cx="70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офессия – это вид трудовой деятельности человека, который требует определенного уровня знаний, специальных умений, подготовки человека и при этом служит источником дох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42920" y="1484280"/>
            <a:ext cx="748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Профессия определяет положение человека в обществе. Выбирая профессию, человек выбирает себе не только работу, но и образ жизн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68360" y="1628640"/>
            <a:ext cx="82090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Специальность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- вид занятий в рамках одной професс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пример, профессия врач. Специальность врач-хирург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рач-терапевт и 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99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0000" y="40464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e1ff"/>
                </a:solidFill>
                <a:latin typeface="Monotype Corsiva"/>
              </a:rPr>
              <a:t>Что такое специальность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68360" y="2147760"/>
            <a:ext cx="820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В 14-15 лет полезно задуматься об эт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1. Всмотритесь в себ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. Подумайте о своих родител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. Оглянитесь, как живут ваши близк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4. Подумайте о Ро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5493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e1ff"/>
                </a:solidFill>
                <a:latin typeface="Monotype Corsiva"/>
              </a:rPr>
              <a:t>Трудно выбрать профессию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Стрелка вправо 13" descr=""/>
          <p:cNvPicPr/>
          <p:nvPr/>
        </p:nvPicPr>
        <p:blipFill>
          <a:blip r:embed="rId1"/>
          <a:stretch/>
        </p:blipFill>
        <p:spPr>
          <a:xfrm>
            <a:off x="0" y="0"/>
            <a:ext cx="5735520" cy="3627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68360" y="0"/>
            <a:ext cx="842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Edwardian Script ITC"/>
              </a:rPr>
              <a:t>При выборе профессии необходимо учитывать  факто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Стрелка вправо 15" descr=""/>
          <p:cNvPicPr/>
          <p:nvPr/>
        </p:nvPicPr>
        <p:blipFill>
          <a:blip r:embed="rId2"/>
          <a:stretch/>
        </p:blipFill>
        <p:spPr>
          <a:xfrm>
            <a:off x="3780000" y="3716280"/>
            <a:ext cx="5735520" cy="3627360"/>
          </a:xfrm>
          <a:prstGeom prst="rect">
            <a:avLst/>
          </a:prstGeom>
          <a:ln w="0">
            <a:noFill/>
          </a:ln>
        </p:spPr>
      </p:pic>
      <p:pic>
        <p:nvPicPr>
          <p:cNvPr id="228" name="Стрелка вправо 14" descr=""/>
          <p:cNvPicPr/>
          <p:nvPr/>
        </p:nvPicPr>
        <p:blipFill>
          <a:blip r:embed="rId3"/>
          <a:stretch/>
        </p:blipFill>
        <p:spPr>
          <a:xfrm>
            <a:off x="2050920" y="1916280"/>
            <a:ext cx="5737320" cy="3627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26920" y="2637000"/>
            <a:ext cx="52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состояние здоровь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способност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уровень знан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Содержимое 8" descr="гн.jpeg"/>
          <p:cNvPicPr/>
          <p:nvPr/>
        </p:nvPicPr>
        <p:blipFill>
          <a:blip r:embed="rId2"/>
          <a:stretch/>
        </p:blipFill>
        <p:spPr>
          <a:xfrm>
            <a:off x="5857920" y="1857240"/>
            <a:ext cx="3000240" cy="3643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042920" y="2421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твои желания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интересы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склонност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6" descr="прп.jpg"/>
          <p:cNvPicPr/>
          <p:nvPr/>
        </p:nvPicPr>
        <p:blipFill>
          <a:blip r:embed="rId2"/>
          <a:stretch/>
        </p:blipFill>
        <p:spPr>
          <a:xfrm>
            <a:off x="5200560" y="1857240"/>
            <a:ext cx="3308400" cy="3876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50920" y="25653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потребности рын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труда  в кадр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5" descr="Без имени-1"/>
          <p:cNvPicPr/>
          <p:nvPr/>
        </p:nvPicPr>
        <p:blipFill>
          <a:blip r:embed="rId2"/>
          <a:stretch/>
        </p:blipFill>
        <p:spPr>
          <a:xfrm>
            <a:off x="5508720" y="1628640"/>
            <a:ext cx="345744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6:48:37Z</dcterms:created>
  <dc:creator>Татьяна</dc:creator>
  <dc:description/>
  <dc:language>en-US</dc:language>
  <cp:lastModifiedBy>Татьяна</cp:lastModifiedBy>
  <dcterms:modified xsi:type="dcterms:W3CDTF">2011-04-14T04:57:47Z</dcterms:modified>
  <cp:revision>4</cp:revision>
  <dc:subject/>
  <dc:title>Выбор  профессии</dc:title>
</cp:coreProperties>
</file>