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EA1-A490-46D2-9960-E55F7047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D16-86A6-4310-AF83-D35E8ACD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25F-EEB6-4F5F-94EC-8DEAB06A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F6C-8E39-4611-8388-FD020187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2FF7-65C6-4538-8DF5-8A864D69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6A77-E6CE-4A3A-9C2E-52894979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8E69-3A36-4E9E-A89A-9033C9ED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7522-9E1C-4CA8-9ACC-B762DCC9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1CEA-06C1-45B1-A3EA-9310986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6E45-738E-4004-951F-0EC9C0B7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FF70-B5FB-417B-8892-91BAAE26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EF8-28A8-4086-B0F6-9962D5C6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B406-0ED1-4513-B0FE-11CB3653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6711-7CC8-40B8-A51C-130D031A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AD85-8A72-47C5-8683-1CCE84EB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E3D0-1025-40CF-8067-336F8B76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8D88-6A88-4774-857A-87723CF7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2A8-1CCA-49F3-8F30-69B9922A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EBB-1230-485E-93AB-1B5DCC53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941-7E1E-4ACE-93FB-8E3CC458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C0C-B509-4B85-BFDB-60EB9EF2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388-F154-4B48-AFC3-1E7915F7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8D5-D284-4C33-A37B-0363E080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3EB-7892-46FA-AC00-E5CCB6C5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64BE-203C-4515-875B-0EE98BF9B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8F48-7EAB-423E-A74B-084B4F53A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javascript:void(0)" TargetMode="External"/><Relationship Id="rId2" Type="http://schemas.openxmlformats.org/officeDocument/2006/relationships/image" Target="../media/image1.png"/><Relationship Id="rId3" Type="http://schemas.openxmlformats.org/officeDocument/2006/relationships/hyperlink" Target="javascript:void(0)" TargetMode="External"/><Relationship Id="rId4" Type="http://schemas.openxmlformats.org/officeDocument/2006/relationships/image" Target="../media/image2.png"/><Relationship Id="rId5" Type="http://schemas.openxmlformats.org/officeDocument/2006/relationships/hyperlink" Target="javascript:void(0)" TargetMode="External"/><Relationship Id="rId6" Type="http://schemas.openxmlformats.org/officeDocument/2006/relationships/image" Target="../media/image3.png"/><Relationship Id="rId7" Type="http://schemas.openxmlformats.org/officeDocument/2006/relationships/hyperlink" Target="javascript:void(0)" TargetMode="External"/><Relationship Id="rId8" Type="http://schemas.openxmlformats.org/officeDocument/2006/relationships/image" Target="../media/image4.png"/><Relationship Id="rId9" Type="http://schemas.openxmlformats.org/officeDocument/2006/relationships/hyperlink" Target="javascript:void(0)" TargetMode="External"/><Relationship Id="rId10" Type="http://schemas.openxmlformats.org/officeDocument/2006/relationships/image" Target="../media/image5.png"/><Relationship Id="rId11" Type="http://schemas.openxmlformats.org/officeDocument/2006/relationships/hyperlink" Target="javascript:void(0)" TargetMode="Externa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ecff"/>
                </a:solidFill>
                <a:latin typeface="Edwardian Script ITC"/>
              </a:rPr>
              <a:t>Выбор </a:t>
            </a:r>
            <a:br>
              <a:rPr sz="7200"/>
            </a:br>
            <a:r>
              <a:rPr b="1" i="1" lang="en-US" sz="7200" spc="-1" strike="noStrike">
                <a:solidFill>
                  <a:srgbClr val="ccecff"/>
                </a:solidFill>
                <a:latin typeface="Edwardian Script ITC"/>
              </a:rPr>
              <a:t>профессии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tb_MCj0411061" descr="Имя файла: j0411061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8400" y="83664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213" name="tb_MCj0409835" descr="Имя файла: j0409835.wm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60280"/>
            <a:ext cx="1266840" cy="1584360"/>
          </a:xfrm>
          <a:prstGeom prst="rect">
            <a:avLst/>
          </a:prstGeom>
          <a:ln w="0">
            <a:noFill/>
          </a:ln>
        </p:spPr>
      </p:pic>
      <p:pic>
        <p:nvPicPr>
          <p:cNvPr id="214" name="tb_MCj0408010" descr="Имя файла: j0408010.wm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981000"/>
            <a:ext cx="1171800" cy="1440000"/>
          </a:xfrm>
          <a:prstGeom prst="rect">
            <a:avLst/>
          </a:prstGeom>
          <a:ln w="0">
            <a:noFill/>
          </a:ln>
        </p:spPr>
      </p:pic>
      <p:pic>
        <p:nvPicPr>
          <p:cNvPr id="215" name="tb_MCj0404229" descr="Имя файла: j0404229.wm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941720"/>
            <a:ext cx="1393560" cy="1484640"/>
          </a:xfrm>
          <a:prstGeom prst="rect">
            <a:avLst/>
          </a:prstGeom>
          <a:ln w="0">
            <a:noFill/>
          </a:ln>
        </p:spPr>
      </p:pic>
      <p:pic>
        <p:nvPicPr>
          <p:cNvPr id="216" name="tb_MCj0404377" descr="Имя файла: j0404377.wm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4360" y="3716280"/>
            <a:ext cx="1290600" cy="1368360"/>
          </a:xfrm>
          <a:prstGeom prst="rect">
            <a:avLst/>
          </a:prstGeom>
          <a:ln w="0">
            <a:noFill/>
          </a:ln>
        </p:spPr>
      </p:pic>
      <p:pic>
        <p:nvPicPr>
          <p:cNvPr id="217" name="tb_MCj0404161" descr="Имя файла: j0404161.wm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86760" y="3860640"/>
            <a:ext cx="1280880" cy="136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87280" y="1413000"/>
            <a:ext cx="69138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Труд – это не только способ занять себя работой, но и возможность получения материального вознаграж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Деньги – это еще не 100% успеха, но без них в нашей жизни обойтись слож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http://animashky.ru/flist/obludi/14/11.gif"/>
          <p:cNvPicPr/>
          <p:nvPr/>
        </p:nvPicPr>
        <p:blipFill>
          <a:blip r:embed="rId1"/>
          <a:stretch/>
        </p:blipFill>
        <p:spPr>
          <a:xfrm>
            <a:off x="6804000" y="4653000"/>
            <a:ext cx="176868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9640" y="549360"/>
            <a:ext cx="80647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Edwardian Script ITC"/>
              </a:rPr>
              <a:t>Выб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В каком городе или стране вы находите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Какое у вас время год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Что вы будете делат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Что вы умеете дел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Что будет пот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Edwardian Script ITC"/>
              </a:rPr>
              <a:t>В общем устройте свою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6"/>
          <p:cNvPicPr/>
          <p:nvPr/>
        </p:nvPicPr>
        <p:blipFill>
          <a:blip r:embed="rId1"/>
          <a:stretch/>
        </p:blipFill>
        <p:spPr>
          <a:xfrm>
            <a:off x="6588000" y="2637000"/>
            <a:ext cx="2160720" cy="2052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9640" y="112536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Edwardian Script ITC"/>
              </a:rPr>
              <a:t>Подсобные работы – это временный заработок, а в целом необходимо учиться. Для того чтобы учиться какому-либо делу, необходимо для начала все-таки определиться в выборе, а для этого нужно знать свои возможности и способ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55640" y="1354320"/>
            <a:ext cx="817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Edwardian Script ITC"/>
              </a:rPr>
              <a:t>Профессий много на Земл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Edwardian Script ITC"/>
              </a:rPr>
              <a:t>Но выбирай, любя. Решай, мой друг, кем быть тебе. Ведь каждая из них важ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87440" cy="1727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667640" y="260280"/>
            <a:ext cx="1328760" cy="165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492360" y="4437000"/>
            <a:ext cx="2448000" cy="1806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9640" y="3213000"/>
            <a:ext cx="830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Edwardian Script ITC"/>
              </a:rPr>
              <a:t>Нет профессий плохих и хороших, бывают плохие и хорошие работник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979640" y="981000"/>
            <a:ext cx="547200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вам </a:t>
            </a:r>
            <a:endParaRPr b="1" i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пеха</a:t>
            </a:r>
            <a:endParaRPr b="1" i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16000" y="47628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e1ff"/>
                </a:solidFill>
                <a:latin typeface="Monotype Corsiva"/>
              </a:rPr>
              <a:t>Что такое професси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2133720"/>
            <a:ext cx="70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офессия – это вид трудовой деятельности человека, который требует определенного уровня знаний, специальных умений, подготовки человека и при этом служит источником дох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42920" y="1484280"/>
            <a:ext cx="74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Профессия определяет положение человека в обществе. Выбирая профессию, человек выбирает себе не только работу, но и образ жиз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8360" y="1628640"/>
            <a:ext cx="82090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пециальность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- вид занятий в рамках одной професс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пример, профессия врач. Специальность врач-хирург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рач-терапевт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99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40464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e1ff"/>
                </a:solidFill>
                <a:latin typeface="Monotype Corsiva"/>
              </a:rPr>
              <a:t>Что такое специальность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68360" y="2147760"/>
            <a:ext cx="820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 14-15 лет полезно задуматься об эт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. Всмотритесь в се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 Подумайте о своих родител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 Оглянитесь, как живут ваши близк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4. Подумайте о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549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e1ff"/>
                </a:solidFill>
                <a:latin typeface="Monotype Corsiva"/>
              </a:rPr>
              <a:t>Трудно выбрать профессию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Стрелка вправо 13" descr=""/>
          <p:cNvPicPr/>
          <p:nvPr/>
        </p:nvPicPr>
        <p:blipFill>
          <a:blip r:embed="rId1"/>
          <a:stretch/>
        </p:blipFill>
        <p:spPr>
          <a:xfrm>
            <a:off x="0" y="0"/>
            <a:ext cx="5735520" cy="3627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68360" y="0"/>
            <a:ext cx="84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Edwardian Script ITC"/>
              </a:rPr>
              <a:t>При выборе профессии необходимо учитывать  факто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Стрелка вправо 15" descr=""/>
          <p:cNvPicPr/>
          <p:nvPr/>
        </p:nvPicPr>
        <p:blipFill>
          <a:blip r:embed="rId2"/>
          <a:stretch/>
        </p:blipFill>
        <p:spPr>
          <a:xfrm>
            <a:off x="3780000" y="3716280"/>
            <a:ext cx="5735520" cy="3627360"/>
          </a:xfrm>
          <a:prstGeom prst="rect">
            <a:avLst/>
          </a:prstGeom>
          <a:ln w="0">
            <a:noFill/>
          </a:ln>
        </p:spPr>
      </p:pic>
      <p:pic>
        <p:nvPicPr>
          <p:cNvPr id="228" name="Стрелка вправо 14" descr=""/>
          <p:cNvPicPr/>
          <p:nvPr/>
        </p:nvPicPr>
        <p:blipFill>
          <a:blip r:embed="rId3"/>
          <a:stretch/>
        </p:blipFill>
        <p:spPr>
          <a:xfrm>
            <a:off x="2050920" y="1916280"/>
            <a:ext cx="5737320" cy="362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26920" y="2637000"/>
            <a:ext cx="52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остояние здоровь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пособн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уровень знан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Содержимое 8" descr="гн.jpeg"/>
          <p:cNvPicPr/>
          <p:nvPr/>
        </p:nvPicPr>
        <p:blipFill>
          <a:blip r:embed="rId2"/>
          <a:stretch/>
        </p:blipFill>
        <p:spPr>
          <a:xfrm>
            <a:off x="5857920" y="1857240"/>
            <a:ext cx="3000240" cy="3643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042920" y="2421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твои желания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интересы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клонн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6" descr="прп.jpg"/>
          <p:cNvPicPr/>
          <p:nvPr/>
        </p:nvPicPr>
        <p:blipFill>
          <a:blip r:embed="rId2"/>
          <a:stretch/>
        </p:blipFill>
        <p:spPr>
          <a:xfrm>
            <a:off x="5200560" y="1857240"/>
            <a:ext cx="3308400" cy="3876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50920" y="2565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потребности рын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труда  в кадр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Без имени-1"/>
          <p:cNvPicPr/>
          <p:nvPr/>
        </p:nvPicPr>
        <p:blipFill>
          <a:blip r:embed="rId2"/>
          <a:stretch/>
        </p:blipFill>
        <p:spPr>
          <a:xfrm>
            <a:off x="5508720" y="1628640"/>
            <a:ext cx="345744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6:48:37Z</dcterms:created>
  <dc:creator>Татьяна</dc:creator>
  <dc:description/>
  <dc:language>en-US</dc:language>
  <cp:lastModifiedBy>Татьяна</cp:lastModifiedBy>
  <dcterms:modified xsi:type="dcterms:W3CDTF">2011-04-14T04:57:47Z</dcterms:modified>
  <cp:revision>4</cp:revision>
  <dc:subject/>
  <dc:title>Выбор  профессии</dc:title>
</cp:coreProperties>
</file>