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gif" ContentType="image/gif"/>
  <Override PartName="/ppt/media/image9.wmf" ContentType="image/x-wm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B0B-15B6-48AC-9962-A4ADB6BE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DB29-138A-471F-9605-E292FDE6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C304-3DDC-4975-A842-9FCC1005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573-4882-4D00-8C95-1513FC15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B115-4EDF-4930-88CF-6216C0E0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EDC9-A6F3-4763-8427-F82D64D3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D1AA-E237-47F0-AD82-1AF84F39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7826-153F-40C2-8490-73FA4D54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03E6-B4DC-4CA7-B303-455045CF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04B6-E28E-4F01-A318-45636747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F92D-9327-4B69-9BA4-45D199AD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349C-5CCB-4AD1-A9A0-F7756799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7665-273D-4FAD-B822-135D0EE4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9473-129A-4685-A29E-87A4F9AC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A29A-F7C0-44A8-8AA8-C71106A5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218E-1D5B-4513-B9A5-26B7C01C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B9D5-057D-4C34-8584-1A2F2679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6A09C-4A00-4833-BF22-778C88C7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45001-BAD5-4249-9C6B-80AE4652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284DA-BEB3-4EE5-99BE-E096AB30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28464-45F6-4842-A389-2C9824FF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29D3B-3DE6-495C-9589-0C66B0C9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70C-54B6-4894-8EAF-3735E76C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EFC72-C6B5-4C74-AA79-2142BCA2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AB9EE-D050-4990-940D-0FD34AEB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7ACB3-3E1D-4574-AFEE-87C9B3BE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A5ABE-A493-4C98-819E-15DADDC2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E2B43-A2AF-4CF0-BF36-9C5CE032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1D41F-2B8D-4755-AC42-1729748E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01707-613B-4895-A833-ABA3F6BF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0B93E-D9F1-4067-95B2-75A38585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0D586-E454-4CFD-AA71-1B7E7AE3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E981B-FB7E-407F-A4CE-2842C684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ECF-AEC5-441A-A655-33EF01D3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BDFB0-1FDD-467B-A738-0B5CC3DC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79B3D-F4E1-4F99-9F47-306A560D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2F2CA-120F-4151-B143-C8C8A5C4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D70EB-E2D0-43AE-A7D0-58391940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3F752-6CB1-4826-A808-83D4BCCF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4FB5F-DB93-434E-9A4A-3B610B69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30A59-7B38-4C32-81AA-F875D3CC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2A1ED-BE5E-4F74-843D-8B6EE8E4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13BC1-42D3-4F1C-8A6B-10D2B76D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A5609-436E-4A48-9EF3-3A4DD37F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B6E5-5206-45C8-8261-A00FEB0B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30A95-C00D-4495-88BD-B7C54215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9B10E-1645-4FF4-A127-5B39CA94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80A52-940F-41BF-AFB2-50ECF89D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0336B-F468-436C-8ED6-B6B1D6CF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E2271-B92A-40F8-A3C9-2DB39F39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DE8EB-CF5A-45E7-8FE1-D6FC7420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2FDAC-CA49-4EDA-9E4F-299CC30B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13D99-A98F-4719-B489-9A035916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45BA7-065C-4CD3-870A-E4D4BEB4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C571C-2B16-4496-A6AF-7533444D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108C-EFE8-4A87-9E1D-06FDBE86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B9751-8751-4963-8FD5-AFF0FEAB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BBCA-E563-49D2-99A6-649F72B1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783-0405-4AA5-970F-D02DB235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55A8-7700-45BB-BAA9-50F038B3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94BB-C6D8-4CE4-B18E-3E199031E9B6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32DC-17BB-4A4F-AA2A-5918FC186A4F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6867-052B-40B0-B61B-A030D1D7AB79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1B87-91CF-4252-8D98-D125662D7126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05E1-5E9B-4CA9-8572-FE56903E4DC5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ебра 8. Алимов.</a:t>
            </a:r>
            <a:r>
              <a:rPr b="0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5" name="Picture 5" descr="1b4"/>
          <p:cNvPicPr/>
          <p:nvPr/>
        </p:nvPicPr>
        <p:blipFill>
          <a:blip r:embed="rId1"/>
          <a:stretch/>
        </p:blipFill>
        <p:spPr>
          <a:xfrm>
            <a:off x="6165720" y="298440"/>
            <a:ext cx="1584360" cy="1484280"/>
          </a:xfrm>
          <a:prstGeom prst="rect">
            <a:avLst/>
          </a:prstGeom>
          <a:ln w="0">
            <a:noFill/>
          </a:ln>
        </p:spPr>
      </p:pic>
      <p:sp>
        <p:nvSpPr>
          <p:cNvPr id="266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459B-F14A-47CC-858F-87D84257DEC1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324000" y="1991880"/>
            <a:ext cx="8315280" cy="37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§39. Построение графика квадратичной функции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ль урока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Освоение алгоритма построения графика квадратичной функци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 ГБОУ гимназии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№ 49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орского района Санкт-Петербург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лексеева Л.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верка домашнего задания.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621(нч), 622(нч),624 (1),626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920" y="2276640"/>
            <a:ext cx="6553440" cy="4130640"/>
          </a:xfrm>
          <a:prstGeom prst="rect">
            <a:avLst/>
          </a:prstGeom>
          <a:solidFill>
            <a:srgbClr val="99ca3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ы вершины параболы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) (-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, 3)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;6)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2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ы точек пересечения параболы с осями координат: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D = 9 – 20 = -11 , D&lt;0 , с осью ОХ  график параболы не пересекаетс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= 5  - с осью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Y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 параболы пересекается в точке (0;5)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,- с осью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осью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Y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655A-F740-4161-A53D-B633177650D3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4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остроить график функции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x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7x + 10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5113440" cy="2233440"/>
          </a:xfrm>
          <a:prstGeom prst="rect">
            <a:avLst/>
          </a:prstGeom>
          <a:ln w="0">
            <a:noFill/>
          </a:ln>
        </p:spPr>
      </p:pic>
      <p:sp>
        <p:nvSpPr>
          <p:cNvPr id="273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321E-6629-4E47-A1BA-72F11DF97C1F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5" name="Object 22"/>
          <p:cNvGraphicFramePr/>
          <p:nvPr/>
        </p:nvGraphicFramePr>
        <p:xfrm>
          <a:off x="900000" y="2421000"/>
          <a:ext cx="669636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6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421000"/>
                    <a:ext cx="669636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52AB-30D4-498B-8992-252B3F257525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569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&gt;o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&lt;2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&gt;5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ил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&gt;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межутке (-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2), (5;+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&lt;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&lt;y&lt;5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на промежутк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;5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ромежутки возрастания функц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,5;+      )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жутки убывания (-     ;3.5).</a:t>
            </a:r>
            <a:br>
              <a:rPr sz="32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аименьшее значение функ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наи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2,2 при х=3,5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79" name="Object 14"/>
          <p:cNvGraphicFramePr/>
          <p:nvPr/>
        </p:nvGraphicFramePr>
        <p:xfrm>
          <a:off x="0" y="0"/>
          <a:ext cx="914400" cy="1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16"/>
          <p:cNvGraphicFramePr/>
          <p:nvPr/>
        </p:nvGraphicFramePr>
        <p:xfrm>
          <a:off x="3635280" y="1916280"/>
          <a:ext cx="649440" cy="50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1916280"/>
                    <a:ext cx="64944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5" name="Object 21"/>
          <p:cNvGraphicFramePr/>
          <p:nvPr/>
        </p:nvGraphicFramePr>
        <p:xfrm>
          <a:off x="5508720" y="1916280"/>
          <a:ext cx="1008000" cy="50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8720" y="1916280"/>
                    <a:ext cx="100800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Rectangle 24"/>
          <p:cNvSpPr/>
          <p:nvPr/>
        </p:nvSpPr>
        <p:spPr>
          <a:xfrm>
            <a:off x="0" y="33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8" name="Object 25"/>
          <p:cNvGraphicFramePr/>
          <p:nvPr/>
        </p:nvGraphicFramePr>
        <p:xfrm>
          <a:off x="5651640" y="3933720"/>
          <a:ext cx="64908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51640" y="3933720"/>
                    <a:ext cx="6490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26"/>
          <p:cNvGraphicFramePr/>
          <p:nvPr/>
        </p:nvGraphicFramePr>
        <p:xfrm>
          <a:off x="2195640" y="3500280"/>
          <a:ext cx="64908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1" name="Object 2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95640" y="3500280"/>
                    <a:ext cx="6490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 326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 – первое число, (15 – х) – второе число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изведение х(15 – х) будет наибольшим в той точке, где функция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y = x(15 – x)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y = – x</a:t>
            </a:r>
            <a:r>
              <a:rPr b="0" lang="en-US" sz="26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2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+15x </a:t>
            </a: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меет максимум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= - 15:(</a:t>
            </a: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2) = 7,5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:  7,5 и 7,5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4A47-4DF2-4C0E-9EE1-A2176E685B55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5" name="Object 4"/>
          <p:cNvGraphicFramePr/>
          <p:nvPr/>
        </p:nvGraphicFramePr>
        <p:xfrm>
          <a:off x="1979640" y="2421000"/>
          <a:ext cx="2448000" cy="14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421000"/>
                    <a:ext cx="244800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4000" y="2631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хема построения графика  квадратичной функции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ить по формуле а,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с и направление ветвей парабол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троить вершину параболы (х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o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: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o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=              ;      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o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o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сти через вершину параболы прямую, параллельную оси ординат, - ось симметрии парабол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йти нули функции, если они есть,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1,2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построить на оси абсцисс точки (х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 0) и (х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0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троить еще две точки параболы симметричные относительно ее оси. Например,  точки (0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 c)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(2хо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 c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если хо0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лезно найти еще несколько точек для более точного построения графи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рез полученные точки провести парабол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9" name="Picture 9" descr="14a4"/>
          <p:cNvPicPr/>
          <p:nvPr/>
        </p:nvPicPr>
        <p:blipFill>
          <a:blip r:embed="rId1"/>
          <a:stretch/>
        </p:blipFill>
        <p:spPr>
          <a:xfrm>
            <a:off x="6588000" y="333360"/>
            <a:ext cx="1868760" cy="936720"/>
          </a:xfrm>
          <a:prstGeom prst="rect">
            <a:avLst/>
          </a:prstGeom>
          <a:ln w="0">
            <a:noFill/>
          </a:ln>
        </p:spPr>
      </p:pic>
      <p:sp>
        <p:nvSpPr>
          <p:cNvPr id="300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AE69-8929-43F7-9E14-4AE8FB01EFFB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1" name="Object 6"/>
          <p:cNvGraphicFramePr/>
          <p:nvPr/>
        </p:nvGraphicFramePr>
        <p:xfrm>
          <a:off x="6156360" y="1844640"/>
          <a:ext cx="936720" cy="86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56360" y="1844640"/>
                    <a:ext cx="9367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7"/>
          <p:cNvGraphicFramePr/>
          <p:nvPr/>
        </p:nvGraphicFramePr>
        <p:xfrm>
          <a:off x="6156360" y="2924280"/>
          <a:ext cx="1822320" cy="101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6360" y="2924280"/>
                    <a:ext cx="18223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5318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троить график функции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= -2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+3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+2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яснить ее свойств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7" name="Picture 24" descr="21"/>
          <p:cNvPicPr/>
          <p:nvPr/>
        </p:nvPicPr>
        <p:blipFill>
          <a:blip r:embed="rId1"/>
          <a:stretch/>
        </p:blipFill>
        <p:spPr>
          <a:xfrm>
            <a:off x="6372360" y="260280"/>
            <a:ext cx="2016000" cy="1873440"/>
          </a:xfrm>
          <a:prstGeom prst="rect">
            <a:avLst/>
          </a:prstGeom>
          <a:ln w="0">
            <a:noFill/>
          </a:ln>
        </p:spPr>
      </p:pic>
      <p:sp>
        <p:nvSpPr>
          <p:cNvPr id="308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F24C-C236-4566-9C4E-A5BA0934A5F3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0:53:30Z</dcterms:created>
  <dc:creator>User</dc:creator>
  <dc:description/>
  <dc:language>en-US</dc:language>
  <cp:lastModifiedBy>user</cp:lastModifiedBy>
  <dcterms:modified xsi:type="dcterms:W3CDTF">2015-05-01T12:20:16Z</dcterms:modified>
  <cp:revision>15</cp:revision>
  <dc:subject/>
  <dc:title>Алгебра 8. Алимов.</dc:title>
</cp:coreProperties>
</file>