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gif" ContentType="image/gif"/>
  <Override PartName="/ppt/media/image9.wmf" ContentType="image/x-wm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27A-7612-4403-95DC-21B0AE69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F83-CAE4-4AF5-8CE5-8E36CAD8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22A-D584-4F71-842F-7542C7B9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1D3-19E2-4443-A415-300C7F9C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580A-4E5C-4DAF-A945-366B9687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FE91-4992-4CB8-91F7-A9EC9F0F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F864-D8C1-4AC0-AAC9-51EB28D4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1BDD-ACC9-4A07-A4A5-5E312556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7087-F038-44D3-B77C-B5C6B3D1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B41A-9F50-4D9A-91E9-17C38C73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E4C7-BE7E-4A68-AB08-4009FB98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7D1-41FD-4AE1-B217-0A01DBAE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AF6E-5070-47D1-86E2-2F63C4C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2035-25A0-4F2B-9D5F-06E0FA4A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C2FE-9F25-4588-9411-666B349A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A215-49A0-4BC6-A540-6A76928C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88ED-2152-4352-A801-263BAF92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BAC7D-73C7-4D8B-91B5-86818814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F3F1D-7468-4B06-864A-BD8F8B25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AC509-1822-4BBA-AF4E-7FA67C84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877AE-6380-4E96-B5F7-43033BE1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077C3-71EE-47BF-AA66-2CBAF46C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427-BC25-4EBA-89AE-84C8479A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9CD42-56B6-462E-B571-7B2D0351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56491-D895-481D-BBD3-BC389FA6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8839-4594-4CB4-9D2B-01850212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C5874-4907-45CD-8357-26372FB9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F2257-3047-4F01-ACFD-F256B367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B413D-7804-4A21-9296-10EB413D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BBE13-90F7-4DB1-B5FD-CF3D821A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2959B-8DEC-4568-B6A5-8F6DCBB5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20A55-B58F-4501-9AA5-7113614C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113FF-3D36-494D-8011-07F5E047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2AD-61E3-4354-9FFD-9859C586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8561F-E840-4B58-85B9-87D4B4B5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E3B49-5BB9-4A75-98F0-C2D903F8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527E3-AA71-49C7-A3B1-3052F605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617CA-1F40-4191-8D41-B477A2B2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6999B-9BCB-462A-9B93-974B24A6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6A96A-BC39-4C60-A563-C8450A37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12140-463A-45A2-A71C-61817C2C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5577-255C-4C12-882D-73BAEB93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C8D68-1BE5-4735-B5E0-BB205171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0F442-4D4F-4224-9A3C-44A4F56B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7D2-E631-4DF3-B94E-8C4FC095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235EB-D566-4F6D-981D-D1EE90BA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9EA3D-8FC4-4FBB-BFE4-E5F27CAD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B394E-B9A9-4D54-B10D-93AA7EAD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EF315-587B-4EC2-BA3A-AED4DE19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00720-BF47-446D-99A8-D52E5F96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B34E9-B407-468E-9A67-56085147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D832C-EBC6-4788-92CE-C6677096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8C002-350F-4259-B1C2-6B8B5E03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CBF71-1195-4380-8115-DE5CE311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C1AED-3E63-48C8-94FE-1D75C121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176-E085-445B-A3CB-D7841334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5CC6E-8B6D-4625-A073-1E2398D7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D1B-11ED-4BE9-BB7F-EC47A443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DF6-AF7F-4378-8249-AC484F94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BBB2-30CE-4DC4-B508-127888B9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10F4-D274-448A-BBDF-02A068A983AA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38E8-860D-473A-9299-786DBCF3B1AF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F7BE-05CC-46EA-9256-380D42A2A009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064D-4A05-41A4-8B42-8E9D777DFAEE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DF12-3211-496A-906E-CC153EC03CDE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ебра 8. Алимов.</a:t>
            </a:r>
            <a:r>
              <a:rPr b="0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5" name="Picture 5" descr="1b4"/>
          <p:cNvPicPr/>
          <p:nvPr/>
        </p:nvPicPr>
        <p:blipFill>
          <a:blip r:embed="rId1"/>
          <a:stretch/>
        </p:blipFill>
        <p:spPr>
          <a:xfrm>
            <a:off x="6165720" y="298440"/>
            <a:ext cx="1584360" cy="1484280"/>
          </a:xfrm>
          <a:prstGeom prst="rect">
            <a:avLst/>
          </a:prstGeom>
          <a:ln w="0">
            <a:noFill/>
          </a:ln>
        </p:spPr>
      </p:pic>
      <p:sp>
        <p:nvSpPr>
          <p:cNvPr id="266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B6B7-4265-4C2A-80A9-67A0A4F4D07F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24000" y="1991880"/>
            <a:ext cx="8315280" cy="37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§39. Построение графика квадратичной функции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Освоение алгоритма построения графика квадратичной функци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 ГБОУ гимнази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№ 49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орского района Санкт-Петербург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лексеева Л.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верка домашнего задания.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621(нч), 622(нч),624 (1),626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276640"/>
            <a:ext cx="6553440" cy="4130640"/>
          </a:xfrm>
          <a:prstGeom prst="rect">
            <a:avLst/>
          </a:prstGeom>
          <a:solidFill>
            <a:srgbClr val="99ca3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вершины параболы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) (-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, 3)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;6)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2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точек пересечения параболы с осями координат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D = 9 – 20 = -11 , D&lt;0 , с осью ОХ  график параболы не пересекаетс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5  - с осью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Y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параболы пересекается в точке (0;5)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,- с осью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осью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Y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4125-2453-4AF1-A492-FCAD4F46560E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4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строить график функции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x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7x + 10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5113440" cy="2233440"/>
          </a:xfrm>
          <a:prstGeom prst="rect">
            <a:avLst/>
          </a:prstGeom>
          <a:ln w="0">
            <a:noFill/>
          </a:ln>
        </p:spPr>
      </p:pic>
      <p:sp>
        <p:nvSpPr>
          <p:cNvPr id="273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B115-3CBA-4A6E-84D7-87AB366C9BB9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Object 22"/>
          <p:cNvGraphicFramePr/>
          <p:nvPr/>
        </p:nvGraphicFramePr>
        <p:xfrm>
          <a:off x="900000" y="2421000"/>
          <a:ext cx="669636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6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421000"/>
                    <a:ext cx="66963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D822-64EF-450D-9F7E-8C5F51D0FE4B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569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&gt;o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&lt;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&gt;5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&gt;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межутке (-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2), (5;+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&lt;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&lt;y&lt;5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на промежутк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;5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омежутки возрастания функ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5;+      )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ки убывания (-     ;3.5).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аименьшее значение функци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на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2,2 при х=3,5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79" name="Object 14"/>
          <p:cNvGraphicFramePr/>
          <p:nvPr/>
        </p:nvGraphicFramePr>
        <p:xfrm>
          <a:off x="0" y="0"/>
          <a:ext cx="914400" cy="1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16"/>
          <p:cNvGraphicFramePr/>
          <p:nvPr/>
        </p:nvGraphicFramePr>
        <p:xfrm>
          <a:off x="3635280" y="1916280"/>
          <a:ext cx="649440" cy="50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1916280"/>
                    <a:ext cx="64944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Object 21"/>
          <p:cNvGraphicFramePr/>
          <p:nvPr/>
        </p:nvGraphicFramePr>
        <p:xfrm>
          <a:off x="5508720" y="1916280"/>
          <a:ext cx="1008000" cy="50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1916280"/>
                    <a:ext cx="100800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24"/>
          <p:cNvSpPr/>
          <p:nvPr/>
        </p:nvSpPr>
        <p:spPr>
          <a:xfrm>
            <a:off x="0" y="33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8" name="Object 25"/>
          <p:cNvGraphicFramePr/>
          <p:nvPr/>
        </p:nvGraphicFramePr>
        <p:xfrm>
          <a:off x="5651640" y="3933720"/>
          <a:ext cx="64908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3933720"/>
                    <a:ext cx="649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26"/>
          <p:cNvGraphicFramePr/>
          <p:nvPr/>
        </p:nvGraphicFramePr>
        <p:xfrm>
          <a:off x="2195640" y="3500280"/>
          <a:ext cx="64908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Object 2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3500280"/>
                    <a:ext cx="649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 326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 – первое число, (15 – х) – второе число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изведение х(15 – х) будет наибольшим в той точке, где функция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y = x(15 – x),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y = – x</a:t>
            </a:r>
            <a:r>
              <a:rPr b="0" lang="en-US" sz="26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2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+15x </a:t>
            </a: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меет максимум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= - 15:(</a:t>
            </a: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2) = 7,5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:  7,5 и 7,5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C27E-A22C-4C11-AC82-F52CF6CCC546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Object 4"/>
          <p:cNvGraphicFramePr/>
          <p:nvPr/>
        </p:nvGraphicFramePr>
        <p:xfrm>
          <a:off x="1979640" y="2421000"/>
          <a:ext cx="2448000" cy="14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421000"/>
                    <a:ext cx="244800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4000" y="2631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хема построения графика  квадратичной функции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ить по формуле а,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с и направление ветвей парабол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роить вершину параболы (х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: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=              ;      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сти через вершину параболы прямую, параллельную оси ординат, - ось симметрии парабол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йти нули функции, если они есть,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1,2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построить на оси абсцисс точки (х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 0) и (х</a:t>
            </a:r>
            <a:r>
              <a:rPr b="0" lang="ru-RU" sz="2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0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роить еще две точки параболы симметричные относительно ее оси. Например,  точки (0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 c)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(2хо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 c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если хо0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езно найти еще несколько точек для более точного построения графи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ез полученные точки провести парабол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9" name="Picture 9" descr="14a4"/>
          <p:cNvPicPr/>
          <p:nvPr/>
        </p:nvPicPr>
        <p:blipFill>
          <a:blip r:embed="rId1"/>
          <a:stretch/>
        </p:blipFill>
        <p:spPr>
          <a:xfrm>
            <a:off x="6588000" y="333360"/>
            <a:ext cx="1868760" cy="936720"/>
          </a:xfrm>
          <a:prstGeom prst="rect">
            <a:avLst/>
          </a:prstGeom>
          <a:ln w="0">
            <a:noFill/>
          </a:ln>
        </p:spPr>
      </p:pic>
      <p:sp>
        <p:nvSpPr>
          <p:cNvPr id="300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2BB5-2FD8-444B-A3BC-130545A4C979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1" name="Object 6"/>
          <p:cNvGraphicFramePr/>
          <p:nvPr/>
        </p:nvGraphicFramePr>
        <p:xfrm>
          <a:off x="6156360" y="1844640"/>
          <a:ext cx="936720" cy="8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6360" y="1844640"/>
                    <a:ext cx="936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7"/>
          <p:cNvGraphicFramePr/>
          <p:nvPr/>
        </p:nvGraphicFramePr>
        <p:xfrm>
          <a:off x="6156360" y="2924280"/>
          <a:ext cx="1822320" cy="101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6360" y="2924280"/>
                    <a:ext cx="18223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5318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роить график функци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= -2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+3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+2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снить ее свойств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7" name="Picture 24" descr="21"/>
          <p:cNvPicPr/>
          <p:nvPr/>
        </p:nvPicPr>
        <p:blipFill>
          <a:blip r:embed="rId1"/>
          <a:stretch/>
        </p:blipFill>
        <p:spPr>
          <a:xfrm>
            <a:off x="6372360" y="260280"/>
            <a:ext cx="2016000" cy="1873440"/>
          </a:xfrm>
          <a:prstGeom prst="rect">
            <a:avLst/>
          </a:prstGeom>
          <a:ln w="0">
            <a:noFill/>
          </a:ln>
        </p:spPr>
      </p:pic>
      <p:sp>
        <p:nvSpPr>
          <p:cNvPr id="308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E30D-ED21-42AF-A7AA-9BA608F70860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0:53:30Z</dcterms:created>
  <dc:creator>User</dc:creator>
  <dc:description/>
  <dc:language>en-US</dc:language>
  <cp:lastModifiedBy>user</cp:lastModifiedBy>
  <dcterms:modified xsi:type="dcterms:W3CDTF">2015-05-01T12:20:16Z</dcterms:modified>
  <cp:revision>15</cp:revision>
  <dc:subject/>
  <dc:title>Алгебра 8. Алимов.</dc:title>
</cp:coreProperties>
</file>