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241-4796-4087-B4E7-B8E4AFB58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DD10-FB2D-4E6E-9683-777A8AC40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ы  к  урокам  и  факультативным  занятиям  для  11класса.  Автор учитель  355  средней  школы  Мальчикова Н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ED8-2D9A-4B65-8478-6A97614EA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 идет  после  при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D026-CBBD-44CB-BF68-52C29852B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F97-1D18-4E38-AD9B-2964710D0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,  картинка,  ср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B57-F132-4547-816E-22C64E0F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39B-2E77-4407-9898-63726545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B2A-4AC4-4C3B-89B3-CC6CCBAE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7F7-8903-4498-A3F1-C2DA5514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0577-F4AD-49E5-958C-5F249BC8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BB9-6AC3-41A7-B1C7-22E1C3E4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621-2C5A-40BA-9DAE-10273DFE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A2F2-494C-494E-BD5E-69D5328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5091-D4FC-430C-A235-8EA1185F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E565-328A-44F7-B192-65142E4F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C5C6-98A6-41FE-949F-75E47CDC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DB7-8FD6-4B69-BB10-59FF54C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664D-C7FF-4A02-B2F5-A4B6A59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3F5-829A-443C-B017-12C7A92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D03D-8A5F-44C4-8BD4-75BA83EA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DE6-C9A7-4DC9-AAC1-7D0FC972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409C-459D-4562-8FD3-C7214A17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30B4-83ED-47E3-9DAD-5D64DDFF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0BF8-4A61-4104-ABD0-1C1F6A56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D33D-44C3-47C5-98DD-886B9BBE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B2F5-51C6-4681-81EB-039CDD85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B3B5-077E-4497-B8E6-4D1D0CE1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5ED-7F9E-41DF-BCFD-3EDAA015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E8D8-232F-4619-BE77-E62D5A69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A1E1-6895-410F-8347-EF574E0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8182-2F02-42BE-BE5E-A8A3B6E5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782F-D1DD-41B8-8701-6C5E342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BEA2-D9B6-44AB-B351-DE3A4ADA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595A-81ED-4ED9-9703-B30B68FF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2245-4869-4863-9531-BB89DF9A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940A-9EEB-433F-B102-208D5F2F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7D79-E005-4CE8-BAED-5C40A98C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974D-6FDB-4F21-B896-03C22FDA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EA3-9781-4214-A788-D7D485A4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4163-D675-427F-9025-98CE6042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E1D3-3C03-4FA1-A144-9A4302A8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22CC-3E99-48DE-BDE3-7A27484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8CC9-CD5F-4C53-8741-3A9CFE8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C189-D49F-48B5-A053-B0567E0A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DFC5-E719-47BC-BC27-855DA5D2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E1A0-D07C-4A85-A89F-A2BDB5DA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D665-3D0A-4BD8-A91C-E0BAC17A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08C67-AF32-4F24-B1C8-1EEC6868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56C7-2A38-4A33-824E-8668A9A0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5FA-16B0-4AD2-8017-CEE5C543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DBDA-F08D-400E-8CF2-77D4EBC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D99F-A159-4262-80FA-08D046F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8C7D6-E3FF-4D0B-8428-2C171088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D952-E4A0-4B49-8CBC-EA2367C1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CEC5F-7E75-4E79-8DFD-A7BE5134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D28A-EA2F-41FB-B403-1C995BF1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94F7-D35D-40E6-B6AA-03359A97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158D-216E-40C9-B16B-5D730D5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F250-6D30-43B3-9535-82C34468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41EB6-9319-44DE-AC21-9CC4C59C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255-83AA-408B-AA88-FCCBD32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C90C-62EC-44CE-B00A-58E520B9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BA1E-87FF-4A5B-95EC-456537FA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CF73-7346-44ED-B060-9A21FBC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4CB3-59B3-4717-B295-2B702F94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AEEB7-F31C-44C9-BEC8-6BDEAC79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D3B1-382F-4FBF-B2C1-AE1902B8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C4E4-86A3-4D8D-846C-AB7CFF3A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7ADD-783F-4D7D-843E-03E1A42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6AAB-4AAC-428C-A19C-F93C09C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89C3-E87D-40FF-9B15-847E95FD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BF8-8B1C-41E3-A4E2-F475E8C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2113-7BFF-4586-BE40-952A40BF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E703-2A61-472A-8D2C-B106C25C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5B486-3467-4D73-BBC3-FBA757A5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549-C5EB-4569-A68C-719D3019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CA4-0C06-444E-8BA3-5FDF45E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C54-9B9B-4D72-A7EE-3FC789B1C10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95F5-47C9-421C-99AC-0D3A33B4E115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8EA-923E-41DE-85FE-53DFE097CF9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51C8-1652-47D3-9F1F-E701AD2F7769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259-5A61-442B-BFA9-D2889E4540F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1754-4224-4A0C-8C98-EDE9C3234A6E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5"/>
          <p:cNvSpPr/>
          <p:nvPr/>
        </p:nvSpPr>
        <p:spPr>
          <a:xfrm>
            <a:off x="1042920" y="836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332000" y="907920"/>
            <a:ext cx="781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7"/>
          <p:cNvSpPr txBox="1"/>
          <p:nvPr/>
        </p:nvSpPr>
        <p:spPr>
          <a:xfrm>
            <a:off x="468360" y="333360"/>
            <a:ext cx="813600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ычисление  площади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иволинейной  трапеци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6" name="WordArt 8" descr=""/>
          <p:cNvPicPr/>
          <p:nvPr/>
        </p:nvPicPr>
        <p:blipFill>
          <a:blip r:embed="rId1"/>
          <a:stretch/>
        </p:blipFill>
        <p:spPr>
          <a:xfrm>
            <a:off x="3127320" y="3419640"/>
            <a:ext cx="2859120" cy="66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msoD162B"/>
          <p:cNvPicPr/>
          <p:nvPr/>
        </p:nvPicPr>
        <p:blipFill>
          <a:blip r:embed="rId2"/>
          <a:srcRect l="4791" t="0" r="0" b="4303"/>
          <a:stretch/>
        </p:blipFill>
        <p:spPr>
          <a:xfrm>
            <a:off x="6875640" y="3836880"/>
            <a:ext cx="1938240" cy="2592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msoA1572"/>
          <p:cNvPicPr/>
          <p:nvPr/>
        </p:nvPicPr>
        <p:blipFill>
          <a:blip r:embed="rId3"/>
          <a:srcRect l="5493" t="0" r="2280" b="0"/>
          <a:stretch/>
        </p:blipFill>
        <p:spPr>
          <a:xfrm>
            <a:off x="566640" y="4076640"/>
            <a:ext cx="153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755640" y="3697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 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755640" y="981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площадь  под  кривой,  заданной  графиком  функции  у=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msoA571F"/>
          <p:cNvPicPr/>
          <p:nvPr/>
        </p:nvPicPr>
        <p:blipFill>
          <a:blip r:embed="rId1"/>
          <a:stretch/>
        </p:blipFill>
        <p:spPr>
          <a:xfrm>
            <a:off x="971640" y="1557360"/>
            <a:ext cx="207936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mso4931C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492360" y="1557360"/>
            <a:ext cx="2206800" cy="2170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mso94E5A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156360" y="1557360"/>
            <a:ext cx="1771560" cy="2146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msoDFC7"/>
          <p:cNvPicPr/>
          <p:nvPr/>
        </p:nvPicPr>
        <p:blipFill>
          <a:blip r:embed="rId4"/>
          <a:stretch/>
        </p:blipFill>
        <p:spPr>
          <a:xfrm>
            <a:off x="611280" y="3933720"/>
            <a:ext cx="1681200" cy="21877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8"/>
          <p:cNvSpPr/>
          <p:nvPr/>
        </p:nvSpPr>
        <p:spPr>
          <a:xfrm>
            <a:off x="2455920" y="407664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2484360" y="393300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бол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7112160" y="3830760"/>
                <a:ext cx="18525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Rectangle 11"/>
          <p:cNvSpPr/>
          <p:nvPr/>
        </p:nvSpPr>
        <p:spPr>
          <a:xfrm>
            <a:off x="2999520" y="363780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2916360" y="4869000"/>
            <a:ext cx="54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2503800" y="472356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иков под парабол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7039080" y="4653000"/>
                <a:ext cx="1925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Text Box 15"/>
          <p:cNvSpPr/>
          <p:nvPr/>
        </p:nvSpPr>
        <p:spPr>
          <a:xfrm>
            <a:off x="2484360" y="5445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,  если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→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6588000" y="5300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8"/>
              <p:cNvSpPr txBox="1"/>
              <p:nvPr/>
            </p:nvSpPr>
            <p:spPr>
              <a:xfrm>
                <a:off x="6060960" y="5527800"/>
                <a:ext cx="1152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Text Box 19"/>
          <p:cNvSpPr/>
          <p:nvPr/>
        </p:nvSpPr>
        <p:spPr>
          <a:xfrm>
            <a:off x="7596360" y="5877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403280" y="62064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 суммы  последователь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ов  натура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684360" y="2492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а 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56400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067280" y="213372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044720" y="3108240"/>
                <a:ext cx="7127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Text Box 9"/>
          <p:cNvSpPr/>
          <p:nvPr/>
        </p:nvSpPr>
        <p:spPr>
          <a:xfrm>
            <a:off x="1042920" y="4724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  можно  провести  по  ин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1692360" y="476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 интегральной  су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905440" cy="4024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9"/>
          <p:cNvSpPr/>
          <p:nvPr/>
        </p:nvSpPr>
        <p:spPr>
          <a:xfrm>
            <a:off x="1619280" y="5661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бьем  основание  трапеции  точкам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6"/>
          <p:cNvGrpSpPr/>
          <p:nvPr/>
        </p:nvGrpSpPr>
        <p:grpSpPr>
          <a:xfrm>
            <a:off x="1258920" y="1197000"/>
            <a:ext cx="6048360" cy="4176720"/>
            <a:chOff x="1258920" y="1197000"/>
            <a:chExt cx="6048360" cy="4176720"/>
          </a:xfrm>
        </p:grpSpPr>
        <p:pic>
          <p:nvPicPr>
            <p:cNvPr id="310" name="Picture 10" descr=""/>
            <p:cNvPicPr/>
            <p:nvPr/>
          </p:nvPicPr>
          <p:blipFill>
            <a:blip r:embed="rId2"/>
            <a:stretch/>
          </p:blipFill>
          <p:spPr>
            <a:xfrm>
              <a:off x="1258920" y="1197000"/>
              <a:ext cx="60483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11"/>
            <p:cNvSpPr/>
            <p:nvPr/>
          </p:nvSpPr>
          <p:spPr>
            <a:xfrm>
              <a:off x="3130560" y="472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3994200" y="4797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1692360" y="5877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енно  найдем   площадь  каждой 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7"/>
          <p:cNvGrpSpPr/>
          <p:nvPr/>
        </p:nvGrpSpPr>
        <p:grpSpPr>
          <a:xfrm>
            <a:off x="1295280" y="976320"/>
            <a:ext cx="6120000" cy="3673080"/>
            <a:chOff x="1295280" y="976320"/>
            <a:chExt cx="6120000" cy="3673080"/>
          </a:xfrm>
        </p:grpSpPr>
        <p:pic>
          <p:nvPicPr>
            <p:cNvPr id="315" name="Picture 14" descr=""/>
            <p:cNvPicPr/>
            <p:nvPr/>
          </p:nvPicPr>
          <p:blipFill>
            <a:blip r:embed="rId3"/>
            <a:stretch/>
          </p:blipFill>
          <p:spPr>
            <a:xfrm>
              <a:off x="1295280" y="976320"/>
              <a:ext cx="6120000" cy="36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8"/>
            <p:cNvSpPr/>
            <p:nvPr/>
          </p:nvSpPr>
          <p:spPr>
            <a:xfrm>
              <a:off x="2592360" y="407304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3672000" y="40730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5256000" y="400140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25"/>
          <p:cNvSpPr/>
          <p:nvPr/>
        </p:nvSpPr>
        <p:spPr>
          <a:xfrm>
            <a:off x="6084720" y="4869000"/>
            <a:ext cx="14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f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8" descr=""/>
          <p:cNvPicPr/>
          <p:nvPr/>
        </p:nvPicPr>
        <p:blipFill>
          <a:blip r:embed="rId4"/>
          <a:srcRect l="0" t="0" r="0" b="16690"/>
          <a:stretch/>
        </p:blipFill>
        <p:spPr>
          <a:xfrm>
            <a:off x="3348000" y="1413000"/>
            <a:ext cx="1677960" cy="3598560"/>
          </a:xfrm>
          <a:prstGeom prst="rect">
            <a:avLst/>
          </a:prstGeom>
          <a:ln w="0">
            <a:noFill/>
          </a:ln>
        </p:spPr>
      </p:pic>
      <p:sp>
        <p:nvSpPr>
          <p:cNvPr id="321" name="Line 29"/>
          <p:cNvSpPr/>
          <p:nvPr/>
        </p:nvSpPr>
        <p:spPr>
          <a:xfrm flipV="1">
            <a:off x="3924360" y="177300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V="1">
            <a:off x="4427640" y="20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3708360" y="162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V="1">
            <a:off x="4643280" y="2133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324000" y="5300640"/>
            <a:ext cx="842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я  шаг  разбиения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ближаем  значение  суммы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к  значению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мой  площади  трапе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250920" y="6093000"/>
            <a:ext cx="86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→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→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 можно  записать  математ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24000" y="620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 площади  криволинейной  трап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помощью  определенного  интегр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8360" y="357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830160" y="3269880"/>
            <a:ext cx="14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83528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4"/>
          <p:cNvGrpSpPr/>
          <p:nvPr/>
        </p:nvGrpSpPr>
        <p:grpSpPr>
          <a:xfrm>
            <a:off x="3276720" y="2133720"/>
            <a:ext cx="5184720" cy="3154320"/>
            <a:chOff x="3276720" y="2133720"/>
            <a:chExt cx="5184720" cy="3154320"/>
          </a:xfrm>
        </p:grpSpPr>
        <p:grpSp>
          <p:nvGrpSpPr>
            <p:cNvPr id="332" name="Group 11"/>
            <p:cNvGrpSpPr/>
            <p:nvPr/>
          </p:nvGrpSpPr>
          <p:grpSpPr>
            <a:xfrm>
              <a:off x="3276720" y="2133720"/>
              <a:ext cx="5184720" cy="3154320"/>
              <a:chOff x="3276720" y="2133720"/>
              <a:chExt cx="5184720" cy="3154320"/>
            </a:xfrm>
          </p:grpSpPr>
          <p:pic>
            <p:nvPicPr>
              <p:cNvPr id="333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2133720"/>
                <a:ext cx="5184720" cy="31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10"/>
              <p:cNvSpPr/>
              <p:nvPr/>
            </p:nvSpPr>
            <p:spPr>
              <a:xfrm>
                <a:off x="5581440" y="3284640"/>
                <a:ext cx="64800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Rectangle 12"/>
            <p:cNvSpPr/>
            <p:nvPr/>
          </p:nvSpPr>
          <p:spPr>
            <a:xfrm>
              <a:off x="4068720" y="4942080"/>
              <a:ext cx="28692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"/>
            <p:cNvSpPr/>
            <p:nvPr/>
          </p:nvSpPr>
          <p:spPr>
            <a:xfrm>
              <a:off x="7380360" y="4942080"/>
              <a:ext cx="28692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6"/>
          <p:cNvSpPr/>
          <p:nvPr/>
        </p:nvSpPr>
        <p:spPr>
          <a:xfrm>
            <a:off x="4140360" y="4869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738036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5867280" y="321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5651640" y="32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4130640" y="48751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7370640" y="48751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68019E-006 L -0.33108 -0.08575 E">
                                      <p:cBhvr>
                                        <p:cTn id="150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68019E-006 L -0.67743 -0.27509 E">
                                      <p:cBhvr>
                                        <p:cTn id="154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7196E-006 L -0.49201 0.06119 E">
                                      <p:cBhvr>
                                        <p:cTn id="158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215720" y="1124640"/>
            <a:ext cx="62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 определенного  интегра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1763640" y="2492280"/>
                <a:ext cx="55134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Text Box 5"/>
          <p:cNvSpPr/>
          <p:nvPr/>
        </p:nvSpPr>
        <p:spPr>
          <a:xfrm>
            <a:off x="2556000" y="494172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 Ньютона – Лейб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 flipH="1" flipV="1">
            <a:off x="849240" y="1060560"/>
            <a:ext cx="69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340000" y="5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 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26828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нструировать  формулу  для  вычисления  площади 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5"/>
          <p:cNvGraphicFramePr/>
          <p:nvPr/>
        </p:nvGraphicFramePr>
        <p:xfrm>
          <a:off x="755640" y="1844640"/>
          <a:ext cx="2376360" cy="20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2376360" cy="200520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Object 6"/>
          <p:cNvGraphicFramePr/>
          <p:nvPr/>
        </p:nvGraphicFramePr>
        <p:xfrm>
          <a:off x="3924360" y="1844640"/>
          <a:ext cx="2449440" cy="20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844640"/>
                    <a:ext cx="2449440" cy="204948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1447920" y="4194000"/>
          <a:ext cx="205740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194000"/>
                    <a:ext cx="2057400" cy="167652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6" name="Object 8"/>
          <p:cNvGraphicFramePr/>
          <p:nvPr/>
        </p:nvGraphicFramePr>
        <p:xfrm>
          <a:off x="4500720" y="4149720"/>
          <a:ext cx="223200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4149720"/>
                    <a:ext cx="2232000" cy="194472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8" name="Text Box 9"/>
          <p:cNvSpPr/>
          <p:nvPr/>
        </p:nvSpPr>
        <p:spPr>
          <a:xfrm>
            <a:off x="6659640" y="206064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затрудняетесь,  воспользуйтесь  подсказ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164360" y="4581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те  себя  по  отв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3"/>
          <p:cNvGraphicFramePr/>
          <p:nvPr/>
        </p:nvGraphicFramePr>
        <p:xfrm>
          <a:off x="2046240" y="1413000"/>
          <a:ext cx="4908600" cy="40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1413000"/>
                    <a:ext cx="4908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4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476360" y="692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2168640" y="1700280"/>
          <a:ext cx="423216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8640" y="1700280"/>
                    <a:ext cx="42321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403280" y="76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3"/>
          <p:cNvGraphicFramePr/>
          <p:nvPr/>
        </p:nvGraphicFramePr>
        <p:xfrm>
          <a:off x="2324160" y="1484280"/>
          <a:ext cx="42796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1484280"/>
                    <a:ext cx="42796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116000" y="62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3"/>
          <p:cNvGraphicFramePr/>
          <p:nvPr/>
        </p:nvGraphicFramePr>
        <p:xfrm>
          <a:off x="2362320" y="1341360"/>
          <a:ext cx="420516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41360"/>
                    <a:ext cx="42051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 к  урокам  и  факультативным  занятиям 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11класса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ГБОУ гимназии № 49 Примор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евой Людмилы Васильев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547640" y="83664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95640" y="549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5092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611280" y="1341360"/>
                <a:ext cx="813420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8"/>
              <p:cNvSpPr txBox="1"/>
              <p:nvPr/>
            </p:nvSpPr>
            <p:spPr>
              <a:xfrm>
                <a:off x="611280" y="2997360"/>
                <a:ext cx="352908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2" name="Text Box 9"/>
          <p:cNvSpPr/>
          <p:nvPr/>
        </p:nvSpPr>
        <p:spPr>
          <a:xfrm>
            <a:off x="25092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1"/>
              <p:cNvSpPr txBox="1"/>
              <p:nvPr/>
            </p:nvSpPr>
            <p:spPr>
              <a:xfrm>
                <a:off x="4788000" y="2924280"/>
                <a:ext cx="41749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5" name="Text Box 12"/>
          <p:cNvSpPr/>
          <p:nvPr/>
        </p:nvSpPr>
        <p:spPr>
          <a:xfrm>
            <a:off x="435600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4"/>
              <p:cNvSpPr txBox="1"/>
              <p:nvPr/>
            </p:nvSpPr>
            <p:spPr>
              <a:xfrm>
                <a:off x="684360" y="4437000"/>
                <a:ext cx="231120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8" name="Text Box 15"/>
          <p:cNvSpPr/>
          <p:nvPr/>
        </p:nvSpPr>
        <p:spPr>
          <a:xfrm>
            <a:off x="324000" y="4941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4356000" y="45594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ра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!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Получилось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780000" y="5300640"/>
            <a:ext cx="51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 о л о д е ц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8"/>
          <p:cNvSpPr/>
          <p:nvPr/>
        </p:nvSpPr>
        <p:spPr>
          <a:xfrm>
            <a:off x="1403280" y="836640"/>
            <a:ext cx="626436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 имеются  две  неравные  площад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 постоянно  прибавляя  к  самому 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к,  на  который  большая  площад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осходит  меньшую,  можно 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,  которая  была  бы  больш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 заданной  ограниченной  площад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7072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264960" y="2060640"/>
            <a:ext cx="35290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волинейной  трапецией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 фигуру,  ограниченную  графиком  непрерывной  функции,  заданной  на  отрезке  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и  принимающей  на  нем  положительные  значения,  отрезками  прямых  х=а  и  х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 отрезком  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оси  абсци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4506840" y="2300400"/>
            <a:ext cx="2943360" cy="179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5" name="Text Box 7"/>
          <p:cNvSpPr/>
          <p:nvPr/>
        </p:nvSpPr>
        <p:spPr>
          <a:xfrm>
            <a:off x="1908000" y="6922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971640" y="2276640"/>
            <a:ext cx="799308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площадь  криволинейной  трапеции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м  последовательных  прибл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м  составления  интегральных  су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 определенный 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2"/>
          <a:stretch/>
        </p:blipFill>
        <p:spPr>
          <a:xfrm>
            <a:off x="3419640" y="1125360"/>
            <a:ext cx="2162160" cy="17431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042920" y="5013360"/>
            <a:ext cx="7129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видно,  площадь  заштрихованной  фигуры  больше,  чем  площадь  прямоугольник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 меньше,  чем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52578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4500720" y="692280"/>
            <a:ext cx="42480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 такая  оценка  имеет  очень  большую  погрешность.  Попытаемся  уточнить  искомую  величину,  для  этого  вспомним  известный  из  геометрии  прием  нахождения  площади,  разобьем  рассматриваемую  фигуру  на  части:  проведем  несколько  вертикальных  прямых  х=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х=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17"/>
          <p:cNvGraphicFramePr/>
          <p:nvPr/>
        </p:nvGraphicFramePr>
        <p:xfrm>
          <a:off x="539640" y="1620720"/>
          <a:ext cx="4321440" cy="32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0720"/>
                    <a:ext cx="4321440" cy="32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Object 4"/>
          <p:cNvGraphicFramePr/>
          <p:nvPr/>
        </p:nvGraphicFramePr>
        <p:xfrm>
          <a:off x="1620720" y="861840"/>
          <a:ext cx="5902560" cy="46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861840"/>
                    <a:ext cx="590256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6"/>
          <p:cNvSpPr/>
          <p:nvPr/>
        </p:nvSpPr>
        <p:spPr>
          <a:xfrm>
            <a:off x="755640" y="5877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 наша  трапеция  разбита  на  три  трап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5"/>
          <p:cNvSpPr/>
          <p:nvPr/>
        </p:nvSpPr>
        <p:spPr>
          <a:xfrm>
            <a:off x="1116000" y="9079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 больше  уточним  площадь  трапеци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6"/>
          <p:cNvGraphicFramePr/>
          <p:nvPr/>
        </p:nvGraphicFramePr>
        <p:xfrm>
          <a:off x="1692360" y="1628640"/>
          <a:ext cx="5545080" cy="36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545080" cy="36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8"/>
          <p:cNvSpPr/>
          <p:nvPr/>
        </p:nvSpPr>
        <p:spPr>
          <a:xfrm>
            <a:off x="3078000" y="580536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так   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4:07:55Z</dcterms:created>
  <dc:creator>X</dc:creator>
  <dc:description/>
  <dc:language>en-US</dc:language>
  <cp:lastModifiedBy>user</cp:lastModifiedBy>
  <dcterms:modified xsi:type="dcterms:W3CDTF">2015-05-01T13:10:30Z</dcterms:modified>
  <cp:revision>30</cp:revision>
  <dc:subject/>
  <dc:title>Слайд 1</dc:title>
</cp:coreProperties>
</file>