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D6A5-3F7E-4EB5-925A-4D72E0EB0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771D-2623-4D0D-8328-4A129199D7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ы  к  урокам  и  факультативным  занятиям  для  11класса.  Автор учитель  355  средней  школы  Мальчикова Н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D1CA-AFF4-4618-AB2A-2CB503733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 идет  после  при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8DED-784C-49A8-B598-77FA49B302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3F3F-FB89-4659-8DE9-0F018ECFA2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,  картинка,  ср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3EC-9653-41F2-88A5-F28F2952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E1C-16BF-44BC-A1E5-094CBD93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426-EEE5-49D6-BBCB-FD63B627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D71-980E-4E8C-A440-057E4677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F636-B294-4967-820F-1707A8F8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791E-E427-4A06-A1DF-5CFA6AB3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1715-15C7-49B1-89E8-560A5AEF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8E70-095F-458C-B804-4FBA5CC7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4AFB-AAF8-4259-8BED-11B583D9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7B69-0F00-466F-915A-D8F52AF8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623A-CA11-4819-9B17-A76B02E3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D83-6153-4833-84FE-A291D596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53F9-8004-4608-AC4D-2F9B1D32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F151-4B7D-4C17-BA73-B4E5A72D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000E-8B24-43BD-802F-3E71D544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0B05-FEFA-4EB1-A428-1BAFA41B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6164-619C-4A97-92B3-73D19F40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4DDAC-EFC4-491C-A4E8-4AAA7522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89400-B686-4451-AAD9-D73D0272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B30C-8A70-409E-A08A-A80E2CF8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88C74-879B-4FF6-980D-97A7A1A0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915DC-F074-4EC4-BB79-541487CD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D3A-F6F6-44D6-B774-59AC0FA7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FABE1-1EC2-4741-A66B-1EBA649D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103F3-C6CC-432C-A54E-C53CF955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08FE8-D5A2-4A2B-8A13-90CA8F05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6AB37-05F1-4584-AE56-84D35CDA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6E5A-04E3-4DBC-9B91-BBD14805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3031F-BADC-41C4-A49C-BFDB3AC7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7D07-CE2A-4D04-B125-40C52EF9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D6266-CCB4-4B7B-988B-8A60729A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D4023-685A-40D8-9BCC-E633B2CC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2FF4C-4021-4802-B19D-24E626BD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392-DD5E-40DB-8DB7-B81EDC4E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EBC3B-D9F0-4C27-B75B-1A9DD522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C1752-69DC-4E52-8004-4C717E8E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8D50A-A429-4A10-95BD-4A16A2BD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B9EAB-AF7B-45E0-B979-8FDA6F94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A6024-4D64-4E3E-AE2C-C2F28C4C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21D69-F328-42D0-A2B8-B3E8D675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06DBA-CEAB-4571-88EF-43AD487D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897EF-1A32-43C4-A758-5A09A030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11DE2-0CFE-424D-A680-188AB6F4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768B3-2E18-4D01-B06C-4D8206F3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D71-B177-4751-866A-9867E5E3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3E0D2-3E0D-4CA0-9279-FA86508A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C5EEF-31C8-4A1B-AA30-50377B8F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B64BB-627F-4C19-9E75-F4C99C53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66970-06DE-426F-89E6-88FD617B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ACE94-F19B-407A-9F1E-4188F62A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A8C55-3A86-4726-AF47-508E6EC6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0FF58-0E6B-4752-9BB2-43B8515A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49463-505E-4C4D-8DE5-1742ADE6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90176-9C99-4705-92D3-70A4CF57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DE1E1-9917-4751-A1E5-7213D72A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0EB-25F4-4559-B126-C685C492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1CB25-3879-4EBF-A94F-C8011A27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65BA8-68CF-4B4B-A150-270F4D6A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ED57B-A78C-4253-ADCC-985F855C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6F87D-7C1D-480C-8068-76C8E5E5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A1F95-2B21-4368-BAEA-563B01C1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00ED5-B8A1-4263-8051-A936548D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EEFA6-FF3C-4B8F-A6E6-F427C496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A3BE8-50F9-4900-B405-918156EB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317BC-17C8-4DB3-AA52-41D2D639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A998E-E1A9-47EB-8093-F215A3A0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BDF-6239-430C-BB76-00C6985E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EAC1B-8299-4E3D-897F-E782E22B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7B01C-0255-46EF-9221-376355CC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30F29-BAAE-493C-9CEF-C43E99E9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229-6718-44F9-BE9F-99F73974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9F3-941C-4076-841D-9E377D36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F979-3D89-4E03-8315-40F20B3AD166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3834-63F7-4175-8B44-B05B611A5971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83FA-DA7F-46BC-9D8B-1C5AB1B6731A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347E-53CC-4E6B-BE72-51512A4E8245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9A89-AB01-4687-8B66-6804C597BE8E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583D-4255-423A-BE23-F109A1FD29C3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5"/>
          <p:cNvSpPr/>
          <p:nvPr/>
        </p:nvSpPr>
        <p:spPr>
          <a:xfrm>
            <a:off x="1042920" y="83664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1332000" y="907920"/>
            <a:ext cx="781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7"/>
          <p:cNvSpPr txBox="1"/>
          <p:nvPr/>
        </p:nvSpPr>
        <p:spPr>
          <a:xfrm>
            <a:off x="468360" y="333360"/>
            <a:ext cx="8136000" cy="30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Вычисление  площади 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риволинейной  трапеци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6" name="WordArt 8" descr=""/>
          <p:cNvPicPr/>
          <p:nvPr/>
        </p:nvPicPr>
        <p:blipFill>
          <a:blip r:embed="rId1"/>
          <a:stretch/>
        </p:blipFill>
        <p:spPr>
          <a:xfrm>
            <a:off x="3127320" y="3419640"/>
            <a:ext cx="2859120" cy="664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msoD162B"/>
          <p:cNvPicPr/>
          <p:nvPr/>
        </p:nvPicPr>
        <p:blipFill>
          <a:blip r:embed="rId2"/>
          <a:srcRect l="4791" t="0" r="0" b="4303"/>
          <a:stretch/>
        </p:blipFill>
        <p:spPr>
          <a:xfrm>
            <a:off x="6875640" y="3836880"/>
            <a:ext cx="1938240" cy="2592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msoA1572"/>
          <p:cNvPicPr/>
          <p:nvPr/>
        </p:nvPicPr>
        <p:blipFill>
          <a:blip r:embed="rId3"/>
          <a:srcRect l="5493" t="0" r="2280" b="0"/>
          <a:stretch/>
        </p:blipFill>
        <p:spPr>
          <a:xfrm>
            <a:off x="566640" y="4076640"/>
            <a:ext cx="153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755640" y="36972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 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755640" y="981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площадь  под  кривой,  заданной  графиком  функции  у=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msoA571F"/>
          <p:cNvPicPr/>
          <p:nvPr/>
        </p:nvPicPr>
        <p:blipFill>
          <a:blip r:embed="rId1"/>
          <a:stretch/>
        </p:blipFill>
        <p:spPr>
          <a:xfrm>
            <a:off x="971640" y="1557360"/>
            <a:ext cx="2079360" cy="2185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mso4931C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492360" y="1557360"/>
            <a:ext cx="2206800" cy="2170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mso94E5A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6156360" y="1557360"/>
            <a:ext cx="1771560" cy="21463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msoDFC7"/>
          <p:cNvPicPr/>
          <p:nvPr/>
        </p:nvPicPr>
        <p:blipFill>
          <a:blip r:embed="rId4"/>
          <a:stretch/>
        </p:blipFill>
        <p:spPr>
          <a:xfrm>
            <a:off x="611280" y="3933720"/>
            <a:ext cx="1681200" cy="21877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8"/>
          <p:cNvSpPr/>
          <p:nvPr/>
        </p:nvSpPr>
        <p:spPr>
          <a:xfrm>
            <a:off x="2455920" y="4076640"/>
            <a:ext cx="458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2484360" y="3933000"/>
            <a:ext cx="48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о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боло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7112160" y="3830760"/>
                <a:ext cx="18525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Rectangle 11"/>
          <p:cNvSpPr/>
          <p:nvPr/>
        </p:nvSpPr>
        <p:spPr>
          <a:xfrm>
            <a:off x="2999520" y="363780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2916360" y="4869000"/>
            <a:ext cx="54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2503800" y="472356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рямоугольников под параболо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14"/>
              <p:cNvSpPr txBox="1"/>
              <p:nvPr/>
            </p:nvSpPr>
            <p:spPr>
              <a:xfrm>
                <a:off x="7039080" y="4653000"/>
                <a:ext cx="1925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Text Box 15"/>
          <p:cNvSpPr/>
          <p:nvPr/>
        </p:nvSpPr>
        <p:spPr>
          <a:xfrm>
            <a:off x="2484360" y="5445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,  если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→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6588000" y="5300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8"/>
              <p:cNvSpPr txBox="1"/>
              <p:nvPr/>
            </p:nvSpPr>
            <p:spPr>
              <a:xfrm>
                <a:off x="6060960" y="5527800"/>
                <a:ext cx="1152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Text Box 19"/>
          <p:cNvSpPr/>
          <p:nvPr/>
        </p:nvSpPr>
        <p:spPr>
          <a:xfrm>
            <a:off x="7596360" y="5877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ч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403280" y="62064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ждение  суммы  последовательнос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ов  натуральных 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684360" y="2492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едлива  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356400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4067280" y="213372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8"/>
              <p:cNvSpPr txBox="1"/>
              <p:nvPr/>
            </p:nvSpPr>
            <p:spPr>
              <a:xfrm>
                <a:off x="1044720" y="3108240"/>
                <a:ext cx="712764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Text Box 9"/>
          <p:cNvSpPr/>
          <p:nvPr/>
        </p:nvSpPr>
        <p:spPr>
          <a:xfrm>
            <a:off x="1042920" y="4724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  можно  провести  по  ин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1692360" y="4762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 интегральной  су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905440" cy="40244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9"/>
          <p:cNvSpPr/>
          <p:nvPr/>
        </p:nvSpPr>
        <p:spPr>
          <a:xfrm>
            <a:off x="1619280" y="566100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обьем  основание  трапеции  точками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 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6"/>
          <p:cNvGrpSpPr/>
          <p:nvPr/>
        </p:nvGrpSpPr>
        <p:grpSpPr>
          <a:xfrm>
            <a:off x="1258920" y="1197000"/>
            <a:ext cx="6048360" cy="4176720"/>
            <a:chOff x="1258920" y="1197000"/>
            <a:chExt cx="6048360" cy="4176720"/>
          </a:xfrm>
        </p:grpSpPr>
        <p:pic>
          <p:nvPicPr>
            <p:cNvPr id="310" name="Picture 10" descr=""/>
            <p:cNvPicPr/>
            <p:nvPr/>
          </p:nvPicPr>
          <p:blipFill>
            <a:blip r:embed="rId2"/>
            <a:stretch/>
          </p:blipFill>
          <p:spPr>
            <a:xfrm>
              <a:off x="1258920" y="1197000"/>
              <a:ext cx="604836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11"/>
            <p:cNvSpPr/>
            <p:nvPr/>
          </p:nvSpPr>
          <p:spPr>
            <a:xfrm>
              <a:off x="3130560" y="47242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2"/>
            <p:cNvSpPr/>
            <p:nvPr/>
          </p:nvSpPr>
          <p:spPr>
            <a:xfrm>
              <a:off x="3994200" y="47973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13"/>
          <p:cNvSpPr/>
          <p:nvPr/>
        </p:nvSpPr>
        <p:spPr>
          <a:xfrm>
            <a:off x="1692360" y="5877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лиженно  найдем   площадь  каждой 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37"/>
          <p:cNvGrpSpPr/>
          <p:nvPr/>
        </p:nvGrpSpPr>
        <p:grpSpPr>
          <a:xfrm>
            <a:off x="1295280" y="976320"/>
            <a:ext cx="6120000" cy="3673080"/>
            <a:chOff x="1295280" y="976320"/>
            <a:chExt cx="6120000" cy="3673080"/>
          </a:xfrm>
        </p:grpSpPr>
        <p:pic>
          <p:nvPicPr>
            <p:cNvPr id="315" name="Picture 14" descr=""/>
            <p:cNvPicPr/>
            <p:nvPr/>
          </p:nvPicPr>
          <p:blipFill>
            <a:blip r:embed="rId3"/>
            <a:stretch/>
          </p:blipFill>
          <p:spPr>
            <a:xfrm>
              <a:off x="1295280" y="976320"/>
              <a:ext cx="6120000" cy="36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18"/>
            <p:cNvSpPr/>
            <p:nvPr/>
          </p:nvSpPr>
          <p:spPr>
            <a:xfrm>
              <a:off x="2592360" y="407304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9"/>
            <p:cNvSpPr/>
            <p:nvPr/>
          </p:nvSpPr>
          <p:spPr>
            <a:xfrm>
              <a:off x="3672000" y="407304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0"/>
            <p:cNvSpPr/>
            <p:nvPr/>
          </p:nvSpPr>
          <p:spPr>
            <a:xfrm>
              <a:off x="5256000" y="400140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25"/>
          <p:cNvSpPr/>
          <p:nvPr/>
        </p:nvSpPr>
        <p:spPr>
          <a:xfrm>
            <a:off x="6084720" y="4869000"/>
            <a:ext cx="14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f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8" descr=""/>
          <p:cNvPicPr/>
          <p:nvPr/>
        </p:nvPicPr>
        <p:blipFill>
          <a:blip r:embed="rId4"/>
          <a:srcRect l="0" t="0" r="0" b="16690"/>
          <a:stretch/>
        </p:blipFill>
        <p:spPr>
          <a:xfrm>
            <a:off x="3348000" y="1413000"/>
            <a:ext cx="1677960" cy="3598560"/>
          </a:xfrm>
          <a:prstGeom prst="rect">
            <a:avLst/>
          </a:prstGeom>
          <a:ln w="0">
            <a:noFill/>
          </a:ln>
        </p:spPr>
      </p:pic>
      <p:sp>
        <p:nvSpPr>
          <p:cNvPr id="321" name="Line 29"/>
          <p:cNvSpPr/>
          <p:nvPr/>
        </p:nvSpPr>
        <p:spPr>
          <a:xfrm flipV="1">
            <a:off x="3924360" y="177300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0"/>
          <p:cNvSpPr/>
          <p:nvPr/>
        </p:nvSpPr>
        <p:spPr>
          <a:xfrm flipV="1">
            <a:off x="4427640" y="20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1"/>
          <p:cNvSpPr/>
          <p:nvPr/>
        </p:nvSpPr>
        <p:spPr>
          <a:xfrm flipV="1">
            <a:off x="3708360" y="162828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2"/>
          <p:cNvSpPr/>
          <p:nvPr/>
        </p:nvSpPr>
        <p:spPr>
          <a:xfrm flipV="1">
            <a:off x="4643280" y="21333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324000" y="5300640"/>
            <a:ext cx="842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ая  шаг  разбиения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ближаем  значение  суммы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 к  значению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мой  площади  трапе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250920" y="6093000"/>
            <a:ext cx="86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→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→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 можно  записать  математи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324000" y="620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 площади  криволинейной  трап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помощью  определенного  интегр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468360" y="3573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830160" y="3269880"/>
            <a:ext cx="14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7200" spc="-1" strike="noStrike">
                <a:solidFill>
                  <a:srgbClr val="000000"/>
                </a:solidFill>
                <a:latin typeface="Arial"/>
              </a:rPr>
              <a:t>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835280" y="36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4"/>
          <p:cNvGrpSpPr/>
          <p:nvPr/>
        </p:nvGrpSpPr>
        <p:grpSpPr>
          <a:xfrm>
            <a:off x="3276720" y="2133720"/>
            <a:ext cx="5184720" cy="3154320"/>
            <a:chOff x="3276720" y="2133720"/>
            <a:chExt cx="5184720" cy="3154320"/>
          </a:xfrm>
        </p:grpSpPr>
        <p:grpSp>
          <p:nvGrpSpPr>
            <p:cNvPr id="332" name="Group 11"/>
            <p:cNvGrpSpPr/>
            <p:nvPr/>
          </p:nvGrpSpPr>
          <p:grpSpPr>
            <a:xfrm>
              <a:off x="3276720" y="2133720"/>
              <a:ext cx="5184720" cy="3154320"/>
              <a:chOff x="3276720" y="2133720"/>
              <a:chExt cx="5184720" cy="3154320"/>
            </a:xfrm>
          </p:grpSpPr>
          <p:pic>
            <p:nvPicPr>
              <p:cNvPr id="333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6720" y="2133720"/>
                <a:ext cx="5184720" cy="31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Rectangle 10"/>
              <p:cNvSpPr/>
              <p:nvPr/>
            </p:nvSpPr>
            <p:spPr>
              <a:xfrm>
                <a:off x="5581440" y="3284640"/>
                <a:ext cx="648000" cy="28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Rectangle 12"/>
            <p:cNvSpPr/>
            <p:nvPr/>
          </p:nvSpPr>
          <p:spPr>
            <a:xfrm>
              <a:off x="4068720" y="4942080"/>
              <a:ext cx="28692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3"/>
            <p:cNvSpPr/>
            <p:nvPr/>
          </p:nvSpPr>
          <p:spPr>
            <a:xfrm>
              <a:off x="7380360" y="4942080"/>
              <a:ext cx="28692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6"/>
          <p:cNvSpPr/>
          <p:nvPr/>
        </p:nvSpPr>
        <p:spPr>
          <a:xfrm>
            <a:off x="4140360" y="48690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7380360" y="486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5867280" y="3213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5651640" y="321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4130640" y="48751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7370640" y="48751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68019E-006 L -0.33108 -0.08575 E">
                                      <p:cBhvr>
                                        <p:cTn id="150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68019E-006 L -0.67743 -0.27509 E">
                                      <p:cBhvr>
                                        <p:cTn id="154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7196E-006 L -0.49201 0.06119 E">
                                      <p:cBhvr>
                                        <p:cTn id="158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1215720" y="1124640"/>
            <a:ext cx="62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 определенного  интегра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4"/>
              <p:cNvSpPr txBox="1"/>
              <p:nvPr/>
            </p:nvSpPr>
            <p:spPr>
              <a:xfrm>
                <a:off x="1763640" y="2492280"/>
                <a:ext cx="55134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6" name="Text Box 5"/>
          <p:cNvSpPr/>
          <p:nvPr/>
        </p:nvSpPr>
        <p:spPr>
          <a:xfrm>
            <a:off x="2556000" y="4941720"/>
            <a:ext cx="48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 Ньютона – Лейбн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9fd"/>
            </a:gs>
            <a:gs pos="100000">
              <a:srgbClr val="8fd5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 flipH="1" flipV="1">
            <a:off x="849240" y="1060560"/>
            <a:ext cx="696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2340000" y="549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 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971640" y="126828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нструировать  формулу  для  вычисления  площади  фиг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5"/>
          <p:cNvGraphicFramePr/>
          <p:nvPr/>
        </p:nvGraphicFramePr>
        <p:xfrm>
          <a:off x="755640" y="1844640"/>
          <a:ext cx="2376360" cy="20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2376360" cy="2005200"/>
                  </a:xfrm>
                  <a:prstGeom prst="rect">
                    <a:avLst/>
                  </a:prstGeom>
                  <a:ln w="9360">
                    <a:solidFill>
                      <a:srgbClr val="3399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2" name="Object 6"/>
          <p:cNvGraphicFramePr/>
          <p:nvPr/>
        </p:nvGraphicFramePr>
        <p:xfrm>
          <a:off x="3924360" y="1844640"/>
          <a:ext cx="2449440" cy="204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1844640"/>
                    <a:ext cx="2449440" cy="2049480"/>
                  </a:xfrm>
                  <a:prstGeom prst="rect">
                    <a:avLst/>
                  </a:prstGeom>
                  <a:ln w="9360">
                    <a:solidFill>
                      <a:srgbClr val="3399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4" name="Object 7"/>
          <p:cNvGraphicFramePr/>
          <p:nvPr/>
        </p:nvGraphicFramePr>
        <p:xfrm>
          <a:off x="1447920" y="4194000"/>
          <a:ext cx="205740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194000"/>
                    <a:ext cx="2057400" cy="1676520"/>
                  </a:xfrm>
                  <a:prstGeom prst="rect">
                    <a:avLst/>
                  </a:prstGeom>
                  <a:ln w="9360">
                    <a:solidFill>
                      <a:srgbClr val="3399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6" name="Object 8"/>
          <p:cNvGraphicFramePr/>
          <p:nvPr/>
        </p:nvGraphicFramePr>
        <p:xfrm>
          <a:off x="4500720" y="4149720"/>
          <a:ext cx="2232000" cy="19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4149720"/>
                    <a:ext cx="2232000" cy="1944720"/>
                  </a:xfrm>
                  <a:prstGeom prst="rect">
                    <a:avLst/>
                  </a:prstGeom>
                  <a:ln w="9360">
                    <a:solidFill>
                      <a:srgbClr val="3399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8" name="Text Box 9"/>
          <p:cNvSpPr/>
          <p:nvPr/>
        </p:nvSpPr>
        <p:spPr>
          <a:xfrm>
            <a:off x="6659640" y="206064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 затрудняетесь,  воспользуйтесь  подсказ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164360" y="4581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те  себя  по  отве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9fd"/>
            </a:gs>
            <a:gs pos="100000">
              <a:srgbClr val="8fd5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547640" y="692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казка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Object 3"/>
          <p:cNvGraphicFramePr/>
          <p:nvPr/>
        </p:nvGraphicFramePr>
        <p:xfrm>
          <a:off x="2046240" y="1413000"/>
          <a:ext cx="4908600" cy="40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1413000"/>
                    <a:ext cx="490860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Text Box 4"/>
          <p:cNvSpPr/>
          <p:nvPr/>
        </p:nvSpPr>
        <p:spPr>
          <a:xfrm>
            <a:off x="1547640" y="692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казка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547640" y="692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казка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547640" y="692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казка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9fd"/>
            </a:gs>
            <a:gs pos="100000">
              <a:srgbClr val="8fd5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1476360" y="692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а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3"/>
          <p:cNvGraphicFramePr/>
          <p:nvPr/>
        </p:nvGraphicFramePr>
        <p:xfrm>
          <a:off x="2168640" y="1700280"/>
          <a:ext cx="4232160" cy="34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8640" y="1700280"/>
                    <a:ext cx="423216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9fd"/>
            </a:gs>
            <a:gs pos="100000">
              <a:srgbClr val="8fd5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1403280" y="765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Object 3"/>
          <p:cNvGraphicFramePr/>
          <p:nvPr/>
        </p:nvGraphicFramePr>
        <p:xfrm>
          <a:off x="2324160" y="1484280"/>
          <a:ext cx="427968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1484280"/>
                    <a:ext cx="42796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9fd"/>
            </a:gs>
            <a:gs pos="100000">
              <a:srgbClr val="8fd5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1116000" y="620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а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3"/>
          <p:cNvGraphicFramePr/>
          <p:nvPr/>
        </p:nvGraphicFramePr>
        <p:xfrm>
          <a:off x="2362320" y="1341360"/>
          <a:ext cx="420516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341360"/>
                    <a:ext cx="420516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 к  урокам  и  факультативным  занятиям 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11класса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ГБОУ гимназии № 49 Примор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сеевой Людмилы Васильев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9fd"/>
            </a:gs>
            <a:gs pos="100000">
              <a:srgbClr val="8fd5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1547640" y="83664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2195640" y="549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25092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6"/>
              <p:cNvSpPr txBox="1"/>
              <p:nvPr/>
            </p:nvSpPr>
            <p:spPr>
              <a:xfrm>
                <a:off x="611280" y="1341360"/>
                <a:ext cx="813420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0" name="Rectangle 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8"/>
              <p:cNvSpPr txBox="1"/>
              <p:nvPr/>
            </p:nvSpPr>
            <p:spPr>
              <a:xfrm>
                <a:off x="611280" y="2997360"/>
                <a:ext cx="352908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2" name="Text Box 9"/>
          <p:cNvSpPr/>
          <p:nvPr/>
        </p:nvSpPr>
        <p:spPr>
          <a:xfrm>
            <a:off x="250920" y="342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11"/>
              <p:cNvSpPr txBox="1"/>
              <p:nvPr/>
            </p:nvSpPr>
            <p:spPr>
              <a:xfrm>
                <a:off x="4788000" y="2924280"/>
                <a:ext cx="41749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5" name="Text Box 12"/>
          <p:cNvSpPr/>
          <p:nvPr/>
        </p:nvSpPr>
        <p:spPr>
          <a:xfrm>
            <a:off x="435600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14"/>
              <p:cNvSpPr txBox="1"/>
              <p:nvPr/>
            </p:nvSpPr>
            <p:spPr>
              <a:xfrm>
                <a:off x="684360" y="4437000"/>
                <a:ext cx="231120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8" name="Text Box 15"/>
          <p:cNvSpPr/>
          <p:nvPr/>
        </p:nvSpPr>
        <p:spPr>
          <a:xfrm>
            <a:off x="324000" y="4941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4356000" y="45594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Ура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!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Получилось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3780000" y="5300640"/>
            <a:ext cx="51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М о л о д е ц 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8"/>
          <p:cNvSpPr/>
          <p:nvPr/>
        </p:nvSpPr>
        <p:spPr>
          <a:xfrm>
            <a:off x="1403280" y="836640"/>
            <a:ext cx="626436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 имеются  две  неравные  площад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 постоянно  прибавляя  к  самому 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к,  на  который  большая  площад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осходит  меньшую,  можно  полу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,  которая  была  бы  больш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й  заданной  ограниченной  площади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м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7072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264960" y="2060640"/>
            <a:ext cx="352908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иволинейной  трапецией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 фигуру,  ограниченную  графиком  непрерывной  функции,  заданной  на  отрезке  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и  принимающей  на  нем  положительные  значения,  отрезками  прямых  х=а  и  х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  отрезком  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оси  абсци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4506840" y="2300400"/>
            <a:ext cx="2943360" cy="1790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65" name="Text Box 7"/>
          <p:cNvSpPr/>
          <p:nvPr/>
        </p:nvSpPr>
        <p:spPr>
          <a:xfrm>
            <a:off x="1908000" y="69228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971640" y="2276640"/>
            <a:ext cx="7993080" cy="36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площадь  криволинейной  трапеции мо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ом  последовательных  прибл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ом  составления  интегральных  су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 определенный  интег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2"/>
          <a:stretch/>
        </p:blipFill>
        <p:spPr>
          <a:xfrm>
            <a:off x="3419640" y="1125360"/>
            <a:ext cx="2162160" cy="174312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1042920" y="5013360"/>
            <a:ext cx="7129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видно,  площадь  заштрихованной  фигуры  больше,  чем  площадь  прямоугольника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  меньше,  чем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2124000" y="620640"/>
            <a:ext cx="525780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4500720" y="692280"/>
            <a:ext cx="424800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 такая  оценка  имеет  очень  большую  погрешность.  Попытаемся  уточнить  искомую  величину,  для  этого  вспомним  известный  из  геометрии  прием  нахождения  площади,  разобьем  рассматриваемую  фигуру  на  части:  проведем  несколько  вертикальных  прямых  х=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х=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17"/>
          <p:cNvGraphicFramePr/>
          <p:nvPr/>
        </p:nvGraphicFramePr>
        <p:xfrm>
          <a:off x="539640" y="1620720"/>
          <a:ext cx="4321440" cy="32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0720"/>
                    <a:ext cx="4321440" cy="32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Object 4"/>
          <p:cNvGraphicFramePr/>
          <p:nvPr/>
        </p:nvGraphicFramePr>
        <p:xfrm>
          <a:off x="1620720" y="861840"/>
          <a:ext cx="5902560" cy="46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861840"/>
                    <a:ext cx="5902560" cy="46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 Box 6"/>
          <p:cNvSpPr/>
          <p:nvPr/>
        </p:nvSpPr>
        <p:spPr>
          <a:xfrm>
            <a:off x="755640" y="5877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 наша  трапеция  разбита  на  три  трапе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5"/>
          <p:cNvSpPr/>
          <p:nvPr/>
        </p:nvSpPr>
        <p:spPr>
          <a:xfrm>
            <a:off x="1116000" y="90792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 больше  уточним  площадь  трапеции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6"/>
          <p:cNvGraphicFramePr/>
          <p:nvPr/>
        </p:nvGraphicFramePr>
        <p:xfrm>
          <a:off x="1692360" y="1628640"/>
          <a:ext cx="5545080" cy="36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5545080" cy="36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 Box 8"/>
          <p:cNvSpPr/>
          <p:nvPr/>
        </p:nvSpPr>
        <p:spPr>
          <a:xfrm>
            <a:off x="3078000" y="5805360"/>
            <a:ext cx="29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  так   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4:07:55Z</dcterms:created>
  <dc:creator>X</dc:creator>
  <dc:description/>
  <dc:language>en-US</dc:language>
  <cp:lastModifiedBy>user</cp:lastModifiedBy>
  <dcterms:modified xsi:type="dcterms:W3CDTF">2015-05-01T13:10:30Z</dcterms:modified>
  <cp:revision>30</cp:revision>
  <dc:subject/>
  <dc:title>Слайд 1</dc:title>
</cp:coreProperties>
</file>