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9DB-CC36-4A76-B8CD-02ADE8FD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9E7-4AF6-441B-B47D-28081A12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AB0-EAAA-4AF2-87FD-8DED70E5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27E-AE8A-44EB-97DC-A2388347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B43-17FC-43C1-B1C0-AD8E0675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D6E-B3EF-445F-8525-66933AAC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E44-3F84-4122-AC61-0007445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D3C-0634-4B0A-BDA1-5DBA2F3A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74C-3741-475D-95D7-470138D8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1F1-EC7B-48DA-8BF1-D3A2092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FD4-819C-4BB1-A846-BD8763E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D5C-9681-4CCB-B5F9-C05C94A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4677-0097-493D-9D86-5C2B247A8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униципальное бюджет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Елнатская средняя общеобразовательная школ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28800" y="1143000"/>
            <a:ext cx="722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Мир музыкальных инструмент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еся 5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офимова Тамара Владимиро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13- 2014 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880" y="785520"/>
            <a:ext cx="722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7933c"/>
                </a:solidFill>
                <a:uFillTx/>
                <a:latin typeface="Times New Roman"/>
                <a:ea typeface="Calibri"/>
              </a:rPr>
              <a:t>Цели 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793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Расширить и углубить знания учащихся о музыкальных инструментах, их видах, групп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7933c"/>
                </a:solidFill>
                <a:uFillTx/>
                <a:latin typeface="Times New Roman"/>
                <a:ea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Arial"/>
                <a:ea typeface="Calibri"/>
              </a:rPr>
              <a:t>1. </a:t>
            </a: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 Развитие эмоциональной сферы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2. Знакомство и классификация музыкальных инструментов (ударные, духовые, струнные, клавишные, русские народные, шумовые,): их историческое прошлое, особенности и основные отлич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3. Развивать творческую активность и творческие способности на урок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4. Формирование эстетического восприятия окружающего мира.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5. Приобщение к музыкальной культуре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6. Обогащение музыкальных впечатлений детей и способствование формированию музыкального вкуса, музыкальной памяти и музыкальности в целом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7. Развитие познавательных и творческих способностей.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14240" y="571680"/>
            <a:ext cx="722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дукт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ьбом «В мире музыкальных инструмент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686800" cy="429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ы 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музыкальных инструментов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х разнообраз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ые факты о музыкальных инструментах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мара</cp:lastModifiedBy>
  <dcterms:modified xsi:type="dcterms:W3CDTF">2015-05-01T15:14:54Z</dcterms:modified>
  <cp:revision>10</cp:revision>
  <dc:subject/>
  <dc:title>Слайд 1</dc:title>
</cp:coreProperties>
</file>