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0B1-55EB-4DF4-AB22-29217F42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D7D-4AFC-4A36-8CCE-84557A5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171-1336-4CE9-A5A5-1456B0B0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C10-AAF9-43F7-99E4-B9B6BA62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061-31CA-46E7-BD85-79415641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181-6C3B-4ED5-9A3E-D1F764E5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F3A-4AB1-4177-A5FB-20EB28A7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651-EC37-4473-B4BC-15A6834D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A04-A379-4185-9568-AE129AAE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118-12E0-4A48-9F9B-D8829E7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6EB-6748-4D0E-A1E1-D6AD11C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EED-07B2-4737-898A-6ADBDE56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B751-C3FC-47D8-88B5-43F5007C7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униципальное бюджет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Елнатская средняя общеобразовательная школ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28800" y="1143000"/>
            <a:ext cx="722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Мир музыкальных инструмент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еся 5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офимова Тамара Владимиро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13- 2014 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880" y="785520"/>
            <a:ext cx="722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7933c"/>
                </a:solidFill>
                <a:uFillTx/>
                <a:latin typeface="Times New Roman"/>
                <a:ea typeface="Calibri"/>
              </a:rPr>
              <a:t>Цели 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793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Расширить и углубить знания учащихся о музыкальных инструментах, их видах, групп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7933c"/>
                </a:solidFill>
                <a:uFillTx/>
                <a:latin typeface="Times New Roman"/>
                <a:ea typeface="Calibri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Arial"/>
                <a:ea typeface="Calibri"/>
              </a:rPr>
              <a:t>1. </a:t>
            </a: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 Развитие эмоциональной сферы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2. Знакомство и классификация музыкальных инструментов (ударные, духовые, струнные, клавишные, русские народные, шумовые,): их историческое прошлое, особенности и основные отлич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3. Развивать творческую активность и творческие способности на урок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4. Формирование эстетического восприятия окружающего мира.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5. Приобщение к музыкальной культуре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6. Обогащение музыкальных впечатлений детей и способствование формированию музыкального вкуса, музыкальной памяти и музыкальности в целом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7. Развитие познавательных и творческих способностей.</a:t>
            </a:r>
            <a:br>
              <a:rPr sz="2000"/>
            </a:br>
            <a:r>
              <a:rPr b="1" lang="ru-RU" sz="2000" spc="-1" strike="noStrike">
                <a:solidFill>
                  <a:srgbClr val="77933c"/>
                </a:solidFill>
                <a:latin typeface="Calibri"/>
                <a:ea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14240" y="571680"/>
            <a:ext cx="722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дукт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ьбом «В мире музыкальных инструмент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686800" cy="429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ы 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музыкальных инструментов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х разнообраз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ые факты о музыкальных инструментах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мара</cp:lastModifiedBy>
  <dcterms:modified xsi:type="dcterms:W3CDTF">2015-05-01T15:14:54Z</dcterms:modified>
  <cp:revision>10</cp:revision>
  <dc:subject/>
  <dc:title>Слайд 1</dc:title>
</cp:coreProperties>
</file>