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2.gif" ContentType="image/gif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11.gif" ContentType="image/gif"/>
  <Override PartName="/ppt/media/image5.jpeg" ContentType="image/jpeg"/>
  <Override PartName="/ppt/media/image26.jpeg" ContentType="image/jpeg"/>
  <Override PartName="/ppt/media/image4.png" ContentType="image/png"/>
  <Override PartName="/ppt/media/image24.gif" ContentType="image/gif"/>
  <Override PartName="/ppt/media/image27.wmf" ContentType="image/x-wmf"/>
  <Override PartName="/ppt/media/image17.gif" ContentType="image/gif"/>
  <Override PartName="/ppt/media/image2.jpeg" ContentType="image/jpeg"/>
  <Override PartName="/ppt/media/image25.jpeg" ContentType="image/jpeg"/>
  <Override PartName="/ppt/media/image22.gif" ContentType="image/gif"/>
  <Override PartName="/ppt/media/image18.jpeg" ContentType="image/jpeg"/>
  <Override PartName="/ppt/media/image16.gif" ContentType="image/gif"/>
  <Override PartName="/ppt/media/image20.png" ContentType="image/png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3.png" ContentType="image/png"/>
  <Override PartName="/ppt/media/image23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9450-5C98-4A94-AB17-1A1B09BC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60F4-AD3D-4055-8053-0E15B47A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85B8C-D0B9-41C4-A45D-89B4AC44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581AC-D4DA-4DBA-9B12-86097317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21CF5-C87E-4DCA-93EF-F0755ADE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A9130-A737-43A9-808B-74262EA3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38BF4-2975-4036-A440-61800C6B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14273-3F78-4187-BC01-A7FDF4F4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91013-6763-413C-AAC8-735F5452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4C332-9DD2-463F-B983-F03B7EB3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23953-9FFB-4D78-86EC-458E07D6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4623F-0F1B-4BA4-B180-5F407542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56F-AC22-4AE6-A9E4-D4C8F5E3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3C728-1ACE-4E59-A8A3-C3BFCC80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3E582-F235-4B6E-A794-0B08EDCD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F8C1B-F0F4-4970-B0C6-0150C766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8AB27-FBEC-4FED-85E5-B0D2F0D1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F2CA1-114B-4C8D-8CA3-19B98E92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74FB8-9FCB-417C-BE79-7C3A2F41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521BB-05B6-430A-9503-7D314C98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8F116-1E37-4289-8EB9-3BE9352D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4BA3F-C7EB-4E73-93E4-17C64EFF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FDD69-1170-4CF8-8E85-0D8759B5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B8A-36A0-485E-8ED3-547B38A8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77501-C208-4421-B08C-530F7EA5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45D82-6E40-4522-A589-9BB8C69D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77BA4-CC51-4D01-A54F-A361E1E0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4A57B-AD99-4D4C-99C6-D9DC212E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2F37F-7847-4D79-BA3E-1218889A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D41B8-348B-4433-B10C-8C77FDE6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3405D-940F-4B53-A4A8-F6AE3D7D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53908-EB9B-4008-9FA7-96505DB8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09C52-F1BD-453F-BD3D-54C4ECC3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EDC06-0920-41AE-9940-B0CAD909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14DF-5377-41C2-B1A8-64D01906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86D45-7AA1-4DD2-9A07-1127E536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8521E-2AC1-4BBE-BE1D-E6ACD2C5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76C34-81F8-46C7-845A-29AAB28B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B7767-C497-4F8D-BB27-652D35BB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61873-17B8-4037-9DA3-E4AD8231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25BBF-1FC4-47E0-9CF6-31B81A87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DE033-E7B8-44F3-8A70-910E8973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BDB81-E6B4-4E4A-BC1E-BADDD75F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72220-9417-4DA1-A1A3-519F7051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D7F61-72A6-43AA-89EE-813F428B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3A98-FFE3-44A7-8A42-ADFD1CC9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7E80B-30E0-4540-88B5-CD93769F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9BFF5-A179-428D-9D3D-483CDE6D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FDF1A-6498-4B5B-9279-058C2D2D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C7C49-7564-4947-9849-B63650AF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FC738-FB60-479F-BB0F-40FA9812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04B90-7372-4B31-933F-39120DA0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51053-1472-42BC-8611-D510FD45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D7E92-E0A6-41D8-ABCF-8D5FA34B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09C121-BFF5-4F0C-B50E-665ECDBE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968F3-343A-41CF-B7CD-8B31D8CC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60E9-ECFF-4E27-85E5-CB642FF7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6692A-F508-4748-A762-6A95ADF6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BDE9DB-7691-44A7-94D7-5DF87913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0B5AD-4945-4D95-970F-E8592954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9720F-8A5D-4EEC-8B53-CF90F7EB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B4AC42-E413-4A3F-B7AF-FCFED5A3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2B017D-4E9A-4C76-B87B-C53FD14C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8A249-F212-466B-9D9E-B916B7FA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ECD5-8637-4193-A847-084D06A8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7095-27D1-4EB0-AAE6-C1727896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69DA-4253-4E90-836C-911A2995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124C-A470-4635-8518-DE7D7A98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7D25-E4CD-4F48-AFB7-365B40A2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C45F-6D5C-40F9-AE46-35134A0E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2E82-DD8F-4D27-B83E-4F5B08FA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4705-B35D-4647-A9D6-5AE5E718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50ED-C3F6-455C-A435-956AB5C9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30D9-CEF7-4B02-B3A6-09822A42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D8C0C-513B-4C18-8583-032DC508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8D682-AF2F-42E4-BF76-FA8F4521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D400F-5228-4866-905D-55A16468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BB003-12C5-46D8-B5BD-52530694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B1DB6-40C7-4746-B31A-C05B75FC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590-4637-4C57-96D4-4B5B45FF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218D8-7323-43EC-9228-2A0C2EC8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A9A0B-03A5-4E9F-AF89-AEA04E17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C437A-6CEE-46E3-9C40-E31AC815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7EB6D-A9D1-4D37-97EB-FA8ABCE0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7FE98-0C14-4A0F-8326-F0DD0133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D8803-AF08-4C4B-9845-AFE7DCF0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353DC-D3DF-4F5C-8E90-22393C0A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70B2A-6B55-4709-B97F-16866DE8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992CD-82D7-487A-BE65-0BA576F3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B4543-07FC-47D3-8603-D4F08C61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C9B7-EE69-4177-8685-8915ECF4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96325-EB34-4418-AAF6-61649F76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E85D8-9290-430D-993D-26909E9D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17F6D-988F-4323-8FB7-DE1C6C9E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4C910-A5FC-4E48-953A-A6D3BC67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E91E5-D390-4682-979A-7027D7D6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8929F-03ED-4BFB-A0E9-8D59E6D9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1E6BA-F245-4977-AF7A-314CC99C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28D4E-FD4B-45CD-AE4D-C92DB1E4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BB165-A022-471C-B4FE-24E0B02A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06D55-9DD7-4E76-8708-1984BCC4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847-1C1D-4B9C-BF4E-E78BE3CA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34584-1A19-49B5-9A16-676468C3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E1B78-7F87-4A8B-9361-4BCFCE49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B0E3A-0C89-4E68-B235-58E4A790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FA123-CE61-485A-AC78-24335131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EF52E-B7F4-4C3C-A9E9-BCB9BA1D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C1CEC-DD5B-4579-BD12-2D9518E3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3A70F-D5A9-4C40-BE0D-92625A66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2856D-3283-4B20-8001-E496B1EC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98D04-1B90-49D2-AB7B-FC2E62D1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D6D68-1A1B-434B-BFE3-6B141748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FDC-7A4E-47B1-A0C4-2906D51C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8B113-7F5D-440F-81B4-61B96399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EBCFD-BFCE-4D06-B8DA-73130760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9CE68-872A-4F0E-A5DD-2000619C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6C03B-3ADE-4649-AC9E-AF77A787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7B3EA-1D8A-487E-9C54-07157A60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76555-0907-4C70-9D61-D37FEAD3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DDBDA-8868-4E25-AAFB-D50DD23A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CCAB6-3ECC-48F7-AADB-4034C8D1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1AA6B-4D22-4E06-BB00-5A33AA6E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AACE6-46E6-4076-8CE0-D7063927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74E-F7DC-47C9-A731-50B8172F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6ACDD-08DB-4513-8BBF-E6B18054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1ACB9-BBA4-466A-9E10-DAB8E7E5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FE316-9766-4100-B0B3-0B121B31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5DD31-313F-41E4-AA69-A4D9080E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EFAA0-3AE0-4D64-B2F2-E6E225AA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53F5E-C3EC-4689-913D-9CC356E1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60AF5-8BFA-4A35-B5E9-D53D0CDE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E58D9-EB33-40D1-9301-F44B4F90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D6B90-806B-4F4A-AA18-67207F38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47462-17C2-465E-9E71-CB578D35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7F2-7C58-4A4E-BB84-DD02C8D4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DD09A-EAE2-4D1A-AE39-F494880C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784A1-C93F-488B-8CCD-4DB5C397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1B323-6FB8-4DB9-B4C8-76DDC87B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851E1-7D04-42E0-A6EE-1682BF7B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14FEE-2519-4456-B536-875427BC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3AF95-21F7-44BC-AC4A-DAB75A09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6603F-A293-4C5F-912B-33B3981E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07B07-A2B7-43BD-9312-D1F3B440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1AA64-BC1F-4A56-9733-53DAD01A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CB1E8-49A0-4847-B1FE-22DB0737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2AD7-0113-407E-B093-C5A1C436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A5239-EAD8-4DDB-9A0B-1EA6E7F2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C7C37-8E15-4BF3-B9F6-F15D8885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B48AA-347F-4DED-8208-F796CABD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8B46F-4DF2-43A5-9B54-61347D16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FC0FE-3851-4165-900A-2413E1DC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76E47-3FC8-4A2A-9A38-C19E4ACF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FC3E2-8D63-49E7-B7BF-14065A6C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C4990-8612-4008-8808-F5D6B496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7D314-05DC-4E33-AC65-0EAE0D59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4E147-28E4-49AA-AD85-A576A275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51A7-9EA4-42FC-90F4-791AF6197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0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0A93-3136-4585-885A-AA63172F684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4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9401-BAE6-4043-886D-07E2DBE95F7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31E6-CD02-4FB2-9AA2-900B1814919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9DC4-F133-48AA-99CB-F0CEDFC30D9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2CDA-2F72-48D4-B16C-359A9402061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3C24-81B6-4ED1-8254-67045ABEDF7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139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B8AE-4B71-4716-B471-7F0AAD9F11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85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D948-1ED4-4DD2-A0A6-9DF2DB97511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0B0A-AF8C-46F7-A5A6-6CF889898AB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79B4-FE29-4A90-BCEA-C827D2AE6B6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E949-8729-4079-B4EF-549C9BB2BB5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5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7F10-0C3B-49FE-B495-2CB815B9876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Родительско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собрани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 2 </a:t>
            </a:r>
            <a:r>
              <a:rPr b="1" lang="ru-RU" sz="4500" spc="-1" strike="noStrike">
                <a:solidFill>
                  <a:srgbClr val="ff8d3e"/>
                </a:solidFill>
                <a:latin typeface="Arial"/>
              </a:rPr>
              <a:t>В</a:t>
            </a: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 класс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28951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Verdana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Verdana"/>
              </a:rPr>
              <a:t>«Критерии оценок во 2 классе. Первая оценка и как к ней относиться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7" name="TextBox 4"/>
          <p:cNvGrpSpPr/>
          <p:nvPr/>
        </p:nvGrpSpPr>
        <p:grpSpPr>
          <a:xfrm>
            <a:off x="414360" y="5583240"/>
            <a:ext cx="8259840" cy="957240"/>
            <a:chOff x="414360" y="5583240"/>
            <a:chExt cx="8259840" cy="957240"/>
          </a:xfrm>
        </p:grpSpPr>
        <p:pic>
          <p:nvPicPr>
            <p:cNvPr id="578" name="TextBox 4" descr=""/>
            <p:cNvPicPr/>
            <p:nvPr/>
          </p:nvPicPr>
          <p:blipFill>
            <a:blip r:embed="rId1"/>
            <a:stretch/>
          </p:blipFill>
          <p:spPr>
            <a:xfrm>
              <a:off x="414360" y="5583240"/>
              <a:ext cx="82598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533520" y="5638680"/>
              <a:ext cx="807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00000"/>
                  </a:solidFill>
                  <a:latin typeface="Arial"/>
                </a:rPr>
                <a:t>МБОУ СОШ  №8 г. Бердс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00000"/>
                  </a:solidFill>
                  <a:latin typeface="Arial"/>
                </a:rPr>
                <a:t>Учитель Зарецкая Любовь Леонидов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68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воспринимать  отметки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 отметку. </a:t>
            </a:r>
            <a:r>
              <a:rPr b="1" lang="ru-RU" sz="2800" spc="-1" strike="noStrike">
                <a:solidFill>
                  <a:srgbClr val="692aa2"/>
                </a:solidFill>
                <a:latin typeface="Arial"/>
              </a:rPr>
              <a:t>Ему очень хочется быть в ваших глазах хорош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</a:t>
            </a:r>
            <a:r>
              <a:rPr b="0" lang="ru-RU" sz="2800" spc="-1" strike="noStrike" u="sng">
                <a:solidFill>
                  <a:srgbClr val="0a0aff"/>
                </a:solidFill>
                <a:uFillTx/>
                <a:latin typeface="Arial"/>
              </a:rPr>
              <a:t>врать и изворачиваться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чтобы избежать 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4" descr="j0282745"/>
          <p:cNvPicPr/>
          <p:nvPr/>
        </p:nvPicPr>
        <p:blipFill>
          <a:blip r:embed="rId1"/>
          <a:stretch/>
        </p:blipFill>
        <p:spPr>
          <a:xfrm>
            <a:off x="4267080" y="236232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зна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которые он сможет                       приобрести в результате                    ежедневного, упорного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45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5" descr="AG00319_"/>
          <p:cNvPicPr/>
          <p:nvPr/>
        </p:nvPicPr>
        <p:blipFill>
          <a:blip r:embed="rId1"/>
          <a:stretch/>
        </p:blipFill>
        <p:spPr>
          <a:xfrm>
            <a:off x="4464000" y="3544920"/>
            <a:ext cx="4680000" cy="331308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4" descr="24.jpg"/>
          <p:cNvPicPr/>
          <p:nvPr/>
        </p:nvPicPr>
        <p:blipFill>
          <a:blip r:embed="rId2"/>
          <a:stretch/>
        </p:blipFill>
        <p:spPr>
          <a:xfrm>
            <a:off x="533520" y="4572000"/>
            <a:ext cx="18478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492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36480" cy="1422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Рисунок16"/>
          <p:cNvPicPr/>
          <p:nvPr/>
        </p:nvPicPr>
        <p:blipFill>
          <a:blip r:embed="rId2"/>
          <a:stretch/>
        </p:blipFill>
        <p:spPr>
          <a:xfrm>
            <a:off x="7543800" y="3581280"/>
            <a:ext cx="121932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воего тру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чтобы ребёнку хотелось вам подра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4" descr="J0076204"/>
          <p:cNvPicPr/>
          <p:nvPr/>
        </p:nvPicPr>
        <p:blipFill>
          <a:blip r:embed="rId1"/>
          <a:stretch/>
        </p:blipFill>
        <p:spPr>
          <a:xfrm>
            <a:off x="3048120" y="4114800"/>
            <a:ext cx="5616360" cy="22096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?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52280" y="12189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Хорошее, как и плохое, запоминается ребёнком надолго и его хочется    повтор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усть ребёнок получает хорошую  отметку ради того, чтобы его             отметили. Вскоре это                                   станет привыч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4" descr="Карандаш"/>
          <p:cNvPicPr/>
          <p:nvPr/>
        </p:nvPicPr>
        <p:blipFill>
          <a:blip r:embed="rId3"/>
          <a:stretch/>
        </p:blipFill>
        <p:spPr>
          <a:xfrm>
            <a:off x="7543800" y="2438280"/>
            <a:ext cx="190512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f7ebb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8" descr="Учитель"/>
          <p:cNvPicPr/>
          <p:nvPr/>
        </p:nvPicPr>
        <p:blipFill>
          <a:blip r:embed="rId1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0066cc"/>
                </a:solidFill>
                <a:latin typeface="Arial"/>
              </a:rPr>
              <a:t>Измени свое мнение о вещах, которые тебя огорчают, и ты будешь в полной безопасности от них 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4" descr="Глобус"/>
          <p:cNvPicPr/>
          <p:nvPr/>
        </p:nvPicPr>
        <p:blipFill>
          <a:blip r:embed="rId1"/>
          <a:stretch/>
        </p:blipFill>
        <p:spPr>
          <a:xfrm>
            <a:off x="142920" y="142920"/>
            <a:ext cx="1238040" cy="15238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Карандаш"/>
          <p:cNvPicPr/>
          <p:nvPr/>
        </p:nvPicPr>
        <p:blipFill>
          <a:blip r:embed="rId2"/>
          <a:stretch/>
        </p:blipFill>
        <p:spPr>
          <a:xfrm>
            <a:off x="7257960" y="4419720"/>
            <a:ext cx="2237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641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648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3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656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670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4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675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0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оугольник 48"/>
          <p:cNvSpPr/>
          <p:nvPr/>
        </p:nvSpPr>
        <p:spPr>
          <a:xfrm>
            <a:off x="6019920" y="2362320"/>
            <a:ext cx="28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 бесконтро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ясн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ности, с которыми встречается ребенок при выполнении домашнего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стро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бенка на выполнение заданий тех уроков, которые были сегодня, а задания на следующий день надо только повто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             индивидуален для каждого ребенка                 Не Следует ни торопиться, и ни затяг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суждайте с ребёнком то, что                                           задал учитель учить дома. Он                       руководствуется учебным планом и                         и утверждённой школьной програм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до помнить 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Рисунок 4" descr="1september.jpg"/>
          <p:cNvPicPr/>
          <p:nvPr/>
        </p:nvPicPr>
        <p:blipFill>
          <a:blip r:embed="rId1"/>
          <a:stretch/>
        </p:blipFill>
        <p:spPr>
          <a:xfrm>
            <a:off x="7620120" y="152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мните об этом!!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1522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учитьс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аша 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Статья 52                                «Закон «Закон об образован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5" descr="j0088510"/>
          <p:cNvPicPr/>
          <p:nvPr/>
        </p:nvPicPr>
        <p:blipFill>
          <a:blip r:embed="rId1"/>
          <a:stretch/>
        </p:blipFill>
        <p:spPr>
          <a:xfrm>
            <a:off x="5943600" y="3200400"/>
            <a:ext cx="30052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34304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2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8915400" cy="68580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спехов и терпения ВАМ в воспитании и обучении детей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282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4" descr="335ohp.jpg"/>
          <p:cNvPicPr/>
          <p:nvPr/>
        </p:nvPicPr>
        <p:blipFill>
          <a:blip r:embed="rId2"/>
          <a:stretch/>
        </p:blipFill>
        <p:spPr>
          <a:xfrm>
            <a:off x="228600" y="1143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77120" y="49528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858000" y="502920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user</cp:lastModifiedBy>
  <dcterms:modified xsi:type="dcterms:W3CDTF">2013-09-19T01:08:42Z</dcterms:modified>
  <cp:revision>92</cp:revision>
  <dc:subject/>
  <dc:title>PowerPoint Template</dc:title>
</cp:coreProperties>
</file>