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995-2F4A-4CDA-A2A3-E43C311D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0E7-3AA2-4E55-8856-595C8156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16C9C-885F-4CF5-B988-856848CC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A6883-F456-49FB-A56D-E47AA6BF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7A21D-FED1-4A01-B808-73A3DF4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097F-8F43-4618-B926-4E3CC71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FE009-86BA-4213-906C-E12956F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863AE-7E13-47A4-84B1-95166DC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6BAEA-A5C4-4A68-A1B6-E1604DF5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6306D-D1DB-4D61-9966-9C15C84B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A058F-E7E9-4487-BE2B-97F3EE3F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490B3-028B-48F7-A999-7BDC05CA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2D7-6184-4BF8-A17F-C624AF1E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743B3-6BB9-4B15-8C20-8069F1FF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92328-8491-45E4-863E-FEE9022A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35552-B60D-4E38-BBB1-4D7B1793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F3B53-9A21-4D1F-B3C1-DC4D92C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8A0D8-38A2-4FFF-AE51-D4D1D027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E3744-8926-40CD-AD96-9042B923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75F24-0B5C-405D-A58A-2517C1A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6A371-2BB5-48D8-A8F6-5F88C67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486C9-FA1F-48CF-8369-95E85ED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BA29A-C5FF-4198-992D-9E055020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00D-8D09-497C-9A90-BD33BFAF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E445D-08E0-41CB-85B2-994FD41C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E7929-D698-4E4B-A5DE-C09D0F95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88B46-0D54-49A1-985E-C0BE9FB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CDB16-693C-4971-8C18-BD57EB4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BC742-9C19-4CED-962C-1569099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78C3-BB8F-4E54-B191-096083CB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6B207-6E8F-4F99-95F0-C6962F86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3458B-5960-4AF5-A9D9-30149C2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30696-2F81-49E2-9DE2-A767409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D44D2-0DB2-4B64-AB2E-B4FEF34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2832-351B-4E27-A8B6-36A79CE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CC51D-F76E-4622-BE4B-86FEAC5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578BD-9DCA-45EA-B9B8-DCC890C2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AD2FF-540E-4737-ACDB-D9903A88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FD239-BA8B-4AAA-864B-DC184535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82012-4AFD-49D7-96CD-E81D81A4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DBA65-64CA-4D24-A6E7-8B9F375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AE45A-BB9E-482D-A7E2-660BAA23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DA693-4D7E-4F3A-803F-26BA6A0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C7E40-D506-4EC2-AF32-F5B5409F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D2A7F-40B0-482C-AE2C-032442F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BBCA-3457-48FA-B1F7-9B3B92FB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D7716-D9D5-44C3-ACC6-0367072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0AD30-0D1D-4C2F-8BDF-E5384AD8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50372-3429-4B2F-8043-A608DFB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FD85B-18C6-4F56-A1B2-E4DFDEAC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58E2C-F3BC-447C-9B90-E25D03FA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5C2EF-B96A-4DD1-B1AD-30EA1D7C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82A35-01B0-4C60-B826-C980F580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15111-7F1B-4F71-B777-A0075EB2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7C7D4-FEF4-47A8-B0A6-7F8EF5E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110C0-FD38-4F24-96A7-4E688E6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FF06-BFF3-42D3-B4C0-0650900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031D0-71BE-4580-8481-6971298A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63799-4E25-4A1E-8FA7-3DCD852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E3096-4641-4365-BF51-6DCF00E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F543C-DCC2-4CAA-90EA-C3A7275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2A157-ADE9-479A-BD49-A0A974A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4DF4B-0ABB-4498-B0FA-627F642E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558B1-78C5-4AF6-96EE-802132B3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9E54-FD0F-48DB-845E-103A2D8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BFA1-C29F-4F7A-AB8E-82514160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BC26-2911-42C2-9249-8519CEAF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41B5-6403-4CB1-B692-3009F18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E96-2D42-408E-A42F-64CD19AD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69C6-3A66-4402-929F-F7568D7F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7FBF-56C6-4DA9-B760-5498518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1C5C-2550-4E48-B89B-54FD306E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2149-CEEC-44EC-9DA1-AB36DCDC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0EE9-27CD-4761-80EC-DA970BD9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92E5-C02E-49CC-A722-FFAC68DF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EE40A-5F98-43B9-9B0C-E54C3D67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C596-9D54-4B7E-B1EB-08553597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1957-1296-43E7-9B6A-B87C057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E227-20A4-4221-A986-FF02B0CF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2CE-5515-4D83-A60E-45EF0B8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F0F2-5977-41D8-8886-BE71149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C07F-1DB6-44CA-B3C8-ED4FB81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EE47-9F0A-4FF8-9EFC-4F61DC5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72D8-9E7B-41A6-8A55-B05E878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D7A0-FC8F-4D6E-B399-831CC70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6F93-6CEE-44EE-8DD2-26F6F14C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6006-D67B-4693-86C0-1FAB2541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C818-2CE0-451A-9ADE-ECDE39E8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2FC5-87C4-4096-ADE2-2ED0D44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F6F7-946C-4603-A66C-6611E69A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B55-15EE-4842-ADCB-F7B67431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0D376-E928-4D62-B25B-1A954ED5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8D0F-9936-458B-B173-5537CD3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BF6B-0271-47D1-BEDE-5C253BEF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8504-8109-4BA4-9D40-7FDD52C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659DD-CB3F-4D6C-85CE-A682B4A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5E75-1281-41FE-BE9C-F6A6E46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EA30-7B1D-44C1-A390-BB118766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6503-31FC-420A-B168-6DA58D96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C425-D162-460F-A537-125DB4B4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BDA6-E3A7-4420-91AD-B008B125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D9E-24B2-4432-9C36-1CD6EB3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83D72-0846-4F7D-91AC-F5F0B5CE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613D-9472-46AF-A319-EB64F0A1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4640-0DF8-4BD1-ABAC-398D13CE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0BBC-8FAF-4FBB-854B-EF2E4D9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4CD3-9630-4BA3-913C-C025592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C7A0-3B7D-4AB8-A711-208B1330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BEA3A-B63F-4E7F-95CC-B9912068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8656-CE6A-47F1-8AC7-187C0F4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EC00-4FBE-46EC-B1E0-66B6980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FA5C-817B-44BE-83E3-C6EB29DE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F62-597A-4651-AE0A-95C13B9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AD46-E350-4C6A-A5B3-4D011F5E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50F08-EC87-4F88-9E34-FB9E2A70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4E78-1540-4A49-B843-03D48CEE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CAEB-933D-4DD5-9784-E83E59B9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FC616-BCD5-4ED7-9F84-2A1350A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B84BA-656E-4A22-8442-73C43FE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FE9E3-59E5-40CE-BB53-6CA30EC4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4B35-B9AE-4EDF-BA10-E9D4806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4575-F8DF-4A67-A66B-8A0C856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5542-976D-4A86-8110-C006173C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2E4-3317-458E-AD7C-C0254AE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893BC-4219-4DAF-991C-0B93617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D5C0-48D2-4661-8CB9-926278AC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E840-36A8-457D-94AF-7D711636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0B91-BE80-4E7E-B843-B3D7D85F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FB05B-F7B4-4649-BBFE-06C136D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C002D-67A1-4994-A672-E3E4E32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450B-21EE-4719-9B48-71D81580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B487-A543-4DC6-A693-CAAA08F0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AACC1-71A9-4BDD-8CA9-EC29E3A3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2969-3F47-49D5-9624-D9EDC81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62F-BD8D-4A8C-AACE-55CF335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C6220-52C9-4493-977A-8C369CC5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6124C-1D7C-4B5E-B64E-BF5630EA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2E8E4-F15D-4C9F-8174-96188D40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8E852-15A9-489C-99DF-E5969C59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C6CB-04D5-47BF-A3A3-D1EA68CC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63214-1588-4C6A-B892-321CCC3C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9E7A9-4BEE-4D6B-BD59-716FF58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5762-BA2B-40A3-AF62-FD4F7B21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9743-9658-4D85-ACC1-F45E0055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A6F40-224B-4CD9-A414-8D666093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618-6B76-448F-B552-A7B9BFA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1AA0-4F6F-4D50-9C6F-12ED0ADE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1517-96ED-4F6A-A760-F0B5E8E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931C-378B-4289-9DD0-5761AB27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A0BD8-9D3E-48B7-9CC9-D39BAADA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CF51C-3AF5-4381-808A-C2142460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B9B8-77BB-45FC-95EF-D9B76E2C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0DEB0-A23A-491C-8957-234AE567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C0BD5-E271-4290-BDB4-609D5C1D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AB247-3DDB-4DE9-A725-F17E3C7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B7C2E-322D-4BA1-9A1B-42F2EDE4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854D-993D-4C65-9C75-40E97F3C0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0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8E26-94DC-4D10-B4BA-E650C947687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4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3F0F-4733-44F0-97E9-03959B9BCC7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677D-2FEE-44D6-AF32-C52FDAE3715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05D-0911-4FEA-96B8-5122DE44361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25ED-3DAD-4B11-B18D-A4FD35646E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A752-4F55-4A49-84AC-9A15959F842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11D5-723A-4FC4-A5AF-0665BEE1B5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750-E4F0-43DF-A74C-707AEF54C9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F0CE-18B0-40CC-9B99-651E0260B88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901-90C9-4598-9B73-E05EA58727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1A12-C57D-4BAF-BC60-6CAE215F50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5686-4869-4E4C-8CF5-3FA04A6FC4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2 </a:t>
            </a:r>
            <a:r>
              <a:rPr b="1" lang="ru-RU" sz="4500" spc="-1" strike="noStrike">
                <a:solidFill>
                  <a:srgbClr val="ff8d3e"/>
                </a:solidFill>
                <a:latin typeface="Arial"/>
              </a:rPr>
              <a:t>В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класс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Первая оценка и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7" name="TextBox 4"/>
          <p:cNvGrpSpPr/>
          <p:nvPr/>
        </p:nvGrpSpPr>
        <p:grpSpPr>
          <a:xfrm>
            <a:off x="414360" y="5583240"/>
            <a:ext cx="8259840" cy="957240"/>
            <a:chOff x="414360" y="5583240"/>
            <a:chExt cx="8259840" cy="957240"/>
          </a:xfrm>
        </p:grpSpPr>
        <p:pic>
          <p:nvPicPr>
            <p:cNvPr id="578" name="TextBox 4" descr=""/>
            <p:cNvPicPr/>
            <p:nvPr/>
          </p:nvPicPr>
          <p:blipFill>
            <a:blip r:embed="rId1"/>
            <a:stretch/>
          </p:blipFill>
          <p:spPr>
            <a:xfrm>
              <a:off x="414360" y="5583240"/>
              <a:ext cx="82598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33520" y="5638680"/>
              <a:ext cx="807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МБОУ СОШ  №8 г. Бердс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Учитель Зарецкая Любовь Леонидо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66cc"/>
                </a:solidFill>
                <a:latin typeface="Arial"/>
              </a:rPr>
              <a:t>Измени свое мнение о вещах, которые тебя огорчают, и ты будешь в полной безопасности от них 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Глобус"/>
          <p:cNvPicPr/>
          <p:nvPr/>
        </p:nvPicPr>
        <p:blipFill>
          <a:blip r:embed="rId1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Карандаш"/>
          <p:cNvPicPr/>
          <p:nvPr/>
        </p:nvPicPr>
        <p:blipFill>
          <a:blip r:embed="rId2"/>
          <a:stretch/>
        </p:blipFill>
        <p:spPr>
          <a:xfrm>
            <a:off x="7257960" y="4419720"/>
            <a:ext cx="2237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641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648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656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670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675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0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user</cp:lastModifiedBy>
  <dcterms:modified xsi:type="dcterms:W3CDTF">2013-09-19T01:08:42Z</dcterms:modified>
  <cp:revision>92</cp:revision>
  <dc:subject/>
  <dc:title>PowerPoint Template</dc:title>
</cp:coreProperties>
</file>