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70F-ABE6-4869-AAF8-A8D91547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539-516A-4A72-A0E5-039067BE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F68DB-055D-4A87-B570-D2100C69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BA245-3704-4EA4-B65E-138F9705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972A4-24C8-4496-A8CF-07D7D1AB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87860-4BCF-4C1F-B055-B08314F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7FBFE-6354-49A7-ADF0-8CD4784A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7E654-FAD0-483F-ADAF-F6D524E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E2F99-941F-49BA-B50C-84DAD277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A2930-C354-4BA6-82E8-33A7F09D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0AD2B-E24A-42E5-8C09-BEC9121C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556-4EEA-43FE-8ECF-03C1E868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9EE-F637-48C3-91B0-CA5F2D3B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2C63-0560-4912-BB17-88F57A20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68FD-10A2-4D92-AFFF-6224BA4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63BA-D3B1-4076-9C02-2464679B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624B-9362-4D91-B154-433B55A3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53C9-96CD-47C8-87CD-C1419BC5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F962-5103-4072-9B90-B60E3571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EA24-5D29-4CF1-8DCE-58CB1250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5EA-EFD5-41A4-A74D-EC08A03A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4D5C-C122-45E8-AAE2-B2274D6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478C-1B0F-4A2A-9E26-C2548AD4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DFB9-DCA6-4713-A817-59663A99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3AC5-2BA7-48D2-A222-1F5E5B11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C12E-308B-48A3-B194-5686F658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4E5A-B794-4784-B179-188F7353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3D42-20F6-4643-8000-0A3F514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ABC0-AD69-4056-BDBA-33F56CE4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3363-441E-4FDA-A3F5-88BAEA5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65F0-42D1-4A86-8630-7FE02755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24F-8521-46D4-991A-CCF476A4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C5E3-CD50-4516-8A8D-97DD7729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8789-950F-45E5-8A30-2B66405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06FE-FF7E-4F8E-8A85-9DBF598E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223D-F76E-40A7-92D6-F5DE734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FB8A6-D5C4-4FCD-B829-C01A95B6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E1A3-8911-466F-B8F7-52A09F43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6565-1C31-4A19-B01E-820B183A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08AE5-89D6-4F98-926A-47B2A05C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CBEF-661B-48BF-9007-90F5A48F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4065-E99B-4C8B-B15D-48A026CC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732-E8A9-4B04-9127-E91EAEA1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1EC27-63B7-4AE6-B9F5-9951C77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B5C1A-9691-4BB6-83F0-6B427A13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E3985-A3F3-46DD-A8C6-607E0FFB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13E8-538A-4600-A467-EFFA2187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279A-2BCB-465B-AC2C-A8CDF76E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50E5-3BF2-4E60-B944-4BA9FFC7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6067B-1345-44CE-B370-8A3E51F7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73AA-43E8-4894-963A-82438790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EB60-354D-4430-9EA6-9E32E119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A8D2-E3FE-436D-B863-BB230A54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D01-77ED-44D9-8A80-6925C4C5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4ABE-D0EB-409E-8E69-75FCDE76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B1695-541A-4117-B7B8-034A0981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CD007-5CE1-47AB-BF77-8F42C625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E3C34-45B3-46EA-B3FA-2F6FF3BD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87437-922C-46F8-B5EF-6B97CE48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F271C-05AA-4626-89BF-823FBE2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8BFB4-A55A-4654-BC73-D24AFE1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592B-8266-4056-A4F1-902BC52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DF77-8B19-4C98-AF66-1661EDEB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B06F-E4A5-4B0E-B752-479A8E7A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3B0-3F55-4A7B-8C55-D7DF7290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21657-A53B-4B00-B45E-ED782376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3D570-FEFE-4F20-9DE9-B5EAB256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C8C52-3CDF-423D-9F3E-7ACFB5C0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32190-8C2C-4BF0-B6FE-B82C1BAE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FD629-9A70-4AD4-B40B-076AA45D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DEB5F-0800-440D-ADE1-F768DD7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B5C3C-EF78-4A5D-80BC-9389034C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61945-2794-4DCE-A2D3-0249BD69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CA6AA-C9D0-4E67-AE29-3097C09A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972F-56B2-40F0-8974-6A3E786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1F1-40C3-4731-9498-984D175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7021C-EC59-4171-ADA6-CB3458BF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12195-4A33-4891-A50C-743F0E07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22619-F30F-4D66-A52E-28FC5036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C0289-AD8A-4BF5-8426-2103796B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C043E-00AE-426B-9E8D-30C0E6C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9846D-739B-48A9-8F53-2B7930F4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5C5E-4224-4915-9C7A-CE9A9E83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6DEB-D713-428E-B734-D686E0E5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B867-6D6A-435F-B099-BC61BD64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551AB-C3D1-4CB3-A66C-635021AA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B27-0C4E-471B-BB98-446E624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D5B3A-2F74-4D1F-A91C-9DF9232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420E-E3D8-44CC-873C-FA07BEF2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DF388-566B-4927-968D-D30AAA64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FB0F7-4F86-4BBA-B77E-B8ADE1B8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583D-D375-439D-9792-F29A9B45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B8FE0-54F2-4CAF-AA63-07EFE3D9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809CF-5E1F-4D30-8002-8A079934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0F9C9-8389-4B44-87B5-8244B17D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6FDAA-7593-4906-88E3-84FBA99B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502CB-9CDA-47A5-BB92-6B214654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9E5-B131-4CA1-B70A-42505CC3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585CD-E17C-4ACF-BC33-E9A3B5CA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A5882-0B70-4EF0-9F3C-633CFA3E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DC1DD-EEDE-44F9-9038-CA80719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25627-05AF-426C-8304-4D00D47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A99CC-E05C-44AF-902C-72C9FAE2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0F7CE-966D-46B8-ADC3-7D566082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B800E-3E5D-4C9E-9968-794CF001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73962-BE83-47E4-9174-0A922370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17671-DFFA-4FC6-9EB8-EFBD99C5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58890-1383-4B52-B808-2E7C2D59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730A-B717-4DBF-B6C4-6AC1E28896FC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F024-A01A-4AA7-BE36-447F83AE1166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88A1-A20B-455E-9D77-1D605F477FA3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8DC4-C2E9-4D78-AB1F-7FF45A6A30F9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E887-A723-4E93-9F8C-F849AD52538C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8EDB-B1B2-4C8E-8C34-A929D27D749C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E7DA-98DE-4F5B-8492-22FFD161E197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2E43-58FC-40BB-9B6D-8F9886B55FA1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C40-4312-40FA-9F3F-F878B2DA344E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45716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Franklin Gothic Medium"/>
              </a:rPr>
              <a:t>ПОРТРЕТ</a:t>
            </a:r>
            <a:r>
              <a:rPr b="0" lang="en-US" sz="3600" spc="-1" strike="noStrike">
                <a:solidFill>
                  <a:srgbClr val="800080"/>
                </a:solidFill>
                <a:latin typeface="Franklin Gothic Medium"/>
              </a:rPr>
              <a:t>  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РЕБЁНКА-ПЕРВОКЛАССНИКА.</a:t>
            </a:r>
            <a:r>
              <a:rPr b="0" lang="ru-RU" sz="36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95280" y="480024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Содержимое 6" descr="9785975701244.jpg"/>
          <p:cNvPicPr/>
          <p:nvPr/>
        </p:nvPicPr>
        <p:blipFill>
          <a:blip r:embed="rId2"/>
          <a:srcRect l="3756" t="29315" r="3756" b="3445"/>
          <a:stretch/>
        </p:blipFill>
        <p:spPr>
          <a:xfrm>
            <a:off x="2971800" y="16765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517680" y="171360"/>
            <a:ext cx="7797600" cy="998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685800" y="11426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владение основными культурно-гигиеническими навык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сформированность основных физических качеств и потребности в двигательной актив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- самостоятельное выполнение доступных возрасту гигиенических процедур, соблюдение элементарных правил здорового образа жизн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517680" y="378000"/>
            <a:ext cx="7413480" cy="1017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8580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интерес к новому, неизвестному в окружающем мире (миру предметов и вещей, миру отношений и своему внутреннему миру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проявляется в вопросах к взрослому, экспериментировани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способность самостоятельно действовать (в повседневной жизни, в различных видах детской деятельност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в случаях затруднений обращается за помощью к взрослому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принимает живое, заинтересованное участие в образовательном процесс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517680" y="476280"/>
            <a:ext cx="7046640" cy="998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откликается на эмоции близких людей и друзе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сопереживает персонажам сказок, историй, рассказо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эмоционально реагирует на произведения изобразительного искусства, музыкальные и художественные произведения, мир природы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549360" y="450720"/>
            <a:ext cx="7014960" cy="939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560" y="19047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Franklin Gothic Book"/>
              </a:rPr>
              <a:t>овладевший средствами общения и способами взаимодействия со взрослыми и сверстникам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Franklin Gothic Book"/>
              </a:rPr>
              <a:t>адекватно использует вербальные и невербальные средства общения, владеет диалогической речью и конструктивными способами взаимодействия (договаривается, обменивается предметами, распределяет действия при сотрудничестве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Franklin Gothic Book"/>
              </a:rPr>
              <a:t>способен изменять стиль общения со взрослым или сверстником, в зависимости от ситуа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549360" y="103320"/>
            <a:ext cx="7014960" cy="871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80520" y="838080"/>
            <a:ext cx="7696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пособность управлять своим поведением и планировать свои действия на основе первичных ценностных представле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облюдение элементарных общепринятых норм и правил поведе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поведение преимущественно определяется не сиюминутными желаниями, а требованиями со стороны взрослых и первичными ценностными представлениями о том, «что такое хорошо и что такое плохо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пособность планировать свои действия, направленные на достижение конкретной цел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облюдение правил поведения на улице (дорожные правила), в общественных местах (транспорте, магазине, театре и др.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549360" y="103320"/>
            <a:ext cx="7014960" cy="8715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609120" y="990360"/>
            <a:ext cx="7696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пособность решать интеллектуальные и личностные задачи (проблемы), адекватные возрасту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применение самостоятельно усвоенных знаний и способов деятельности для решения новых задач (проблем), поставленных как взрослым, так и им сами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в зависимости от ситуации может преобразовывать способы решения задач (проблем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ребенок способен предложить собственный замысел и воплотить его в рисунке, постройке, рассказе и др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549360" y="146160"/>
            <a:ext cx="7014960" cy="901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68580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первичные представления о себе, семье, обществе, государстве, мире и природ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о составе семьи, родственных отношениях и взаимосвязях, распределении семейных обязанностей, семейных традиция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об обществе, его культурных ценностя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о государстве и принадлежности к нему; о мир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89000" y="450720"/>
            <a:ext cx="8905680" cy="933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cc"/>
                </a:solidFill>
                <a:latin typeface="Franklin Gothic Book"/>
              </a:rPr>
              <a:t>- умение работать по правилу и по образцу, слушать взрослого и выполнять его инструкции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cc"/>
                </a:solidFill>
                <a:latin typeface="Franklin Gothic Book"/>
              </a:rPr>
              <a:t>- владение необходимыми умениями и навыками продуктивной деятельности: рисунок красками, аппликация, поделки из различных материалов и т.д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Содержимое 6" descr="c84ec077bf85.jpg"/>
          <p:cNvPicPr/>
          <p:nvPr/>
        </p:nvPicPr>
        <p:blipFill>
          <a:blip r:embed="rId2"/>
          <a:stretch/>
        </p:blipFill>
        <p:spPr>
          <a:xfrm>
            <a:off x="4700520" y="1444680"/>
            <a:ext cx="3882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5-05-02T19:05:1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