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A45-A10C-4AD9-BAA2-4227E984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2A9-940F-4179-88D9-87F904F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9FA16-BACD-482D-85AA-104E707D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A243-FE2A-41C4-85EA-C9F2ACA5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23852-D47D-45EA-9647-44712A9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E9412-AD9D-4E19-B4D0-803B089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547E4-5B91-4365-A6B7-9680390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AD14C-CA8A-4348-BFA4-589F3A2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9665D-AED2-44C3-995D-3068EF4B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810AA-A5E8-4EA0-9555-9A959C4D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BC84-66C9-48F6-9448-CBB5F243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6A9-E187-47DD-BA85-F956992C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E87-F6E9-4DF1-B87A-507E3BFE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FB75-D83C-4668-AAC4-7FACA8D2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763-F43C-4565-9161-9390F3F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CAE-E23E-40AB-BA8A-8063746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3B61-AEDF-483E-AA16-B422DB4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CCC-8E67-45A0-9088-534CBDCB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5C9-9DD0-44AF-BF54-205AA62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7835-008C-42FA-8452-DF000B7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766-F5E8-4BEB-9CF0-64091B1A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5DBF-5F9C-43BA-A6DC-3EB03F6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D2A-1FE0-4F57-86D4-5CAF17B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664F-AA17-4EFD-8F5A-EF9873A2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5F38-6290-4E77-96DF-C22D8882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F7A-4286-44BF-9114-CCFCD8DD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76F7-9770-4C39-8AD5-37F67C20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CC1E-720A-4E01-BE3A-4F44D84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4C8E-C949-478E-B7D2-1781FF0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BEE2-7B57-40E0-9D1B-558EABE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CBEC-29A1-422D-9C5A-69363DA3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C61-3FF4-4BFB-8C3D-CE4DBB2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6098-5BE6-4211-B59E-22F43D0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7194-8317-400B-B0FD-1B0F2CA6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8F27-447F-4F02-8118-E701D4E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ABA3-A53E-4B76-9030-416CA5D7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06D2-87AC-49F4-BEB4-92D75DA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4033-F5EC-4E51-9B1A-C0F4AE47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822E-1E56-43FD-8F78-7552A580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7F93-01C6-4EF0-9C11-2BE54D24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49FE-6A0E-4AAA-A193-7DE5F326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D6AD-6AD8-47F7-A5DF-8A6B0436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B67-B10B-4995-9AF2-D442AE6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8B6D-7CAB-432A-8369-BE315CF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485B-377C-45D9-B119-106CE61A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A63A-FB1E-4727-A8F7-F6F4935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F4A5-C57D-4AD5-8771-8E2E385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9BFD-0E00-4BBA-B11F-FC8B3F7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447D-50CA-4D17-9445-EEF6DE4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00F3-1159-48BA-AEAA-9583307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A4530-684B-42A6-A3E4-B0F9871A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036B-7B19-4317-BFDF-42AB271D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309C-71ED-4922-8C58-DDCD6EA3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E3F-0C22-4EA2-A922-C50994B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065E-4D74-487B-BE3E-B836322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F1CD-ECC9-4563-9D25-C9D5603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5293-956C-4C23-99AB-759026A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93BC6-57C1-446C-8E91-E97BA06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419F-729A-40DB-BAA7-5357EAF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A091-E24B-475B-A366-7002CC0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0EDE-B71A-43AA-8530-31CC147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4053-0DA2-4881-BCEB-EF66A00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8318-A8A8-439C-94C0-0DC0DB4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E026-2228-4EA3-9F20-6B6DEA03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019-3009-438F-B8A1-BF3550D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4502-E89A-4A16-8238-B8D84BE8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36AB-EF51-4998-9EB1-7EB7DAAA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DE58-56EB-4C43-AE8B-381C9821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FBE4B-DDEF-4757-BC75-1FB99BC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D04E-5ECC-45C2-BBD3-AA183B27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68F3-F22E-4DB3-9809-87704F89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5C93A-5BE9-4EC0-80CF-4090A218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E91E0-C310-4754-9A08-65BF393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5C1E-A049-4133-A7F7-1953182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F815D-DF59-4F03-A3CA-9341295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B25-7ABD-4013-96BC-D8EA595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E37B-510E-4310-A1A1-5AA0F3B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23D6C-384F-413C-B5B7-3DECDF22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8517-37D2-420E-B899-8076C887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ADAE-03F3-49A0-BE74-C0258595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79C6-8633-45BB-B520-0C217C3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4560-D247-41CD-BEAE-710C777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9038-2464-4465-8280-F596C68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D9D3-B01D-49DB-9264-F0BAE477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95CA-2A25-47C3-84E3-D6D83166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0388E-B63E-4027-95DE-63E2F0D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897-0529-4AA2-A41A-EFAE4ED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8F1F-D883-49F9-BA93-2D3709D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E8B7-3FA7-4F67-9B57-4070998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ED24-DAEC-4A16-A53C-292CCCAA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B8045-D5F1-4F1B-B429-36B70746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F4CD-C31A-4AB0-AAAA-10AEEA23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4EF93-AF50-4483-9A3F-B649FA77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1F44A-90C6-4693-A2D4-89FE5F41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8685-6ED2-4438-BB38-363DFA1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1D74-9D0C-4E9D-AC8B-E42DC76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542D-A822-4F3B-8C42-2CC3881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94A-8721-4A21-9914-D2A9257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007A4-C130-4917-BA7B-DED3D412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32EA-B448-4435-811C-D57042D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E63F-5E92-49CC-B60E-9B62752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35E7-4356-45BA-89E1-AD15380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DAE9-5EB4-4128-9C0A-C3DB056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1E21-EDFA-4038-9DFA-ECEDD7F3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FEE20-C636-4F3A-87AF-36AAB021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E58B5-7E34-4718-8432-C73AF18B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96033-8119-49A1-BD18-278824D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D1628-9889-4353-BE26-67B74A1E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4F6-537F-4656-B05A-A5E197B46F1E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21D-97EA-4F04-BF0C-95121EA5EE53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5E72-BB9F-4B90-BD4E-9484E67C2AAF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0A9-8C9E-4AA4-B1C2-474728430F13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31D0-F1AB-4173-8586-36BEAED727A9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AD8-8C55-49F9-8E59-1729460D1BF6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B6DF-1A69-4507-9951-DDA62C2F40A7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AC4-B7D1-490E-9885-83878CD52BDC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EF91-CA36-4C01-ABC1-B55C24994264}" type="slidenum">
              <a:rPr b="0" lang="en-US" sz="1200" spc="-1" strike="noStrike">
                <a:solidFill>
                  <a:srgbClr val="d38e27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Franklin Gothic Medium"/>
              </a:rPr>
              <a:t>ПОРТРЕТ</a:t>
            </a:r>
            <a:r>
              <a:rPr b="0" lang="en-US" sz="3600" spc="-1" strike="noStrike">
                <a:solidFill>
                  <a:srgbClr val="800080"/>
                </a:solidFill>
                <a:latin typeface="Franklin Gothic Medium"/>
              </a:rPr>
              <a:t> 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РЕБЁНКА-ПЕРВОКЛАССНИКА.</a:t>
            </a:r>
            <a:r>
              <a:rPr b="0" lang="ru-RU" sz="36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95280" y="480024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Содержимое 6" descr="9785975701244.jpg"/>
          <p:cNvPicPr/>
          <p:nvPr/>
        </p:nvPicPr>
        <p:blipFill>
          <a:blip r:embed="rId2"/>
          <a:srcRect l="3756" t="29315" r="3756" b="3445"/>
          <a:stretch/>
        </p:blipFill>
        <p:spPr>
          <a:xfrm>
            <a:off x="2971800" y="16765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517680" y="171360"/>
            <a:ext cx="7797600" cy="998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685800" y="1142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владение основными культурно-гигиеническими навы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сформированность основных физических качеств и потребности в двигательной актив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Franklin Gothic Book"/>
              </a:rPr>
              <a:t>- самостоятельное выполнение доступных возрасту гигиенических процедур, соблюдение элементарных правил здорового образа жизн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517680" y="378000"/>
            <a:ext cx="7413480" cy="1017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58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интерес к новому, неизвестному в окружающем мире (миру предметов и вещей, миру отношений и своему внутреннему миру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проявляется в вопросах к взрослому, экспериментирован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способность самостоятельно действовать (в повседневной жизни, в различных видах детской деятельн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в случаях затруднений обращается за помощью к взрослому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Franklin Gothic Book"/>
              </a:rPr>
              <a:t>принимает живое, заинтересованное участие в образовательном процесс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517680" y="476280"/>
            <a:ext cx="7046640" cy="998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откликается на эмоции близких людей и друз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сопереживает персонажам сказок, историй, рассказо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Franklin Gothic Book"/>
              </a:rPr>
              <a:t>эмоционально реагирует на произведения изобразительного искусства, музыкальные и художественные произведения, мир природ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549360" y="450720"/>
            <a:ext cx="7014960" cy="939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904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овладевший средствами общения и способами взаимодействия со взрослыми и сверстникам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адекватно использует вербальные и невербальные средства общения, владеет диалогической речью и конструктивными способами взаимодействия (договаривается, обменивается предметами, распределяет действия при сотрудничеств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Franklin Gothic Book"/>
              </a:rPr>
              <a:t>способен изменять стиль общения со взрослым или сверстником, в зависимости от ситуа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49360" y="103320"/>
            <a:ext cx="7014960" cy="871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80520" y="8380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управлять своим поведением и планировать свои действия на основе первичных ценностных представле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облюдение элементарных общепринятых норм и правил повед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поведение преимущественно определяется не сиюминутными желаниями, а требованиями со стороны взрослых и первичными ценностными представлениями о том, «что такое хорошо и что такое плохо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планировать свои действия, направленные на достижение конкретной цел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облюдение правил поведения на улице (дорожные правила), в общественных местах (транспорте, магазине, театре и др.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49360" y="103320"/>
            <a:ext cx="7014960" cy="871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609120" y="9903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способность решать интеллектуальные и личностные задачи (проблемы), адекватные возраст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применение самостоятельно усвоенных знаний и способов деятельности для решения новых задач (проблем), поставленных как взрослым, так и им сами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в зависимости от ситуации может преобразовывать способы решения задач (проблем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ребенок способен предложить собственный замысел и воплотить его в рисунке, постройке, рассказе и др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49360" y="146160"/>
            <a:ext cx="7014960" cy="901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первичные представления о себе, семье, обществе, государстве, мире и природ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 составе семьи, родственных отношениях и взаимосвязях, распределении семейных обязанностей, семейных традиция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б обществе, его культурных ценностя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Franklin Gothic Book"/>
              </a:rPr>
              <a:t>о государстве и принадлежности к нему; о мир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905680" cy="93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Franklin Gothic Book"/>
              </a:rPr>
              <a:t>- умение работать по правилу и по образцу, слушать взрослого и выполнять его инструкции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Franklin Gothic Book"/>
              </a:rPr>
              <a:t>- владение необходимыми умениями и навыками продуктивной деятельности: рисунок красками, аппликация, поделки из различных материалов и т.д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Содержимое 6" descr="c84ec077bf85.jpg"/>
          <p:cNvPicPr/>
          <p:nvPr/>
        </p:nvPicPr>
        <p:blipFill>
          <a:blip r:embed="rId2"/>
          <a:stretch/>
        </p:blipFill>
        <p:spPr>
          <a:xfrm>
            <a:off x="4700520" y="1444680"/>
            <a:ext cx="3882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5-05-02T19:05:1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