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D9B-524D-44AC-8AE5-E18F6D24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F0B-2C2A-4610-8E67-61DFAC44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15D-F4DB-4DDA-ADBB-2B659CCE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503-F1B5-4523-A234-5B11B142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1016-3BB9-4EBA-A8E2-CDDE1D73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E0F5-0C56-4171-AA86-458973B4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36DF-2D82-471E-8528-2C970A4C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7DEC-393F-449A-BD0D-5FF92F3D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7EA0-C6D0-402E-BC54-D16D4EC6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409A-2446-40E7-B7D8-67F5BE22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F6B4-05B0-40AD-A001-EABF49C1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D22-BA68-423D-9884-1884B9BB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8E4C-41E4-42BF-A8C2-777190BA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E1D3-6F9C-4170-835D-A5F43D7F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8A08-6A73-4D5B-9AF6-861069CA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5D3C-6AA6-4AD3-9360-4A162CAF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629B-4FAC-4A4C-B258-7AD4CDB1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5C5-F126-439E-A091-591F64B9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E4E-370A-4F14-8459-9055E2A2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395-BD81-422D-A7C2-7FBC362E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447-0100-4725-B9A8-AE5B9F19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E50-F2E1-4FE0-B198-B1D3BAD6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FC6-8124-43F2-B9AD-92384AD8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FE9-1B3F-4336-B3CE-8D98BD98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Овал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Овал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Овал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Овал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Овал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778D-7966-4EC5-B3E9-4DD8659FB6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Овал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Овал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Овал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Овал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Овал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Овал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759E-0505-4AA6-BF39-CDF1CC7188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57168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Правильное питание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детей и взросл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71760" y="3505320"/>
            <a:ext cx="664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ы №270 г.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ндзюк Татья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5" descr="витамины ВВВ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4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4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4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4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4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: на страже всего организ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епляет иммунитет, предохраняя вас от инфекций и онкологических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щает сосуды, слизистые оболочки, все зубы и 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ет всей эндокринной сис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ает нам ста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Если его мал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ас постоянные простуды, насмо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ы и царапины плохо заживают, даже от легких ударов появляются синя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асческе остаются волосы, кожа становится сухой, зубы расшатываются, а десны воспаляются и кровоточат(цинг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яются слабость и раздражи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весне львиная доля витамина С остается в луке, чесноке, капусте, хрене, киви, апельсинах и лимонах, зелени петрушки и укро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8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8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: КРЕПКИЕ К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ет обмен кальция и фосф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епляет кости и помогает им р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ивает иммуни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Если его мал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ослаблен, мы быстро утомляемся, постоянно вял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бол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хи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взрослые -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теопороз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есть больше рыбы - сельди, кеты, скумбрии, не забывать про печень трес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а Д много и в яичном желтке, белых грибах, сливочном мас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5" descr="таблетки жёлт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8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8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ОСТЬ И ПЛОДОВИТ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щает нас от стресса и канцерогенны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ет усвоению белков, жиров и витамин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творно влияет на половые желе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Если его мал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яется мышечная слаб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ются эндокринные и нервные рас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грозит беспло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81440" y="4408560"/>
            <a:ext cx="9649080" cy="24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60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60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60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60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60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6000" spc="-1" strike="noStrike">
                <a:solidFill>
                  <a:srgbClr val="ff9900"/>
                </a:solidFill>
                <a:latin typeface="Arial"/>
              </a:rPr>
              <a:t>А</a:t>
            </a:r>
            <a:r>
              <a:rPr b="0" lang="ru-RU" sz="6000" spc="-1" strike="noStrike">
                <a:solidFill>
                  <a:srgbClr val="993300"/>
                </a:solidFill>
                <a:latin typeface="Arial"/>
              </a:rPr>
              <a:t>Я 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6000" spc="-1" strike="noStrike">
                <a:solidFill>
                  <a:srgbClr val="00ccff"/>
                </a:solidFill>
                <a:latin typeface="Arial"/>
              </a:rPr>
              <a:t>З</a:t>
            </a:r>
            <a:r>
              <a:rPr b="0" lang="ru-RU" sz="6000" spc="-1" strike="noStrike">
                <a:solidFill>
                  <a:srgbClr val="3333ff"/>
                </a:solidFill>
                <a:latin typeface="Arial"/>
              </a:rPr>
              <a:t>Б</a:t>
            </a:r>
            <a:r>
              <a:rPr b="0" lang="ru-RU" sz="6000" spc="-1" strike="noStrike">
                <a:solidFill>
                  <a:srgbClr val="990099"/>
                </a:solidFill>
                <a:latin typeface="Arial"/>
              </a:rPr>
              <a:t>У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6000" spc="-1" strike="noStrike">
                <a:solidFill>
                  <a:srgbClr val="ff9900"/>
                </a:solidFill>
                <a:latin typeface="Arial"/>
              </a:rPr>
              <a:t>А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993300"/>
                </a:solidFill>
                <a:latin typeface="Arial"/>
              </a:rPr>
              <a:t>О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00ccff"/>
                </a:solidFill>
                <a:latin typeface="Arial"/>
              </a:rPr>
              <a:t>А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3333ff"/>
                </a:solidFill>
                <a:latin typeface="Arial"/>
              </a:rPr>
              <a:t>Д</a:t>
            </a:r>
            <a:r>
              <a:rPr b="0" lang="ru-RU" sz="6000" spc="-1" strike="noStrike">
                <a:solidFill>
                  <a:srgbClr val="990099"/>
                </a:solidFill>
                <a:latin typeface="Arial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5" descr="все витамины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надо употреблять нерафинированное растительное масло, орехи, различные семечки, зерновые и бобовые пророс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8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8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вует в синтезе протром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ет нормальной свёртываемост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инат, салат, капуста, морковь, том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езируется микрофлора кишеч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8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8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8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8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 отличное зр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жёт наше з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тится о коже, делает её мягкой и эластич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ет обмен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мунитет, устойчивость организма к инфекц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ет детям р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Если его мал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худшается зрение, особенно сумеречное, развиваетс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куриная слепот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развиться конъюнктив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жа, особенно на руках становится сухой, начинает шелушиться, ногти становятся сухими, тускл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возникнуть гормональные 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 бывают простуды, инфекционные заболе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шьте морковку (содержащийся в ней каротин в кишечнике превращается в витамин 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, особенно говяжью и треско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, сливочное масло, петру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витамины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4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ru-RU" sz="34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3400" spc="-1" strike="noStrike">
                <a:solidFill>
                  <a:srgbClr val="00ccff"/>
                </a:solidFill>
                <a:latin typeface="Arial"/>
              </a:rPr>
              <a:t>м</a:t>
            </a:r>
            <a:r>
              <a:rPr b="0" lang="ru-RU" sz="3400" spc="-1" strike="noStrike">
                <a:solidFill>
                  <a:srgbClr val="3333ff"/>
                </a:solidFill>
                <a:latin typeface="Arial"/>
              </a:rPr>
              <a:t>и</a:t>
            </a:r>
            <a:r>
              <a:rPr b="0" lang="ru-RU" sz="3400" spc="-1" strike="noStrike">
                <a:solidFill>
                  <a:srgbClr val="990099"/>
                </a:solidFill>
                <a:latin typeface="Arial"/>
              </a:rPr>
              <a:t>н</a:t>
            </a:r>
            <a:r>
              <a:rPr b="0" lang="ru-RU" sz="3400" spc="-1" strike="noStrike">
                <a:solidFill>
                  <a:srgbClr val="ff9900"/>
                </a:solidFill>
                <a:latin typeface="Arial"/>
              </a:rPr>
              <a:t>ы</a:t>
            </a:r>
            <a:r>
              <a:rPr b="0" lang="ru-RU" sz="3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руппы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: здоровые нерв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епляют нервную систему и помогают работать моз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ют иммунитет и улучшают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щают все слизистые обол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ют кишечнику, печени и всем мышцам, суставам и связ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Если их мал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чувствуем усталость, раздражительность, плохо спим, снижаются умственные 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ются болезни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аляются слизистые оболочки, появляются сухость и трещинки на губах, зуд и резь в глазах, дерматиты, выпадают вол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емия(В12); бери – бери или полиневрит(В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де взять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всего витаминов группы В во все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ечках, зернышках, отрубях, в бобовых овощах, крупах(ячневой, перловой, гречневой, пшенно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в говяжьей печёнке, рыбе лососевых п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х, сыре и твор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8:50:05Z</dcterms:created>
  <dc:creator>Диман</dc:creator>
  <dc:description/>
  <dc:language>en-US</dc:language>
  <cp:lastModifiedBy>user</cp:lastModifiedBy>
  <dcterms:modified xsi:type="dcterms:W3CDTF">2015-05-02T16:52:31Z</dcterms:modified>
  <cp:revision>7</cp:revision>
  <dc:subject/>
  <dc:title>ВИТАМИННАЯ АЗБУКА ОТ А ДО К</dc:title>
</cp:coreProperties>
</file>