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9B8-7CDD-4C03-8371-472CC033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AA0-16D8-4515-BF22-CA01F5A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0AE-5529-4240-82D9-9687FA52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F86-62EA-45B8-92F4-78811615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EFF-993C-4BFC-A82C-465A386C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4DBC-1FC5-4E87-84A3-5906B8F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575C-8750-4329-9D98-3BBB131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AC20-FDD9-47BC-A935-40A8436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33DD-8003-423D-8E42-3A84E5A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405-E484-4BD3-A5AD-B5EB689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238F-3AF9-4628-858A-2679105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5DF-3455-403B-B1A7-144EE2D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CDC-A793-44EC-82D0-D1DC50C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29D2-5E44-4043-98C5-04418F1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6DDC-10CB-499C-A553-A70F2F4A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F34D-CB4A-49E4-A959-BBC0BBD8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1C6F-BC79-42A6-8D80-425FE4E7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CEF-DC93-43EA-9B1C-091C0F5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81B-748A-461C-A9FD-A5BD068D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AFF-71F9-4E89-8CE7-54E4DDC6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C8C-1B6A-4379-BCE3-7279721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2CB-ADB9-4E46-88CB-C62AF063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BAB-B582-47E0-A9AF-0BC3C9D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866-FB65-484C-99A5-7F1D6B4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Овал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Овал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Овал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Овал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Овал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C94C-1AC3-4A46-BB89-6AC7CA55B5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Овал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Овал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Овал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Овал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Овал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Овал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C700-9C1C-416C-9768-F7A0014077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Правильное питани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детей и взросл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71760" y="3505320"/>
            <a:ext cx="664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ы №270 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ндзюк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5" descr="витамины ВВВ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4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4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 на страже всего организ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иммунитет, предохраняя вас от инфекций и онкологических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ет сосуды, слизистые оболочки, все зубы и 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всей эндокрин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ает нам ста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ас постоянные простуды, насмо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ы и царапины плохо заживают, даже от легких ударов появляются синя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асческе остаются волосы, кожа становится сухой, зубы расшатываются, а десны воспаляются и кровоточат(цинг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ются слабость и раздраж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весне львиная доля витамина С остается в луке, чесноке, капусте, хрене, киви, апельсинах и лимонах, зелени петрушки и укр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: КРЕПКИЕ К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ет обмен кальция и фос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кости и помогает им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ивает иммун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ослаблен, мы быстро утомляемся, постоянно вя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бол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хи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зрослые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теопоро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есть больше рыбы - сельди, кеты, скумбрии, не забывать про печень тре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а Д много и в яичном желтке, белых грибах, сливочном ма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5" descr="таблетки жёлт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СТЬ И ПЛОДОВИТ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ет нас от стресса и канцерогенны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усвоению белков, жиров и витамин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творно влияет на половые желе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мышечная слаб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ются эндокринные и нервные рас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грозит беспло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81440" y="4408560"/>
            <a:ext cx="964908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Я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ccff"/>
                </a:solidFill>
                <a:latin typeface="Arial"/>
              </a:rPr>
              <a:t>З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О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00ccff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Д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все витамины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надо употреблять нерафинированное растительное масло, орехи, различные семечки, зерновые и бобовые пророс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ует в синтезе протром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нормальной свёртываемост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инат, салат, капуста, морковь, том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езируется микрофлора кишеч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 отличное зр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жёт наше 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тится о коже, делает её мягкой и эласти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ет обмен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мунитет, устойчивость организма к инфек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детям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удшается зрение, особенно сумеречное, развиваетс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куриная слепот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развиться конъюнктив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а, особенно на руках становится сухой, начинает шелушиться, ногти становятся сухими, туск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возникнуть гормональны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бывают простуды, инфекционные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шьте морковку (содержащийся в ней каротин в кишечнике превращается в витамин 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, особенно говяжью и треско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сливочное масло, петр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витамины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4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4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ы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руппы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 здоровые нерв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ют нервную систему и помогают работать моз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ют иммунитет и улучшают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ют все слизистые обо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кишечнику, печени и всем мышцам, суставам и связ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их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чувствуем усталость, раздражительность, плохо спим, снижаются умственные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тся болезни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аляются слизистые оболочки, появляются сухость и трещинки на губах, зуд и резь в глазах, дерматиты, выпадают вол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емия(В12); бери – бери или полиневрит(В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всего витаминов группы В во все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чках, зернышках, отрубях, в бобовых овощах, крупах(ячневой, перловой, гречневой, пшенно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 говяжьей печёнке, рыбе лососевых п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х, сыре и тв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50:05Z</dcterms:created>
  <dc:creator>Диман</dc:creator>
  <dc:description/>
  <dc:language>en-US</dc:language>
  <cp:lastModifiedBy>user</cp:lastModifiedBy>
  <dcterms:modified xsi:type="dcterms:W3CDTF">2015-05-02T16:52:31Z</dcterms:modified>
  <cp:revision>7</cp:revision>
  <dc:subject/>
  <dc:title>ВИТАМИННАЯ АЗБУКА ОТ А ДО К</dc:title>
</cp:coreProperties>
</file>