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09EA-9B20-4A6C-AF65-9249639C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5632-DC87-4B91-8B9C-F476527F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0E6-1488-43F4-872E-59D963FB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C9B-3A58-442E-BFA5-17C0EBE0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44EEA-83E0-4A12-B362-D592D09D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2D09F-A14D-4EAA-B080-1FE72D2D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3877B-51E8-4DCF-8D99-316B4FA9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DB671-7A5B-4BD0-9CF6-382A9160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55D61-7DA0-4FF1-9B6B-5094C8C6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C319A-378C-4279-A720-1615B2B7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77C46-CBD2-4959-86BC-20D3675E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2E9-5E6F-4C27-801F-248DFAC2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5547A-C20C-4254-8AA2-EB5D552B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39DB1-FD2A-45C1-A0DC-645B3C7B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DB0E5-0F88-4A07-B1A9-AE3658C3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D3666-18E4-49C5-846B-C0C1CE85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B6C3D-0EA7-41E9-A62B-E690CE6B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E93-983E-46BF-A266-AFDD5C94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CFE-372C-4E39-8CF8-B9658D6A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166-D1E5-45B6-ABD7-AED6141D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3E33-94D4-4A6C-AADA-0A7DF9B9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BB9-D393-465D-B7D8-6D273C2A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985-9356-4ABD-8BED-A97D2F04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5DA-CA5E-4C57-9981-5FB7FE3C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96F1-93CC-48CC-85F8-D0A7E20E4E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D580-BD26-4A40-856C-194A94EBC52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400" y="856800"/>
            <a:ext cx="8358120" cy="4000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Южно-Африканская                       республика (ЮАР)   </a:t>
            </a:r>
            <a:br>
              <a:rPr sz="66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Подготовил Сахаров Кирилл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7 класс  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28840" y="4643280"/>
            <a:ext cx="6224400" cy="15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155700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0808"/>
                </a:solidFill>
                <a:latin typeface="Tahoma"/>
              </a:rPr>
              <a:t>Религии </a:t>
            </a:r>
            <a:r>
              <a:rPr b="0" i="1" lang="ru-RU" sz="4000" spc="-1" strike="noStrike">
                <a:solidFill>
                  <a:srgbClr val="080808"/>
                </a:solidFill>
                <a:latin typeface="Tahoma"/>
              </a:rPr>
              <a:t>ЮАР     </a:t>
            </a:r>
            <a:r>
              <a:rPr b="1" i="1" lang="ru-RU" sz="4000" spc="-1" strike="noStrike">
                <a:solidFill>
                  <a:srgbClr val="080808"/>
                </a:solidFill>
                <a:latin typeface="Tahoma"/>
              </a:rPr>
              <a:t>Экспорт  </a:t>
            </a:r>
            <a:r>
              <a:rPr b="0" i="1" lang="ru-RU" sz="4000" spc="-1" strike="noStrike">
                <a:solidFill>
                  <a:srgbClr val="080808"/>
                </a:solidFill>
                <a:latin typeface="Tahoma"/>
              </a:rPr>
              <a:t>ЮАР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2997000"/>
            <a:ext cx="3970440" cy="18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Основные религии ЮАР это христианство 68% и ислам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27280" y="2923920"/>
            <a:ext cx="395604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Золото, алмазы, минералы и металлы, продукты питания, удобр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-1082160"/>
            <a:ext cx="8147160" cy="87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9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118" name="Picture 15" descr="0002"/>
          <p:cNvPicPr/>
          <p:nvPr/>
        </p:nvPicPr>
        <p:blipFill>
          <a:blip r:embed="rId1"/>
          <a:stretch/>
        </p:blipFill>
        <p:spPr>
          <a:xfrm>
            <a:off x="0" y="3500280"/>
            <a:ext cx="4716360" cy="3357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0011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50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0033"/>
          <p:cNvPicPr/>
          <p:nvPr/>
        </p:nvPicPr>
        <p:blipFill>
          <a:blip r:embed="rId3"/>
          <a:stretch/>
        </p:blipFill>
        <p:spPr>
          <a:xfrm>
            <a:off x="4716360" y="3500280"/>
            <a:ext cx="4427640" cy="3357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0014"/>
          <p:cNvPicPr/>
          <p:nvPr/>
        </p:nvPicPr>
        <p:blipFill>
          <a:blip r:embed="rId4"/>
          <a:stretch/>
        </p:blipFill>
        <p:spPr>
          <a:xfrm>
            <a:off x="0" y="0"/>
            <a:ext cx="4703760" cy="3527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раткая информация о         ЮАР: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столица: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ТОРИЯ                </a:t>
            </a: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самая длинная река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РАНЖЕВАЯ (2 090 км) </a:t>
            </a: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континент: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ФРИКА</a:t>
            </a: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DSC01532"/>
          <p:cNvPicPr/>
          <p:nvPr/>
        </p:nvPicPr>
        <p:blipFill>
          <a:blip r:embed="rId1"/>
          <a:stretch/>
        </p:blipFill>
        <p:spPr>
          <a:xfrm>
            <a:off x="5724360" y="2421000"/>
            <a:ext cx="2295720" cy="3060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364000" y="1413000"/>
            <a:ext cx="3322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20"/>
          <p:cNvSpPr/>
          <p:nvPr/>
        </p:nvSpPr>
        <p:spPr>
          <a:xfrm>
            <a:off x="5435640" y="4869000"/>
            <a:ext cx="936720" cy="287280"/>
          </a:xfrm>
          <a:prstGeom prst="rightArrow">
            <a:avLst>
              <a:gd name="adj1" fmla="val 50000"/>
              <a:gd name="adj2" fmla="val 8151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Факты: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еление: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 в ЮАР проживает 47 720 000 человек.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ощадь: 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1 219 912 кв. км.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зык: 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в стране 11 официальных языков! Среди них африкаанс, английский и зулу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Валюта: 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ранды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Животные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80808"/>
                </a:solidFill>
                <a:latin typeface="Tahoma"/>
              </a:rPr>
              <a:t>Не только в ЮАР, но и во всей Южной Африке обитают такие животные как жирафы, зебры, антилопы гну, крокодилы, львы гепарды, слоны и др. А теперь о некоторых из них подробн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0001"/>
          <p:cNvPicPr/>
          <p:nvPr/>
        </p:nvPicPr>
        <p:blipFill>
          <a:blip r:embed="rId1"/>
          <a:stretch/>
        </p:blipFill>
        <p:spPr>
          <a:xfrm rot="317400">
            <a:off x="324000" y="4365720"/>
            <a:ext cx="1547640" cy="1162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0019"/>
          <p:cNvPicPr/>
          <p:nvPr/>
        </p:nvPicPr>
        <p:blipFill>
          <a:blip r:embed="rId2"/>
          <a:stretch/>
        </p:blipFill>
        <p:spPr>
          <a:xfrm rot="536400">
            <a:off x="6803640" y="333360"/>
            <a:ext cx="1871640" cy="140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0041"/>
          <p:cNvPicPr/>
          <p:nvPr/>
        </p:nvPicPr>
        <p:blipFill>
          <a:blip r:embed="rId3"/>
          <a:stretch/>
        </p:blipFill>
        <p:spPr>
          <a:xfrm rot="21367800">
            <a:off x="4140360" y="333360"/>
            <a:ext cx="1577880" cy="118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0053"/>
          <p:cNvPicPr/>
          <p:nvPr/>
        </p:nvPicPr>
        <p:blipFill>
          <a:blip r:embed="rId4"/>
          <a:stretch/>
        </p:blipFill>
        <p:spPr>
          <a:xfrm rot="798600">
            <a:off x="6227640" y="414936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0022"/>
          <p:cNvPicPr/>
          <p:nvPr/>
        </p:nvPicPr>
        <p:blipFill>
          <a:blip r:embed="rId5"/>
          <a:stretch/>
        </p:blipFill>
        <p:spPr>
          <a:xfrm rot="20890800">
            <a:off x="3634920" y="4436640"/>
            <a:ext cx="1771920" cy="1328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0042"/>
          <p:cNvPicPr/>
          <p:nvPr/>
        </p:nvPicPr>
        <p:blipFill>
          <a:blip r:embed="rId6"/>
          <a:stretch/>
        </p:blipFill>
        <p:spPr>
          <a:xfrm rot="21149400">
            <a:off x="2050920" y="5660640"/>
            <a:ext cx="1087560" cy="816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Гепард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Гепард – самое быстрое на свете животное в беге на короткие дистанции. Преследуя своих жертв в саванне, он может развить скорость до 60 миль в час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0036"/>
          <p:cNvPicPr/>
          <p:nvPr/>
        </p:nvPicPr>
        <p:blipFill>
          <a:blip r:embed="rId1"/>
          <a:stretch/>
        </p:blipFill>
        <p:spPr>
          <a:xfrm>
            <a:off x="4932360" y="1989000"/>
            <a:ext cx="3743280" cy="2568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Жираф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Жирафы вырастают до 18 фунтов (6 м) – это выше одноэтажного дома. Их рост позволяет им питаться листьями, до которых другие животные не дотягиваю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6" descr="0027"/>
          <p:cNvPicPr/>
          <p:nvPr/>
        </p:nvPicPr>
        <p:blipFill>
          <a:blip r:embed="rId1"/>
          <a:stretch/>
        </p:blipFill>
        <p:spPr>
          <a:xfrm>
            <a:off x="4643280" y="1484280"/>
            <a:ext cx="4032360" cy="40370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лон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43992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Взрослые слоны достигают 4 – метровой высоты и длинны 7,5 м. Они могут весить больше 7500 кг. Слон настолько огромен, что одно его сердце весит 25 кг !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0035"/>
          <p:cNvPicPr/>
          <p:nvPr/>
        </p:nvPicPr>
        <p:blipFill>
          <a:blip r:embed="rId1"/>
          <a:stretch/>
        </p:blipFill>
        <p:spPr>
          <a:xfrm>
            <a:off x="4427640" y="2282760"/>
            <a:ext cx="4259160" cy="3194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огатый урожай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очва в ЮАР пригодна для выращивания различных фруктов и овощей. В этой стране растёт всё. От яблок, персиков и бананов до салата, перца и шпина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7" descr="DSC01537"/>
          <p:cNvPicPr/>
          <p:nvPr/>
        </p:nvPicPr>
        <p:blipFill>
          <a:blip r:embed="rId1"/>
          <a:stretch/>
        </p:blipFill>
        <p:spPr>
          <a:xfrm>
            <a:off x="468360" y="198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663300"/>
                </a:solidFill>
                <a:latin typeface="Tahoma"/>
              </a:rPr>
              <a:t>Народ ЮАР - Зулусы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В ЮАР проживает такой народ, как </a:t>
            </a:r>
            <a:r>
              <a:rPr b="1" i="1" lang="ru-RU" sz="3200" spc="-1" strike="noStrike" u="sng">
                <a:solidFill>
                  <a:srgbClr val="a50021"/>
                </a:solidFill>
                <a:uFillTx/>
                <a:latin typeface="Tahoma"/>
              </a:rPr>
              <a:t>ЗУЛУСЫ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 Это самое многочисленное племя в Африке. В 19 веке их королевство занимало большую часть территории ЮАР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5-02T17:29:20Z</dcterms:modified>
  <cp:revision>12</cp:revision>
  <dc:subject/>
  <dc:title>PowerPoint Presentation</dc:title>
</cp:coreProperties>
</file>