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DAB-7499-4C30-B16F-FF6BEF25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4D8-0EA7-4982-8113-79C52888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896-92D7-4C16-B0FC-1A758215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0D3-EF82-448B-88B0-1584AFCA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F74BF-B73D-42A9-8481-96E5D763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30150-A295-4E84-AC18-5D2C128B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13762-0168-41AE-80B8-48004942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C27C4-96CE-4DE5-8AB4-83309197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57143-E87B-4A80-B3E1-2394AAD5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3AA33-F0D9-4C1C-A7C0-F1A0F956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4D0E4-B219-4AB3-A7A3-98D7E5E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061-3798-4986-B71A-E845E131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AD2BD-A7E0-42D8-A858-78906C75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E3578-B1B9-45AF-9330-2591DFD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A7AA9-3098-402C-B4E2-F25DF283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4B118-1F9E-45B2-AFDE-75F5E00D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B92D6-0B76-44A9-9CFD-B54A7423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B1C-480E-46CF-90BE-C02929F2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000-CEAF-4208-8080-6D7F054D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E66-85DD-499E-B2AB-63477526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2C1-E521-45BF-987B-3653375B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29A-CCAA-48CF-AA8F-75C3F71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57D-A3C4-40D9-A3F7-5D62C50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0D9-3624-4507-BEC5-60D66C4C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61D2-4DBB-4C33-A211-7E0C361EEB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E4B-592B-4CA1-AD4F-BD286D3168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400" y="856800"/>
            <a:ext cx="835812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Южно-Африканская                       республика (ЮАР)   </a:t>
            </a:r>
            <a:br>
              <a:rPr sz="66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Подготовил Сахаров Кирил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 класс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8840" y="4643280"/>
            <a:ext cx="6224400" cy="15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ahoma"/>
              </a:rPr>
              <a:t>Религии </a:t>
            </a:r>
            <a:r>
              <a:rPr b="0" i="1" lang="ru-RU" sz="4000" spc="-1" strike="noStrike">
                <a:solidFill>
                  <a:srgbClr val="080808"/>
                </a:solidFill>
                <a:latin typeface="Tahoma"/>
              </a:rPr>
              <a:t>ЮАР     </a:t>
            </a:r>
            <a:r>
              <a:rPr b="1" i="1" lang="ru-RU" sz="4000" spc="-1" strike="noStrike">
                <a:solidFill>
                  <a:srgbClr val="080808"/>
                </a:solidFill>
                <a:latin typeface="Tahoma"/>
              </a:rPr>
              <a:t>Экспорт  </a:t>
            </a:r>
            <a:r>
              <a:rPr b="0" i="1" lang="ru-RU" sz="4000" spc="-1" strike="noStrike">
                <a:solidFill>
                  <a:srgbClr val="080808"/>
                </a:solidFill>
                <a:latin typeface="Tahoma"/>
              </a:rPr>
              <a:t>ЮАР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397044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Основные религии ЮАР это христианство 68% и ислам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7280" y="2923920"/>
            <a:ext cx="395604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Золото, алмазы, минералы и металлы, продукты питания, удобр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-1082160"/>
            <a:ext cx="8147160" cy="87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9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18" name="Picture 15" descr="0002"/>
          <p:cNvPicPr/>
          <p:nvPr/>
        </p:nvPicPr>
        <p:blipFill>
          <a:blip r:embed="rId1"/>
          <a:stretch/>
        </p:blipFill>
        <p:spPr>
          <a:xfrm>
            <a:off x="0" y="350028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001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0033"/>
          <p:cNvPicPr/>
          <p:nvPr/>
        </p:nvPicPr>
        <p:blipFill>
          <a:blip r:embed="rId3"/>
          <a:stretch/>
        </p:blipFill>
        <p:spPr>
          <a:xfrm>
            <a:off x="4716360" y="3500280"/>
            <a:ext cx="4427640" cy="335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0014"/>
          <p:cNvPicPr/>
          <p:nvPr/>
        </p:nvPicPr>
        <p:blipFill>
          <a:blip r:embed="rId4"/>
          <a:stretch/>
        </p:blipFill>
        <p:spPr>
          <a:xfrm>
            <a:off x="0" y="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раткая информация о         ЮАР: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столица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ТОРИЯ                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самая длинная река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РАНЖЕВАЯ (2 090 км) 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континент: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ФРИКА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DSC01532"/>
          <p:cNvPicPr/>
          <p:nvPr/>
        </p:nvPicPr>
        <p:blipFill>
          <a:blip r:embed="rId1"/>
          <a:stretch/>
        </p:blipFill>
        <p:spPr>
          <a:xfrm>
            <a:off x="5724360" y="2421000"/>
            <a:ext cx="2295720" cy="306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364000" y="1413000"/>
            <a:ext cx="3322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0"/>
          <p:cNvSpPr/>
          <p:nvPr/>
        </p:nvSpPr>
        <p:spPr>
          <a:xfrm>
            <a:off x="5435640" y="486900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Факты: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еление: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в ЮАР проживает 47 720 000 человек.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щадь: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 219 912 кв. км.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: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в стране 11 официальных языков! Среди них африкаанс, английский и зулу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алюта: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ранды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Животные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80808"/>
                </a:solidFill>
                <a:latin typeface="Tahoma"/>
              </a:rPr>
              <a:t>Не только в ЮАР, но и во всей Южной Африке обитают такие животные как жирафы, зебры, антилопы гну, крокодилы, львы гепарды, слоны и др. А теперь о некоторых из них подробн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0001"/>
          <p:cNvPicPr/>
          <p:nvPr/>
        </p:nvPicPr>
        <p:blipFill>
          <a:blip r:embed="rId1"/>
          <a:stretch/>
        </p:blipFill>
        <p:spPr>
          <a:xfrm rot="317400">
            <a:off x="324000" y="4365720"/>
            <a:ext cx="1547640" cy="116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19"/>
          <p:cNvPicPr/>
          <p:nvPr/>
        </p:nvPicPr>
        <p:blipFill>
          <a:blip r:embed="rId2"/>
          <a:stretch/>
        </p:blipFill>
        <p:spPr>
          <a:xfrm rot="536400">
            <a:off x="6803640" y="33336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41"/>
          <p:cNvPicPr/>
          <p:nvPr/>
        </p:nvPicPr>
        <p:blipFill>
          <a:blip r:embed="rId3"/>
          <a:stretch/>
        </p:blipFill>
        <p:spPr>
          <a:xfrm rot="21367800">
            <a:off x="4140360" y="333360"/>
            <a:ext cx="1577880" cy="118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0053"/>
          <p:cNvPicPr/>
          <p:nvPr/>
        </p:nvPicPr>
        <p:blipFill>
          <a:blip r:embed="rId4"/>
          <a:stretch/>
        </p:blipFill>
        <p:spPr>
          <a:xfrm rot="798600">
            <a:off x="6227640" y="414936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0022"/>
          <p:cNvPicPr/>
          <p:nvPr/>
        </p:nvPicPr>
        <p:blipFill>
          <a:blip r:embed="rId5"/>
          <a:stretch/>
        </p:blipFill>
        <p:spPr>
          <a:xfrm rot="20890800">
            <a:off x="3634920" y="4436640"/>
            <a:ext cx="1771920" cy="1328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0042"/>
          <p:cNvPicPr/>
          <p:nvPr/>
        </p:nvPicPr>
        <p:blipFill>
          <a:blip r:embed="rId6"/>
          <a:stretch/>
        </p:blipFill>
        <p:spPr>
          <a:xfrm rot="21149400">
            <a:off x="2050920" y="5660640"/>
            <a:ext cx="1087560" cy="81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Гепард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Гепард – самое быстрое на свете животное в беге на короткие дистанции. Преследуя своих жертв в саванне, он может развить скорость до 60 миль в ч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0036"/>
          <p:cNvPicPr/>
          <p:nvPr/>
        </p:nvPicPr>
        <p:blipFill>
          <a:blip r:embed="rId1"/>
          <a:stretch/>
        </p:blipFill>
        <p:spPr>
          <a:xfrm>
            <a:off x="4932360" y="1989000"/>
            <a:ext cx="3743280" cy="2568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Жираф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Жирафы вырастают до 18 фунтов (6 м) – это выше одноэтажного дома. Их рост позволяет им питаться листьями, до которых другие животные не дотягиваю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0027"/>
          <p:cNvPicPr/>
          <p:nvPr/>
        </p:nvPicPr>
        <p:blipFill>
          <a:blip r:embed="rId1"/>
          <a:stretch/>
        </p:blipFill>
        <p:spPr>
          <a:xfrm>
            <a:off x="4643280" y="1484280"/>
            <a:ext cx="4032360" cy="4037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н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43992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Взрослые слоны достигают 4 – метровой высоты и длинны 7,5 м. Они могут весить больше 7500 кг. Слон настолько огромен, что одно его сердце весит 25 кг 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0035"/>
          <p:cNvPicPr/>
          <p:nvPr/>
        </p:nvPicPr>
        <p:blipFill>
          <a:blip r:embed="rId1"/>
          <a:stretch/>
        </p:blipFill>
        <p:spPr>
          <a:xfrm>
            <a:off x="4427640" y="2282760"/>
            <a:ext cx="4259160" cy="3194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гатый урожай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чва в ЮАР пригодна для выращивания различных фруктов и овощей. В этой стране растёт всё. От яблок, персиков и бананов до салата, перца и шпин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DSC01537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663300"/>
                </a:solidFill>
                <a:latin typeface="Tahoma"/>
              </a:rPr>
              <a:t>Народ ЮАР - Зулус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В ЮАР проживает такой народ, как </a:t>
            </a:r>
            <a:r>
              <a:rPr b="1" i="1" lang="ru-RU" sz="3200" spc="-1" strike="noStrike" u="sng">
                <a:solidFill>
                  <a:srgbClr val="a50021"/>
                </a:solidFill>
                <a:uFillTx/>
                <a:latin typeface="Tahoma"/>
              </a:rPr>
              <a:t>ЗУЛУСЫ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Это самое многочисленное племя в Африке. В 19 веке их королевство занимало большую часть территории ЮАР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5-02T17:29:20Z</dcterms:modified>
  <cp:revision>12</cp:revision>
  <dc:subject/>
  <dc:title>PowerPoint Presentation</dc:title>
</cp:coreProperties>
</file>