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E62-724D-4476-9C23-CD007B4B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F97-7D41-4950-B5BC-246AB771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A6F-989C-4957-810C-50DF64A5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FF7-DDE3-4D73-A6A2-6A4BB249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1FA-F1C0-43AC-BD26-BD65F0E4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C20-94D9-4385-A61A-A2C038A1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000-1A43-48A0-8AD8-91108715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A9C-0E5E-4F8F-BD8A-AE14C21C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389-A231-41B5-9D81-3AA90591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651-0297-4D96-B9DB-F393F341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356-8030-46D2-886E-975FB6E5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08D-5142-4851-9E05-C5F4102F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5A81-FFEA-434F-BF82-748487F7FD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79280" y="1916280"/>
            <a:ext cx="914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втор работы: Конашян Мишель Рафик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еница 4 «Б» класса МОУ СОШ №67 г.Со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: Кувикова Светлана Владими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У СОШ №67 г.Со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560520" y="1109520"/>
            <a:ext cx="2000160" cy="38642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4479840" y="2967120"/>
            <a:ext cx="8128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1852560" y="2378160"/>
            <a:ext cx="6701040" cy="23526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8" descr=""/>
          <p:cNvPicPr/>
          <p:nvPr/>
        </p:nvPicPr>
        <p:blipFill>
          <a:blip r:embed="rId3"/>
          <a:stretch/>
        </p:blipFill>
        <p:spPr>
          <a:xfrm>
            <a:off x="-115920" y="4572000"/>
            <a:ext cx="65102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кая Отечественная война. Сколько жизней унесла она, став символом боли и скорби для многих поколений! За свободу и мирное будущее своей Родины сражались, не  жалея своей жизни, и дети, и старики, стремясь обеспечить себе и потомкам спокойную и  счастливую жиз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им из этих героических борцов за светлое будущее был мой прадед Коношян  Овагим Рубенович . Он родился 8 апреля  1923 го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31760" y="2133720"/>
            <a:ext cx="900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й дедушка не совершал громких подвигов, ему не возводили памятников, о нем не слагали легенд, его именем не называли улицы, и его портреты не висят в школах рядом с Пушкиным и Блоком. Он был просто моим дедом, который просто любил мен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е годы, когда над ясным небом Советского Союза прогремел огромный взрыв. Взрыв, длиною в 4 года. Взрыв, унесший тысячи, миллионы жизней. Взрыв, отголоски которого еще гремят горьким эхом в душах ветеранов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й прадед    не любил  говорить о войне. Когда я у него спрашивала он отвеч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 ну её, — и переводил  разговор на политик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военном его прошлом,  я изучала по красноармейской книж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 rot="20558400">
            <a:off x="258480" y="701280"/>
            <a:ext cx="2066760" cy="154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 rot="660600">
            <a:off x="7077240" y="160200"/>
            <a:ext cx="2087280" cy="154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 rot="20872200">
            <a:off x="601560" y="4703760"/>
            <a:ext cx="2041560" cy="15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4"/>
          <a:stretch/>
        </p:blipFill>
        <p:spPr>
          <a:xfrm rot="640200">
            <a:off x="6097680" y="4610160"/>
            <a:ext cx="2023920" cy="151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5"/>
          <a:stretch/>
        </p:blipFill>
        <p:spPr>
          <a:xfrm rot="598200">
            <a:off x="6233760" y="2428920"/>
            <a:ext cx="2062080" cy="154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6"/>
          <a:stretch/>
        </p:blipFill>
        <p:spPr>
          <a:xfrm rot="20831400">
            <a:off x="544680" y="2714400"/>
            <a:ext cx="2109600" cy="158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7"/>
          <a:stretch/>
        </p:blipFill>
        <p:spPr>
          <a:xfrm rot="21258600">
            <a:off x="2404800" y="142560"/>
            <a:ext cx="2116080" cy="15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8"/>
          <a:stretch/>
        </p:blipFill>
        <p:spPr>
          <a:xfrm>
            <a:off x="3343320" y="4730760"/>
            <a:ext cx="2457360" cy="212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9"/>
          <a:stretch/>
        </p:blipFill>
        <p:spPr>
          <a:xfrm>
            <a:off x="4572000" y="428760"/>
            <a:ext cx="2432160" cy="209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10"/>
          <a:stretch/>
        </p:blipFill>
        <p:spPr>
          <a:xfrm>
            <a:off x="3462480" y="2428920"/>
            <a:ext cx="15476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9640" y="2420640"/>
            <a:ext cx="822960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душке было 18 лет когда он был призван в армию .13 сентября 1941 г. Он служил в 8-ой бригаде,3-го батальона  пулеметчиком . Был тяжело ранен 9 февраля 1944 г.  в правую ногу, в правый бок и руку. Награждён медалью «За победу над Германией» и медалью «За взятие Кёнигсберг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 сожалению мой дедушка умер 26 мая 2013 года. Хоть и его  нет среди нас, но память о нём  останется в  моём сердце.  Хочется поклониться низко до земли  моему прадеду  и  тем, кто не позволил распространиться  фашизму на нашей земл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пасибо  за то, что я  живу  под мирным неб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0:17:52Z</dcterms:created>
  <dc:creator>User</dc:creator>
  <dc:description/>
  <dc:language>en-US</dc:language>
  <cp:lastModifiedBy>User</cp:lastModifiedBy>
  <dcterms:modified xsi:type="dcterms:W3CDTF">2015-05-02T17:21:42Z</dcterms:modified>
  <cp:revision>31</cp:revision>
  <dc:subject/>
  <dc:title>Презентация PowerPoint</dc:title>
</cp:coreProperties>
</file>