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A7A3-A738-4ADC-AA87-BB2563E11CF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5B4-A41A-4156-B0F6-AC3156940A3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638-3030-41E2-876B-376339BC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659-F834-4763-A819-3564E8F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D24-B27D-441A-B36F-007AF88E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C38-F319-4C1F-A581-D1AD8882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4F1-8092-4741-B9BB-4742DD3A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49F-26A7-4479-B388-843356F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075-B054-4E2D-A47E-4A12C57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DF0-88F7-4A34-AAF0-683218D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0F2-3648-4FF9-8F2C-7867E45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B1A-0B07-469F-B8CE-2E90590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C59-7697-475F-AE3E-F122465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D7E-9824-40CC-B68C-E1EB226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C160-AB66-46F4-991E-EF6C5BF58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Научно-исследовательская  работа  2009– 2010 учебный год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«Влияние солнечной активности на здоровье человека»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3860280"/>
            <a:ext cx="4248000" cy="28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ученица 11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ОУ СОШ №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мирова К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уководит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.С. Калин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_77a8_bc0914af_XL"/>
          <p:cNvPicPr/>
          <p:nvPr/>
        </p:nvPicPr>
        <p:blipFill>
          <a:blip r:embed="rId1"/>
          <a:stretch/>
        </p:blipFill>
        <p:spPr>
          <a:xfrm>
            <a:off x="214200" y="3857760"/>
            <a:ext cx="375300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834_4"/>
          <p:cNvPicPr/>
          <p:nvPr/>
        </p:nvPicPr>
        <p:blipFill>
          <a:blip r:embed="rId1"/>
          <a:stretch/>
        </p:blipFill>
        <p:spPr>
          <a:xfrm>
            <a:off x="395280" y="189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Солнце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двигатель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жизни на Земле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6" descr="Foto3594"/>
          <p:cNvPicPr/>
          <p:nvPr/>
        </p:nvPicPr>
        <p:blipFill>
          <a:blip r:embed="rId2"/>
          <a:stretch/>
        </p:blipFill>
        <p:spPr>
          <a:xfrm>
            <a:off x="179280" y="2852640"/>
            <a:ext cx="424836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29280" y="1628640"/>
            <a:ext cx="491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лнце обожествлялось во многих религиях. О его воздействии люди догадывались еще в глубокой древности, в результате чего рождались легенды и мифы, в которых Солнце играло главную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ревние греки называли Солнце богом Гелиосом, римляне – Аполлоном, а наши предки-славяне – богом Ярил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4" name="Picture 9" descr="66"/>
          <p:cNvPicPr/>
          <p:nvPr/>
        </p:nvPicPr>
        <p:blipFill>
          <a:blip r:embed="rId1"/>
          <a:stretch/>
        </p:blipFill>
        <p:spPr>
          <a:xfrm>
            <a:off x="5580000" y="1989000"/>
            <a:ext cx="3175200" cy="453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1276_s"/>
          <p:cNvPicPr/>
          <p:nvPr/>
        </p:nvPicPr>
        <p:blipFill>
          <a:blip r:embed="rId2"/>
          <a:stretch/>
        </p:blipFill>
        <p:spPr>
          <a:xfrm>
            <a:off x="971640" y="4292640"/>
            <a:ext cx="4249800" cy="234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helios"/>
          <p:cNvPicPr/>
          <p:nvPr/>
        </p:nvPicPr>
        <p:blipFill>
          <a:blip r:embed="rId3"/>
          <a:stretch/>
        </p:blipFill>
        <p:spPr>
          <a:xfrm>
            <a:off x="395280" y="1700280"/>
            <a:ext cx="4432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олнечная актив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96472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собенность Солнца – периодические, регулярные проявления солнечной активности (совокупность явлений, происходящих на Солнц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амое сильное проявление солнечной активности, влияющее на Землю – солнечные вспы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ечная активность имеет цикличный характер со средней продолжительностью 11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последнее время солнечная активность ускорилась и продолжительность цикла составляет 10,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un_and_earch"/>
          <p:cNvPicPr/>
          <p:nvPr/>
        </p:nvPicPr>
        <p:blipFill>
          <a:blip r:embed="rId1"/>
          <a:stretch/>
        </p:blipFill>
        <p:spPr>
          <a:xfrm>
            <a:off x="4572000" y="115920"/>
            <a:ext cx="4321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агнитные бури – проявление солнечной актив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Возмущения магнитного поля Земли вызываются Солнцем, где время от времени происходят взрывы, в результате которых из его атмосферы выбрасываются в межпланетное пространство потоки зараженных част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laneta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052640"/>
            <a:ext cx="44956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огда эти потоки достигают магнитной оболочки Земли, они взаимодействуют с ней и вызывают ее возмущения. Приборы на Земле регистрируют магнитные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ImgintrB"/>
          <p:cNvPicPr/>
          <p:nvPr/>
        </p:nvPicPr>
        <p:blipFill>
          <a:blip r:embed="rId1"/>
          <a:stretch/>
        </p:blipFill>
        <p:spPr>
          <a:xfrm>
            <a:off x="179280" y="765000"/>
            <a:ext cx="4537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Здоровье и магнитные бур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кружающие нас условия меняются непрерывно. При каждом изменении естественных условий меняется и работа организма человека. Если изменения условий обычные, то организм перестраивается безболезненно, т.к. организм приспосабливается к этим измен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сли же организм человека ослаблен болезнью или его сопротивляемость снижена, то приспособление происходит трудно. Такой человек с наступлением новых условий чувствует дискомфорт или же боль в разных органах и систем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Такие люди считаются </a:t>
            </a: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метеолабильными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чувствительными к изменению пого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5364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агнитные бури влияют на состояние здоровья людей, страдающих в основном следующими заболевани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ердечно-сосудистой и кровенос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рганов дых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e42b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Dollen03"/>
          <p:cNvPicPr/>
          <p:nvPr/>
        </p:nvPicPr>
        <p:blipFill>
          <a:blip r:embed="rId1"/>
          <a:stretch/>
        </p:blipFill>
        <p:spPr>
          <a:xfrm>
            <a:off x="5700600" y="785880"/>
            <a:ext cx="344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ФоТо4кИ))) 031"/>
          <p:cNvPicPr/>
          <p:nvPr/>
        </p:nvPicPr>
        <p:blipFill>
          <a:blip r:embed="rId1"/>
          <a:stretch/>
        </p:blipFill>
        <p:spPr>
          <a:xfrm>
            <a:off x="1258920" y="2492280"/>
            <a:ext cx="2952720" cy="4032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357120"/>
            <a:ext cx="88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Экспериментальн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эксперименте принимали люди разных поколений: я – ученица 11 класса (16 лет) и моя бабушка – пенсионного возраста (72 год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Рисунок4"/>
          <p:cNvPicPr/>
          <p:nvPr/>
        </p:nvPicPr>
        <p:blipFill>
          <a:blip r:embed="rId2"/>
          <a:stretch/>
        </p:blipFill>
        <p:spPr>
          <a:xfrm>
            <a:off x="5364000" y="2421000"/>
            <a:ext cx="259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вое исследование мы проводили в течение 3 месяцев (с ноября 2008 г. по февраль 2009 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Целью эксперимента являлось то, что нам необходимо было доказать, что организм  человека сохраняет естественные защитные механизмы, позволяющие предчувствовать изменения самочувствия, свойственные всему жив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56000" y="765000"/>
            <a:ext cx="6588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...Бывают дни, когда для больного человека Солнце является источником смерти. В такие дни оно превращается в заклятого врага, от которого человеку никуда ни скрыться , ни убежа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мертоносное влияние Солнца настигает человека повсюду, где бы он ни находился. Лишь наука, которой дано предвидеть заранее явления, может указать на грозящую опасност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А.Л. Чиж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"/>
          <p:cNvPicPr/>
          <p:nvPr/>
        </p:nvPicPr>
        <p:blipFill>
          <a:blip r:embed="rId1"/>
          <a:stretch/>
        </p:blipFill>
        <p:spPr>
          <a:xfrm>
            <a:off x="54000" y="189000"/>
            <a:ext cx="257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обходимо было выяснить, изменяется ли наше самочувствие в связи с солнечной активностью и выявить, какие при этом происходят изменения в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Я и моя бабушка измеряли артериальное давление и следили за изменениями, происходящими в организме в те дни, когда отмечалась неблагоприятная геомагнитная обстано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меня нормальное давление - 120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/70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мм, а у бабушки - 130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8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Рисунок1"/>
          <p:cNvPicPr/>
          <p:nvPr/>
        </p:nvPicPr>
        <p:blipFill>
          <a:blip r:embed="rId1"/>
          <a:stretch/>
        </p:blipFill>
        <p:spPr>
          <a:xfrm>
            <a:off x="1187280" y="4535640"/>
            <a:ext cx="2808360" cy="224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Рисунок3"/>
          <p:cNvPicPr/>
          <p:nvPr/>
        </p:nvPicPr>
        <p:blipFill>
          <a:blip r:embed="rId2"/>
          <a:stretch/>
        </p:blipFill>
        <p:spPr>
          <a:xfrm>
            <a:off x="5364000" y="4049640"/>
            <a:ext cx="27370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настоящее время составляются прогнозы магнитных бу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Геомагнитную обстановку на предстоящий месяц можно узнать из средств массовой информации. В частности, нам приходилось обращаться к газете «Тверская жизнь», где в начале каждого месяца печаталась информация о том, в какие дни наблюдаются магнитные бу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Таким образом, нам были заранее известны дни, когда будет происходить магнитная бу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4941720"/>
          <a:ext cx="9144000" cy="1582920"/>
        </p:xfrm>
        <a:graphic>
          <a:graphicData uri="http://schemas.openxmlformats.org/drawingml/2006/table">
            <a:tbl>
              <a:tblPr/>
              <a:tblGrid>
                <a:gridCol w="1285920"/>
                <a:gridCol w="2719440"/>
                <a:gridCol w="2367000"/>
                <a:gridCol w="27716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еся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оя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дека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янва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Чи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, 8, 12, 19,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6, 25, 28,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1, 20, 24,29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Ход экспериментальной работы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дневно с 1 ноября по 31 января фиксировать самочувствие испытуемого в дни, когда наблюдается магнитная буря, а также за 2-3 дня до ее наступления и за 2-3 дня после  окончания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агнитной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дневно с 1 ноября по 31 января измерять кровяное давление в 15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жемесячно с 1 ноября по 31 января фиксировать магнитные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поставить результаты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b00"/>
                </a:solidFill>
                <a:latin typeface="Arial"/>
              </a:rPr>
              <a:t>Результатив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320" y="1412640"/>
            <a:ext cx="85914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оводя необходимые исследования в данной работе, экспериментальная часть  показала, что периоды возрастания и уменьшения артериального давления, в общем, совпадают с теми «волнами», связанные с повышением солнечной активности. Полученные данные мы можем проследить на полученных граф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5"/>
          <p:cNvGraphicFramePr/>
          <p:nvPr/>
        </p:nvGraphicFramePr>
        <p:xfrm>
          <a:off x="-249120" y="0"/>
          <a:ext cx="941364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9120" y="0"/>
                    <a:ext cx="941364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3240" y="260280"/>
          <a:ext cx="9126360" cy="641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260280"/>
                    <a:ext cx="9126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4"/>
          <p:cNvGraphicFramePr/>
          <p:nvPr/>
        </p:nvGraphicFramePr>
        <p:xfrm>
          <a:off x="-395280" y="135000"/>
          <a:ext cx="9507600" cy="65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5280" y="135000"/>
                    <a:ext cx="9507600" cy="65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1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рганизм человека оказался более чутким, чем барометр и изменения в нем начинались раньше, чем регистрировались в атмо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Школьница с нормальным и несколько пониженным давлением (120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70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м) хорошо реагировала на его повышение и чувствовала себя бодрой при солнечной погоде, при пасмурной – испытывала некоторую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абушка, имеющая заболевания сердечнососудистой системы, испытывала дискомфорт, сердечные и головные боли, раздражение и другие признаки болезни. Нормальное артериальное давление у бабушки 130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/ 80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мм. Во время магнитных бурь снижаются реакции организма, и артериальное давление повыш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рдечные приступы и резкое повышение артериального давления достигают максимума на следующий день после вспыш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це влияет на многие органы человека, поэтому состояние нашего здоровья сильно зависит от космических факто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благоприятные дни могут изменить здоровье больных и ослабленны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Человек сохранил естественные механизмы по сохранению здоровья, поэтому человек чувствует предстоящие изменения в организ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обходимо применять меры по сохранению здоровья в неблагоприятные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ры по сохранению здоровья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 неблагоприятные дн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" y="1676160"/>
            <a:ext cx="614196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. Укреплять здоров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0_d3d4_8f204302_XL"/>
          <p:cNvPicPr/>
          <p:nvPr/>
        </p:nvPicPr>
        <p:blipFill>
          <a:blip r:embed="rId1"/>
          <a:stretch/>
        </p:blipFill>
        <p:spPr>
          <a:xfrm>
            <a:off x="6372360" y="4178160"/>
            <a:ext cx="149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31-3"/>
          <p:cNvPicPr/>
          <p:nvPr/>
        </p:nvPicPr>
        <p:blipFill>
          <a:blip r:embed="rId2"/>
          <a:stretch/>
        </p:blipFill>
        <p:spPr>
          <a:xfrm>
            <a:off x="5364000" y="1441440"/>
            <a:ext cx="354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7"/>
          <p:cNvPicPr/>
          <p:nvPr/>
        </p:nvPicPr>
        <p:blipFill>
          <a:blip r:embed="rId3"/>
          <a:stretch/>
        </p:blipFill>
        <p:spPr>
          <a:xfrm>
            <a:off x="250920" y="2522520"/>
            <a:ext cx="4752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Данная тема актуальна, так как здоровье – бесценный дар природы, которое надо 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роме того, здоровье ученика – это залог хорошей успеваемости в школе. Но иногда наше самочувствие подводит н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лохое самочувствие сказывается не только на оценках, но и в общение с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. Профилактические меропри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анятия физической культу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20f65e68c4d0f236f28dee8d47bd38a0"/>
          <p:cNvPicPr/>
          <p:nvPr/>
        </p:nvPicPr>
        <p:blipFill>
          <a:blip r:embed="rId1"/>
          <a:stretch/>
        </p:blipFill>
        <p:spPr>
          <a:xfrm>
            <a:off x="179280" y="1266840"/>
            <a:ext cx="3822840" cy="254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ealth_2"/>
          <p:cNvPicPr/>
          <p:nvPr/>
        </p:nvPicPr>
        <p:blipFill>
          <a:blip r:embed="rId2"/>
          <a:stretch/>
        </p:blipFill>
        <p:spPr>
          <a:xfrm>
            <a:off x="6372360" y="4076640"/>
            <a:ext cx="1541160" cy="24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image065"/>
          <p:cNvPicPr/>
          <p:nvPr/>
        </p:nvPicPr>
        <p:blipFill>
          <a:blip r:embed="rId3"/>
          <a:stretch/>
        </p:blipFill>
        <p:spPr>
          <a:xfrm>
            <a:off x="1258920" y="3933720"/>
            <a:ext cx="379584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ssf4"/>
          <p:cNvPicPr/>
          <p:nvPr/>
        </p:nvPicPr>
        <p:blipFill>
          <a:blip r:embed="rId4"/>
          <a:stretch/>
        </p:blipFill>
        <p:spPr>
          <a:xfrm>
            <a:off x="5148360" y="1341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авильная организация режима работы и отды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414"/>
          <p:cNvPicPr/>
          <p:nvPr/>
        </p:nvPicPr>
        <p:blipFill>
          <a:blip r:embed="rId1"/>
          <a:stretch/>
        </p:blipFill>
        <p:spPr>
          <a:xfrm>
            <a:off x="1692360" y="1413000"/>
            <a:ext cx="54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0ff1f5b5acb8"/>
          <p:cNvPicPr/>
          <p:nvPr/>
        </p:nvPicPr>
        <p:blipFill>
          <a:blip r:embed="rId1"/>
          <a:stretch/>
        </p:blipFill>
        <p:spPr>
          <a:xfrm>
            <a:off x="6415200" y="2708280"/>
            <a:ext cx="272880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1236083755_b84de5be7753ad0f1eee51e2b7808ca3_diet"/>
          <p:cNvPicPr/>
          <p:nvPr/>
        </p:nvPicPr>
        <p:blipFill>
          <a:blip r:embed="rId2"/>
          <a:stretch/>
        </p:blipFill>
        <p:spPr>
          <a:xfrm>
            <a:off x="250920" y="1341360"/>
            <a:ext cx="4968720" cy="468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77_img"/>
          <p:cNvPicPr/>
          <p:nvPr/>
        </p:nvPicPr>
        <p:blipFill>
          <a:blip r:embed="rId3"/>
          <a:stretch/>
        </p:blipFill>
        <p:spPr>
          <a:xfrm>
            <a:off x="5508720" y="676440"/>
            <a:ext cx="3166920" cy="2371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3360" y="-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b0mbci_cont"/>
          <p:cNvPicPr/>
          <p:nvPr/>
        </p:nvPicPr>
        <p:blipFill>
          <a:blip r:embed="rId4"/>
          <a:stretch/>
        </p:blipFill>
        <p:spPr>
          <a:xfrm>
            <a:off x="5508720" y="4581360"/>
            <a:ext cx="28461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Медикаментозное 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medicina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61027m"/>
          <p:cNvPicPr/>
          <p:nvPr/>
        </p:nvPicPr>
        <p:blipFill>
          <a:blip r:embed="rId1"/>
          <a:stretch/>
        </p:blipFill>
        <p:spPr>
          <a:xfrm>
            <a:off x="5724360" y="2133720"/>
            <a:ext cx="2880000" cy="25239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0" y="476280"/>
            <a:ext cx="7489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826920" y="3573360"/>
            <a:ext cx="7921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9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Цель работы:</a:t>
            </a: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выявить влияние солнечной активности на здоровье человека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2800"/>
            </a:b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Задачи:</a:t>
            </a:r>
            <a:br>
              <a:rPr sz="3600"/>
            </a:b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знакомиться с понятием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ечной активности и магнитных бурях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2. Определить факторы, влияющие на изменение самочувствия человека и выявить основные типы недомогания, вызванные солнечной активностью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Провести наблюдения за состоянием здоровья в неблагоприятные дни, связанные с солнечной активностью;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4. Проанализировать полученные данные и выяснить, как влияет солнечная активность на здоровье человека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Если организм  человека  сохранил  естественные защитные механизмы, то это позволяет предчувствовать изменения самочувствия, свойственные всему жив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12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Объект исследования: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лнечная активность, влияющая на здоровье человека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Picture 12" descr="Безымянный"/>
          <p:cNvPicPr/>
          <p:nvPr/>
        </p:nvPicPr>
        <p:blipFill>
          <a:blip r:embed="rId1"/>
          <a:stretch/>
        </p:blipFill>
        <p:spPr>
          <a:xfrm>
            <a:off x="5435640" y="1484280"/>
            <a:ext cx="3452760" cy="2728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4049280"/>
            <a:ext cx="849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егистрация неблагоприятных дней, вызванных солнечной активностью и наблюдение за изменением самочув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arcadenov9_trace_big"/>
          <p:cNvPicPr/>
          <p:nvPr/>
        </p:nvPicPr>
        <p:blipFill>
          <a:blip r:embed="rId2"/>
          <a:stretch/>
        </p:blipFill>
        <p:spPr>
          <a:xfrm>
            <a:off x="468360" y="1844640"/>
            <a:ext cx="3382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Методы и средства исследова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зучение литературы по данной теме (учебной, научно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нтер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аблюд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татистический мет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Аналитический метод (анализируем и делаем вывод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24360" y="-360"/>
            <a:ext cx="9720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Факторы, влияющие на самочувствие человека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а наше самочувствие влияют множество климатических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пература возду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д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скорость в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отоки солнечной ради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солнечная активность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остояние нашего здоровья сильно зависит от космических факторов. Неблагоприятные для нас периоды можно предсказать и на это время принять соответствующие меры, чтобы защититься от их вли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Характеристика Солнца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50920" y="1125000"/>
            <a:ext cx="514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лнце – звезда, вращающийся шар раскаленного газа с температурой в глубине 15-25 млн. градусов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70% массы Солнца составляют ядра водорода. Взаимодействуя между собой, они образуют более крупные ядра г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 результате этой реакции выделяется большое количество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5"/>
          <p:cNvPicPr/>
          <p:nvPr/>
        </p:nvPicPr>
        <p:blipFill>
          <a:blip r:embed="rId1"/>
          <a:stretch/>
        </p:blipFill>
        <p:spPr>
          <a:xfrm>
            <a:off x="179280" y="1052640"/>
            <a:ext cx="3745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2:27:46Z</dcterms:created>
  <dc:creator>Roman</dc:creator>
  <dc:description/>
  <dc:language>en-US</dc:language>
  <cp:lastModifiedBy>user</cp:lastModifiedBy>
  <dcterms:modified xsi:type="dcterms:W3CDTF">2015-05-02T20:52:22Z</dcterms:modified>
  <cp:revision>34</cp:revision>
  <dc:subject/>
  <dc:title>Влияние солнечной активности на здоровье человека.</dc:title>
</cp:coreProperties>
</file>