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4.jpeg" ContentType="image/jpeg"/>
  <Override PartName="/ppt/media/image37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38F3-5B92-4AF8-93FB-64FFEF70B81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2F7F-5F66-484E-B4A5-0DA293250AB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583-B6FA-41ED-A678-F322ADEF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DE1-758F-4D1B-A741-256E3D14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858-B800-44F3-AF7A-50D843F9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846-8E71-4DF1-950B-1BD22857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8E4-9510-432F-9029-85C2EE22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B3A-6B2E-4A10-BC47-8BA10EF5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023-97D5-4466-A4E1-A577B362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A79-8AE7-4BCB-84C8-6127A970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54D-5276-429A-8396-17F40303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DCA-3395-439B-9AB2-DC6B3ADE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4BF-2248-4492-AECF-DC38D11C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FF7-595C-425C-B1F1-6D1DB5DC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18AA-7D34-4D1C-B648-B312D4E073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Научно-исследовательская  работа  2009– 2010 учебный год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Тема:</a:t>
            </a: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«Влияние солнечной активности на здоровье человека»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0" y="3860280"/>
            <a:ext cx="4248000" cy="28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Работу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ученица 11 «А»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МОУ СОШ №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мирова К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Руководитель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.С. Калинов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0_77a8_bc0914af_XL"/>
          <p:cNvPicPr/>
          <p:nvPr/>
        </p:nvPicPr>
        <p:blipFill>
          <a:blip r:embed="rId1"/>
          <a:stretch/>
        </p:blipFill>
        <p:spPr>
          <a:xfrm>
            <a:off x="214200" y="3857760"/>
            <a:ext cx="3753000" cy="28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" descr="834_4"/>
          <p:cNvPicPr/>
          <p:nvPr/>
        </p:nvPicPr>
        <p:blipFill>
          <a:blip r:embed="rId1"/>
          <a:stretch/>
        </p:blipFill>
        <p:spPr>
          <a:xfrm>
            <a:off x="395280" y="18900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2b00"/>
                </a:solidFill>
                <a:latin typeface="Arial"/>
              </a:rPr>
              <a:t>Солнце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– </a:t>
            </a:r>
            <a:r>
              <a:rPr b="1" i="1" lang="ru-RU" sz="4000" spc="-1" strike="noStrike">
                <a:solidFill>
                  <a:srgbClr val="e42b00"/>
                </a:solidFill>
                <a:latin typeface="Arial"/>
              </a:rPr>
              <a:t>двигатель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 жизни на Земле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71" name="Picture 6" descr="Foto3594"/>
          <p:cNvPicPr/>
          <p:nvPr/>
        </p:nvPicPr>
        <p:blipFill>
          <a:blip r:embed="rId2"/>
          <a:stretch/>
        </p:blipFill>
        <p:spPr>
          <a:xfrm>
            <a:off x="179280" y="2852640"/>
            <a:ext cx="4248360" cy="3667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29280" y="1628640"/>
            <a:ext cx="491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олнце обожествлялось во многих религиях. О его воздействии люди догадывались еще в глубокой древности, в результате чего рождались легенды и мифы, в которых Солнце играло главную 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Древние греки называли Солнце богом Гелиосом, римляне – Аполлоном, а наши предки-славяне – богом Ярилой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74" name="Picture 9" descr="66"/>
          <p:cNvPicPr/>
          <p:nvPr/>
        </p:nvPicPr>
        <p:blipFill>
          <a:blip r:embed="rId1"/>
          <a:stretch/>
        </p:blipFill>
        <p:spPr>
          <a:xfrm>
            <a:off x="5580000" y="1989000"/>
            <a:ext cx="3175200" cy="4535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1276_s"/>
          <p:cNvPicPr/>
          <p:nvPr/>
        </p:nvPicPr>
        <p:blipFill>
          <a:blip r:embed="rId2"/>
          <a:stretch/>
        </p:blipFill>
        <p:spPr>
          <a:xfrm>
            <a:off x="971640" y="4292640"/>
            <a:ext cx="4249800" cy="2343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helios"/>
          <p:cNvPicPr/>
          <p:nvPr/>
        </p:nvPicPr>
        <p:blipFill>
          <a:blip r:embed="rId3"/>
          <a:stretch/>
        </p:blipFill>
        <p:spPr>
          <a:xfrm>
            <a:off x="395280" y="1700280"/>
            <a:ext cx="44323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4716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Солнечная активность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2636640"/>
            <a:ext cx="896472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Особенность Солнца – периодические, регулярные проявления солнечной активности (совокупность явлений, происходящих на Солнц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амое сильное проявление солнечной активности, влияющее на Землю – солнечные вспы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олнечная активность имеет цикличный характер со средней продолжительностью 11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 последнее время солнечная активность ускорилась и продолжительность цикла составляет 10,5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sun_and_earch"/>
          <p:cNvPicPr/>
          <p:nvPr/>
        </p:nvPicPr>
        <p:blipFill>
          <a:blip r:embed="rId1"/>
          <a:stretch/>
        </p:blipFill>
        <p:spPr>
          <a:xfrm>
            <a:off x="4572000" y="115920"/>
            <a:ext cx="43210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Магнитные бури – проявление солнечной активности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3860640"/>
            <a:ext cx="9144000" cy="28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Возмущения магнитного поля Земли вызываются Солнцем, где время от времени происходят взрывы, в результате которых из его атмосферы выбрасываются в межпланетное пространство потоки зараженных части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laneta"/>
          <p:cNvPicPr/>
          <p:nvPr/>
        </p:nvPicPr>
        <p:blipFill>
          <a:blip r:embed="rId1"/>
          <a:stretch/>
        </p:blipFill>
        <p:spPr>
          <a:xfrm>
            <a:off x="1692360" y="1341360"/>
            <a:ext cx="5688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48320" y="1052640"/>
            <a:ext cx="449568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Когда эти потоки достигают магнитной оболочки Земли, они взаимодействуют с ней и вызывают ее возмущения. Приборы на Земле регистрируют магнитные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ImgintrB"/>
          <p:cNvPicPr/>
          <p:nvPr/>
        </p:nvPicPr>
        <p:blipFill>
          <a:blip r:embed="rId1"/>
          <a:stretch/>
        </p:blipFill>
        <p:spPr>
          <a:xfrm>
            <a:off x="179280" y="765000"/>
            <a:ext cx="4537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Здоровье и магнитные бури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Окружающие нас условия меняются непрерывно. При каждом изменении естественных условий меняется и работа организма человека. Если изменения условий обычные, то организм перестраивается безболезненно, т.к. организм приспосабливается к этим изменен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Если же организм человека ослаблен болезнью или его сопротивляемость снижена, то приспособление происходит трудно. Такой человек с наступлением новых условий чувствует дискомфорт или же боль в разных органах и систем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Такие люди считаются </a:t>
            </a: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метеолабильными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(чувствительными к изменению погод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5364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Магнитные бури влияют на состояние здоровья людей, страдающих в основном следующими заболевания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e42b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ердечно-сосудистой и кровеносной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e42b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органов дых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e42b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центральной нерв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Dollen03"/>
          <p:cNvPicPr/>
          <p:nvPr/>
        </p:nvPicPr>
        <p:blipFill>
          <a:blip r:embed="rId1"/>
          <a:stretch/>
        </p:blipFill>
        <p:spPr>
          <a:xfrm>
            <a:off x="5700600" y="785880"/>
            <a:ext cx="3443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ФоТо4кИ))) 031"/>
          <p:cNvPicPr/>
          <p:nvPr/>
        </p:nvPicPr>
        <p:blipFill>
          <a:blip r:embed="rId1"/>
          <a:stretch/>
        </p:blipFill>
        <p:spPr>
          <a:xfrm>
            <a:off x="1258920" y="2492280"/>
            <a:ext cx="2952720" cy="4032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357120"/>
            <a:ext cx="8893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Экспериментальная ч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 эксперименте принимали люди разных поколений: я – ученица 11 класса (16 лет) и моя бабушка – пенсионного возраста (72 года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Рисунок4"/>
          <p:cNvPicPr/>
          <p:nvPr/>
        </p:nvPicPr>
        <p:blipFill>
          <a:blip r:embed="rId2"/>
          <a:stretch/>
        </p:blipFill>
        <p:spPr>
          <a:xfrm>
            <a:off x="5364000" y="2421000"/>
            <a:ext cx="2598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507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вое исследование мы проводили в течение 3 месяцев (с ноября 2008 г. по февраль 2009 г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Целью эксперимента являлось то, что нам необходимо было доказать, что организм  человека сохраняет естественные защитные механизмы, позволяющие предчувствовать изменения самочувствия, свойственные всему жив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56000" y="765000"/>
            <a:ext cx="6588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...Бывают дни, когда для больного человека Солнце является источником смерти. В такие дни оно превращается в заклятого врага, от которого человеку никуда ни скрыться , ни убежать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мертоносное влияние Солнца настигает человека повсюду, где бы он ни находился. Лишь наука, которой дано предвидеть заранее явления, может указать на грозящую опасность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А.Л. Чиж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img"/>
          <p:cNvPicPr/>
          <p:nvPr/>
        </p:nvPicPr>
        <p:blipFill>
          <a:blip r:embed="rId1"/>
          <a:stretch/>
        </p:blipFill>
        <p:spPr>
          <a:xfrm>
            <a:off x="54000" y="189000"/>
            <a:ext cx="2577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Необходимо было выяснить, изменяется ли наше самочувствие в связи с солнечной активностью и выявить, какие при этом происходят изменения в организ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Я и моя бабушка измеряли артериальное давление и следили за изменениями, происходящими в организме в те дни, когда отмечалась неблагоприятная геомагнитная обстанов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У меня нормальное давление - 120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/70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мм, а у бабушки - 130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80 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Рисунок1"/>
          <p:cNvPicPr/>
          <p:nvPr/>
        </p:nvPicPr>
        <p:blipFill>
          <a:blip r:embed="rId1"/>
          <a:stretch/>
        </p:blipFill>
        <p:spPr>
          <a:xfrm>
            <a:off x="1187280" y="4535640"/>
            <a:ext cx="2808360" cy="224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Рисунок3"/>
          <p:cNvPicPr/>
          <p:nvPr/>
        </p:nvPicPr>
        <p:blipFill>
          <a:blip r:embed="rId2"/>
          <a:stretch/>
        </p:blipFill>
        <p:spPr>
          <a:xfrm>
            <a:off x="5364000" y="4049640"/>
            <a:ext cx="27370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 настоящее время составляются прогнозы магнитных бур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Геомагнитную обстановку на предстоящий месяц можно узнать из средств массовой информации. В частности, нам приходилось обращаться к газете «Тверская жизнь», где в начале каждого месяца печаталась информация о том, в какие дни наблюдаются магнитные бур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Таким образом, нам были заранее известны дни, когда будет происходить магнитная бу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4941720"/>
          <a:ext cx="9144000" cy="1582920"/>
        </p:xfrm>
        <a:graphic>
          <a:graphicData uri="http://schemas.openxmlformats.org/drawingml/2006/table">
            <a:tbl>
              <a:tblPr/>
              <a:tblGrid>
                <a:gridCol w="1285920"/>
                <a:gridCol w="2719440"/>
                <a:gridCol w="2367000"/>
                <a:gridCol w="27716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еся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ояб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декаб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янва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Чис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7, 8, 12, 19, 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6, 25, 28,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1, 20, 24,29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Ход экспериментальной работы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Ежедневно с 1 ноября по 31 января фиксировать самочувствие испытуемого в дни, когда наблюдается магнитная буря, а также за 2-3 дня до ее наступления и за 2-3 дня после  окончания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магнитной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Ежедневно с 1 ноября по 31 января измерять кровяное давление в 15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Ежемесячно с 1 ноября по 31 января фиксировать магнитные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опоставить результаты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2b00"/>
                </a:solidFill>
                <a:latin typeface="Arial"/>
              </a:rPr>
              <a:t>Результативность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1320" y="1412640"/>
            <a:ext cx="85914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роводя необходимые исследования в данной работе, экспериментальная часть  показала, что периоды возрастания и уменьшения артериального давления, в общем, совпадают с теми «волнами», связанные с повышением солнечной активности. Полученные данные мы можем проследить на полученных графи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5"/>
          <p:cNvGraphicFramePr/>
          <p:nvPr/>
        </p:nvGraphicFramePr>
        <p:xfrm>
          <a:off x="-249120" y="0"/>
          <a:ext cx="9413640" cy="64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9120" y="0"/>
                    <a:ext cx="941364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4"/>
          <p:cNvGraphicFramePr/>
          <p:nvPr/>
        </p:nvGraphicFramePr>
        <p:xfrm>
          <a:off x="3240" y="260280"/>
          <a:ext cx="9126360" cy="641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260280"/>
                    <a:ext cx="9126360" cy="641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4"/>
          <p:cNvGraphicFramePr/>
          <p:nvPr/>
        </p:nvGraphicFramePr>
        <p:xfrm>
          <a:off x="-395280" y="135000"/>
          <a:ext cx="9507600" cy="65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5280" y="135000"/>
                    <a:ext cx="9507600" cy="65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31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Организм человека оказался более чутким, чем барометр и изменения в нем начинались раньше, чем регистрировались в атмосф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Школьница с нормальным и несколько пониженным давлением (120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/70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мм) хорошо реагировала на его повышение и чувствовала себя бодрой при солнечной погоде, при пасмурной – испытывала некоторую вя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Бабушка, имеющая заболевания сердечнососудистой системы, испытывала дискомфорт, сердечные и головные боли, раздражение и другие признаки болезни. Нормальное артериальное давление у бабушки 130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/ 80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мм. Во время магнитных бурь снижаются реакции организма, и артериальное давление повыш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ердечные приступы и резкое повышение артериального давления достигают максимума на следующий день после вспышк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4200" y="100008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олнце влияет на многие органы человека, поэтому состояние нашего здоровья сильно зависит от космических факто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Неблагоприятные дни могут изменить здоровье больных и ослабленных люд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Человек сохранил естественные механизмы по сохранению здоровья, поэтому человек чувствует предстоящие изменения в организ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Необходимо применять меры по сохранению здоровья в неблагоприятные 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Меры по сохранению здоровья 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в неблагоприятные дни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1320" y="1676160"/>
            <a:ext cx="614196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. Укреплять здоров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0_d3d4_8f204302_XL"/>
          <p:cNvPicPr/>
          <p:nvPr/>
        </p:nvPicPr>
        <p:blipFill>
          <a:blip r:embed="rId1"/>
          <a:stretch/>
        </p:blipFill>
        <p:spPr>
          <a:xfrm>
            <a:off x="6372360" y="4178160"/>
            <a:ext cx="1495440" cy="24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31-3"/>
          <p:cNvPicPr/>
          <p:nvPr/>
        </p:nvPicPr>
        <p:blipFill>
          <a:blip r:embed="rId2"/>
          <a:stretch/>
        </p:blipFill>
        <p:spPr>
          <a:xfrm>
            <a:off x="5364000" y="1441440"/>
            <a:ext cx="3546720" cy="257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27"/>
          <p:cNvPicPr/>
          <p:nvPr/>
        </p:nvPicPr>
        <p:blipFill>
          <a:blip r:embed="rId3"/>
          <a:stretch/>
        </p:blipFill>
        <p:spPr>
          <a:xfrm>
            <a:off x="250920" y="2522520"/>
            <a:ext cx="47527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Актуальность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Данная тема актуальна, так как здоровье – бесценный дар природы, которое надо бер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Кроме того, здоровье ученика – это залог хорошей успеваемости в школе. Но иногда наше самочувствие подводит на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Плохое самочувствие сказывается не только на оценках, но и в общение с людь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2. Профилактические меропри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42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Занятия физической культу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20f65e68c4d0f236f28dee8d47bd38a0"/>
          <p:cNvPicPr/>
          <p:nvPr/>
        </p:nvPicPr>
        <p:blipFill>
          <a:blip r:embed="rId1"/>
          <a:stretch/>
        </p:blipFill>
        <p:spPr>
          <a:xfrm>
            <a:off x="179280" y="1266840"/>
            <a:ext cx="3822840" cy="2544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health_2"/>
          <p:cNvPicPr/>
          <p:nvPr/>
        </p:nvPicPr>
        <p:blipFill>
          <a:blip r:embed="rId2"/>
          <a:stretch/>
        </p:blipFill>
        <p:spPr>
          <a:xfrm>
            <a:off x="6372360" y="4076640"/>
            <a:ext cx="1541160" cy="2492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image065"/>
          <p:cNvPicPr/>
          <p:nvPr/>
        </p:nvPicPr>
        <p:blipFill>
          <a:blip r:embed="rId3"/>
          <a:stretch/>
        </p:blipFill>
        <p:spPr>
          <a:xfrm>
            <a:off x="1258920" y="3933720"/>
            <a:ext cx="3795840" cy="2743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ssf4"/>
          <p:cNvPicPr/>
          <p:nvPr/>
        </p:nvPicPr>
        <p:blipFill>
          <a:blip r:embed="rId4"/>
          <a:stretch/>
        </p:blipFill>
        <p:spPr>
          <a:xfrm>
            <a:off x="5148360" y="134136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42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Правильная организация режима работы и отдых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414"/>
          <p:cNvPicPr/>
          <p:nvPr/>
        </p:nvPicPr>
        <p:blipFill>
          <a:blip r:embed="rId1"/>
          <a:stretch/>
        </p:blipFill>
        <p:spPr>
          <a:xfrm>
            <a:off x="1692360" y="1413000"/>
            <a:ext cx="54007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7" descr="0ff1f5b5acb8"/>
          <p:cNvPicPr/>
          <p:nvPr/>
        </p:nvPicPr>
        <p:blipFill>
          <a:blip r:embed="rId1"/>
          <a:stretch/>
        </p:blipFill>
        <p:spPr>
          <a:xfrm>
            <a:off x="6415200" y="2708280"/>
            <a:ext cx="2728800" cy="2135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1236083755_b84de5be7753ad0f1eee51e2b7808ca3_diet"/>
          <p:cNvPicPr/>
          <p:nvPr/>
        </p:nvPicPr>
        <p:blipFill>
          <a:blip r:embed="rId2"/>
          <a:stretch/>
        </p:blipFill>
        <p:spPr>
          <a:xfrm>
            <a:off x="250920" y="1341360"/>
            <a:ext cx="4968720" cy="468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77_img"/>
          <p:cNvPicPr/>
          <p:nvPr/>
        </p:nvPicPr>
        <p:blipFill>
          <a:blip r:embed="rId3"/>
          <a:stretch/>
        </p:blipFill>
        <p:spPr>
          <a:xfrm>
            <a:off x="5508720" y="676440"/>
            <a:ext cx="3166920" cy="2371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3360" y="-3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Правильное пит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0" descr="b0mbci_cont"/>
          <p:cNvPicPr/>
          <p:nvPr/>
        </p:nvPicPr>
        <p:blipFill>
          <a:blip r:embed="rId4"/>
          <a:stretch/>
        </p:blipFill>
        <p:spPr>
          <a:xfrm>
            <a:off x="5508720" y="4581360"/>
            <a:ext cx="28461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Медикаментозное л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medicina"/>
          <p:cNvPicPr/>
          <p:nvPr/>
        </p:nvPicPr>
        <p:blipFill>
          <a:blip r:embed="rId1"/>
          <a:stretch/>
        </p:blipFill>
        <p:spPr>
          <a:xfrm>
            <a:off x="755640" y="1125360"/>
            <a:ext cx="7489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61027m"/>
          <p:cNvPicPr/>
          <p:nvPr/>
        </p:nvPicPr>
        <p:blipFill>
          <a:blip r:embed="rId1"/>
          <a:stretch/>
        </p:blipFill>
        <p:spPr>
          <a:xfrm>
            <a:off x="5724360" y="2133720"/>
            <a:ext cx="2880000" cy="2523960"/>
          </a:xfrm>
          <a:prstGeom prst="rect">
            <a:avLst/>
          </a:prstGeom>
          <a:ln w="0">
            <a:noFill/>
          </a:ln>
        </p:spPr>
      </p:pic>
      <p:sp>
        <p:nvSpPr>
          <p:cNvPr id="132" name="WordArt 5"/>
          <p:cNvSpPr txBox="1"/>
          <p:nvPr/>
        </p:nvSpPr>
        <p:spPr>
          <a:xfrm>
            <a:off x="0" y="476280"/>
            <a:ext cx="74898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дьте здоровы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826920" y="3573360"/>
            <a:ext cx="79218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9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Цель работы:</a:t>
            </a:r>
            <a:r>
              <a:rPr b="1" i="1" lang="ru-RU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выявить влияние солнечной активности на здоровье человека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28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Задачи:</a:t>
            </a:r>
            <a:br>
              <a:rPr sz="3600"/>
            </a:b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Познакомиться с понятием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олнечной активности и магнитных бурях;</a:t>
            </a:r>
            <a:br>
              <a:rPr sz="2800"/>
            </a:b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2. Определить факторы, влияющие на изменение самочувствия человека и выявить основные типы недомогания, вызванные солнечной активностью;</a:t>
            </a:r>
            <a:br>
              <a:rPr sz="2800"/>
            </a:b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3. Провести наблюдения за состоянием здоровья в неблагоприятные дни, связанные с солнечной активностью;</a:t>
            </a:r>
            <a:br>
              <a:rPr sz="2800"/>
            </a:b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4. Проанализировать полученные данные и выяснить, как влияет солнечная активность на здоровье человека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Гипотеза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53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Если организм  человека  сохранил  естественные защитные механизмы, то это позволяет предчувствовать изменения самочувствия, свойственные всему жив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812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Объект исследования:</a:t>
            </a: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олнечная активность, влияющая на здоровье человека.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59" name="Picture 12" descr="Безымянный"/>
          <p:cNvPicPr/>
          <p:nvPr/>
        </p:nvPicPr>
        <p:blipFill>
          <a:blip r:embed="rId1"/>
          <a:stretch/>
        </p:blipFill>
        <p:spPr>
          <a:xfrm>
            <a:off x="5435640" y="1484280"/>
            <a:ext cx="3452760" cy="2728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4049280"/>
            <a:ext cx="849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Предмет исследования: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регистрация неблагоприятных дней, вызванных солнечной активностью и наблюдение за изменением самочув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arcadenov9_trace_big"/>
          <p:cNvPicPr/>
          <p:nvPr/>
        </p:nvPicPr>
        <p:blipFill>
          <a:blip r:embed="rId2"/>
          <a:stretch/>
        </p:blipFill>
        <p:spPr>
          <a:xfrm>
            <a:off x="468360" y="1844640"/>
            <a:ext cx="3382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Методы и средства исследования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Изучение литературы по данной теме (учебной, научно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Интер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Наблюд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татистический мет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Аналитический метод (анализируем и делаем вывод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24360" y="-360"/>
            <a:ext cx="9720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Факторы, влияющие на самочувствие человека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На наше самочувствие влияют множество климатических факто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температура воздух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дав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скорость вет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отоки солнечной ради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солнечная активность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остояние нашего здоровья сильно зависит от космических факторов. Неблагоприятные для нас периоды можно предсказать и на это время принять соответствующие меры, чтобы защититься от их влия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Характеристика Солнца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50920" y="1125000"/>
            <a:ext cx="5148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олнце – звезда, вращающийся шар раскаленного газа с температурой в глубине 15-25 млн. градусов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70% массы Солнца составляют ядра водорода. Взаимодействуя между собой, они образуют более крупные ядра г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 результате этой реакции выделяется большое количество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5"/>
          <p:cNvPicPr/>
          <p:nvPr/>
        </p:nvPicPr>
        <p:blipFill>
          <a:blip r:embed="rId1"/>
          <a:stretch/>
        </p:blipFill>
        <p:spPr>
          <a:xfrm>
            <a:off x="179280" y="1052640"/>
            <a:ext cx="3745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2:27:46Z</dcterms:created>
  <dc:creator>Roman</dc:creator>
  <dc:description/>
  <dc:language>en-US</dc:language>
  <cp:lastModifiedBy>user</cp:lastModifiedBy>
  <dcterms:modified xsi:type="dcterms:W3CDTF">2015-05-02T20:52:22Z</dcterms:modified>
  <cp:revision>34</cp:revision>
  <dc:subject/>
  <dc:title>Влияние солнечной активности на здоровье человека.</dc:title>
</cp:coreProperties>
</file>