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C2F-8C72-4A25-962C-279BBB3E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6FC-8339-4204-91E7-1431525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EC1-80A1-4612-ADDE-7C66934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703-E1BA-4B01-8972-A21F9AFE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0B69-F95B-4B53-B222-792EC23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2E23-5418-4550-955B-B68546E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832-B1CD-4E19-9531-4058A40E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77D5-73FB-4DEB-BC96-80BF185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6EAC-794C-4E92-B2D3-8DE0735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10A5-52ED-4335-A74F-6A102E8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584-0B4D-4798-ACB0-91F09BD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591-EEF7-4AB5-8F61-154E8B0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5348-A815-4856-AB9B-C6EE4FE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200D-CB91-431C-8338-2BB7F5E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B91-8A0B-48E7-A2AB-5C399AA7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0AF-0B80-416D-9F5A-65251528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CD9-B5EE-4C22-9E0D-2E084DB9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A38-5FF3-4B3B-B75E-A6E5BA79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01B-7632-40F5-9119-A3DD2C3E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D1F-5B44-4544-8C33-490F7BC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805-12DA-4FBC-96A5-4F8C9B9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178-C7D3-46F6-A756-1107F61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DDF-0E23-4D65-825C-B95F125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408-1889-497A-AA46-868ABC3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CA9-27C8-42B1-BF20-B317124A7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0845-6D67-4518-87E4-01E1DC5B6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Развитие фонематического слух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– логопед А. В. Тит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92360" cy="1957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880000" cy="1917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08560" y="779400"/>
            <a:ext cx="13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869000"/>
            <a:ext cx="15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2637000"/>
            <a:ext cx="1584360" cy="136836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263700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3"/>
            <a:endCxn id="105" idx="1"/>
          </p:cNvCxnSpPr>
          <p:nvPr/>
        </p:nvCxnSpPr>
        <p:spPr>
          <a:xfrm>
            <a:off x="3203640" y="1168200"/>
            <a:ext cx="3169440" cy="215316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3"/>
            <a:endCxn id="104" idx="1"/>
          </p:cNvCxnSpPr>
          <p:nvPr/>
        </p:nvCxnSpPr>
        <p:spPr>
          <a:xfrm>
            <a:off x="3419640" y="3308400"/>
            <a:ext cx="2953440" cy="220896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2808360" cy="1666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00720" y="620640"/>
            <a:ext cx="1657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9" idx="3"/>
            <a:endCxn id="110" idx="1"/>
          </p:cNvCxnSpPr>
          <p:nvPr/>
        </p:nvCxnSpPr>
        <p:spPr>
          <a:xfrm flipV="1">
            <a:off x="3348000" y="1269720"/>
            <a:ext cx="2953440" cy="4217040"/>
          </a:xfrm>
          <a:prstGeom prst="curvedConnector5">
            <a:avLst>
              <a:gd name="adj1" fmla="val 49932"/>
              <a:gd name="adj2" fmla="val 49995"/>
              <a:gd name="adj3" fmla="val 4993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Р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1942920" cy="16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084400" cy="154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196380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84720" y="5229360"/>
            <a:ext cx="2567160" cy="135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92360" y="3068640"/>
            <a:ext cx="22320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843280" y="5013360"/>
            <a:ext cx="237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0.12223 L 0.05902 -0.36366 E">
                                      <p:cBhvr>
                                        <p:cTn id="2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393 L -0.68906 0.01458 E">
                                      <p:cBhvr>
                                        <p:cTn id="3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7083 L -0.05087 -0.35439 E">
                                      <p:cBhvr>
                                        <p:cTn id="3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19202 -0.28148 E">
                                      <p:cBhvr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10995 L 0.73646 -0.12107 E">
                                      <p:cBhvr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1806 -0.3044 E">
                                      <p:cBhvr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1640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4032360" cy="602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2000" y="220500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9440" y="154944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10520" y="1549440"/>
            <a:ext cx="7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9306 L -0.17725 0.4081 E">
                                      <p:cBhvr>
                                        <p:cTn id="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10347 L 0.14705 0.4081 E">
                                      <p:cBhvr>
                                        <p:cTn id="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468360" y="6381360"/>
            <a:ext cx="8244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649680" cy="319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3789360"/>
            <a:ext cx="1224000" cy="1006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789360"/>
            <a:ext cx="1441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3789360"/>
            <a:ext cx="12956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0.08402 L -0.54341 0.24166 E">
                                      <p:cBhvr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7407E-006 L 0.26389 0.2206 E">
                                      <p:cBhvr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8402 L 0.25208 0.23101 E">
                                      <p:cBhvr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8:53:27Z</dcterms:created>
  <dc:creator>ACER</dc:creator>
  <dc:description/>
  <dc:language>en-US</dc:language>
  <cp:lastModifiedBy>ACER</cp:lastModifiedBy>
  <dcterms:modified xsi:type="dcterms:W3CDTF">2014-02-23T14:27:51Z</dcterms:modified>
  <cp:revision>6</cp:revision>
  <dc:subject/>
  <dc:title>Развитие фонематического слуха </dc:title>
</cp:coreProperties>
</file>