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622-13D9-4337-BA8D-6E75296B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215-FBA0-42EE-94AE-E2DBDF27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3F7-9254-467E-8AB1-9019837D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7BD-0EA0-4D46-A35D-BC7A0CE0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4A2-AF7A-471B-B56F-49CC64C6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4CA2-F65E-4594-A1AF-3CD87BC1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100-5949-4D48-8EAE-61B34F21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A696-4569-4695-BD7B-3C63780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562-900D-4247-A3B1-0CC22EE7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FAA-43F7-495A-A7D6-44F050F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B202-F3E6-446B-95DD-074BBC0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9CB-B06F-4605-A469-FCB7146B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F69-E5E9-4409-AA77-9A56351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9876-125B-4E46-A585-FF3E524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C5A-7D00-4E87-B331-261C17E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275-A39D-4A3F-BE6B-90FE9A5B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227-5AF4-4610-A128-787557C6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BEC-5B39-4709-B73E-931E935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BC5-C232-4700-918B-95B78C7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3AD-BB10-4140-BB09-50A656A9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174-4632-4841-AC3C-A5F48F5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B4E-B192-451F-AA5A-0362BF51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B41-6D3E-4694-B433-069FD5B5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3B9-135C-4DF3-A2CA-4D48CE7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080-0BDE-4A7F-9FA9-E7A8D32C0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4A78-3B93-4D49-B12E-5161BDE99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Развитие фонематического слуха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– логопед А. В. Тит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92360" cy="1957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880000" cy="1917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08560" y="779400"/>
            <a:ext cx="13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869000"/>
            <a:ext cx="15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2637000"/>
            <a:ext cx="1584360" cy="136836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263700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3"/>
            <a:endCxn id="105" idx="1"/>
          </p:cNvCxnSpPr>
          <p:nvPr/>
        </p:nvCxnSpPr>
        <p:spPr>
          <a:xfrm>
            <a:off x="3203640" y="1168200"/>
            <a:ext cx="3169440" cy="215316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3"/>
            <a:endCxn id="104" idx="1"/>
          </p:cNvCxnSpPr>
          <p:nvPr/>
        </p:nvCxnSpPr>
        <p:spPr>
          <a:xfrm>
            <a:off x="3419640" y="3308400"/>
            <a:ext cx="2953440" cy="2208960"/>
          </a:xfrm>
          <a:prstGeom prst="curvedConnector5">
            <a:avLst>
              <a:gd name="adj1" fmla="val 49993"/>
              <a:gd name="adj2" fmla="val 49991"/>
              <a:gd name="adj3" fmla="val 49993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2808360" cy="1666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00720" y="620640"/>
            <a:ext cx="1657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9" idx="3"/>
            <a:endCxn id="110" idx="1"/>
          </p:cNvCxnSpPr>
          <p:nvPr/>
        </p:nvCxnSpPr>
        <p:spPr>
          <a:xfrm flipV="1">
            <a:off x="3348000" y="1269720"/>
            <a:ext cx="2953440" cy="4217040"/>
          </a:xfrm>
          <a:prstGeom prst="curvedConnector5">
            <a:avLst>
              <a:gd name="adj1" fmla="val 49932"/>
              <a:gd name="adj2" fmla="val 49995"/>
              <a:gd name="adj3" fmla="val 49932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Р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1942920" cy="16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084400" cy="154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196380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084720" y="5229360"/>
            <a:ext cx="2567160" cy="135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92360" y="3068640"/>
            <a:ext cx="22320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843280" y="5013360"/>
            <a:ext cx="237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0.12223 L 0.05902 -0.36366 E">
                                      <p:cBhvr>
                                        <p:cTn id="2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393 L -0.68906 0.01458 E">
                                      <p:cBhvr>
                                        <p:cTn id="3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7083 L -0.05087 -0.35439 E">
                                      <p:cBhvr>
                                        <p:cTn id="3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0.19202 -0.28148 E">
                                      <p:cBhvr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10995 L 0.73646 -0.12107 E">
                                      <p:cBhvr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-0.11806 -0.3044 E">
                                      <p:cBhvr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1640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4032360" cy="602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2000" y="220500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9440" y="154944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10520" y="1549440"/>
            <a:ext cx="7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9306 L -0.17725 0.4081 E">
                                      <p:cBhvr>
                                        <p:cTn id="5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10347 L 0.14705 0.4081 E">
                                      <p:cBhvr>
                                        <p:cTn id="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468360" y="6381360"/>
            <a:ext cx="8244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649680" cy="319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3789360"/>
            <a:ext cx="1224000" cy="1006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789360"/>
            <a:ext cx="14414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3789360"/>
            <a:ext cx="129564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11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0.08402 L -0.54341 0.24166 E">
                                      <p:cBhvr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7407E-006 L 0.26389 0.2206 E">
                                      <p:cBhvr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8402 L 0.25208 0.23101 E">
                                      <p:cBhvr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8:53:27Z</dcterms:created>
  <dc:creator>ACER</dc:creator>
  <dc:description/>
  <dc:language>en-US</dc:language>
  <cp:lastModifiedBy>ACER</cp:lastModifiedBy>
  <dcterms:modified xsi:type="dcterms:W3CDTF">2014-02-23T14:27:51Z</dcterms:modified>
  <cp:revision>6</cp:revision>
  <dc:subject/>
  <dc:title>Развитие фонематического слуха </dc:title>
</cp:coreProperties>
</file>