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BC94-3A75-4AB5-A1AD-EED18C55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FAFE-215E-4E5A-A66E-7BE38B4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33B5-4270-49D7-9ED3-29C95877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AC8E-85D0-4328-9C0D-D638B88B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CCA6-96A4-4D1D-B7BD-9013B2F9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1ABB-E19C-4496-BA87-AAC7DB11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84D8-11CA-4295-BF8E-088A9D6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6A02-AF79-4A0C-9A69-C0173340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EC8-5A08-4C6C-A20F-7AF7A64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9CEE-2EE0-49D7-8004-A4C64DA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8A8-66B4-4103-A3BF-355755A1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FA31-5061-4095-BFA3-E7CAF05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05D3-5068-47C6-AB70-8B229B6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BAAF-C9B4-4A95-AB09-EFDC6BF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D77D-F058-4A71-85FF-52DD4AF2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0DB1-E012-4627-A871-78A0B8CE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EA6D-9E67-42B4-BD87-31389576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FC3E-2513-4EDF-8111-FA8073F9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F2F1-3C5A-476D-924A-345A80C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C9C2-8A81-4920-9154-B308608A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687D-CB8D-4EBE-BE84-5F8C1D59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1806-6B91-4E47-B37E-16DF061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4B86-5259-4D2D-BA8D-EE9961C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FF2B-EBE0-422D-B196-9F2C71A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745-5BE4-4463-AEEA-97A2769A7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1883-BA8E-468E-BE56-2F56A9D30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175400" y="866880"/>
            <a:ext cx="6793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ёлая улит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втоматизация звука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c]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Титова А. В. </a:t>
            </a:r>
            <a:br>
              <a:rPr sz="3600"/>
            </a:b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Учитель - логоп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583000" y="4535640"/>
            <a:ext cx="1199880" cy="71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5452920" y="4800600"/>
            <a:ext cx="797040" cy="8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2441520" y="2000160"/>
            <a:ext cx="71748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 rot="20885400">
            <a:off x="5979960" y="3089160"/>
            <a:ext cx="824040" cy="91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144360" y="2633760"/>
            <a:ext cx="900360" cy="110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7"/>
          <a:stretch/>
        </p:blipFill>
        <p:spPr>
          <a:xfrm>
            <a:off x="5680080" y="1889280"/>
            <a:ext cx="625320" cy="696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8"/>
          <a:stretch/>
        </p:blipFill>
        <p:spPr>
          <a:xfrm>
            <a:off x="4645080" y="776160"/>
            <a:ext cx="73656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9"/>
          <a:stretch/>
        </p:blipFill>
        <p:spPr>
          <a:xfrm>
            <a:off x="2774880" y="139680"/>
            <a:ext cx="1171800" cy="790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10"/>
          <a:stretch/>
        </p:blipFill>
        <p:spPr>
          <a:xfrm rot="18594000">
            <a:off x="1402920" y="470880"/>
            <a:ext cx="808200" cy="976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11"/>
          <a:stretch/>
        </p:blipFill>
        <p:spPr>
          <a:xfrm>
            <a:off x="293760" y="1384200"/>
            <a:ext cx="1068480" cy="99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12"/>
          <a:stretch/>
        </p:blipFill>
        <p:spPr>
          <a:xfrm>
            <a:off x="595440" y="4041720"/>
            <a:ext cx="98892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13"/>
          <a:stretch/>
        </p:blipFill>
        <p:spPr>
          <a:xfrm>
            <a:off x="1362240" y="4822920"/>
            <a:ext cx="1050840" cy="853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4"/>
          <a:stretch/>
        </p:blipFill>
        <p:spPr>
          <a:xfrm>
            <a:off x="2570040" y="5259240"/>
            <a:ext cx="1046160" cy="83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5"/>
          <a:stretch/>
        </p:blipFill>
        <p:spPr>
          <a:xfrm>
            <a:off x="4073400" y="5064120"/>
            <a:ext cx="90180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6"/>
          <a:stretch/>
        </p:blipFill>
        <p:spPr>
          <a:xfrm rot="774000">
            <a:off x="4943520" y="3701880"/>
            <a:ext cx="939600" cy="108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"/>
          <p:cNvPicPr/>
          <p:nvPr/>
        </p:nvPicPr>
        <p:blipFill>
          <a:blip r:embed="rId17"/>
          <a:stretch/>
        </p:blipFill>
        <p:spPr>
          <a:xfrm>
            <a:off x="4799160" y="2278080"/>
            <a:ext cx="976320" cy="911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"/>
          <p:cNvPicPr/>
          <p:nvPr/>
        </p:nvPicPr>
        <p:blipFill>
          <a:blip r:embed="rId18"/>
          <a:stretch/>
        </p:blipFill>
        <p:spPr>
          <a:xfrm>
            <a:off x="3732120" y="1224000"/>
            <a:ext cx="858960" cy="67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"/>
          <p:cNvPicPr/>
          <p:nvPr/>
        </p:nvPicPr>
        <p:blipFill>
          <a:blip r:embed="rId19"/>
          <a:stretch/>
        </p:blipFill>
        <p:spPr>
          <a:xfrm>
            <a:off x="1089000" y="2867040"/>
            <a:ext cx="800280" cy="93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"/>
          <p:cNvPicPr/>
          <p:nvPr/>
        </p:nvPicPr>
        <p:blipFill>
          <a:blip r:embed="rId20"/>
          <a:stretch/>
        </p:blipFill>
        <p:spPr>
          <a:xfrm>
            <a:off x="2701800" y="1044720"/>
            <a:ext cx="781200" cy="71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"/>
          <p:cNvPicPr/>
          <p:nvPr/>
        </p:nvPicPr>
        <p:blipFill>
          <a:blip r:embed="rId21"/>
          <a:stretch/>
        </p:blipFill>
        <p:spPr>
          <a:xfrm>
            <a:off x="1211400" y="1427040"/>
            <a:ext cx="1193760" cy="112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"/>
          <p:cNvPicPr/>
          <p:nvPr/>
        </p:nvPicPr>
        <p:blipFill>
          <a:blip r:embed="rId22"/>
          <a:stretch/>
        </p:blipFill>
        <p:spPr>
          <a:xfrm>
            <a:off x="2583000" y="3591000"/>
            <a:ext cx="1331640" cy="79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"/>
          <p:cNvPicPr/>
          <p:nvPr/>
        </p:nvPicPr>
        <p:blipFill>
          <a:blip r:embed="rId23"/>
          <a:stretch/>
        </p:blipFill>
        <p:spPr>
          <a:xfrm rot="2396400">
            <a:off x="3673440" y="2249640"/>
            <a:ext cx="1460520" cy="86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"/>
          <p:cNvPicPr/>
          <p:nvPr/>
        </p:nvPicPr>
        <p:blipFill>
          <a:blip r:embed="rId24"/>
          <a:stretch/>
        </p:blipFill>
        <p:spPr>
          <a:xfrm>
            <a:off x="1528920" y="4033800"/>
            <a:ext cx="892080" cy="84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"/>
          <p:cNvPicPr/>
          <p:nvPr/>
        </p:nvPicPr>
        <p:blipFill>
          <a:blip r:embed="rId25"/>
          <a:stretch/>
        </p:blipFill>
        <p:spPr>
          <a:xfrm>
            <a:off x="3805200" y="3678120"/>
            <a:ext cx="1030320" cy="80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"/>
          <p:cNvPicPr/>
          <p:nvPr/>
        </p:nvPicPr>
        <p:blipFill>
          <a:blip r:embed="rId26"/>
          <a:stretch/>
        </p:blipFill>
        <p:spPr>
          <a:xfrm>
            <a:off x="1936800" y="2965320"/>
            <a:ext cx="657000" cy="9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8:37:22Z</dcterms:created>
  <dc:creator>МДОУ</dc:creator>
  <dc:description/>
  <dc:language>en-US</dc:language>
  <cp:lastModifiedBy>ACER</cp:lastModifiedBy>
  <dcterms:modified xsi:type="dcterms:W3CDTF">2014-02-23T14:01:51Z</dcterms:modified>
  <cp:revision>8</cp:revision>
  <dc:subject/>
  <dc:title>Презентация PowerPoint</dc:title>
</cp:coreProperties>
</file>