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CE44-DA19-4E4D-BACA-B9D7F28E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954A2-7797-4026-9D30-99ADF137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AF1D6-E840-4FA8-90A5-8E7C96F7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0F68A-F248-415C-B7AB-4C150928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DD8F-62A6-4975-8B18-7B52963C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ED0F-3B6E-4DB1-9887-AF120335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0645-0275-4EB2-A239-00008596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5DDB-5FFB-43CF-AC3A-4959AB5A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7404-3D7E-495C-908D-414E3D08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E919-9AA2-4A47-9926-DDF4ECC5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0222-56D7-4078-AAFE-F9DE5949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40D54-B13A-4102-99A9-2221963A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1E3B-22ED-4066-8E8B-59DDC1C3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95CE-1EA9-47EF-BE26-103DAD35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5C22-FF36-495E-BAEE-D31FC0AD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DC54-9CD1-46CE-A0AA-178C7245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358F-4053-44DC-85BF-4710F947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4D082-6DC3-429C-B0B4-9EBBE7DD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AB36E-09ED-4CCF-B7CC-E85D5DE0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252AF-E46A-4625-9F71-7E723884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20218-5146-46FD-A67F-E98A8522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29D6-D3A1-44D5-A1A1-320A1449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D18E0-4767-46C0-A33F-BA0F081B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D731C-C09E-4A68-AEC4-A85F5B14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13E5-124F-4433-8E1B-ECCEE025BE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C117-EE3A-450F-BC48-A63CF4181D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175400" y="866880"/>
            <a:ext cx="67935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сёлая улит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автоматизация звука 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[c]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64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Титова А. В. </a:t>
            </a:r>
            <a:br>
              <a:rPr sz="3600"/>
            </a:b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Учитель - логоп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-108000" y="0"/>
            <a:ext cx="926784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2583000" y="4535640"/>
            <a:ext cx="1199880" cy="711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5452920" y="4800600"/>
            <a:ext cx="797040" cy="890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4"/>
          <a:stretch/>
        </p:blipFill>
        <p:spPr>
          <a:xfrm>
            <a:off x="2441520" y="2000160"/>
            <a:ext cx="717480" cy="762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5"/>
          <a:stretch/>
        </p:blipFill>
        <p:spPr>
          <a:xfrm rot="20885400">
            <a:off x="5979960" y="3089160"/>
            <a:ext cx="824040" cy="91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6"/>
          <a:stretch/>
        </p:blipFill>
        <p:spPr>
          <a:xfrm>
            <a:off x="144360" y="2633760"/>
            <a:ext cx="900360" cy="1109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"/>
          <p:cNvPicPr/>
          <p:nvPr/>
        </p:nvPicPr>
        <p:blipFill>
          <a:blip r:embed="rId7"/>
          <a:stretch/>
        </p:blipFill>
        <p:spPr>
          <a:xfrm>
            <a:off x="5680080" y="1889280"/>
            <a:ext cx="625320" cy="696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"/>
          <p:cNvPicPr/>
          <p:nvPr/>
        </p:nvPicPr>
        <p:blipFill>
          <a:blip r:embed="rId8"/>
          <a:stretch/>
        </p:blipFill>
        <p:spPr>
          <a:xfrm>
            <a:off x="4645080" y="776160"/>
            <a:ext cx="736560" cy="78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"/>
          <p:cNvPicPr/>
          <p:nvPr/>
        </p:nvPicPr>
        <p:blipFill>
          <a:blip r:embed="rId9"/>
          <a:stretch/>
        </p:blipFill>
        <p:spPr>
          <a:xfrm>
            <a:off x="2774880" y="139680"/>
            <a:ext cx="1171800" cy="790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"/>
          <p:cNvPicPr/>
          <p:nvPr/>
        </p:nvPicPr>
        <p:blipFill>
          <a:blip r:embed="rId10"/>
          <a:stretch/>
        </p:blipFill>
        <p:spPr>
          <a:xfrm rot="18594000">
            <a:off x="1402920" y="470880"/>
            <a:ext cx="808200" cy="976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"/>
          <p:cNvPicPr/>
          <p:nvPr/>
        </p:nvPicPr>
        <p:blipFill>
          <a:blip r:embed="rId11"/>
          <a:stretch/>
        </p:blipFill>
        <p:spPr>
          <a:xfrm>
            <a:off x="293760" y="1384200"/>
            <a:ext cx="1068480" cy="99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"/>
          <p:cNvPicPr/>
          <p:nvPr/>
        </p:nvPicPr>
        <p:blipFill>
          <a:blip r:embed="rId12"/>
          <a:stretch/>
        </p:blipFill>
        <p:spPr>
          <a:xfrm>
            <a:off x="595440" y="4041720"/>
            <a:ext cx="988920" cy="987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13"/>
          <a:stretch/>
        </p:blipFill>
        <p:spPr>
          <a:xfrm>
            <a:off x="1362240" y="4822920"/>
            <a:ext cx="1050840" cy="853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"/>
          <p:cNvPicPr/>
          <p:nvPr/>
        </p:nvPicPr>
        <p:blipFill>
          <a:blip r:embed="rId14"/>
          <a:stretch/>
        </p:blipFill>
        <p:spPr>
          <a:xfrm>
            <a:off x="2570040" y="5259240"/>
            <a:ext cx="1046160" cy="835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"/>
          <p:cNvPicPr/>
          <p:nvPr/>
        </p:nvPicPr>
        <p:blipFill>
          <a:blip r:embed="rId15"/>
          <a:stretch/>
        </p:blipFill>
        <p:spPr>
          <a:xfrm>
            <a:off x="4073400" y="5064120"/>
            <a:ext cx="901800" cy="70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"/>
          <p:cNvPicPr/>
          <p:nvPr/>
        </p:nvPicPr>
        <p:blipFill>
          <a:blip r:embed="rId16"/>
          <a:stretch/>
        </p:blipFill>
        <p:spPr>
          <a:xfrm rot="774000">
            <a:off x="4943520" y="3701880"/>
            <a:ext cx="939600" cy="1086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"/>
          <p:cNvPicPr/>
          <p:nvPr/>
        </p:nvPicPr>
        <p:blipFill>
          <a:blip r:embed="rId17"/>
          <a:stretch/>
        </p:blipFill>
        <p:spPr>
          <a:xfrm>
            <a:off x="4799160" y="2278080"/>
            <a:ext cx="976320" cy="911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"/>
          <p:cNvPicPr/>
          <p:nvPr/>
        </p:nvPicPr>
        <p:blipFill>
          <a:blip r:embed="rId18"/>
          <a:stretch/>
        </p:blipFill>
        <p:spPr>
          <a:xfrm>
            <a:off x="3732120" y="1224000"/>
            <a:ext cx="858960" cy="67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"/>
          <p:cNvPicPr/>
          <p:nvPr/>
        </p:nvPicPr>
        <p:blipFill>
          <a:blip r:embed="rId19"/>
          <a:stretch/>
        </p:blipFill>
        <p:spPr>
          <a:xfrm>
            <a:off x="1089000" y="2867040"/>
            <a:ext cx="800280" cy="931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"/>
          <p:cNvPicPr/>
          <p:nvPr/>
        </p:nvPicPr>
        <p:blipFill>
          <a:blip r:embed="rId20"/>
          <a:stretch/>
        </p:blipFill>
        <p:spPr>
          <a:xfrm>
            <a:off x="2701800" y="1044720"/>
            <a:ext cx="781200" cy="717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"/>
          <p:cNvPicPr/>
          <p:nvPr/>
        </p:nvPicPr>
        <p:blipFill>
          <a:blip r:embed="rId21"/>
          <a:stretch/>
        </p:blipFill>
        <p:spPr>
          <a:xfrm>
            <a:off x="1211400" y="1427040"/>
            <a:ext cx="1193760" cy="1123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"/>
          <p:cNvPicPr/>
          <p:nvPr/>
        </p:nvPicPr>
        <p:blipFill>
          <a:blip r:embed="rId22"/>
          <a:stretch/>
        </p:blipFill>
        <p:spPr>
          <a:xfrm>
            <a:off x="2583000" y="3591000"/>
            <a:ext cx="1331640" cy="79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"/>
          <p:cNvPicPr/>
          <p:nvPr/>
        </p:nvPicPr>
        <p:blipFill>
          <a:blip r:embed="rId23"/>
          <a:stretch/>
        </p:blipFill>
        <p:spPr>
          <a:xfrm rot="2396400">
            <a:off x="3673440" y="2249640"/>
            <a:ext cx="1460520" cy="869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"/>
          <p:cNvPicPr/>
          <p:nvPr/>
        </p:nvPicPr>
        <p:blipFill>
          <a:blip r:embed="rId24"/>
          <a:stretch/>
        </p:blipFill>
        <p:spPr>
          <a:xfrm>
            <a:off x="1528920" y="4033800"/>
            <a:ext cx="892080" cy="846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"/>
          <p:cNvPicPr/>
          <p:nvPr/>
        </p:nvPicPr>
        <p:blipFill>
          <a:blip r:embed="rId25"/>
          <a:stretch/>
        </p:blipFill>
        <p:spPr>
          <a:xfrm>
            <a:off x="3805200" y="3678120"/>
            <a:ext cx="1030320" cy="806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"/>
          <p:cNvPicPr/>
          <p:nvPr/>
        </p:nvPicPr>
        <p:blipFill>
          <a:blip r:embed="rId26"/>
          <a:stretch/>
        </p:blipFill>
        <p:spPr>
          <a:xfrm>
            <a:off x="1936800" y="2965320"/>
            <a:ext cx="657000" cy="9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08:37:22Z</dcterms:created>
  <dc:creator>МДОУ</dc:creator>
  <dc:description/>
  <dc:language>en-US</dc:language>
  <cp:lastModifiedBy>ACER</cp:lastModifiedBy>
  <dcterms:modified xsi:type="dcterms:W3CDTF">2014-02-23T14:01:51Z</dcterms:modified>
  <cp:revision>8</cp:revision>
  <dc:subject/>
  <dc:title>Презентация PowerPoint</dc:title>
</cp:coreProperties>
</file>