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3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25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2FBA-B7C7-418B-931D-C29DF5BBD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E5F4-2E01-44BF-9B54-7CC43D49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BD5C-FE72-4071-85B2-AB169441F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883D-D91C-451B-9D82-78C24D9B5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1326-940B-4FF3-9F33-EBD242A5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FA12-84AB-42A6-8542-648651BB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865D-00AF-49F3-A00C-6D2B7A81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4DC4-EE65-4DBB-BB99-11826488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BC1B-8E51-4E8A-A344-A33D44E7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AB2B-647B-48A7-9CBF-0807EE24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7628-E9F5-4E22-8A0B-E3346377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854A-6624-4AA5-8B7B-88F8CC30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9F41-65C9-4678-B177-7EE72542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CDF9-5EFD-4910-B7B7-67A10367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6BE3-42A2-4232-BFBD-F6AEEC63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6E85-7BB1-4F29-B4AF-C6E418771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7B6C-0783-4DE9-AF06-66688607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74529-EC04-4788-81C9-143461EB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FEB3C-03B0-42D8-AA46-F0C4DB88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BAC2B-FE26-410C-A9C1-CAADF000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3CC07-FC9E-421E-A677-01DA2990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46C2C-3917-4659-A747-1C38ADD5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81B5-E1CA-4C6F-AEED-876F4F3D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1BCDC-D14F-4587-8C59-CC2B2BFB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6D51F-03EF-4040-BFE5-016BBD35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9D5F8-2ED8-4209-B702-1147D6C9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EC067-96B0-43DC-A2B5-4998732A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C39C5-1D97-461F-A275-7B45BD4F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C89F8-DA69-4254-95AF-85380CCD2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0796A-B37A-4755-A40C-F3802374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93CE3-7E83-482B-B48C-39C65B8E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A50CE-C694-44ED-B303-C9351E6F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707A2-A599-45C6-8573-E5D7A214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38C1-F13D-4A87-A1D9-1B7E6CEB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321F9-A04B-43A9-B283-E7C87F39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C8797-E86E-4BEA-9C64-4E17E55C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D6095-D4BD-4E04-A3BC-4DA0506D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B6DCD-C06C-47C0-AF79-C0B76BB1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19A0D-DE6C-4C2B-BB25-230A1994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1EF89-892C-49EB-9A15-810DA1FA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197B5-B2F3-4AE5-BB8E-E7BE89F1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FC4DA-7629-4352-9190-1017C14FE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D65E2-CEC5-467F-99A8-CE1D81688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C7778-9D31-49DF-84FE-3CF0426C8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788C-3127-4D5B-A2A9-AE629EF5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17C6D-C9C3-4E69-9B84-043A6C48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B9E2F-58A6-42F2-826E-48D06465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EBB33-2AB5-4D33-B440-3917DC88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91E46-5BF4-4489-93B1-C4D77C1C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97735-6544-4004-AB9B-E9B7CABA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C07A5-17A9-4454-8C89-4B2825EA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23828-83AE-40ED-A70E-768AD648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7F798-1E65-4479-8966-A8C67D88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1B057-40B1-46BE-A525-55CA09D5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720E3-F633-48DA-B0CB-0D105925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3F46-6CE3-4731-8332-C84FFB3D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459FD-815E-456A-B253-31F125B49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9441-3564-4FFD-846B-CD8161B5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FB58-A9FF-421D-945B-A086A2C1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A05D-1386-48E4-80A8-F03C642D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17FD-7204-4C5E-8072-52DBBFAA2C08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5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8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E75B-CBBF-428B-88B5-8CCF8FFC71B6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3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05CC-D884-42D4-A558-B1746AC01993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C94E-EA35-46DD-9B11-A1AB990A9D38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83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893C-44A1-4BAD-8F18-8BCAB589013E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31840" y="-219240"/>
            <a:ext cx="9045360" cy="46324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071680" y="5572080"/>
            <a:ext cx="378612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rebuchet MS"/>
              </a:rPr>
              <a:t>Учитель ИЗО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rebuchet MS"/>
              </a:rPr>
              <a:t>Шаньшерова М.М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Горизонтальный свиток 3"/>
          <p:cNvSpPr/>
          <p:nvPr/>
        </p:nvSpPr>
        <p:spPr>
          <a:xfrm rot="21018600">
            <a:off x="81000" y="866520"/>
            <a:ext cx="8107200" cy="4195800"/>
          </a:xfrm>
          <a:prstGeom prst="horizontalScroll">
            <a:avLst>
              <a:gd name="adj" fmla="val 125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828720" y="1152360"/>
            <a:ext cx="73404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2" descr=""/>
          <p:cNvPicPr/>
          <p:nvPr/>
        </p:nvPicPr>
        <p:blipFill>
          <a:blip r:embed="rId1"/>
          <a:stretch/>
        </p:blipFill>
        <p:spPr>
          <a:xfrm>
            <a:off x="-92160" y="103320"/>
            <a:ext cx="8169480" cy="1116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285840" y="1213920"/>
            <a:ext cx="741024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По целевому назначению различают следующие</a:t>
            </a: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 виды </a:t>
            </a: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архитектуры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Схема 3" descr=""/>
          <p:cNvPicPr/>
          <p:nvPr/>
        </p:nvPicPr>
        <p:blipFill>
          <a:blip r:embed="rId2"/>
          <a:stretch/>
        </p:blipFill>
        <p:spPr>
          <a:xfrm>
            <a:off x="-23760" y="2120760"/>
            <a:ext cx="812484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-176040" y="-103320"/>
            <a:ext cx="8538840" cy="8953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324000" y="1125000"/>
            <a:ext cx="731016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Частный д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Рисунок 3" descr="487444.jpg"/>
          <p:cNvPicPr/>
          <p:nvPr/>
        </p:nvPicPr>
        <p:blipFill>
          <a:blip r:embed="rId2"/>
          <a:stretch/>
        </p:blipFill>
        <p:spPr>
          <a:xfrm>
            <a:off x="108000" y="1844640"/>
            <a:ext cx="3997440" cy="2998800"/>
          </a:xfrm>
          <a:prstGeom prst="rect">
            <a:avLst/>
          </a:prstGeom>
          <a:ln w="0">
            <a:noFill/>
          </a:ln>
        </p:spPr>
      </p:pic>
      <p:pic>
        <p:nvPicPr>
          <p:cNvPr id="234" name="Содержимое 3" descr="9etdom07a.jpg"/>
          <p:cNvPicPr/>
          <p:nvPr/>
        </p:nvPicPr>
        <p:blipFill>
          <a:blip r:embed="rId3"/>
          <a:srcRect l="0" t="0" r="14665" b="0"/>
          <a:stretch/>
        </p:blipFill>
        <p:spPr>
          <a:xfrm>
            <a:off x="4500720" y="2421000"/>
            <a:ext cx="4464000" cy="4132080"/>
          </a:xfrm>
          <a:prstGeom prst="rect">
            <a:avLst/>
          </a:prstGeom>
          <a:ln w="0">
            <a:noFill/>
          </a:ln>
        </p:spPr>
      </p:pic>
      <p:sp>
        <p:nvSpPr>
          <p:cNvPr id="235" name="TextBox 5"/>
          <p:cNvSpPr/>
          <p:nvPr/>
        </p:nvSpPr>
        <p:spPr>
          <a:xfrm>
            <a:off x="4448880" y="1844640"/>
            <a:ext cx="427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лищная архитектура. Жилой 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-171360" y="73080"/>
            <a:ext cx="8181720" cy="1146240"/>
          </a:xfrm>
          <a:prstGeom prst="rect">
            <a:avLst/>
          </a:prstGeom>
          <a:ln w="0">
            <a:noFill/>
          </a:ln>
        </p:spPr>
      </p:pic>
      <p:pic>
        <p:nvPicPr>
          <p:cNvPr id="237" name="Содержимое 3" descr="big_1182222405_2006-10-30-9880554699.jpg"/>
          <p:cNvPicPr/>
          <p:nvPr/>
        </p:nvPicPr>
        <p:blipFill>
          <a:blip r:embed="rId2"/>
          <a:stretch/>
        </p:blipFill>
        <p:spPr>
          <a:xfrm>
            <a:off x="2050920" y="1989000"/>
            <a:ext cx="5712120" cy="4272120"/>
          </a:xfrm>
          <a:prstGeom prst="rect">
            <a:avLst/>
          </a:prstGeom>
          <a:ln w="0">
            <a:noFill/>
          </a:ln>
        </p:spPr>
      </p:pic>
      <p:sp>
        <p:nvSpPr>
          <p:cNvPr id="238" name="TextBox 4"/>
          <p:cNvSpPr/>
          <p:nvPr/>
        </p:nvSpPr>
        <p:spPr>
          <a:xfrm>
            <a:off x="0" y="4786200"/>
            <a:ext cx="178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Зав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Металлоконст-рук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-171360" y="-6480"/>
            <a:ext cx="8534160" cy="9399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0" y="1052640"/>
            <a:ext cx="769608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Киевский вокзал. Москва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1" name="Рисунок 4" descr="0_1811d_5f09c80f_-2-S.jpeg"/>
          <p:cNvPicPr/>
          <p:nvPr/>
        </p:nvPicPr>
        <p:blipFill>
          <a:blip r:embed="rId2"/>
          <a:stretch/>
        </p:blipFill>
        <p:spPr>
          <a:xfrm>
            <a:off x="179280" y="1484280"/>
            <a:ext cx="2986200" cy="2092320"/>
          </a:xfrm>
          <a:prstGeom prst="rect">
            <a:avLst/>
          </a:prstGeom>
          <a:ln w="0">
            <a:noFill/>
          </a:ln>
        </p:spPr>
      </p:pic>
      <p:pic>
        <p:nvPicPr>
          <p:cNvPr id="242" name="Содержимое 3" descr="800px-Moscow_Bolshoi_Theatre.jpg"/>
          <p:cNvPicPr/>
          <p:nvPr/>
        </p:nvPicPr>
        <p:blipFill>
          <a:blip r:embed="rId3"/>
          <a:stretch/>
        </p:blipFill>
        <p:spPr>
          <a:xfrm>
            <a:off x="3276720" y="2997360"/>
            <a:ext cx="5689440" cy="3646440"/>
          </a:xfrm>
          <a:prstGeom prst="rect">
            <a:avLst/>
          </a:prstGeom>
          <a:ln w="0">
            <a:noFill/>
          </a:ln>
        </p:spPr>
      </p:pic>
      <p:sp>
        <p:nvSpPr>
          <p:cNvPr id="243" name="TextBox 6"/>
          <p:cNvSpPr/>
          <p:nvPr/>
        </p:nvSpPr>
        <p:spPr>
          <a:xfrm>
            <a:off x="3290040" y="2276640"/>
            <a:ext cx="34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ственные соору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ой театр. Мос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-171360" y="85680"/>
            <a:ext cx="8181720" cy="1206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5076720" y="1413000"/>
            <a:ext cx="28800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Фонтан.Ташкент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Рисунок 3" descr="0ebbce577c61.jpg"/>
          <p:cNvPicPr/>
          <p:nvPr/>
        </p:nvPicPr>
        <p:blipFill>
          <a:blip r:embed="rId2"/>
          <a:stretch/>
        </p:blipFill>
        <p:spPr>
          <a:xfrm>
            <a:off x="3222720" y="2060640"/>
            <a:ext cx="5921280" cy="4259160"/>
          </a:xfrm>
          <a:prstGeom prst="rect">
            <a:avLst/>
          </a:prstGeom>
          <a:ln w="0">
            <a:noFill/>
          </a:ln>
        </p:spPr>
      </p:pic>
      <p:pic>
        <p:nvPicPr>
          <p:cNvPr id="247" name="Содержимое 3" descr="raznoe-011.jpg"/>
          <p:cNvPicPr/>
          <p:nvPr/>
        </p:nvPicPr>
        <p:blipFill>
          <a:blip r:embed="rId3"/>
          <a:srcRect l="0" t="0" r="0" b="18507"/>
          <a:stretch/>
        </p:blipFill>
        <p:spPr>
          <a:xfrm>
            <a:off x="0" y="3429000"/>
            <a:ext cx="3062160" cy="1871640"/>
          </a:xfrm>
          <a:prstGeom prst="rect">
            <a:avLst/>
          </a:prstGeom>
          <a:ln w="0">
            <a:noFill/>
          </a:ln>
        </p:spPr>
      </p:pic>
      <p:sp>
        <p:nvSpPr>
          <p:cNvPr id="248" name="TextBox 5"/>
          <p:cNvSpPr/>
          <p:nvPr/>
        </p:nvSpPr>
        <p:spPr>
          <a:xfrm>
            <a:off x="183960" y="306864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есе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171360" y="-6480"/>
            <a:ext cx="7534440" cy="513000"/>
          </a:xfrm>
          <a:prstGeom prst="rect">
            <a:avLst/>
          </a:prstGeom>
          <a:ln w="0">
            <a:noFill/>
          </a:ln>
        </p:spPr>
      </p:pic>
      <p:pic>
        <p:nvPicPr>
          <p:cNvPr id="250" name="Содержимое 3" descr="skver-alexpark-1.jpg"/>
          <p:cNvPicPr/>
          <p:nvPr/>
        </p:nvPicPr>
        <p:blipFill>
          <a:blip r:embed="rId2"/>
          <a:stretch/>
        </p:blipFill>
        <p:spPr>
          <a:xfrm>
            <a:off x="1033560" y="785880"/>
            <a:ext cx="79311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-171360" y="-6480"/>
            <a:ext cx="8394480" cy="12258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0" y="1214280"/>
            <a:ext cx="7696080" cy="531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Мемориальный музей Суворов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3" name="Рисунок 3" descr="515129.jpg"/>
          <p:cNvPicPr/>
          <p:nvPr/>
        </p:nvPicPr>
        <p:blipFill>
          <a:blip r:embed="rId2"/>
          <a:stretch/>
        </p:blipFill>
        <p:spPr>
          <a:xfrm>
            <a:off x="1000080" y="1571760"/>
            <a:ext cx="785808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103320" y="158760"/>
            <a:ext cx="7602480" cy="669960"/>
          </a:xfrm>
          <a:prstGeom prst="rect">
            <a:avLst/>
          </a:prstGeom>
          <a:ln w="0">
            <a:noFill/>
          </a:ln>
        </p:spPr>
      </p:pic>
      <p:pic>
        <p:nvPicPr>
          <p:cNvPr id="255" name="Содержимое 4" descr="800px-Vechnii_ogon-1.jpg"/>
          <p:cNvPicPr/>
          <p:nvPr/>
        </p:nvPicPr>
        <p:blipFill>
          <a:blip r:embed="rId2"/>
          <a:stretch/>
        </p:blipFill>
        <p:spPr>
          <a:xfrm>
            <a:off x="785880" y="928800"/>
            <a:ext cx="768672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07:06:42Z</dcterms:created>
  <dc:creator>Zver</dc:creator>
  <dc:description/>
  <dc:language>en-US</dc:language>
  <cp:lastModifiedBy>й</cp:lastModifiedBy>
  <dcterms:modified xsi:type="dcterms:W3CDTF">2014-10-01T06:45:03Z</dcterms:modified>
  <cp:revision>12</cp:revision>
  <dc:subject/>
  <dc:title>Виды Архитектуры.</dc:title>
</cp:coreProperties>
</file>