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4.jpeg" ContentType="image/jpeg"/>
  <Override PartName="/ppt/media/image23.png" ContentType="image/png"/>
  <Override PartName="/ppt/media/image20.jpeg" ContentType="image/jpeg"/>
  <Override PartName="/ppt/media/image15.jpeg" ContentType="image/jpeg"/>
  <Override PartName="/ppt/media/image21.png" ContentType="image/png"/>
  <Override PartName="/ppt/media/image19.png" ContentType="image/png"/>
  <Override PartName="/ppt/media/image18.jpeg" ContentType="image/jpeg"/>
  <Override PartName="/ppt/media/image16.png" ContentType="image/png"/>
  <Override PartName="/ppt/media/image25.png" ContentType="image/png"/>
  <Override PartName="/ppt/media/image2.png" ContentType="image/png"/>
  <Override PartName="/ppt/media/image9.jpeg" ContentType="image/jpeg"/>
  <Override PartName="/ppt/media/image17.jpeg" ContentType="image/jpeg"/>
  <Override PartName="/ppt/media/image3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E5FBC-55E5-4609-881D-E85ADDE65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FB852-28AE-4868-A153-A21499A5A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D267D-51EB-40BC-83AC-2425B2C76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46432-DF18-4304-9BE0-CC76AEFC2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D4749-49C3-4CAF-907A-F3068C687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18498-6B30-488F-961C-5F144364D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D9895-E94F-4008-8AB4-5CEC5DEC9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B555B-A8A1-47B9-8F21-130BE262E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75E12-B750-400E-8438-B26C17258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5DE62-436B-4583-AD5B-245A13442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7DB18-A5E9-44F4-8A3F-1D385AD58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F74D9-22C0-41AE-96B5-EAEDD6A87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7A7A9-9AC7-4768-A576-9E2CC21F5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E3DB1-F176-478F-8170-638C43064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13B0C-0B9B-4613-ABBA-8A2CFB20B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B7B9E-B58F-41C1-9663-EE157C1B8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5C2C2-A073-4E27-BA80-619EE43D8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48B8EB-F8EC-4930-BA1C-741D69C28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3AEA67-13F3-42D0-A9C5-5AF996A30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78DCB1-8761-41E6-9276-A08A7E8E1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859448-C023-488C-BE34-6198E74AB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DBDC93-06E7-4A99-B54F-307705BEB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DA41F-3F48-4CF4-B1C3-B8EBAD53B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A8FEC6-2E96-473E-AE6A-F0AF06832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7C74B1-8506-457A-9851-120EF59D8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184E97-3F00-404D-8FEE-ACB03591E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35D338-6368-47B2-8F33-09E27D287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EA7D03-28BA-4E07-AAE0-369F482B6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542048-7479-4F9B-9F2F-D53261E00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EEEAA7-9D99-47BC-A34D-49E97E25E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EEED8B-02C6-40C1-B1CE-3F04E5CEA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A714C1-30E7-47B6-B209-4FCD6B9A8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8A45F1-BC95-4148-B97C-CBBA3A399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182F5-C086-4013-8FFD-2E0D2FA47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90F0A5-C010-43BC-A1F2-6B4C50B67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D54225-84A4-4B46-8BB2-810BC7F42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1314AE-C5C6-4225-A23D-77249821F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868612-1CE5-4B2E-97EC-4585723BB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26AFFE-DB83-42CB-BBFE-E426FE6D4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4A2C89-83FD-4173-8EA8-7FA475078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18BE18-D31E-4F2B-AE5E-AC28F054F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FA27B1-7A3B-464D-A985-73C5EAD6F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CDA416-CCC5-49CC-BB8C-36A61C92C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2442C5-FED7-4F25-852B-498295B1D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E7B38-E760-4426-A0B4-438C8406D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C0525A-3C66-4F1E-8466-F1014D372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EF899F-7ADF-4ED4-95EB-72BF2D2EF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4DD4F3-E7D5-49E0-914D-5F6FFB0AE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28A70C-01A6-4E98-AB7B-C1C2D72F7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C1E313-313A-4C6B-B2EA-B0DEEDCBA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2313C4-7E90-4B8D-9925-3DAA2DDEC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40A125-CBF1-4F8B-8883-DCBFC4C5D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CC8BD3-4CD6-4477-89B3-67E51E9F2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2B0D0C-31AA-4DA2-9652-7B51EECC1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D5F8A2-75DB-4140-BA31-67620D678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D318A-D169-499C-81D2-7581A735E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777566-FA04-4044-AF0D-94F0FC3FE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C6939-4ECE-43AB-90BC-75D476E53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3340D-3B48-40A1-BBBD-6D416B690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E7A87-EF26-468F-B3B4-69950F550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FDCD3-82A5-4F89-BFFD-BEFD1020A3F9}" type="slidenum">
              <a:rPr b="0" lang="ru-RU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45" name="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" name="Прямоугольник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8" name="Прямоугольник 7" descr=""/>
            <p:cNvPicPr/>
            <p:nvPr/>
          </p:nvPicPr>
          <p:blipFill>
            <a:blip r:embed="rId4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0AA25-F91F-41B1-9CD6-DC8C66134FF1}" type="slidenum">
              <a:rPr b="0" lang="ru-RU" sz="11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3" name="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5772C-B6A6-4C40-B831-B711FD782A9A}" type="slidenum">
              <a:rPr b="0" lang="ru-RU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37" name="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4e7ed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41F09-5139-49E7-AA74-37817324A3C4}" type="slidenum">
              <a:rPr b="0" lang="ru-RU" sz="1100" spc="-1" strike="noStrike">
                <a:solidFill>
                  <a:srgbClr val="f4e7ed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2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83" name="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92693-07BE-4295-8E97-4D9F885C8D5F}" type="slidenum">
              <a:rPr b="0" lang="ru-RU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Заголовок 1" descr=""/>
          <p:cNvPicPr/>
          <p:nvPr/>
        </p:nvPicPr>
        <p:blipFill>
          <a:blip r:embed="rId1"/>
          <a:stretch/>
        </p:blipFill>
        <p:spPr>
          <a:xfrm>
            <a:off x="231840" y="-219240"/>
            <a:ext cx="9045360" cy="46324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5071680" y="5572080"/>
            <a:ext cx="3786120" cy="1000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ffff"/>
                </a:solidFill>
                <a:latin typeface="Trebuchet MS"/>
              </a:rPr>
              <a:t>Учитель ИЗО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ffff"/>
                </a:solidFill>
                <a:latin typeface="Trebuchet MS"/>
              </a:rPr>
              <a:t>Шаньшерова М.М.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9,102,-8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34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9,102,-8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34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Горизонтальный свиток 3"/>
          <p:cNvSpPr/>
          <p:nvPr/>
        </p:nvSpPr>
        <p:spPr>
          <a:xfrm rot="21018600">
            <a:off x="81000" y="866520"/>
            <a:ext cx="8107200" cy="4195800"/>
          </a:xfrm>
          <a:prstGeom prst="horizontalScroll">
            <a:avLst>
              <a:gd name="adj" fmla="val 12500"/>
            </a:avLst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Заголовок 1" descr=""/>
          <p:cNvPicPr/>
          <p:nvPr/>
        </p:nvPicPr>
        <p:blipFill>
          <a:blip r:embed="rId1"/>
          <a:stretch/>
        </p:blipFill>
        <p:spPr>
          <a:xfrm>
            <a:off x="828720" y="1152360"/>
            <a:ext cx="734040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7" dur="80"/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9,102,-8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34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8" dur="80"/>
                                        <p:tgtEl>
                                          <p:spTgt spid="2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9,102,-8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34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" dur="80"/>
                                        <p:tgtEl>
                                          <p:spTgt spid="2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Заголовок 2" descr=""/>
          <p:cNvPicPr/>
          <p:nvPr/>
        </p:nvPicPr>
        <p:blipFill>
          <a:blip r:embed="rId1"/>
          <a:stretch/>
        </p:blipFill>
        <p:spPr>
          <a:xfrm>
            <a:off x="-92160" y="103320"/>
            <a:ext cx="8169480" cy="111600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 txBox="1"/>
          <p:nvPr/>
        </p:nvSpPr>
        <p:spPr>
          <a:xfrm>
            <a:off x="285840" y="1213920"/>
            <a:ext cx="7410240" cy="524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Trebuchet MS"/>
              </a:rPr>
              <a:t>По целевому назначению различают следующие</a:t>
            </a:r>
            <a:r>
              <a:rPr b="1" i="1" lang="ru-RU" sz="3200" spc="-1" strike="noStrike">
                <a:solidFill>
                  <a:srgbClr val="000000"/>
                </a:solidFill>
                <a:latin typeface="Trebuchet MS"/>
              </a:rPr>
              <a:t> виды </a:t>
            </a:r>
            <a:r>
              <a:rPr b="1" i="1" lang="ru-RU" sz="2600" spc="-1" strike="noStrike">
                <a:solidFill>
                  <a:srgbClr val="000000"/>
                </a:solidFill>
                <a:latin typeface="Trebuchet MS"/>
              </a:rPr>
              <a:t>архитектуры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0" name="Схема 3" descr=""/>
          <p:cNvPicPr/>
          <p:nvPr/>
        </p:nvPicPr>
        <p:blipFill>
          <a:blip r:embed="rId2"/>
          <a:stretch/>
        </p:blipFill>
        <p:spPr>
          <a:xfrm>
            <a:off x="-23760" y="2120760"/>
            <a:ext cx="8124840" cy="45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Заголовок 1" descr=""/>
          <p:cNvPicPr/>
          <p:nvPr/>
        </p:nvPicPr>
        <p:blipFill>
          <a:blip r:embed="rId1"/>
          <a:stretch/>
        </p:blipFill>
        <p:spPr>
          <a:xfrm>
            <a:off x="-176040" y="-103320"/>
            <a:ext cx="8538840" cy="89532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324000" y="1125000"/>
            <a:ext cx="7310160" cy="531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rebuchet MS"/>
              </a:rPr>
              <a:t>Частный дом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3" name="Рисунок 3" descr="487444.jpg"/>
          <p:cNvPicPr/>
          <p:nvPr/>
        </p:nvPicPr>
        <p:blipFill>
          <a:blip r:embed="rId2"/>
          <a:stretch/>
        </p:blipFill>
        <p:spPr>
          <a:xfrm>
            <a:off x="108000" y="1844640"/>
            <a:ext cx="3997440" cy="2998800"/>
          </a:xfrm>
          <a:prstGeom prst="rect">
            <a:avLst/>
          </a:prstGeom>
          <a:ln w="0">
            <a:noFill/>
          </a:ln>
        </p:spPr>
      </p:pic>
      <p:pic>
        <p:nvPicPr>
          <p:cNvPr id="234" name="Содержимое 3" descr="9etdom07a.jpg"/>
          <p:cNvPicPr/>
          <p:nvPr/>
        </p:nvPicPr>
        <p:blipFill>
          <a:blip r:embed="rId3"/>
          <a:srcRect l="0" t="0" r="14665" b="0"/>
          <a:stretch/>
        </p:blipFill>
        <p:spPr>
          <a:xfrm>
            <a:off x="4500720" y="2421000"/>
            <a:ext cx="4464000" cy="4132080"/>
          </a:xfrm>
          <a:prstGeom prst="rect">
            <a:avLst/>
          </a:prstGeom>
          <a:ln w="0">
            <a:noFill/>
          </a:ln>
        </p:spPr>
      </p:pic>
      <p:sp>
        <p:nvSpPr>
          <p:cNvPr id="235" name="TextBox 5"/>
          <p:cNvSpPr/>
          <p:nvPr/>
        </p:nvSpPr>
        <p:spPr>
          <a:xfrm>
            <a:off x="4448880" y="1844640"/>
            <a:ext cx="427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Жилищная архитектура. Жилой д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3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Заголовок 1" descr=""/>
          <p:cNvPicPr/>
          <p:nvPr/>
        </p:nvPicPr>
        <p:blipFill>
          <a:blip r:embed="rId1"/>
          <a:stretch/>
        </p:blipFill>
        <p:spPr>
          <a:xfrm>
            <a:off x="-171360" y="73080"/>
            <a:ext cx="8181720" cy="1146240"/>
          </a:xfrm>
          <a:prstGeom prst="rect">
            <a:avLst/>
          </a:prstGeom>
          <a:ln w="0">
            <a:noFill/>
          </a:ln>
        </p:spPr>
      </p:pic>
      <p:pic>
        <p:nvPicPr>
          <p:cNvPr id="237" name="Содержимое 3" descr="big_1182222405_2006-10-30-9880554699.jpg"/>
          <p:cNvPicPr/>
          <p:nvPr/>
        </p:nvPicPr>
        <p:blipFill>
          <a:blip r:embed="rId2"/>
          <a:stretch/>
        </p:blipFill>
        <p:spPr>
          <a:xfrm>
            <a:off x="2050920" y="1989000"/>
            <a:ext cx="5712120" cy="4272120"/>
          </a:xfrm>
          <a:prstGeom prst="rect">
            <a:avLst/>
          </a:prstGeom>
          <a:ln w="0">
            <a:noFill/>
          </a:ln>
        </p:spPr>
      </p:pic>
      <p:sp>
        <p:nvSpPr>
          <p:cNvPr id="238" name="TextBox 4"/>
          <p:cNvSpPr/>
          <p:nvPr/>
        </p:nvSpPr>
        <p:spPr>
          <a:xfrm>
            <a:off x="0" y="4786200"/>
            <a:ext cx="1785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rebuchet MS"/>
              </a:rPr>
              <a:t>Завод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rebuchet MS"/>
              </a:rPr>
              <a:t>Металлоконст-рукц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Заголовок 1" descr=""/>
          <p:cNvPicPr/>
          <p:nvPr/>
        </p:nvPicPr>
        <p:blipFill>
          <a:blip r:embed="rId1"/>
          <a:stretch/>
        </p:blipFill>
        <p:spPr>
          <a:xfrm>
            <a:off x="-171360" y="-6480"/>
            <a:ext cx="8534160" cy="93996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 txBox="1"/>
          <p:nvPr/>
        </p:nvSpPr>
        <p:spPr>
          <a:xfrm>
            <a:off x="0" y="1052640"/>
            <a:ext cx="7696080" cy="545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rebuchet MS"/>
              </a:rPr>
              <a:t>Киевский вокзал. Москва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1" name="Рисунок 4" descr="0_1811d_5f09c80f_-2-S.jpeg"/>
          <p:cNvPicPr/>
          <p:nvPr/>
        </p:nvPicPr>
        <p:blipFill>
          <a:blip r:embed="rId2"/>
          <a:stretch/>
        </p:blipFill>
        <p:spPr>
          <a:xfrm>
            <a:off x="179280" y="1484280"/>
            <a:ext cx="2986200" cy="2092320"/>
          </a:xfrm>
          <a:prstGeom prst="rect">
            <a:avLst/>
          </a:prstGeom>
          <a:ln w="0">
            <a:noFill/>
          </a:ln>
        </p:spPr>
      </p:pic>
      <p:pic>
        <p:nvPicPr>
          <p:cNvPr id="242" name="Содержимое 3" descr="800px-Moscow_Bolshoi_Theatre.jpg"/>
          <p:cNvPicPr/>
          <p:nvPr/>
        </p:nvPicPr>
        <p:blipFill>
          <a:blip r:embed="rId3"/>
          <a:stretch/>
        </p:blipFill>
        <p:spPr>
          <a:xfrm>
            <a:off x="3276720" y="2997360"/>
            <a:ext cx="5689440" cy="3646440"/>
          </a:xfrm>
          <a:prstGeom prst="rect">
            <a:avLst/>
          </a:prstGeom>
          <a:ln w="0">
            <a:noFill/>
          </a:ln>
        </p:spPr>
      </p:pic>
      <p:sp>
        <p:nvSpPr>
          <p:cNvPr id="243" name="TextBox 6"/>
          <p:cNvSpPr/>
          <p:nvPr/>
        </p:nvSpPr>
        <p:spPr>
          <a:xfrm>
            <a:off x="3290040" y="2276640"/>
            <a:ext cx="34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щественные сооружен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ольшой театр. Моск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9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Заголовок 1" descr=""/>
          <p:cNvPicPr/>
          <p:nvPr/>
        </p:nvPicPr>
        <p:blipFill>
          <a:blip r:embed="rId1"/>
          <a:stretch/>
        </p:blipFill>
        <p:spPr>
          <a:xfrm>
            <a:off x="-171360" y="85680"/>
            <a:ext cx="8181720" cy="1206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 txBox="1"/>
          <p:nvPr/>
        </p:nvSpPr>
        <p:spPr>
          <a:xfrm>
            <a:off x="5076720" y="1413000"/>
            <a:ext cx="2880000" cy="57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20680" indent="-220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Фонтан.Ташкент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6" name="Рисунок 3" descr="0ebbce577c61.jpg"/>
          <p:cNvPicPr/>
          <p:nvPr/>
        </p:nvPicPr>
        <p:blipFill>
          <a:blip r:embed="rId2"/>
          <a:stretch/>
        </p:blipFill>
        <p:spPr>
          <a:xfrm>
            <a:off x="3222720" y="2060640"/>
            <a:ext cx="5921280" cy="4259160"/>
          </a:xfrm>
          <a:prstGeom prst="rect">
            <a:avLst/>
          </a:prstGeom>
          <a:ln w="0">
            <a:noFill/>
          </a:ln>
        </p:spPr>
      </p:pic>
      <p:pic>
        <p:nvPicPr>
          <p:cNvPr id="247" name="Содержимое 3" descr="raznoe-011.jpg"/>
          <p:cNvPicPr/>
          <p:nvPr/>
        </p:nvPicPr>
        <p:blipFill>
          <a:blip r:embed="rId3"/>
          <a:srcRect l="0" t="0" r="0" b="18507"/>
          <a:stretch/>
        </p:blipFill>
        <p:spPr>
          <a:xfrm>
            <a:off x="0" y="3429000"/>
            <a:ext cx="3062160" cy="1871640"/>
          </a:xfrm>
          <a:prstGeom prst="rect">
            <a:avLst/>
          </a:prstGeom>
          <a:ln w="0">
            <a:noFill/>
          </a:ln>
        </p:spPr>
      </p:pic>
      <p:sp>
        <p:nvSpPr>
          <p:cNvPr id="248" name="TextBox 5"/>
          <p:cNvSpPr/>
          <p:nvPr/>
        </p:nvSpPr>
        <p:spPr>
          <a:xfrm>
            <a:off x="183960" y="3068640"/>
            <a:ext cx="100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Бесед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3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8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Заголовок 1" descr=""/>
          <p:cNvPicPr/>
          <p:nvPr/>
        </p:nvPicPr>
        <p:blipFill>
          <a:blip r:embed="rId1"/>
          <a:stretch/>
        </p:blipFill>
        <p:spPr>
          <a:xfrm>
            <a:off x="171360" y="-6480"/>
            <a:ext cx="7534440" cy="513000"/>
          </a:xfrm>
          <a:prstGeom prst="rect">
            <a:avLst/>
          </a:prstGeom>
          <a:ln w="0">
            <a:noFill/>
          </a:ln>
        </p:spPr>
      </p:pic>
      <p:pic>
        <p:nvPicPr>
          <p:cNvPr id="250" name="Содержимое 3" descr="skver-alexpark-1.jpg"/>
          <p:cNvPicPr/>
          <p:nvPr/>
        </p:nvPicPr>
        <p:blipFill>
          <a:blip r:embed="rId2"/>
          <a:stretch/>
        </p:blipFill>
        <p:spPr>
          <a:xfrm>
            <a:off x="1033560" y="785880"/>
            <a:ext cx="7931160" cy="58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5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Заголовок 1" descr=""/>
          <p:cNvPicPr/>
          <p:nvPr/>
        </p:nvPicPr>
        <p:blipFill>
          <a:blip r:embed="rId1"/>
          <a:stretch/>
        </p:blipFill>
        <p:spPr>
          <a:xfrm>
            <a:off x="-171360" y="-6480"/>
            <a:ext cx="8394480" cy="122580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 txBox="1"/>
          <p:nvPr/>
        </p:nvSpPr>
        <p:spPr>
          <a:xfrm>
            <a:off x="0" y="1214280"/>
            <a:ext cx="7696080" cy="531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rebuchet MS"/>
              </a:rPr>
              <a:t>Мемориальный музей Суворова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3" name="Рисунок 3" descr="515129.jpg"/>
          <p:cNvPicPr/>
          <p:nvPr/>
        </p:nvPicPr>
        <p:blipFill>
          <a:blip r:embed="rId2"/>
          <a:stretch/>
        </p:blipFill>
        <p:spPr>
          <a:xfrm>
            <a:off x="1000080" y="1571760"/>
            <a:ext cx="7858080" cy="519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Заголовок 1" descr=""/>
          <p:cNvPicPr/>
          <p:nvPr/>
        </p:nvPicPr>
        <p:blipFill>
          <a:blip r:embed="rId1"/>
          <a:stretch/>
        </p:blipFill>
        <p:spPr>
          <a:xfrm>
            <a:off x="103320" y="158760"/>
            <a:ext cx="7602480" cy="669960"/>
          </a:xfrm>
          <a:prstGeom prst="rect">
            <a:avLst/>
          </a:prstGeom>
          <a:ln w="0">
            <a:noFill/>
          </a:ln>
        </p:spPr>
      </p:pic>
      <p:pic>
        <p:nvPicPr>
          <p:cNvPr id="255" name="Содержимое 4" descr="800px-Vechnii_ogon-1.jpg"/>
          <p:cNvPicPr/>
          <p:nvPr/>
        </p:nvPicPr>
        <p:blipFill>
          <a:blip r:embed="rId2"/>
          <a:stretch/>
        </p:blipFill>
        <p:spPr>
          <a:xfrm>
            <a:off x="785880" y="928800"/>
            <a:ext cx="7686720" cy="576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2T07:06:42Z</dcterms:created>
  <dc:creator>Zver</dc:creator>
  <dc:description/>
  <dc:language>en-US</dc:language>
  <cp:lastModifiedBy>й</cp:lastModifiedBy>
  <dcterms:modified xsi:type="dcterms:W3CDTF">2014-10-01T06:45:03Z</dcterms:modified>
  <cp:revision>12</cp:revision>
  <dc:subject/>
  <dc:title>Виды Архитектуры.</dc:title>
</cp:coreProperties>
</file>