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.jpeg" ContentType="image/jpeg"/>
  <Override PartName="/ppt/media/image27.png" ContentType="image/png"/>
  <Override PartName="/ppt/media/image4.gif" ContentType="image/gif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7DE-8144-48F3-9916-F046BEBD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F93-7DFC-4C1A-BC9B-FB4C2812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416-D837-4EC3-BA27-F271C572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DDE-EC37-4AA0-9087-189A3828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3FAF-68F2-41ED-982D-30E4B792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ADB7-9D77-49E1-914C-7682452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10BA-AB6D-41DC-8EC4-0EDD27B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14CA-8BBA-4F61-9259-1266C0C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DACC-474F-4BEE-A16C-23DA187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8BB1-4CB4-401E-9657-F1F71D02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B510-5A45-48C2-BC97-69F2B71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F62-C2F3-48EF-ADB1-9A53BD7E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A2CE-25A7-4DAA-97F4-D80766F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FF9F-2DEC-43E3-8E98-B22BFA5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1387-B0B0-4410-A740-51383C31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F199-61E4-4EA7-9B6A-BF6B92AA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CEC-997C-4E17-AF21-EF061CB1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400-2B9D-4783-B1F3-F857152B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10D-BF60-457E-93C3-00C01F4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8C3-4DD9-4D46-97CD-BE4FD9D9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B9C-D428-44CD-A9EF-AFBB193F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282-4BB9-44DD-8996-F836010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208-25C2-46E3-A43F-09496C3B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BE0-E95C-4B4B-A17A-C9EBC18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C05E-225E-4234-B7DC-077F6DD96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9E1D-2FE6-4E5C-BFB4-0B8B50FDC6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708280"/>
            <a:ext cx="80074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добрым утром начат ден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м делом гоним лен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не зеват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работать и чита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инаем урок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i?id=635428624-40-72&amp;n=17"/>
          <p:cNvPicPr/>
          <p:nvPr/>
        </p:nvPicPr>
        <p:blipFill>
          <a:blip r:embed="rId1"/>
          <a:stretch/>
        </p:blipFill>
        <p:spPr>
          <a:xfrm>
            <a:off x="2627280" y="404640"/>
            <a:ext cx="431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941720"/>
            <a:ext cx="6300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айные домик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4" descr="p2__4__clip_image007"/>
          <p:cNvPicPr/>
          <p:nvPr/>
        </p:nvPicPr>
        <p:blipFill>
          <a:blip r:embed="rId1"/>
          <a:stretch/>
        </p:blipFill>
        <p:spPr>
          <a:xfrm>
            <a:off x="250920" y="189000"/>
            <a:ext cx="4897440" cy="397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?id=220041588-02-72"/>
          <p:cNvPicPr/>
          <p:nvPr/>
        </p:nvPicPr>
        <p:blipFill>
          <a:blip r:embed="rId2"/>
          <a:stretch/>
        </p:blipFill>
        <p:spPr>
          <a:xfrm>
            <a:off x="5292720" y="2997360"/>
            <a:ext cx="38512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2" descr="412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396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puke"/>
          <p:cNvPicPr/>
          <p:nvPr/>
        </p:nvPicPr>
        <p:blipFill>
          <a:blip r:embed="rId2"/>
          <a:stretch/>
        </p:blipFill>
        <p:spPr>
          <a:xfrm>
            <a:off x="4788000" y="285264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ема урока:                                 Барсук – любитель стихов. (японская сказка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7" descr="022"/>
          <p:cNvPicPr/>
          <p:nvPr/>
        </p:nvPicPr>
        <p:blipFill>
          <a:blip r:embed="rId1"/>
          <a:stretch/>
        </p:blipFill>
        <p:spPr>
          <a:xfrm>
            <a:off x="250920" y="2033640"/>
            <a:ext cx="4163760" cy="449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Картинка 1 из 12"/>
          <p:cNvPicPr/>
          <p:nvPr/>
        </p:nvPicPr>
        <p:blipFill>
          <a:blip r:embed="rId2"/>
          <a:stretch/>
        </p:blipFill>
        <p:spPr>
          <a:xfrm>
            <a:off x="4716360" y="2060640"/>
            <a:ext cx="3743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рсу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205440" cy="4497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3924360" y="2421000"/>
            <a:ext cx="396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р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ойте иллюстрированный словарь, найдите и объясните значение слов: орхидея, пион, сверчок, цик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хиде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5" descr="i?id=18041785-16-72"/>
          <p:cNvPicPr/>
          <p:nvPr/>
        </p:nvPicPr>
        <p:blipFill>
          <a:blip r:embed="rId1"/>
          <a:stretch/>
        </p:blipFill>
        <p:spPr>
          <a:xfrm>
            <a:off x="324000" y="1530360"/>
            <a:ext cx="417492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i?id=202831405-59-72"/>
          <p:cNvPicPr/>
          <p:nvPr/>
        </p:nvPicPr>
        <p:blipFill>
          <a:blip r:embed="rId2"/>
          <a:stretch/>
        </p:blipFill>
        <p:spPr>
          <a:xfrm>
            <a:off x="4788000" y="189000"/>
            <a:ext cx="3313080" cy="23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i?id=376615136-53-72"/>
          <p:cNvPicPr/>
          <p:nvPr/>
        </p:nvPicPr>
        <p:blipFill>
          <a:blip r:embed="rId3"/>
          <a:stretch/>
        </p:blipFill>
        <p:spPr>
          <a:xfrm>
            <a:off x="4788000" y="2637000"/>
            <a:ext cx="338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креты хок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еть красоту в обычных, простых веща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429000" y="2571840"/>
            <a:ext cx="5567400" cy="4176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856800" y="357120"/>
            <a:ext cx="2122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ли все на све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глаза – и вернулис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вам, белые хризан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ё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124520" cy="619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4643280" y="18900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зантема желтого или оранже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вета с 16-ю лепестками –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ластный симв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аторского дома в Япо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43280" y="141300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888 году был создан – «Орден хризантемы», которым за все время его существования было награждено только трое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http://img-fotki.yandex.ru/get/4709/121998322.10/0_6679b_7c7296b4_M.jpg"/>
          <p:cNvPicPr/>
          <p:nvPr/>
        </p:nvPicPr>
        <p:blipFill>
          <a:blip r:embed="rId2"/>
          <a:stretch/>
        </p:blipFill>
        <p:spPr>
          <a:xfrm>
            <a:off x="5003640" y="4437000"/>
            <a:ext cx="2200320" cy="2162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4572000" y="297180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ложка японского паспорта украшена хризантемой.  Хризантемы изображены на японских монет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Творческая мастерска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очинить хокку о хризантем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7" descr="Картинка 50 из 405"/>
          <p:cNvPicPr/>
          <p:nvPr/>
        </p:nvPicPr>
        <p:blipFill>
          <a:blip r:embed="rId1"/>
          <a:stretch/>
        </p:blipFill>
        <p:spPr>
          <a:xfrm>
            <a:off x="4284720" y="1413000"/>
            <a:ext cx="5113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91920"/>
            <a:ext cx="80074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жок, нас с тобой путешествие ждёт.                                           В страну, где румяное солнце встаёт.                        Увидим на улице, а не в кино,                                 Людей, что спешат по делам в кимоно.                                  Традиции древние нас поразят,                                                  И то, как их бережно все здесь хранят.                              Цветущая вишня, бамбук и сосна.                                                   В стране этой чтятся во все времена.                                           Здесь воин отважный составить готов,                              Как девочки наши, букет из цветов.                                                 Нам часто придётся вовсю удивляться,                                  Скорей собирайся, пора отправля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8ff4c2d760b9cbd1e5505e60140ac5e9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флекс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50920" y="172620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 какой страной мы сегодня познакомилис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Что изображено на флаге и гербе этой страны?      - Что узнали о культуре этой стра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ак называется праздничная одежда японце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Как называется домик, в котором японцы любят размышлять о жиз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ак называются стихи, которые японцы сочиняю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туман"/>
          <p:cNvPicPr/>
          <p:nvPr/>
        </p:nvPicPr>
        <p:blipFill>
          <a:blip r:embed="rId1"/>
          <a:stretch/>
        </p:blipFill>
        <p:spPr>
          <a:xfrm>
            <a:off x="-304920" y="-603360"/>
            <a:ext cx="9753840" cy="7689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2484360" y="38386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ЯПОНИЯ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Страна восходяще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солнц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1b31"/>
          <p:cNvPicPr/>
          <p:nvPr/>
        </p:nvPicPr>
        <p:blipFill>
          <a:blip r:embed="rId2"/>
          <a:stretch/>
        </p:blipFill>
        <p:spPr>
          <a:xfrm>
            <a:off x="3492360" y="849240"/>
            <a:ext cx="20876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Символы Япони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905120"/>
            <a:ext cx="3919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лнце изображено на флаге Япо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24440" y="1905120"/>
            <a:ext cx="392112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рб страны - золотая хризантема – тоже символ сол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clip_image001"/>
          <p:cNvPicPr/>
          <p:nvPr/>
        </p:nvPicPr>
        <p:blipFill>
          <a:blip r:embed="rId1"/>
          <a:stretch/>
        </p:blipFill>
        <p:spPr>
          <a:xfrm>
            <a:off x="179280" y="3141720"/>
            <a:ext cx="3384720" cy="2954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2__4__clip_image001"/>
          <p:cNvPicPr/>
          <p:nvPr/>
        </p:nvPicPr>
        <p:blipFill>
          <a:blip r:embed="rId2"/>
          <a:stretch/>
        </p:blipFill>
        <p:spPr>
          <a:xfrm>
            <a:off x="4700520" y="3330720"/>
            <a:ext cx="315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Токио-главный город Япони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4" descr="Картинка 48 из 130326"/>
          <p:cNvPicPr/>
          <p:nvPr/>
        </p:nvPicPr>
        <p:blipFill>
          <a:blip r:embed="rId1"/>
          <a:stretch/>
        </p:blipFill>
        <p:spPr>
          <a:xfrm>
            <a:off x="0" y="907920"/>
            <a:ext cx="4284720" cy="439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39"/>
          <p:cNvPicPr/>
          <p:nvPr/>
        </p:nvPicPr>
        <p:blipFill>
          <a:blip r:embed="rId2"/>
          <a:stretch/>
        </p:blipFill>
        <p:spPr>
          <a:xfrm>
            <a:off x="4381560" y="2924280"/>
            <a:ext cx="4762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амая высокая гора – потухший вулкан Фудзияма. Эта гора считается  священной.  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 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4" descr="хок1"/>
          <p:cNvPicPr/>
          <p:nvPr/>
        </p:nvPicPr>
        <p:blipFill>
          <a:blip r:embed="rId1"/>
          <a:stretch/>
        </p:blipFill>
        <p:spPr>
          <a:xfrm>
            <a:off x="684360" y="1341360"/>
            <a:ext cx="7186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ечнозеленая сос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0_b465_1bc062f0_XL"/>
          <p:cNvPicPr/>
          <p:nvPr/>
        </p:nvPicPr>
        <p:blipFill>
          <a:blip r:embed="rId1"/>
          <a:stretch/>
        </p:blipFill>
        <p:spPr>
          <a:xfrm>
            <a:off x="1042920" y="981000"/>
            <a:ext cx="7704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532080"/>
            <a:ext cx="838512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ероглиф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3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54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human"/>
          <p:cNvPicPr/>
          <p:nvPr/>
        </p:nvPicPr>
        <p:blipFill>
          <a:blip r:embed="rId2"/>
          <a:stretch/>
        </p:blipFill>
        <p:spPr>
          <a:xfrm>
            <a:off x="684360" y="1197000"/>
            <a:ext cx="1584000" cy="223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karate"/>
          <p:cNvPicPr/>
          <p:nvPr/>
        </p:nvPicPr>
        <p:blipFill>
          <a:blip r:embed="rId3"/>
          <a:stretch/>
        </p:blipFill>
        <p:spPr>
          <a:xfrm>
            <a:off x="2556000" y="2492280"/>
            <a:ext cx="2087280" cy="244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judo"/>
          <p:cNvPicPr/>
          <p:nvPr/>
        </p:nvPicPr>
        <p:blipFill>
          <a:blip r:embed="rId4"/>
          <a:stretch/>
        </p:blipFill>
        <p:spPr>
          <a:xfrm>
            <a:off x="5364000" y="3860640"/>
            <a:ext cx="1944720" cy="230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2487240" y="14130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275080" y="2389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р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516720" y="45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7380360" y="408636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зю-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24000" y="244440"/>
            <a:ext cx="9468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ациональные костюмы- кимон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5" descr="Картинка 14 из 2884"/>
          <p:cNvPicPr/>
          <p:nvPr/>
        </p:nvPicPr>
        <p:blipFill>
          <a:blip r:embed="rId1"/>
          <a:stretch/>
        </p:blipFill>
        <p:spPr>
          <a:xfrm>
            <a:off x="1332000" y="907920"/>
            <a:ext cx="5616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9:11:23Z</dcterms:created>
  <dc:creator>я</dc:creator>
  <dc:description/>
  <dc:language>en-US</dc:language>
  <cp:lastModifiedBy>Nadejda</cp:lastModifiedBy>
  <dcterms:modified xsi:type="dcterms:W3CDTF">2015-05-03T17:06:41Z</dcterms:modified>
  <cp:revision>11</cp:revision>
  <dc:subject/>
  <dc:title>Страна  восходящего солнца</dc:title>
</cp:coreProperties>
</file>