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.jpeg" ContentType="image/jpeg"/>
  <Override PartName="/ppt/media/image27.png" ContentType="image/png"/>
  <Override PartName="/ppt/media/image4.gif" ContentType="image/gif"/>
  <Override PartName="/ppt/media/image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media/image22.png" ContentType="image/png"/>
  <Override PartName="/ppt/media/image25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556C-B2BC-4C53-B89E-34F1C63B0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ADE9-B7BF-4D18-817B-19B4B19C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3155-5AAD-4F06-BF65-269708F5C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655B-BF85-41EE-904C-7734B48C1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92A5-3F29-417E-8166-D930A0D12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9880-8AD1-42FE-93CD-FB69CA87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73A0-B240-4119-B0E6-7C0DAB6E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0076-0FA2-47A8-B063-8322089E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21D9-C377-4496-9D78-79856583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00B4-2505-4481-8723-BBC9E1BF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0BB1-EF39-481E-B9DD-CEDDDF6C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9F8D-A78A-4396-8ABA-52465CB3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4C48-20D9-4A54-880F-646D02AE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5B93-C45D-40EC-811E-41B9F2DC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B741-1F57-429F-A13A-7000198A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F9FE-DC78-4DEC-BB53-71ECB8DD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646C-EDF1-4E72-85CF-2B07DBA03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741E-CFFC-4BFB-9547-593C5F7B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EDC5-DCEC-47CB-B108-916626A0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EBC4-A4B0-4BE1-814F-93460666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2357-A2A9-4A91-9D9C-CFED9089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3A7B-35B3-4590-8C68-B6CBBE7F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EBA2-298F-488E-91ED-BF4B1EAF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6557-8280-4B48-A37E-BA80A695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5658-B700-4F6B-8D36-82957F364B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CC1A-EE7F-4837-B2F8-E936FC5ACD5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708280"/>
            <a:ext cx="800748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 добрым утром начат день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вым делом гоним лень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уроке не зевать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работать и читать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чинаем урок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5" descr="i?id=635428624-40-72&amp;n=17"/>
          <p:cNvPicPr/>
          <p:nvPr/>
        </p:nvPicPr>
        <p:blipFill>
          <a:blip r:embed="rId1"/>
          <a:stretch/>
        </p:blipFill>
        <p:spPr>
          <a:xfrm>
            <a:off x="2627280" y="404640"/>
            <a:ext cx="4319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4941720"/>
            <a:ext cx="630072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айные домики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Picture 4" descr="p2__4__clip_image007"/>
          <p:cNvPicPr/>
          <p:nvPr/>
        </p:nvPicPr>
        <p:blipFill>
          <a:blip r:embed="rId1"/>
          <a:stretch/>
        </p:blipFill>
        <p:spPr>
          <a:xfrm>
            <a:off x="250920" y="189000"/>
            <a:ext cx="4897440" cy="3975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i?id=220041588-02-72"/>
          <p:cNvPicPr/>
          <p:nvPr/>
        </p:nvPicPr>
        <p:blipFill>
          <a:blip r:embed="rId2"/>
          <a:stretch/>
        </p:blipFill>
        <p:spPr>
          <a:xfrm>
            <a:off x="5292720" y="2997360"/>
            <a:ext cx="385128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2" descr="412"/>
          <p:cNvPicPr/>
          <p:nvPr/>
        </p:nvPicPr>
        <p:blipFill>
          <a:blip r:embed="rId1"/>
          <a:stretch/>
        </p:blipFill>
        <p:spPr>
          <a:xfrm>
            <a:off x="179280" y="189000"/>
            <a:ext cx="4608720" cy="3960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4" descr="puke"/>
          <p:cNvPicPr/>
          <p:nvPr/>
        </p:nvPicPr>
        <p:blipFill>
          <a:blip r:embed="rId2"/>
          <a:stretch/>
        </p:blipFill>
        <p:spPr>
          <a:xfrm>
            <a:off x="4788000" y="2852640"/>
            <a:ext cx="2857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Тема урока:                                 Барсук – любитель стихов. (японская сказка)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7" name="Picture 7" descr="022"/>
          <p:cNvPicPr/>
          <p:nvPr/>
        </p:nvPicPr>
        <p:blipFill>
          <a:blip r:embed="rId1"/>
          <a:stretch/>
        </p:blipFill>
        <p:spPr>
          <a:xfrm>
            <a:off x="250920" y="2033640"/>
            <a:ext cx="4163760" cy="4491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Картинка 1 из 12"/>
          <p:cNvPicPr/>
          <p:nvPr/>
        </p:nvPicPr>
        <p:blipFill>
          <a:blip r:embed="rId2"/>
          <a:stretch/>
        </p:blipFill>
        <p:spPr>
          <a:xfrm>
            <a:off x="4716360" y="2060640"/>
            <a:ext cx="37432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арсу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3205440" cy="4497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3924360" y="2421000"/>
            <a:ext cx="3960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ловарная рабо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кройте иллюстрированный словарь, найдите и объясните значение слов: орхидея, пион, сверчок, цика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рхиде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5" name="Picture 5" descr="i?id=18041785-16-72"/>
          <p:cNvPicPr/>
          <p:nvPr/>
        </p:nvPicPr>
        <p:blipFill>
          <a:blip r:embed="rId1"/>
          <a:stretch/>
        </p:blipFill>
        <p:spPr>
          <a:xfrm>
            <a:off x="324000" y="1530360"/>
            <a:ext cx="4174920" cy="5327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i?id=202831405-59-72"/>
          <p:cNvPicPr/>
          <p:nvPr/>
        </p:nvPicPr>
        <p:blipFill>
          <a:blip r:embed="rId2"/>
          <a:stretch/>
        </p:blipFill>
        <p:spPr>
          <a:xfrm>
            <a:off x="4788000" y="189000"/>
            <a:ext cx="3313080" cy="2303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i?id=376615136-53-72"/>
          <p:cNvPicPr/>
          <p:nvPr/>
        </p:nvPicPr>
        <p:blipFill>
          <a:blip r:embed="rId3"/>
          <a:stretch/>
        </p:blipFill>
        <p:spPr>
          <a:xfrm>
            <a:off x="4788000" y="2637000"/>
            <a:ext cx="3384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екреты хокк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деть красоту в обычных, простых вещах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3429000" y="2571840"/>
            <a:ext cx="5567400" cy="41767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"/>
          <p:cNvSpPr/>
          <p:nvPr/>
        </p:nvSpPr>
        <p:spPr>
          <a:xfrm>
            <a:off x="856800" y="357120"/>
            <a:ext cx="2122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ели все на свет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и глаза – и вернулис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вам, белые хризантем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сё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4124520" cy="61912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4643280" y="189000"/>
            <a:ext cx="45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ризантема желтого или оранжев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вета с 16-ю лепестками –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ластный симво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мператорского дома в Япон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4643280" y="1413000"/>
            <a:ext cx="43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1888 году был создан – «Орден хризантемы», которым за все время его существования было награждено только трое человек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2" descr="http://img-fotki.yandex.ru/get/4709/121998322.10/0_6679b_7c7296b4_M.jpg"/>
          <p:cNvPicPr/>
          <p:nvPr/>
        </p:nvPicPr>
        <p:blipFill>
          <a:blip r:embed="rId2"/>
          <a:stretch/>
        </p:blipFill>
        <p:spPr>
          <a:xfrm>
            <a:off x="5003640" y="4437000"/>
            <a:ext cx="2200320" cy="21621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6"/>
          <p:cNvSpPr/>
          <p:nvPr/>
        </p:nvSpPr>
        <p:spPr>
          <a:xfrm>
            <a:off x="4572000" y="2971800"/>
            <a:ext cx="42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ложка японского паспорта украшена хризантемой.  Хризантемы изображены на японских монет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3851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Творческая мастерская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Сочинить хокку о хризантеме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8" name="Picture 7" descr="Картинка 50 из 405"/>
          <p:cNvPicPr/>
          <p:nvPr/>
        </p:nvPicPr>
        <p:blipFill>
          <a:blip r:embed="rId1"/>
          <a:stretch/>
        </p:blipFill>
        <p:spPr>
          <a:xfrm>
            <a:off x="4284720" y="1413000"/>
            <a:ext cx="51134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491920"/>
            <a:ext cx="800748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ружок, нас с тобой путешествие ждёт.                                           В страну, где румяное солнце встаёт.                        Увидим на улице, а не в кино,                                 Людей, что спешат по делам в кимоно.                                  Традиции древние нас поразят,                                                  И то, как их бережно все здесь хранят.                              Цветущая вишня, бамбук и сосна.                                                   В стране этой чтятся во все времена.                                           Здесь воин отважный составить готов,                              Как девочки наши, букет из цветов.                                                 Нам часто придётся вовсю удивляться,                                  Скорей собирайся, пора отправлять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5" descr="8ff4c2d760b9cbd1e5505e60140ac5e9"/>
          <p:cNvPicPr/>
          <p:nvPr/>
        </p:nvPicPr>
        <p:blipFill>
          <a:blip r:embed="rId1"/>
          <a:stretch/>
        </p:blipFill>
        <p:spPr>
          <a:xfrm>
            <a:off x="468360" y="0"/>
            <a:ext cx="83516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ефлекс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250920" y="1726200"/>
            <a:ext cx="8642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С какой страной мы сегодня познакомились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Что изображено на флаге и гербе этой страны?      - Что узнали о культуре этой стран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Как называется праздничная одежда японце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Как называется домик, в котором японцы любят размышлять о жизн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Как называются стихи, которые японцы сочиняю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727280" y="4020840"/>
            <a:ext cx="6229440" cy="16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9" descr="туман"/>
          <p:cNvPicPr/>
          <p:nvPr/>
        </p:nvPicPr>
        <p:blipFill>
          <a:blip r:embed="rId1"/>
          <a:stretch/>
        </p:blipFill>
        <p:spPr>
          <a:xfrm>
            <a:off x="-304920" y="-603360"/>
            <a:ext cx="9753840" cy="76899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0"/>
          <p:cNvSpPr/>
          <p:nvPr/>
        </p:nvSpPr>
        <p:spPr>
          <a:xfrm>
            <a:off x="2484360" y="383868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Arial"/>
              </a:rPr>
              <a:t>ЯПОНИЯ-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Arial"/>
              </a:rPr>
              <a:t>Страна восходящег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8000"/>
                </a:solidFill>
                <a:latin typeface="Arial"/>
              </a:rPr>
              <a:t>солнц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11" descr="1b31"/>
          <p:cNvPicPr/>
          <p:nvPr/>
        </p:nvPicPr>
        <p:blipFill>
          <a:blip r:embed="rId2"/>
          <a:stretch/>
        </p:blipFill>
        <p:spPr>
          <a:xfrm>
            <a:off x="3492360" y="849240"/>
            <a:ext cx="20876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Символы Японии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1905120"/>
            <a:ext cx="3919680" cy="20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лнце изображено на флаге Япо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924440" y="1905120"/>
            <a:ext cx="3921120" cy="20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ерб страны - золотая хризантема – тоже символ солнц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6" descr="clip_image001"/>
          <p:cNvPicPr/>
          <p:nvPr/>
        </p:nvPicPr>
        <p:blipFill>
          <a:blip r:embed="rId1"/>
          <a:stretch/>
        </p:blipFill>
        <p:spPr>
          <a:xfrm>
            <a:off x="179280" y="3141720"/>
            <a:ext cx="3384720" cy="2954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p2__4__clip_image001"/>
          <p:cNvPicPr/>
          <p:nvPr/>
        </p:nvPicPr>
        <p:blipFill>
          <a:blip r:embed="rId2"/>
          <a:stretch/>
        </p:blipFill>
        <p:spPr>
          <a:xfrm>
            <a:off x="4700520" y="3330720"/>
            <a:ext cx="3152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Токио-главный город Японии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Picture 4" descr="Картинка 48 из 130326"/>
          <p:cNvPicPr/>
          <p:nvPr/>
        </p:nvPicPr>
        <p:blipFill>
          <a:blip r:embed="rId1"/>
          <a:stretch/>
        </p:blipFill>
        <p:spPr>
          <a:xfrm>
            <a:off x="0" y="907920"/>
            <a:ext cx="4284720" cy="4391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39"/>
          <p:cNvPicPr/>
          <p:nvPr/>
        </p:nvPicPr>
        <p:blipFill>
          <a:blip r:embed="rId2"/>
          <a:stretch/>
        </p:blipFill>
        <p:spPr>
          <a:xfrm>
            <a:off x="4381560" y="2924280"/>
            <a:ext cx="47624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Самая высокая гора – потухший вулкан Фудзияма. Эта гора считается  священной.  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                                  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Picture 4" descr="хок1"/>
          <p:cNvPicPr/>
          <p:nvPr/>
        </p:nvPicPr>
        <p:blipFill>
          <a:blip r:embed="rId1"/>
          <a:stretch/>
        </p:blipFill>
        <p:spPr>
          <a:xfrm>
            <a:off x="684360" y="1341360"/>
            <a:ext cx="71863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Вечнозеленая сосн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Picture 5" descr="0_b465_1bc062f0_XL"/>
          <p:cNvPicPr/>
          <p:nvPr/>
        </p:nvPicPr>
        <p:blipFill>
          <a:blip r:embed="rId1"/>
          <a:stretch/>
        </p:blipFill>
        <p:spPr>
          <a:xfrm>
            <a:off x="1042920" y="981000"/>
            <a:ext cx="77043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-532080"/>
            <a:ext cx="838512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ероглиф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03"/>
          <p:cNvPicPr/>
          <p:nvPr/>
        </p:nvPicPr>
        <p:blipFill>
          <a:blip r:embed="rId1"/>
          <a:stretch/>
        </p:blipFill>
        <p:spPr>
          <a:xfrm>
            <a:off x="324000" y="981000"/>
            <a:ext cx="8496000" cy="5543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human"/>
          <p:cNvPicPr/>
          <p:nvPr/>
        </p:nvPicPr>
        <p:blipFill>
          <a:blip r:embed="rId2"/>
          <a:stretch/>
        </p:blipFill>
        <p:spPr>
          <a:xfrm>
            <a:off x="684360" y="1197000"/>
            <a:ext cx="1584000" cy="2232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karate"/>
          <p:cNvPicPr/>
          <p:nvPr/>
        </p:nvPicPr>
        <p:blipFill>
          <a:blip r:embed="rId3"/>
          <a:stretch/>
        </p:blipFill>
        <p:spPr>
          <a:xfrm>
            <a:off x="2556000" y="2492280"/>
            <a:ext cx="2087280" cy="2449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judo"/>
          <p:cNvPicPr/>
          <p:nvPr/>
        </p:nvPicPr>
        <p:blipFill>
          <a:blip r:embed="rId4"/>
          <a:stretch/>
        </p:blipFill>
        <p:spPr>
          <a:xfrm>
            <a:off x="5364000" y="3860640"/>
            <a:ext cx="1944720" cy="23036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2487240" y="1413000"/>
            <a:ext cx="16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челов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5275080" y="238932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кара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6516720" y="4581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7380360" y="408636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зю-д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24000" y="244440"/>
            <a:ext cx="946800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Национальные костюмы- кимоно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0" name="Picture 5" descr="Картинка 14 из 2884"/>
          <p:cNvPicPr/>
          <p:nvPr/>
        </p:nvPicPr>
        <p:blipFill>
          <a:blip r:embed="rId1"/>
          <a:stretch/>
        </p:blipFill>
        <p:spPr>
          <a:xfrm>
            <a:off x="1332000" y="907920"/>
            <a:ext cx="561636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09:11:23Z</dcterms:created>
  <dc:creator>я</dc:creator>
  <dc:description/>
  <dc:language>en-US</dc:language>
  <cp:lastModifiedBy>Nadejda</cp:lastModifiedBy>
  <dcterms:modified xsi:type="dcterms:W3CDTF">2015-05-03T17:06:41Z</dcterms:modified>
  <cp:revision>11</cp:revision>
  <dc:subject/>
  <dc:title>Страна  восходящего солнца</dc:title>
</cp:coreProperties>
</file>