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7DC-7F6F-462B-AC24-CC13FF82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4BD-A4B5-46D8-874D-50C8BD77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C11-8B6D-420B-9204-A7D274C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DA1-A112-4A4B-B1CD-885E50E8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959-735E-49A3-8063-D9532A74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BD6-3672-4B2F-B0BC-4F883DDC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7B9-E330-4410-8861-E2F0F15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7A37-E7B6-4EB3-9D45-9FD374F3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63D3-FEB8-403A-AAF3-943193E9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360-50EE-4355-B9F6-A9DC74F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9B8-B2E2-4DB5-87A4-AE8D5B4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B42-232C-49F6-A63F-D951ED76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598-C334-4FE8-A8FE-093D848B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586-617E-4DD3-BB8A-3A47097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07C5-BE47-4F98-AA9C-11996D7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AA2D-3D97-4345-BDDC-79CD02C1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275C-08B2-4D39-951F-1F933D9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AA0-8C90-414D-8195-994EA748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3A3-DD73-49CD-A0FD-1C4B55F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2A0-5875-44E8-856A-EA93D62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2BE-452E-4DAC-9D3B-E5FF5EF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AC6-A179-4005-8935-D9FFD01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DD-D8DF-45A0-BDB1-7C5EDC8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7A4-1382-4DC3-85AC-8B61C11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1811-F5D2-4E4C-93AC-D3D6C7F4C84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2DA-953E-41C3-A15F-06B442A5604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1476360" y="2205000"/>
            <a:ext cx="6696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Arial"/>
              </a:rPr>
              <a:t>Подлинную историю трудового народа нельзя знать, не зная устного народного творчества.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Arial"/>
              </a:rPr>
              <a:t>М. Горьки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Arial"/>
              </a:rPr>
              <a:t>Русские былины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И. Билибин. Дружина Вольги (1903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Picture 2" descr="D:\Helga\My materials\My personal materials\Школа\7\Литература\Иван Билибин_Дружина Вольги_1903.jpg"/>
          <p:cNvPicPr/>
          <p:nvPr/>
        </p:nvPicPr>
        <p:blipFill>
          <a:blip r:embed="rId1"/>
          <a:stretch/>
        </p:blipFill>
        <p:spPr>
          <a:xfrm>
            <a:off x="2571840" y="1357200"/>
            <a:ext cx="485784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Н. Рерих. Микула Селянинович(1910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Picture 2" descr="D:\Helga\My materials\My personal materials\Школа\7\Литература\Н.Рерих_Микула Селянинович. 1910.jpg"/>
          <p:cNvPicPr/>
          <p:nvPr/>
        </p:nvPicPr>
        <p:blipFill>
          <a:blip r:embed="rId1"/>
          <a:stretch/>
        </p:blipFill>
        <p:spPr>
          <a:xfrm>
            <a:off x="571680" y="1606680"/>
            <a:ext cx="8286480" cy="364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Н. Рерих. Витяз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Picture 2" descr="D:\Helga\My materials\My personal materials\Школа\7\Литература\Н.Рерих_Витязь.jpg"/>
          <p:cNvPicPr/>
          <p:nvPr/>
        </p:nvPicPr>
        <p:blipFill>
          <a:blip r:embed="rId1"/>
          <a:stretch/>
        </p:blipFill>
        <p:spPr>
          <a:xfrm>
            <a:off x="2857680" y="1000080"/>
            <a:ext cx="385740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ылины</a:t>
            </a:r>
            <a:r>
              <a:rPr b="1" i="1" lang="ru-RU" sz="4800" spc="-1" strike="noStrike">
                <a:solidFill>
                  <a:srgbClr val="402000"/>
                </a:solidFill>
                <a:latin typeface="Times New Roman"/>
              </a:rPr>
              <a:t> – это произведения устной поэзии о русских богатырях и народных героях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58920" y="604440"/>
            <a:ext cx="2592360" cy="80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ылины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16000" y="3284640"/>
            <a:ext cx="345600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130c"/>
                </a:solidFill>
                <a:latin typeface="Arial"/>
              </a:rPr>
              <a:t>Социально-бытовые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788000" y="3429000"/>
            <a:ext cx="3671640" cy="1739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130c"/>
                </a:solidFill>
                <a:latin typeface="Arial"/>
              </a:rPr>
              <a:t>Героические или Богатырские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>
            <a:endCxn id="96" idx="0"/>
          </p:cNvCxnSpPr>
          <p:nvPr/>
        </p:nvCxnSpPr>
        <p:spPr>
          <a:xfrm>
            <a:off x="4788000" y="1413000"/>
            <a:ext cx="1837440" cy="2016720"/>
          </a:xfrm>
          <a:prstGeom prst="straightConnector1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</p:cxnSp>
      <p:cxnSp>
        <p:nvCxnSpPr>
          <p:cNvPr id="98" name="Прямая со стрелкой 11"/>
          <p:cNvCxnSpPr>
            <a:endCxn id="95" idx="0"/>
          </p:cNvCxnSpPr>
          <p:nvPr/>
        </p:nvCxnSpPr>
        <p:spPr>
          <a:xfrm flipH="1">
            <a:off x="2842920" y="1483920"/>
            <a:ext cx="1008720" cy="1801080"/>
          </a:xfrm>
          <a:prstGeom prst="straightConnector1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15640" y="604440"/>
            <a:ext cx="705636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ва основных цикла были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154160" y="2492280"/>
            <a:ext cx="752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02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Киевский  цикл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buClr>
                <a:srgbClr val="402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Новгородский цикл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иевский           Новгородск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цикл                   цикл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 Основная тем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щита русских           быт купечеств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емель                          торговл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бразы богатырей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лья Муромец              Садк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брыня Никитич         Василий Буслаев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лёша Попови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6000" y="333000"/>
            <a:ext cx="61927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Художественные особенности былин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332000" y="205092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1. гипербола (преувеличение)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2. приём троичности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3. повтор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4. постоянные эпитет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5. использование речитативов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6. отсутствие рифм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В. Васнецов. Богатыри (1898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77080" y="2852640"/>
            <a:ext cx="2644560" cy="3529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111600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Князь Волга необыкновенного происхождения. Он сын княжны и Змея Горыныча. От отца он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унаследовал чародейны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способности, «похотелося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ему много мудрости». Эти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возможности Вольга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употребляет на добры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дела. Но пахарь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превосходит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мощью и доблестью даж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такого человека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9" name="Picture 5" descr="D:\Helga\My materials\My personal materials\Школа\7\Литература\Васнецов_Богатыри_1898.jpg"/>
          <p:cNvPicPr/>
          <p:nvPr/>
        </p:nvPicPr>
        <p:blipFill>
          <a:blip r:embed="rId2"/>
          <a:stretch/>
        </p:blipFill>
        <p:spPr>
          <a:xfrm>
            <a:off x="857160" y="1000080"/>
            <a:ext cx="79297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В. Васнецов. Витязь на распутье (188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1" name="Picture 2" descr="D:\Helga\My materials\My personal materials\Школа\7\Литература\Васнецов_Витязь на распутье_1882.jpg"/>
          <p:cNvPicPr/>
          <p:nvPr/>
        </p:nvPicPr>
        <p:blipFill>
          <a:blip r:embed="rId1"/>
          <a:stretch/>
        </p:blipFill>
        <p:spPr>
          <a:xfrm>
            <a:off x="571680" y="1214280"/>
            <a:ext cx="8286480" cy="514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И. Репин. Садко (1876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2" descr="D:\Helga\My materials\My personal materials\Школа\7\Литература\Репин_Садко_1876.jpg"/>
          <p:cNvPicPr/>
          <p:nvPr/>
        </p:nvPicPr>
        <p:blipFill>
          <a:blip r:embed="rId1"/>
          <a:stretch/>
        </p:blipFill>
        <p:spPr>
          <a:xfrm>
            <a:off x="2092320" y="928800"/>
            <a:ext cx="562284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9:30:36Z</dcterms:created>
  <dc:creator>Admin</dc:creator>
  <dc:description/>
  <dc:language>en-US</dc:language>
  <cp:lastModifiedBy>BEST</cp:lastModifiedBy>
  <dcterms:modified xsi:type="dcterms:W3CDTF">2015-05-03T15:56:53Z</dcterms:modified>
  <cp:revision>38</cp:revision>
  <dc:subject/>
  <dc:title>Введение</dc:title>
</cp:coreProperties>
</file>