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9C6-4C66-41C7-8847-87162F51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AE3-7256-405A-8DBF-2E45BDD1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0D9-C27E-4BDE-A8D6-B2A75BA0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F74-4BC8-42C0-BE0F-8FF223BE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E54D-1D25-4536-B89D-11EE4D86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DDB5-08FB-4357-9A19-DDE3A699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0F67-F1B1-41E5-AC8A-EECCC4D4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60D1-E62D-4325-8293-F9C3246F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3A6D-4419-4AD0-B470-5910ECF3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A849-385B-4210-805F-186813A1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B38B-0920-4176-955D-B992C204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4C1-5B96-4262-A588-C08395A2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1BB9-EF70-427C-B9C5-FF4F8B1C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AE79-FB20-4AB2-B0A2-84DA653B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BCAF-3AC5-4BC1-8F2B-8B290B89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B3BB-146B-42E3-BE8F-C2402A23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66FF-F981-4A16-9395-E641B6FB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3E0-CDD4-47FC-B01F-B2D2CC3F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D63-1F6A-4455-939B-3BA9A631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E1B-6B88-46BF-9AEE-1914627E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61C-C82A-4F01-8F7C-190FA021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B38-5403-42A1-A3DE-E30A1106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761-57D0-4B9F-8EF4-A03C569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4AD-77D5-4813-9885-A117526C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B537-9DB5-484A-9EF8-BA4EF0AF9D9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68B3-985F-45D2-972E-AD801B3D02B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3"/>
          <p:cNvSpPr/>
          <p:nvPr/>
        </p:nvSpPr>
        <p:spPr>
          <a:xfrm>
            <a:off x="1476360" y="2205000"/>
            <a:ext cx="66960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2000"/>
                </a:solidFill>
                <a:latin typeface="Arial"/>
              </a:rPr>
              <a:t>Подлинную историю трудового народа нельзя знать, не зная устного народного творчества.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Arial"/>
              </a:rPr>
              <a:t>М. Горький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Arial"/>
              </a:rPr>
              <a:t>Русские былины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99720" y="460440"/>
            <a:ext cx="75726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И. Билибин. Дружина Вольги (1903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5" name="Picture 2" descr="D:\Helga\My materials\My personal materials\Школа\7\Литература\Иван Билибин_Дружина Вольги_1903.jpg"/>
          <p:cNvPicPr/>
          <p:nvPr/>
        </p:nvPicPr>
        <p:blipFill>
          <a:blip r:embed="rId1"/>
          <a:stretch/>
        </p:blipFill>
        <p:spPr>
          <a:xfrm>
            <a:off x="2571840" y="1357200"/>
            <a:ext cx="4857840" cy="501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99720" y="460440"/>
            <a:ext cx="75726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Н. Рерих. Микула Селянинович(1910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7" name="Picture 2" descr="D:\Helga\My materials\My personal materials\Школа\7\Литература\Н.Рерих_Микула Селянинович. 1910.jpg"/>
          <p:cNvPicPr/>
          <p:nvPr/>
        </p:nvPicPr>
        <p:blipFill>
          <a:blip r:embed="rId1"/>
          <a:stretch/>
        </p:blipFill>
        <p:spPr>
          <a:xfrm>
            <a:off x="571680" y="1606680"/>
            <a:ext cx="8286480" cy="364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99720" y="460440"/>
            <a:ext cx="75726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Н. Рерих. Витязь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9" name="Picture 2" descr="D:\Helga\My materials\My personal materials\Школа\7\Литература\Н.Рерих_Витязь.jpg"/>
          <p:cNvPicPr/>
          <p:nvPr/>
        </p:nvPicPr>
        <p:blipFill>
          <a:blip r:embed="rId1"/>
          <a:stretch/>
        </p:blipFill>
        <p:spPr>
          <a:xfrm>
            <a:off x="2857680" y="1000080"/>
            <a:ext cx="385740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Былины</a:t>
            </a:r>
            <a:r>
              <a:rPr b="1" i="1" lang="ru-RU" sz="4800" spc="-1" strike="noStrike">
                <a:solidFill>
                  <a:srgbClr val="402000"/>
                </a:solidFill>
                <a:latin typeface="Times New Roman"/>
              </a:rPr>
              <a:t> – это произведения устной поэзии о русских богатырях и народных героях.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Рисунок 3" descr="книга с ручкой.jpeg"/>
          <p:cNvPicPr/>
          <p:nvPr/>
        </p:nvPicPr>
        <p:blipFill>
          <a:blip r:embed="rId1"/>
          <a:stretch/>
        </p:blipFill>
        <p:spPr>
          <a:xfrm>
            <a:off x="7429680" y="428760"/>
            <a:ext cx="1218960" cy="111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058920" y="604440"/>
            <a:ext cx="2592360" cy="808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Былины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Рисунок 3" descr="книга с ручкой.jpeg"/>
          <p:cNvPicPr/>
          <p:nvPr/>
        </p:nvPicPr>
        <p:blipFill>
          <a:blip r:embed="rId1"/>
          <a:stretch/>
        </p:blipFill>
        <p:spPr>
          <a:xfrm>
            <a:off x="7429680" y="428760"/>
            <a:ext cx="1218960" cy="1117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1116000" y="3284640"/>
            <a:ext cx="3456000" cy="1191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d130c"/>
                </a:solidFill>
                <a:latin typeface="Arial"/>
              </a:rPr>
              <a:t>Социально-бытовые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788000" y="3429000"/>
            <a:ext cx="3671640" cy="1739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d130c"/>
                </a:solidFill>
                <a:latin typeface="Arial"/>
              </a:rPr>
              <a:t>Героические или Богатырские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97" name="Прямая со стрелкой 8"/>
          <p:cNvCxnSpPr>
            <a:endCxn id="96" idx="0"/>
          </p:cNvCxnSpPr>
          <p:nvPr/>
        </p:nvCxnSpPr>
        <p:spPr>
          <a:xfrm>
            <a:off x="4788000" y="1413000"/>
            <a:ext cx="1837440" cy="2016720"/>
          </a:xfrm>
          <a:prstGeom prst="straightConnector1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</p:cxnSp>
      <p:cxnSp>
        <p:nvCxnSpPr>
          <p:cNvPr id="98" name="Прямая со стрелкой 11"/>
          <p:cNvCxnSpPr>
            <a:endCxn id="95" idx="0"/>
          </p:cNvCxnSpPr>
          <p:nvPr/>
        </p:nvCxnSpPr>
        <p:spPr>
          <a:xfrm flipH="1">
            <a:off x="2842920" y="1483920"/>
            <a:ext cx="1008720" cy="1801080"/>
          </a:xfrm>
          <a:prstGeom prst="straightConnector1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115640" y="604440"/>
            <a:ext cx="705636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ва основных цикла былин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1154160" y="2492280"/>
            <a:ext cx="752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02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2000"/>
                </a:solidFill>
                <a:latin typeface="Arial"/>
              </a:rPr>
              <a:t>Киевский  цикл</a:t>
            </a:r>
            <a:endParaRPr b="0" lang="en-US" sz="54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buClr>
                <a:srgbClr val="402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2000"/>
                </a:solidFill>
                <a:latin typeface="Arial"/>
              </a:rPr>
              <a:t>Новгородский цикл</a:t>
            </a:r>
            <a:endParaRPr b="0" lang="en-US" sz="5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Киевский           Новгородский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цикл                   цикл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 Основная тем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Защита русских           быт купечеств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земель                          торговл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-Образы богатырей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лья Муромец              Садк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обрыня Никитич         Василий Буслаев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Алёша Попович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16000" y="333000"/>
            <a:ext cx="61927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Художественные особенности былин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Рисунок 3" descr="книга с ручкой.jpeg"/>
          <p:cNvPicPr/>
          <p:nvPr/>
        </p:nvPicPr>
        <p:blipFill>
          <a:blip r:embed="rId1"/>
          <a:stretch/>
        </p:blipFill>
        <p:spPr>
          <a:xfrm>
            <a:off x="7429680" y="428760"/>
            <a:ext cx="1218960" cy="1117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1332000" y="2050920"/>
            <a:ext cx="71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2000"/>
                </a:solidFill>
                <a:latin typeface="Arial"/>
              </a:rPr>
              <a:t>1. гипербола (преувеличение)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2000"/>
                </a:solidFill>
                <a:latin typeface="Arial"/>
              </a:rPr>
              <a:t>2. приём троичности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2000"/>
                </a:solidFill>
                <a:latin typeface="Arial"/>
              </a:rPr>
              <a:t>3. повторы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2000"/>
                </a:solidFill>
                <a:latin typeface="Arial"/>
              </a:rPr>
              <a:t>4. постоянные эпитеты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2000"/>
                </a:solidFill>
                <a:latin typeface="Arial"/>
              </a:rPr>
              <a:t>5. использование речитативов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2000"/>
                </a:solidFill>
                <a:latin typeface="Arial"/>
              </a:rPr>
              <a:t>6. отсутствие рифмы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99720" y="460440"/>
            <a:ext cx="75726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В. Васнецов. Богатыри (1898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977080" y="2852640"/>
            <a:ext cx="2644560" cy="3529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1116000" y="1773360"/>
            <a:ext cx="73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Князь Волга необыкновенного происхождения. Он сын княжны и Змея Горыныча. От отца он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унаследовал чародейные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способности, «похотелося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ему много мудрости». Эти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возможности Вольга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употребляет на добрые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дела. Но пахарь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превосходит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мощью и доблестью даже 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Arial"/>
              </a:rPr>
              <a:t>такого человека.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9" name="Picture 5" descr="D:\Helga\My materials\My personal materials\Школа\7\Литература\Васнецов_Богатыри_1898.jpg"/>
          <p:cNvPicPr/>
          <p:nvPr/>
        </p:nvPicPr>
        <p:blipFill>
          <a:blip r:embed="rId2"/>
          <a:stretch/>
        </p:blipFill>
        <p:spPr>
          <a:xfrm>
            <a:off x="857160" y="1000080"/>
            <a:ext cx="792972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99720" y="460440"/>
            <a:ext cx="75726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В. Васнецов. Витязь на распутье (1882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1" name="Picture 2" descr="D:\Helga\My materials\My personal materials\Школа\7\Литература\Васнецов_Витязь на распутье_1882.jpg"/>
          <p:cNvPicPr/>
          <p:nvPr/>
        </p:nvPicPr>
        <p:blipFill>
          <a:blip r:embed="rId1"/>
          <a:stretch/>
        </p:blipFill>
        <p:spPr>
          <a:xfrm>
            <a:off x="571680" y="1214280"/>
            <a:ext cx="8286480" cy="514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9720" y="460440"/>
            <a:ext cx="75726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1" marL="408600" indent="-156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И. Репин. Садко (1876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Picture 2" descr="D:\Helga\My materials\My personal materials\Школа\7\Литература\Репин_Садко_1876.jpg"/>
          <p:cNvPicPr/>
          <p:nvPr/>
        </p:nvPicPr>
        <p:blipFill>
          <a:blip r:embed="rId1"/>
          <a:stretch/>
        </p:blipFill>
        <p:spPr>
          <a:xfrm>
            <a:off x="2092320" y="928800"/>
            <a:ext cx="5622840" cy="59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09:30:36Z</dcterms:created>
  <dc:creator>Admin</dc:creator>
  <dc:description/>
  <dc:language>en-US</dc:language>
  <cp:lastModifiedBy>BEST</cp:lastModifiedBy>
  <dcterms:modified xsi:type="dcterms:W3CDTF">2015-05-03T15:56:53Z</dcterms:modified>
  <cp:revision>38</cp:revision>
  <dc:subject/>
  <dc:title>Введение</dc:title>
</cp:coreProperties>
</file>