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980-0BBD-4D73-B499-BFDB9BDC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5A8-AAEE-4778-869E-6252717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688EB-6707-4487-BEC6-DDC7CD0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E915F-3E5A-4279-94B8-64ED3E7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044EA-847A-4840-95CE-777CE13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65528-EF7E-4D2B-B2FA-F5CC86EA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39BB1-3DE0-4DD5-B9CA-9658A042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D7022-C0F0-4727-AC4E-89E82AA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391E0-1568-490E-970A-EC94646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88E30-02A4-4889-9E05-6CF21EAB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0D32E-1D23-417E-ABC5-BE768939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750-F62D-4C11-80CB-30647F3F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742-D194-4ED0-8B24-3B63D132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0D4F-4C60-4253-B38A-6A3047C7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B93-2A67-47CC-8D46-E7427F63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7E0B-8B92-447D-9CC8-D2D7BA7E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184-CCDB-46FE-975C-EB595D9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08F-77C9-4279-A21B-29435CC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F6F5-181B-4FE2-87CE-1C65061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395-0857-4AD9-907F-27DD440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8A4-B7E8-4484-BC70-68263AA6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04FC-5E23-454B-8403-F887F43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02D7-9E22-4BE4-AEB6-304EDE6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60C-77CE-4698-85D6-00EFF7E1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571-399C-4FCD-8AC3-9C49250A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869C-5492-4BF2-95C9-D2C3F412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BC07-5056-4EAE-B495-FBB39A13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F347-0655-47A3-81A9-A9ADA7A2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D3CB-07AE-423C-A637-3B3EB21D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8DCB-46D6-420F-95BD-68E4B6A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65CF-8230-4A49-8483-4F7A0217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68C-A42B-42E4-9BC6-3801542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11F3-5197-4AF4-991D-4ED98C70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6F74-7C97-4A3C-A32A-94CD836E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D4D8-13FA-43D8-9CE0-8469008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4EBE-AD67-4FD9-8D35-572D487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75DA-5915-44F1-A962-2C2CA4F8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DE44-29C7-4C32-B062-F0E524C5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0341-F5D6-4A76-B833-968233E6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C627-D348-4ABA-8F53-B03BD30F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ACC1-2867-44FB-AB1A-4DE3D849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18E6F-5C6C-41C9-BA0D-07ED6E91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2D3-54BB-48AA-B0C8-1D375069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69DC-401C-4475-A49A-74D62D0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960B-4FA7-4120-B037-47A197DE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98DC-5566-4EDD-8CB5-2937ED4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B897-7807-415D-A989-C951078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754A-1D4C-4499-9A6A-979BAAE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798D-9C42-4BE4-A69B-08069A4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833E-0786-4583-946E-5B58C7D2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ACD9-C163-4F2D-92E1-518DEC36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1274-0432-40EE-B236-98AEF8B0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9E609-5177-4072-8683-EF241B18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535-81CE-424E-AA3C-BCF5BBAE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23E61-AEFD-4CED-B7AB-7BF563E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7DB73-BAFC-4126-830F-383A453B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3BF2-FC25-4D89-A8AA-E02D002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7362-64D6-49C0-ABF5-EC83F8E1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6150-5CD0-4949-B26B-E74450A5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E0A6-0F3A-48E8-A723-863EB37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DB0BC-D229-480A-AC72-226C5A1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D811-E721-4D23-8B6D-31750A4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27C8D-15F8-4B8F-A50C-B2453A86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538B-8C05-469C-A53D-EDD6F15A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01F-5970-441A-A098-938ACFF6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8959-1382-476A-8451-E70D7129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6417-E1EE-4148-BF36-BA035017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33CB9-C7A8-4CA5-A15F-F847CE4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2CDE-482F-46BE-8C53-8FBF697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25BE-37E2-4CC6-80FB-1683A697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B939-33F8-41D5-9269-0492549A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D9358-6E17-4982-90D0-B671B7D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85A74-2BEB-494F-B1CB-E9664C4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9EBC2-A8AE-4EE8-AB8E-F06FEDD8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9E88A-97EA-416F-B17A-60A0092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114-AF8C-44C1-927C-107EF37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99699-2508-4BAA-9DD9-9E1CDEF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FAEB9-85E1-49EF-8CBA-3E8A2EE7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841F-93A6-47E3-8907-1DCD9215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DE5C4-711E-433A-825A-A1B0DE20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3BAE-039A-4562-A621-AE72E739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DF06-9C87-4FC1-8353-A3681884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83706-ADA4-46B4-981C-F88797B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40D7-9FD6-481D-B5E4-03D2AFE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4BEE-6D69-4BC5-BEAD-D2F77794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4900-1CBF-44F7-9EA3-DDAFA15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4D7-D750-4803-B6C3-2E0A648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6A18-DAC8-48EC-A5A1-661F596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297E-F888-42D8-99E3-FF2DB93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C9E4-17D7-4421-A0DF-3D2EC0F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E5C9-CA6C-46AA-9B05-17778933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1F6E-F3C3-4CBB-A16E-CCE82545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E52AE-EC51-4493-92FF-B4731ABA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0AC4-A839-4619-B399-2B0F6434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8300C-FED8-4F25-9936-BA4CF118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6B05-EC43-4D76-8164-E5D179F2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AB64-81CF-4F44-AEA4-7A9D813C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D77-9879-495D-9BE9-62936C2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F7D2-924E-477C-B8B7-BF232BCF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6CA0-C209-41A4-B689-582DE7E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60979-F1ED-4A65-846C-110699B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3F12F-539A-4777-BC30-1ED20CB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7120-ECD7-4392-AF08-73872D2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8276-5C60-4135-9AF3-CA3950BB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97A6-F460-459B-B498-435F000E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B992B-3F42-4B70-AE40-097EBB95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BCF56-5977-45C9-9EEC-0BA0283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A7E16-C820-4936-99D1-6CEF776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0637-68D7-4803-A474-B85CDBEA5C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ECA-EE55-49F3-8C86-90D732D126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15E-EEFF-42D1-AAB4-5746F7380C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969-E016-498D-8836-413C98E19F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1E45-082A-4279-9CEA-DB5FEDAE0B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7A9-72C0-4F7E-8633-A37B38765A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3B1-4D0A-42A0-A909-88B3415AD2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A61-BAEA-4461-9C98-2D07DDAE93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4DA-078A-4062-9EE6-6562B9A655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00" name="Объект 3" descr=""/>
          <p:cNvPicPr/>
          <p:nvPr/>
        </p:nvPicPr>
        <p:blipFill>
          <a:blip r:embed="rId2"/>
          <a:stretch/>
        </p:blipFill>
        <p:spPr>
          <a:xfrm>
            <a:off x="2849400" y="1554120"/>
            <a:ext cx="359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03T16:04:50Z</dcterms:modified>
  <cp:revision>64</cp:revision>
  <dc:subject/>
  <dc:title>Слайд 1</dc:title>
</cp:coreProperties>
</file>