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CE3F-BBFC-4612-834F-BF621E70E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602B-1183-4E72-BE10-6AEA72BC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37917-5796-45A2-8602-ED83992A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84B43-4F58-4DA5-AB3E-13BA02B9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0F46E-1114-490B-8EAE-9168194F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89E1E-96FB-4658-BF3F-55D36ECE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07832-0FBB-49F9-AA7D-7F7331FF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FCF22-36F2-4E4B-BC90-1DED1FC4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973AF-3122-4E7E-B4F9-EE472EA8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A7F05-93EB-425D-8ECD-46CCC9EB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AFD2E-F286-49D0-8551-E130A9F7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C336-B062-4416-A412-81FB417A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2D0A-98AC-488D-B111-DB78EAEFD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27F8-08ED-4279-8837-A7F6F9B4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3693-14C3-46EE-A671-DB0A405A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9772-B9CB-421C-9E03-B20D3992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5845-A011-4087-8764-8B10E2E8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E3D9-3254-4792-A97B-3C3A6099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317D-B765-4F35-81AB-4390C101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A15F-9644-42AD-8AAD-20515390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7F86-30D5-4A90-89C8-63D80FBC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E05F-5DFC-4B37-96BB-D4E1884D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EE37-D92D-4487-BE6B-5EEE501E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FCD6-EAB5-4260-A28A-26753E68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DCC6-34BE-443A-93B9-77EAD937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F1D2-0022-422B-8AE5-A7D15A4C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10B32-E0DC-42FB-B564-8F3E3E14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E9780-9DEA-42B7-828E-3B05D15B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2BE88-853D-4782-8096-5CE314AB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E3FF4-7523-485F-BADE-01A60A5E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765DE-BA48-48FC-A697-7C4FB7BF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E30F-BD90-4395-AF2A-E524B9EE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CBB4E-60D7-4268-9C62-219C1ADA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88F16-2F2F-4CC9-9701-926F622B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1FF9E-3909-4807-98EE-8AAFE279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F268B-A848-4BEE-8DCE-EFF1293A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3A061-9281-4F7D-92F2-56AABA50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4BDC0-DB82-461F-B9B9-E3B22D55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18B6F-1DC4-4F47-9CFE-549796E5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75F56-09F2-4966-BE6F-70197A79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F29A5-D2A1-4C2C-992E-79087995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3D8F0-F608-4916-BB44-10F13CF8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2E6C-6C1B-4EF9-8047-B9595DE8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315DD-6465-40CD-8640-9587D6B2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1DCF5-C506-4F3C-A591-D24FE92C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0489E-3098-486C-8180-64D39F76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31081-88EB-4815-9D09-1FDB4F72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F0604-8123-4624-B71B-206E3825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ECFDD-F0B7-4EF0-BA5B-A65BE66D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282A7-2DA2-47CB-92DD-5FA03B0F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56A13-CBA2-4EB4-A012-BF54E8B9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100F6-283C-4876-8FCE-E494B17B4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C312C-B946-4251-87C5-0FFDE88B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919B-40C0-4884-83D4-28454276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D0CC9-0BF7-4AA1-9DF5-33DDC5FC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8F460-5D20-4050-9A5D-F1478076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B4502-5F77-46D0-85F1-893E04F6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A90B5-52F9-40E8-9609-67E0A6CE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DEC7A-C913-4F48-AA0A-941F6BAA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AE365-8B15-4A4F-85D4-2F243644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0FC2E-850F-4D1B-8453-99E29955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A6EDE-F0A1-4FCE-8765-50F4F04F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3179D-283F-4D05-AF85-06B3A6B8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CB48C-4D1A-43BF-99AC-CDF6E63C2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4865-48BF-4911-9254-9EA648A1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1A5CC-0D95-468A-9B1E-2521F6C5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4F283-E878-4623-9C3B-B536B7BFC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1CE5F-799D-483E-B7E8-77D40F8D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DBC27-7DAF-4A7A-9EF7-400365E0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14113-33A6-491D-B6CB-88632F45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ED7F5-C763-4601-9C0D-1B79ECF2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5A52D-965F-4FCD-A29F-3C084AA3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4D2DD-A8BF-4E50-9073-96FCFAC5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F7A60-6459-40DC-A2EF-6F8F3B52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0DCF9-1848-4775-922A-90544DDF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BDBB-B493-479F-8949-3B25143A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B1700-52D5-4358-88FC-71500838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6CCD8-0007-459C-835F-12866EA0D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56149-E016-4398-A0AB-F1576F88D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34AB6-28AC-4B2A-8398-CED391A03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32027-BE70-4668-98C9-AD4F64EC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4E463-267C-4359-AA98-8295C2BC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456A2-A83D-43EC-ACBB-E54836C2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45427-2E2A-4CA3-B131-FB792D3C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BC889-6F18-426F-83FC-32FE6D32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40865-83B4-4636-B1D8-58229A54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988F-4AAC-4FF9-A14F-5F558710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64751-55E3-465B-A0F0-4F65CD44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2EB54-996F-4C24-85E6-132E6F03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0E997-712F-42F2-9162-7B27F139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7C572-6E7C-4E72-B873-E517E5EF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A6DD9-11F2-4BC0-85C3-4E8B2F30D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D3856-4AE9-483A-91AF-06DE51AEA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0E5A4-1FE3-4801-8E53-6A8F78A8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C4E11-172A-478A-B270-0B3AE55D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932A7-4557-4D04-A0E0-BFA7FA83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2E697-FB32-4A17-8EAB-B1679AD0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B47C-B13A-48CE-9A5D-DAF04922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CF27F-85C9-482A-B3CB-838A2036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97435-5893-4893-BC97-AC4E23F1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56BD8-1836-49A2-A2B6-648B7860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5D00E-D92A-4246-83BA-D0EDEF75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1F783-315A-46E4-A1EB-D1A2E7DE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5E60B-D04F-4D51-AC36-C809200D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2EA38-3B47-4B6C-A966-4AB387FA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76036-287F-401C-BEB6-C30398100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402A7-F705-4E1F-9F72-5382B262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40E39-FC8A-4CB1-B0C7-650305CA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A8C8-3FD2-478B-9B26-939211BD2A4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CDD7-3355-46F3-AEDC-947A7670F62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FE35-291A-4748-9DE6-894D10CF2B0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E341-0E9F-496B-803E-FA27652E89D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B3A0-0325-40CE-BB29-2229FADA6E9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0320-9119-40E2-9BB8-6B355E94F3F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2570-08A9-442B-8A1A-7E477F2318E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5ED4-CD70-4E22-89F5-2DC7E85AD35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EC74-D598-46EC-A945-645FCA54806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122480"/>
          </a:xfrm>
          <a:prstGeom prst="rect">
            <a:avLst/>
          </a:prstGeom>
          <a:ln w="0">
            <a:noFill/>
          </a:ln>
        </p:spPr>
      </p:pic>
      <p:pic>
        <p:nvPicPr>
          <p:cNvPr id="400" name="Объект 3" descr=""/>
          <p:cNvPicPr/>
          <p:nvPr/>
        </p:nvPicPr>
        <p:blipFill>
          <a:blip r:embed="rId2"/>
          <a:stretch/>
        </p:blipFill>
        <p:spPr>
          <a:xfrm>
            <a:off x="2849400" y="1554120"/>
            <a:ext cx="3597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5-03T16:04:50Z</dcterms:modified>
  <cp:revision>64</cp:revision>
  <dc:subject/>
  <dc:title>Слайд 1</dc:title>
</cp:coreProperties>
</file>