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8D0-5329-45DA-BD5D-399339A6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740-698B-412D-8C3A-46708ADB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038-6ECD-4309-B6D1-C269F97D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147-82CC-4920-924A-5FBE994B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123-FAF9-4F3B-91E6-2D342C85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8E0-25F9-411A-AC45-E3160D5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144-C1E0-4BC1-AD29-2CFA7777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37A-B375-4D5A-8A17-701ACD1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6EB-D2C2-4F4A-A452-0BCD8B52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C25-DE86-405B-B029-7A79C50F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E14-8AAF-4284-9681-22E1F15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34B-5DFA-410C-972E-FA1D265B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69E-36CA-4EF9-9529-4D6C7F9404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5481"/>
                </a:solidFill>
                <a:latin typeface="Arial"/>
              </a:rPr>
              <a:t>Альтернативные источники энергии</a:t>
            </a:r>
            <a:br>
              <a:rPr sz="3600"/>
            </a:br>
            <a:r>
              <a:rPr b="0" lang="ru-RU" sz="3600" spc="-1" strike="noStrike">
                <a:solidFill>
                  <a:srgbClr val="2b5481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2b5481"/>
                </a:solidFill>
                <a:latin typeface="Arial"/>
              </a:rPr>
              <a:t>Энергия вет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4400640"/>
            <a:ext cx="450036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сильева Дар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а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Сланцевская СОШ №1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– Л.Н.Стер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179880" y="63817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нцы 2015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9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е энергии вет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920" y="2333520"/>
            <a:ext cx="6266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Первое использование ветра - Фото 12871/7"/>
          <p:cNvPicPr/>
          <p:nvPr/>
        </p:nvPicPr>
        <p:blipFill>
          <a:blip r:embed="rId2"/>
          <a:stretch/>
        </p:blipFill>
        <p:spPr>
          <a:xfrm>
            <a:off x="0" y="2565360"/>
            <a:ext cx="2619360" cy="39337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17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вые энергия ветра была использована на парусных суд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17" descr="Alt_Endeavour at sea"/>
          <p:cNvPicPr/>
          <p:nvPr/>
        </p:nvPicPr>
        <p:blipFill>
          <a:blip r:embed="rId3"/>
          <a:stretch/>
        </p:blipFill>
        <p:spPr>
          <a:xfrm>
            <a:off x="5940360" y="9079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8"/>
          <p:cNvSpPr/>
          <p:nvPr/>
        </p:nvSpPr>
        <p:spPr>
          <a:xfrm>
            <a:off x="2700360" y="2490840"/>
            <a:ext cx="180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0 лет до нашей эры в Персии для размола зерна применялись простые ветряные мельн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24" descr="Ветер на службе человечества SmartGrid.ru"/>
          <p:cNvPicPr/>
          <p:nvPr/>
        </p:nvPicPr>
        <p:blipFill>
          <a:blip r:embed="rId4"/>
          <a:stretch/>
        </p:blipFill>
        <p:spPr>
          <a:xfrm>
            <a:off x="4572000" y="3573360"/>
            <a:ext cx="2854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veu"/>
          <p:cNvPicPr/>
          <p:nvPr/>
        </p:nvPicPr>
        <p:blipFill>
          <a:blip r:embed="rId2"/>
          <a:stretch/>
        </p:blipFill>
        <p:spPr>
          <a:xfrm>
            <a:off x="5749920" y="981000"/>
            <a:ext cx="3394080" cy="4319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765000"/>
            <a:ext cx="529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роэнерг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– это такая отрасль энергетики, которая преобразовывает кинетическую энергию воздушных масс в атмосфере в различные формы энергии, : механическую, тепловую электрическую или любую другую, и которые являются удобными для использования в народном хозяйст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90-м году в Дании была построена первая ветроэлектростанц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Ветер на службе человечества SmartGrid.ru"/>
          <p:cNvPicPr/>
          <p:nvPr/>
        </p:nvPicPr>
        <p:blipFill>
          <a:blip r:embed="rId3"/>
          <a:stretch/>
        </p:blipFill>
        <p:spPr>
          <a:xfrm>
            <a:off x="250920" y="4221000"/>
            <a:ext cx="2409840" cy="249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вая ветроэлектростанц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инусы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троэнергети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65720" y="1341360"/>
            <a:ext cx="4643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 влияет на работу телевизионной се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ки являются источниками интенсивного инфразвукового шума, что нехорошо влияет на человека и его организ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чивость скорости вет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большой территории для размещения ветровой устан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«Плюсы» ветроэнергетик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0" y="138600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 влияния на тепловой баланс атмосферы Зем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ровые энергетические установки не потребляют кислор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не выбрасывают углекислый газ и другие загрязните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реобразования кинетической энергии воздушных масс в различные виды энер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97080" y="0"/>
            <a:ext cx="9731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аны, которые используют ветроэнергетик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609264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энергетику   используют многие страны: Китай, США, Германия, Испания, Италия, Канада, Дания и др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wind-turbine-germany-660"/>
          <p:cNvPicPr/>
          <p:nvPr/>
        </p:nvPicPr>
        <p:blipFill>
          <a:blip r:embed="rId2"/>
          <a:stretch/>
        </p:blipFill>
        <p:spPr>
          <a:xfrm>
            <a:off x="250920" y="3645000"/>
            <a:ext cx="3240000" cy="2125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wind-turbines-canada-660"/>
          <p:cNvPicPr/>
          <p:nvPr/>
        </p:nvPicPr>
        <p:blipFill>
          <a:blip r:embed="rId3"/>
          <a:stretch/>
        </p:blipFill>
        <p:spPr>
          <a:xfrm>
            <a:off x="6012000" y="1341360"/>
            <a:ext cx="28080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880560"/>
            <a:ext cx="331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41120" y="3888720"/>
            <a:ext cx="49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 из самых больших ветроэлектростанций России расположена в  поселке Куликово Зеленоградского района Калининградской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страхани  установлен и действует автономный ветропар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Газета &quot;Энергия России&quot; - ОАО РАО &quot;ЕЭС России&quot;"/>
          <p:cNvPicPr/>
          <p:nvPr/>
        </p:nvPicPr>
        <p:blipFill>
          <a:blip r:embed="rId2"/>
          <a:stretch/>
        </p:blipFill>
        <p:spPr>
          <a:xfrm>
            <a:off x="4859280" y="1197000"/>
            <a:ext cx="3419640" cy="228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Технология Новости Опаньки!"/>
          <p:cNvPicPr/>
          <p:nvPr/>
        </p:nvPicPr>
        <p:blipFill>
          <a:blip r:embed="rId3"/>
          <a:stretch/>
        </p:blipFill>
        <p:spPr>
          <a:xfrm>
            <a:off x="5076720" y="3716280"/>
            <a:ext cx="3454560" cy="293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108000" y="1159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троэлектростанция в Росс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4:47:19Z</dcterms:created>
  <dc:creator>111</dc:creator>
  <dc:description/>
  <dc:language>en-US</dc:language>
  <cp:lastModifiedBy>MAMA</cp:lastModifiedBy>
  <dcterms:modified xsi:type="dcterms:W3CDTF">2015-05-03T15:33:58Z</dcterms:modified>
  <cp:revision>6</cp:revision>
  <dc:subject/>
  <dc:title>Энергия ветра</dc:title>
</cp:coreProperties>
</file>