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AD2-E59F-4949-91AE-332BF960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6D36-2701-463C-BA80-BB11BD9B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F6A3-AAC3-477D-B506-8E8F0948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2587-3239-42AC-BEA0-025B0857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7321-A10E-4A62-BCFA-CEC80230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E037-B697-4F64-A6F4-F9F08200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BECB-4A93-4035-A94C-89137452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D8BD-35FB-42C9-AB24-B827336B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2E7E-A6E1-4F50-B978-6BBAE5DE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E61C-FBDE-4AAB-B789-A61D69AC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12AE-8BD0-4194-B7D0-8A545036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7987-D442-4FD3-A659-2CD258BE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C0FE-181D-4DD5-8B46-397243E8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A405-323D-488D-A595-47C3B4C4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F14D-777D-49D1-9FA8-C5BCDAFF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29F2-E2C5-4DEA-8AD2-1017786E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5A47-EBB5-43D3-9DF1-841C575F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71742-2AAA-4BFC-8985-0876A0C4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6DC5D-D8D8-4A79-9A34-61A02E8F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FA361-5B83-4B5D-9A2B-0006C7AA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1BCD8-BCB4-4420-9589-BDBFCCEA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8E197-A038-4006-B926-36DE2590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B0BC-C042-404B-B7A4-3B1FA833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7E069-7A60-428D-BDC3-15184376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7CAE3-F15E-42FF-ABF7-240FBEE8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5C082-0DF6-43B5-94B4-987E89F3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BF5DF-FC0C-4078-B499-6474CD5D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960F3-6E81-4A3C-9352-EC8E8AA6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23D8F-84A1-4595-8482-02875DA8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D4628-B84D-456B-95D2-FD1A2D20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09765-C3E8-4002-AABD-869EDFC7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4FB5A-D061-446B-A8D1-A2480B44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909D8-756F-42D2-8461-C0FA589D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1EC7-4582-4879-9D80-F825937E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149B3-B0A6-404B-9F2C-8D6A400C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455F7-8FB4-4271-B825-954ABD1E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BFB3A-8F1D-4057-9D10-D0E240CA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63442-5FF3-445F-9D39-87C222C3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1E895-95AB-434B-A496-F983CAC1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ECA89-3E18-4D71-B207-329FD655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10008-B45A-44CE-9E64-D76F4BD3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842F6-A0C7-4FAE-A225-D149B9D3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6443C-E918-41C6-B651-DED52ECF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919A2-1765-482C-AF69-B3F3073A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7517-6A93-407C-81A8-DC54CCAB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B2641-58DA-4387-9ECE-69F9CA9B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89A30-688A-4854-9F34-901FBB3B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46391-FCF4-4F06-B8B2-62A9FC9C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BF2EE-4DC7-4BD3-AFF6-A2DADA98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94846-011C-4DA5-9CC6-D8486452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546D5-6E65-449B-852A-042E9EC2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4F0E8-9EB0-41E8-8086-4080C8B5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2609F-8C63-4F5B-9D18-4B20DB0E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2216A-E8B8-4D11-A500-5C994EF1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6DCC4-81CE-4D5F-A1BE-43B9CADB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7287-FF7E-4F10-BDD2-9D6A0730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38AA8-E9CB-48C9-8BEB-E732B39A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50F3-B779-4C08-98FB-D8470ABB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A24C-2C00-4548-8C57-CD5F0CCF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8FE0-5160-4CF0-A35D-33899267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prstGeom prst="pi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prstGeom prst="pi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0A93-300E-4291-AD25-F79EF3B259E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prstGeom prst="pi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F6F4-15F0-464C-92D8-9135558B8FB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prstGeom prst="pi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B498-1AFB-4898-AEED-4B0252FFC30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9627-D55E-41C1-995E-0929D739B43E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prstGeom prst="pi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613A-F009-4185-983C-E07645A4F1A7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belopolye@yandex.ru" TargetMode="External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velib.com/biography/makarenko_anton" TargetMode="External"/><Relationship Id="rId2" Type="http://schemas.openxmlformats.org/officeDocument/2006/relationships/hyperlink" Target="http://img-novosib.fotki.yandex.ru/get/5410/89635038.553/0_6d0c3_74aaeb04_XL" TargetMode="External"/><Relationship Id="rId3" Type="http://schemas.openxmlformats.org/officeDocument/2006/relationships/hyperlink" Target="http://www.graycell.ru/picture/big/makarenko.jpg" TargetMode="External"/><Relationship Id="rId4" Type="http://schemas.openxmlformats.org/officeDocument/2006/relationships/hyperlink" Target="http://www.miradox.ru/files/news/images/makarienko.jpg" TargetMode="External"/><Relationship Id="rId5" Type="http://schemas.openxmlformats.org/officeDocument/2006/relationships/hyperlink" Target="http://www.interesniy.kiev.ua/storage/imglib/i/excursion_base/83921/a0412.jpg" TargetMode="External"/><Relationship Id="rId6" Type="http://schemas.openxmlformats.org/officeDocument/2006/relationships/hyperlink" Target="http://www.psmb.ru/typo3temp/pics/1588eede61.jpg" TargetMode="External"/><Relationship Id="rId7" Type="http://schemas.openxmlformats.org/officeDocument/2006/relationships/hyperlink" Target="http://img-novosib.fotki.yandex.ru/get/5815/90468072.31d/0_70030_95d69bab_L" TargetMode="External"/><Relationship Id="rId8" Type="http://schemas.openxmlformats.org/officeDocument/2006/relationships/hyperlink" Target="http://tpsdruk.files.wordpress.com/2011/04/fotolia_10056462_xs.jpg?w=300&amp;h=300" TargetMode="External"/><Relationship Id="rId9" Type="http://schemas.openxmlformats.org/officeDocument/2006/relationships/hyperlink" Target="http://activerain.com/image_store/uploads/6/2/4/9/5/ar127060611559426.jpg" TargetMode="External"/><Relationship Id="rId10" Type="http://schemas.openxmlformats.org/officeDocument/2006/relationships/hyperlink" Target="http://www.volgmed.ru/uploads/files/2011-10/7283-vnimanie.jpg" TargetMode="External"/><Relationship Id="rId11" Type="http://schemas.openxmlformats.org/officeDocument/2006/relationships/hyperlink" Target="http://mundodacamila.files.wordpress.com/2009/06/megaphone.jpg" TargetMode="External"/><Relationship Id="rId1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Прямоугольник 1"/>
          <p:cNvGrpSpPr/>
          <p:nvPr/>
        </p:nvGrpSpPr>
        <p:grpSpPr>
          <a:xfrm>
            <a:off x="407880" y="55440"/>
            <a:ext cx="8321760" cy="505080"/>
            <a:chOff x="407880" y="55440"/>
            <a:chExt cx="8321760" cy="505080"/>
          </a:xfrm>
        </p:grpSpPr>
        <p:pic>
          <p:nvPicPr>
            <p:cNvPr id="216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07880" y="55440"/>
              <a:ext cx="832176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68360" y="115920"/>
              <a:ext cx="820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БОУ СПО «Трубчевский профессионально – педагогический колледж» 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18" name="Прямоугольник 2"/>
          <p:cNvGrpSpPr/>
          <p:nvPr/>
        </p:nvGrpSpPr>
        <p:grpSpPr>
          <a:xfrm>
            <a:off x="4267080" y="4091040"/>
            <a:ext cx="4870440" cy="779400"/>
            <a:chOff x="4267080" y="4091040"/>
            <a:chExt cx="4870440" cy="779400"/>
          </a:xfrm>
        </p:grpSpPr>
        <p:pic>
          <p:nvPicPr>
            <p:cNvPr id="219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267080" y="4091040"/>
              <a:ext cx="487044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4371840" y="4149720"/>
              <a:ext cx="471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Franklin Gothic Book"/>
                </a:rPr>
                <a:t>Выполнила:</a:t>
              </a:r>
              <a:r>
                <a:rPr b="0" lang="en-US" sz="1800" spc="-1" strike="noStrike">
                  <a:solidFill>
                    <a:srgbClr val="ffffff"/>
                  </a:solidFill>
                  <a:latin typeface="Franklin Gothic Book"/>
                </a:rPr>
                <a:t> C</a:t>
              </a:r>
              <a:r>
                <a:rPr b="0" lang="ru-RU" sz="1800" spc="-1" strike="noStrike">
                  <a:solidFill>
                    <a:srgbClr val="ffffff"/>
                  </a:solidFill>
                  <a:latin typeface="Franklin Gothic Book"/>
                </a:rPr>
                <a:t>. И.Филиппова  преподаватель педагогики.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21" name="Прямоугольник 3"/>
          <p:cNvGrpSpPr/>
          <p:nvPr/>
        </p:nvGrpSpPr>
        <p:grpSpPr>
          <a:xfrm>
            <a:off x="2852640" y="6211800"/>
            <a:ext cx="3640320" cy="652680"/>
            <a:chOff x="2852640" y="6211800"/>
            <a:chExt cx="3640320" cy="652680"/>
          </a:xfrm>
        </p:grpSpPr>
        <p:pic>
          <p:nvPicPr>
            <p:cNvPr id="222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2852640" y="6211800"/>
              <a:ext cx="364032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914560" y="6253200"/>
              <a:ext cx="352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Трубчевск, </a:t>
              </a:r>
              <a:br>
                <a:rPr sz="1400"/>
              </a:b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2014 г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24" name="Rectangle 14"/>
          <p:cNvSpPr/>
          <p:nvPr/>
        </p:nvSpPr>
        <p:spPr>
          <a:xfrm>
            <a:off x="4422240" y="324576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25" name="Прямоугольник 2"/>
          <p:cNvGrpSpPr/>
          <p:nvPr/>
        </p:nvGrpSpPr>
        <p:grpSpPr>
          <a:xfrm>
            <a:off x="590400" y="1584360"/>
            <a:ext cx="7815240" cy="1958760"/>
            <a:chOff x="590400" y="1584360"/>
            <a:chExt cx="7815240" cy="1958760"/>
          </a:xfrm>
        </p:grpSpPr>
        <p:pic>
          <p:nvPicPr>
            <p:cNvPr id="226" name="Прямоугольник 2" descr=""/>
            <p:cNvPicPr/>
            <p:nvPr/>
          </p:nvPicPr>
          <p:blipFill>
            <a:blip r:embed="rId4"/>
            <a:stretch/>
          </p:blipFill>
          <p:spPr>
            <a:xfrm>
              <a:off x="590400" y="1584360"/>
              <a:ext cx="7815240" cy="17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774720" y="1711440"/>
              <a:ext cx="7446960" cy="18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ffffff"/>
                  </a:solidFill>
                  <a:latin typeface="Franklin Gothic Book"/>
                </a:rPr>
                <a:t>Педагогическая деятельность </a:t>
              </a:r>
              <a:endParaRPr b="0" lang="en-US" sz="3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ffffff"/>
                  </a:solidFill>
                  <a:latin typeface="Franklin Gothic Book"/>
                </a:rPr>
                <a:t>Антона Семёновича Макаренко</a:t>
              </a:r>
              <a:endParaRPr b="0" lang="en-US" sz="3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179280" y="333360"/>
            <a:ext cx="8642520" cy="583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Идеи и опыт И. П. Иванова как последователя А. С. Макаренко могут творчески развиваться при их переносе на всю систему деятельности школы в целом. Это подтверждается современной работой в педагогике В. А. Караковского, Л. И. Новиковой, Н. Л. Селивановой, действием «школьных воспитательных систем».</a:t>
            </a:r>
            <a:endParaRPr b="0" lang="en-US" sz="29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Установка на ведущую роль труда в воспитании поддерживается опытом сельских школ, в ходе «выживания» использующих принцип хозяйствования, экономической активности труда.</a:t>
            </a:r>
            <a:endParaRPr b="0" lang="en-US" sz="29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5"/>
          <p:cNvSpPr/>
          <p:nvPr/>
        </p:nvSpPr>
        <p:spPr>
          <a:xfrm>
            <a:off x="0" y="1413000"/>
            <a:ext cx="9144000" cy="5256000"/>
          </a:xfrm>
          <a:prstGeom prst="rect">
            <a:avLst/>
          </a:prstGeom>
          <a:gradFill rotWithShape="0">
            <a:gsLst>
              <a:gs pos="0">
                <a:srgbClr val="9ceefe">
                  <a:alpha val="82352"/>
                </a:srgbClr>
              </a:gs>
              <a:gs pos="100000">
                <a:srgbClr val="6edbe0"/>
              </a:gs>
            </a:gsLst>
            <a:lin ang="5400000"/>
          </a:gradFill>
          <a:ln cap="rnd" w="57240">
            <a:solidFill>
              <a:srgbClr val="f96a1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468360" y="-1233360"/>
            <a:ext cx="8459640" cy="246528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6"/>
          <p:cNvSpPr/>
          <p:nvPr/>
        </p:nvSpPr>
        <p:spPr>
          <a:xfrm>
            <a:off x="0" y="1557360"/>
            <a:ext cx="914400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ервая советская канд. диссертация по макаренковедению на тему: «Педагогический опыт А. С. Макаренко» была защищена в Москве 21 июня 1941 г. в Учёном совете института им. К Либкнехта Иваном Фёдоровичем Козловым. Ведущее место в зарубежном «макаренковедении» занимает основанная в 1968 году в ФРГ лаборатория по изучению наследия А. С. Макаренко, являющаяся подразделением самого крупного учреждения педагогического «остфоршунга» — исследовательского центра сравнительной педагогики Марбургского университета. Там была предпринята попытка издания трудов Макаренко на немецком и русском языках с восстановлением цензурных купюр, но в 1982, после выхода семи томов, издание было прекращено.Признание и известность как среди среди российских, так и зарубежных макаренковедов, получили, в частности, труды проф. Гётца Хиллига (ФРГ), иностр. члена РАО РФ и АПН Украины, президента (до 2002 г.) Международной макаренковской ассоциации (ММА). С 2002 г. ММА возглавляет к.ф.н. Кораблёва Т.Ф.</a:t>
            </a:r>
            <a:endParaRPr b="0" lang="en-US" sz="2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2"/>
          <p:cNvSpPr/>
          <p:nvPr/>
        </p:nvSpPr>
        <p:spPr>
          <a:xfrm>
            <a:off x="179280" y="1844640"/>
            <a:ext cx="8640720" cy="503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Электронный архив произведений А. С. Макаренко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«Мажор» (1932; пьеса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«Марш 30 года» (1932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«ФД—1» (1932; очерк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«Педагогическая поэма» (1925—1935)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«Педагогическая поэма» (с испр. замеч. опечаток, восст. буква «ё», появилось оглавление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«Педагогическая поэма» (первое полное издание от 2003 г., науч. ред., сост. и прим. С. С. Невская, обнародовано в сети по решению рук. ЦВР им. А. С. Макаренко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«Книга для родителей» (1937; художественно-теоретическое сочинение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«Честь» (1937—1938; повесть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«Флаги на башнях» (1938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«Флаги на башнях» (по бумажн. изд. испр. многочисл. опечатки, восст. буква «ё», появилось оглавление и пр.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«Методика организации воспитательного процесса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«Лекции о воспитании детей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3" name="Прямоугольник 1" descr=""/>
          <p:cNvPicPr/>
          <p:nvPr/>
        </p:nvPicPr>
        <p:blipFill>
          <a:blip r:embed="rId1"/>
          <a:stretch/>
        </p:blipFill>
        <p:spPr>
          <a:xfrm rot="21325200">
            <a:off x="684000" y="188640"/>
            <a:ext cx="5327640" cy="162720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2" descr=""/>
          <p:cNvPicPr/>
          <p:nvPr/>
        </p:nvPicPr>
        <p:blipFill>
          <a:blip r:embed="rId2"/>
          <a:stretch/>
        </p:blipFill>
        <p:spPr>
          <a:xfrm>
            <a:off x="6156360" y="189000"/>
            <a:ext cx="221760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1"/>
          <p:cNvSpPr/>
          <p:nvPr/>
        </p:nvSpPr>
        <p:spPr>
          <a:xfrm>
            <a:off x="250920" y="2349360"/>
            <a:ext cx="8642160" cy="420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Исследовательская лаборатория «Воспитательная педагогика А. С. Макаренко» (Нижегородский ГПУн-т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умской государственный педагогический университет им. А. С. Макаренко,       (г. Сумы, Украина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Институт педагогики им. А. С. Макаренко (основан в 1960 г. в Гаване, р. Куба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Центр образования № 656 им. А. С. Макаренко САО г. Москвы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Республиканская школа-интернат среднего (общего) образования                           с гуманитарным профилем им А. С. Макаренко (Баку, Азербайджан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Школа № 1 им. А. С. Макаренко (с. Базаркурган, р.Киргизия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УВК «Школа-лицей» № 3, им. А. С. Макаренко (г. Симферополь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Школа им. А. С. Макаренко, (р. п. Даниловка, Волгоградской обл.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Школа № 6 им. А. С. Макаренко, (г. Арзамас, Нижегородская область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Школа № 22 им. А. С. Макаренко, (г. Воткинск, республика Удмуртия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6" name="Рисунок 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48000" cy="1847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7" name="Прямоугольник 2" descr=""/>
          <p:cNvPicPr/>
          <p:nvPr/>
        </p:nvPicPr>
        <p:blipFill>
          <a:blip r:embed="rId2"/>
          <a:stretch/>
        </p:blipFill>
        <p:spPr>
          <a:xfrm rot="21190200">
            <a:off x="180720" y="456840"/>
            <a:ext cx="618804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0" y="1989000"/>
            <a:ext cx="9144000" cy="534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рден им. А. С. Макаренко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Медаль А. С. Макаренко (Украина) «За достижения в области просвещения и педагогической науки»(учреждена в 1958 году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едагогический музей А. С. Макаренко, 121170, Москва, Поклонная ул., 16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Музей А. С. Макаренко в с. Подворки (Куряж) Харьковской обл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Заповедник-музей А.Макаренко Министерства просвещения Украины 15018, Полтавский район, с. Коваливк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Музей А. С. Макаренко в г. Белополье Сумской обл. </a:t>
            </a:r>
            <a:r>
              <a:rPr b="0" lang="ru-RU" sz="18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belopolye@yandex.ru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едагогическо-мемориальный музей А. С. Макаренко в г. Кременчуге Полтавской обл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Библиотека имени Антона Семёновича Макаренко в Нижнем Новгороде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Центральная библиотека им. А. С. Макаренко, Новосибирск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Микрорайон Макаренко (город Старый Оскол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 IV-м межд. конкурсе им. А. С. Макаренко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айт, посвящённый А. С. Макаренко; электронный архив произведений                  А. С. Макаренко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оспитательная колония для несовершеннолетних им. А. С. Макаренко (быв. Куряжская колония) Харьковская область, село Подворки Дергачёвского р-н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9" name="Прямоугольник 2" descr=""/>
          <p:cNvPicPr/>
          <p:nvPr/>
        </p:nvPicPr>
        <p:blipFill>
          <a:blip r:embed="rId2"/>
          <a:stretch/>
        </p:blipFill>
        <p:spPr>
          <a:xfrm>
            <a:off x="1981080" y="328680"/>
            <a:ext cx="3511800" cy="123192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1" descr=""/>
          <p:cNvPicPr/>
          <p:nvPr/>
        </p:nvPicPr>
        <p:blipFill>
          <a:blip r:embed="rId3"/>
          <a:stretch/>
        </p:blipFill>
        <p:spPr>
          <a:xfrm rot="480600">
            <a:off x="6803640" y="260280"/>
            <a:ext cx="209556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108000" y="1074600"/>
            <a:ext cx="9036000" cy="122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http://www.velib.com/biography/makarenko_anto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Б.М. Бим-Бад, Э.Д. Днепров, Г.Б. Корнетов. Мудрость воспитания. М.; Педагогика. 1989 г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Е.Л. Просолова. «В союзе с красотой». М.; «Просвещение»., 1987 г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TextBox 2"/>
          <p:cNvSpPr/>
          <p:nvPr/>
        </p:nvSpPr>
        <p:spPr>
          <a:xfrm>
            <a:off x="2268360" y="404640"/>
            <a:ext cx="5832720" cy="1068840"/>
          </a:xfrm>
          <a:prstGeom prst="rect">
            <a:avLst/>
          </a:prstGeom>
          <a:gradFill rotWithShape="0">
            <a:gsLst>
              <a:gs pos="0">
                <a:srgbClr val="d24500"/>
              </a:gs>
              <a:gs pos="100000">
                <a:srgbClr val="ff5c00"/>
              </a:gs>
            </a:gsLst>
            <a:lin ang="16200000"/>
          </a:gradFill>
          <a:ln w="9360">
            <a:solidFill>
              <a:srgbClr val="f9661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ИСТОЧНИКИ ИНФОРМАЦИИ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2268360" y="2276640"/>
            <a:ext cx="6048720" cy="1068840"/>
          </a:xfrm>
          <a:prstGeom prst="rect">
            <a:avLst/>
          </a:prstGeom>
          <a:gradFill rotWithShape="0">
            <a:gsLst>
              <a:gs pos="0">
                <a:srgbClr val="d24500"/>
              </a:gs>
              <a:gs pos="100000">
                <a:srgbClr val="ff5c00"/>
              </a:gs>
            </a:gsLst>
            <a:lin ang="16200000"/>
          </a:gradFill>
          <a:ln w="9360">
            <a:solidFill>
              <a:srgbClr val="f9661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ИСТОЧНИКИ ИЛЛЮСТРАЦИЙ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Прямоугольник 4"/>
          <p:cNvSpPr/>
          <p:nvPr/>
        </p:nvSpPr>
        <p:spPr>
          <a:xfrm>
            <a:off x="108000" y="2987640"/>
            <a:ext cx="9036000" cy="40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2"/>
              </a:rPr>
              <a:t>http://img-novosib.fotki.yandex.ru/get/5410/89635038.553/0_6d0c3_74aaeb04_X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3"/>
              </a:rPr>
              <a:t>http://www.graycell.ru/picture/big/makarenko.jp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4"/>
              </a:rPr>
              <a:t>http://www.miradox.ru/files/news/images/makarienko.jp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5"/>
              </a:rPr>
              <a:t>http://www.interesniy.kiev.ua/storage/imglib/i/excursion_base/83921/a0412.jp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6"/>
              </a:rPr>
              <a:t>http://www.psmb.ru/typo3temp/pics/1588eede61.jp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7"/>
              </a:rPr>
              <a:t>http://img-novosib.fotki.yandex.ru/get/5815/90468072.31d/0_70030_95d69bab_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8"/>
              </a:rPr>
              <a:t>http://tpsdruk.files.wordpress.com/2011/04/fotolia_10056462_xs.jpg?w=300&amp;h=30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9"/>
              </a:rPr>
              <a:t>http://activerain.com/image_store/uploads/6/2/4/9/5/ar127060611559426.jp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10"/>
              </a:rPr>
              <a:t>http://www.volgmed.ru/uploads/files/2011-10/7283-vnimanie.jp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11"/>
              </a:rPr>
              <a:t>http://mundodacamila.files.wordpress.com/2009/06/megaphone.jp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http://itxkyle2321.files.wordpress.com/2010/09/2308011862_4b3a97d237_z.jpe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http://img.zoneland.ru/images6/104300chernila.png.jp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http://kp.ru/f/12/image/76/75/2857576.jp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http://www.mk.ru/upload/iblock_mk/475/63/c9/fb/DETAIL_PICTURE_564321.jp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http://images03.olx-st.com/ui/11/79/49/1302448654_187487049_1----.jp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4"/>
          <p:cNvSpPr txBox="1"/>
          <p:nvPr/>
        </p:nvSpPr>
        <p:spPr>
          <a:xfrm>
            <a:off x="179280" y="260280"/>
            <a:ext cx="8785440" cy="62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28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5280" y="1413000"/>
            <a:ext cx="8353440" cy="5256000"/>
          </a:xfrm>
          <a:prstGeom prst="rect">
            <a:avLst/>
          </a:prstGeom>
          <a:gradFill rotWithShape="0">
            <a:gsLst>
              <a:gs pos="0">
                <a:srgbClr val="9ceefe">
                  <a:alpha val="82352"/>
                </a:srgbClr>
              </a:gs>
              <a:gs pos="100000">
                <a:srgbClr val="6edbe0"/>
              </a:gs>
            </a:gsLst>
            <a:lin ang="5400000"/>
          </a:gradFill>
          <a:ln cap="rnd" w="57240">
            <a:solidFill>
              <a:srgbClr val="f96a1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26560" y="1628640"/>
            <a:ext cx="4032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А.С. Макаренко разработал педагогическую систему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н внес новые идеи изменения в воспитание и обучение детей, благодаря собственной педагогической деятельности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Гуманизм и коллективизм основы творчества деятельности Макаренко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едагогические труды Макаренко актуальны, потому что обращены к будущему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есь личный опыт Макаренко обращен к людям, к каждому, и каждый черпает из этого нечто важное для своего роста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WordArt 6"/>
          <p:cNvSpPr txBox="1"/>
          <p:nvPr/>
        </p:nvSpPr>
        <p:spPr>
          <a:xfrm>
            <a:off x="900000" y="260280"/>
            <a:ext cx="763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86000"/>
                  </a:srgbClr>
                </a:solidFill>
                <a:latin typeface="Times New Roman"/>
              </a:rPr>
              <a:t>Вклад в развитие педагог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  <p:pic>
        <p:nvPicPr>
          <p:cNvPr id="231" name="Picture 16" descr="Mischrnko P"/>
          <p:cNvPicPr/>
          <p:nvPr/>
        </p:nvPicPr>
        <p:blipFill>
          <a:blip r:embed="rId1"/>
          <a:stretch/>
        </p:blipFill>
        <p:spPr>
          <a:xfrm>
            <a:off x="5508720" y="1628640"/>
            <a:ext cx="2973240" cy="489744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Прямоугольник 1" descr=""/>
          <p:cNvPicPr/>
          <p:nvPr/>
        </p:nvPicPr>
        <p:blipFill>
          <a:blip r:embed="rId1"/>
          <a:stretch/>
        </p:blipFill>
        <p:spPr>
          <a:xfrm rot="21237600">
            <a:off x="826560" y="333000"/>
            <a:ext cx="5486400" cy="162720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2" descr=""/>
          <p:cNvPicPr/>
          <p:nvPr/>
        </p:nvPicPr>
        <p:blipFill>
          <a:blip r:embed="rId2"/>
          <a:stretch/>
        </p:blipFill>
        <p:spPr>
          <a:xfrm>
            <a:off x="684360" y="2349360"/>
            <a:ext cx="3887640" cy="414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4" name="Picture 4" descr="сканирование06398"/>
          <p:cNvPicPr/>
          <p:nvPr/>
        </p:nvPicPr>
        <p:blipFill>
          <a:blip r:embed="rId3"/>
          <a:stretch/>
        </p:blipFill>
        <p:spPr>
          <a:xfrm>
            <a:off x="5435640" y="1700280"/>
            <a:ext cx="3355920" cy="46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298800" y="260280"/>
            <a:ext cx="4469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«…наши дети — это наша старость.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Прямоугольник 2"/>
          <p:cNvSpPr/>
          <p:nvPr/>
        </p:nvSpPr>
        <p:spPr>
          <a:xfrm>
            <a:off x="4282920" y="836640"/>
            <a:ext cx="48610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«Научить человека быть счастливым — нельзя, но воспитать его так, чтобы он был счастливым, можно.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3276720" y="2060640"/>
            <a:ext cx="4572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«Воспитание происходит всегда, даже тогда, когда вас нет дома.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Прямоугольник 5"/>
          <p:cNvSpPr/>
          <p:nvPr/>
        </p:nvSpPr>
        <p:spPr>
          <a:xfrm>
            <a:off x="4368240" y="3141720"/>
            <a:ext cx="4284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«Книги — это переплетённые люди.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9" name="Рисунок 4" descr=""/>
          <p:cNvPicPr/>
          <p:nvPr/>
        </p:nvPicPr>
        <p:blipFill>
          <a:blip r:embed="rId1"/>
          <a:stretch/>
        </p:blipFill>
        <p:spPr>
          <a:xfrm>
            <a:off x="611280" y="1050840"/>
            <a:ext cx="2403360" cy="2403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0" name="Прямоугольник 1"/>
          <p:cNvSpPr/>
          <p:nvPr/>
        </p:nvSpPr>
        <p:spPr>
          <a:xfrm>
            <a:off x="250920" y="3789360"/>
            <a:ext cx="871380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«С вершин «олимпийских» кабинетов не различают никаких деталей и частей работы. Оттуда видно только безбрежное море безликого детства, а в самом кабинете стоит модель абстрактного ребёнка, сделанная из самых лёгких материалов: идей, печатной бумаги, маниловской мечты… «Олимпийцы» презирают технику. Благодаря их владычеству давно захирела в наших педвузах педагогически техническая мысль, в особенности в деле собственного воспитания. Во всей нашей советской жизни нет более жалкого технического состояния, чем в области воспитания. И поэтому воспитательское дело есть дело кустарное, а из кустарных производств — самое отсталое.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179280" y="189000"/>
            <a:ext cx="856944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«Наше педагогическое производство никогда не строилось по технологической логике, а всегда по логике моральной проповеди. Это особенно заметно в области собственного воспитания… Почему в технических вузах мы изучаем сопротивление материалов, а в педагогических не изучаем сопротивление личности, когда её начинают воспитывать?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181080" y="5300640"/>
            <a:ext cx="871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Моя работа с беспризорными отнюдь не была специальной работой с беспризорными детьми. Во-первых, в качестве рабочей гипотезы я с первых дней своей работы с беспризорными установил, что никаких особых методов по отношению к беспризорным употреблять не нужно …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3" name="Рисунок 4" descr=""/>
          <p:cNvPicPr/>
          <p:nvPr/>
        </p:nvPicPr>
        <p:blipFill>
          <a:blip r:embed="rId1"/>
          <a:stretch/>
        </p:blipFill>
        <p:spPr>
          <a:xfrm>
            <a:off x="2414520" y="2060640"/>
            <a:ext cx="4098960" cy="307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1"/>
          <p:cNvSpPr/>
          <p:nvPr/>
        </p:nvSpPr>
        <p:spPr>
          <a:xfrm>
            <a:off x="179280" y="189000"/>
            <a:ext cx="878544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«Вы можете быть с ними сухи до последней степени, требовательны до придирчивости, вы можете не замечать их… но если вы блещете работой, знанием, удачей, то спокойно не оглядывайтесь: они на вашей стороне… И наоборот, как бы вы ни были ласковы, занимательны в разговоре, добры и приветливы… если ваше дело сопровождается неудачами и провалами, если на каждом шагу видно, что вы своего дела не знаете… никогда вы ничего не заслужите, кроме презрения…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Прямоугольник 2"/>
          <p:cNvSpPr/>
          <p:nvPr/>
        </p:nvSpPr>
        <p:spPr>
          <a:xfrm>
            <a:off x="5076720" y="3357720"/>
            <a:ext cx="388800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«Сорок сорокарублёвых педагогов могут привести к полному разложению не только коллектив беспризорных, но и какой угодно коллектив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6" name="Рисунок 3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368784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2"/>
          <p:cNvSpPr/>
          <p:nvPr/>
        </p:nvSpPr>
        <p:spPr>
          <a:xfrm>
            <a:off x="539640" y="476280"/>
            <a:ext cx="82076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оспитание детей начинается с того возраста, когда никакие логические доказательства и предъявление общественных прав вообще невозможны, а между тем без авторитета невозможен воспитатель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4716360" y="1773360"/>
            <a:ext cx="4176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Борясь с ленью, нужно бороться с  другим недостатком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4859280" y="3284640"/>
            <a:ext cx="396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«Отказаться от риска — значит отказаться от творчества.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0" name="Рисунок 1" descr=""/>
          <p:cNvPicPr/>
          <p:nvPr/>
        </p:nvPicPr>
        <p:blipFill>
          <a:blip r:embed="rId1"/>
          <a:stretch/>
        </p:blipFill>
        <p:spPr>
          <a:xfrm>
            <a:off x="469800" y="2421000"/>
            <a:ext cx="3961080" cy="39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1" name="Прямоугольник 5"/>
          <p:cNvSpPr/>
          <p:nvPr/>
        </p:nvSpPr>
        <p:spPr>
          <a:xfrm>
            <a:off x="4932360" y="4724280"/>
            <a:ext cx="38894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«Словесное воспитание без сопровождающей гимнастики поведения есть самое преступное вредительство»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"/>
          <p:cNvSpPr/>
          <p:nvPr/>
        </p:nvSpPr>
        <p:spPr>
          <a:xfrm>
            <a:off x="179280" y="1341360"/>
            <a:ext cx="8785440" cy="5327640"/>
          </a:xfrm>
          <a:prstGeom prst="rect">
            <a:avLst/>
          </a:prstGeom>
          <a:gradFill rotWithShape="0">
            <a:gsLst>
              <a:gs pos="0">
                <a:srgbClr val="9ceefe">
                  <a:alpha val="82352"/>
                </a:srgbClr>
              </a:gs>
              <a:gs pos="100000">
                <a:srgbClr val="6edbe0"/>
              </a:gs>
            </a:gsLst>
            <a:lin ang="5400000"/>
          </a:gradFill>
          <a:ln cap="rnd" w="57240">
            <a:solidFill>
              <a:srgbClr val="f96a1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468360" y="-747720"/>
            <a:ext cx="8224920" cy="19447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68360" y="1557360"/>
            <a:ext cx="82072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им из распространённых приёмов критиков системы А. С. Макаренко было и остаётся утверждение, что эта система хорошо работала якобы только в руках своего создателя. Это опровергается как подробным выверенным описанием системы в произведениях самого А. С. Макаренко (поневоле и преимущественно в виде художественно-научного изложения), так и успешной многолетней деятельностью целого ряда его последователей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и наиболее известных последователей и продолжателей деятельности А. С. Макаренко из его воспитанников нужно назвать в первую очередь Семёна Афанасьевича Калабалина (1903—1972) и его супругу Галину Константиновну (1908—1999, в «Педагогической поэме» — Семён Карабанов и Галина Подгорная («черниговка»)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0" y="1268280"/>
            <a:ext cx="9144000" cy="5589720"/>
          </a:xfrm>
          <a:prstGeom prst="rect">
            <a:avLst/>
          </a:prstGeom>
          <a:gradFill rotWithShape="0">
            <a:gsLst>
              <a:gs pos="0">
                <a:srgbClr val="9ceefe">
                  <a:alpha val="82352"/>
                </a:srgbClr>
              </a:gs>
              <a:gs pos="100000">
                <a:srgbClr val="6edbe0"/>
              </a:gs>
            </a:gsLst>
            <a:lin ang="5400000"/>
          </a:gradFill>
          <a:ln cap="rnd" w="57240">
            <a:solidFill>
              <a:srgbClr val="f96a1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Игорь Петрович Иванов (1923 — 1992) — доктор педагогических наук, академик Российской академии образования, профессор ЛГПИ им. А. И. Герцена, лауреат премии имени Антона Макаренко.    </a:t>
            </a:r>
            <a:endParaRPr b="1" lang="en-US" sz="21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И. П. Иванов — последователь А. С. Макаренко, как деятеля, который дал мощный творческий импульс развитию «воспитательной педагогики».</a:t>
            </a:r>
            <a:endParaRPr b="1" lang="en-US" sz="21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1959 г. —  под его руководством была организована Коммуна юных  фрунзенцев (КЮФ) — школа районного актива старшеклассников, в 1963 г. — Коммуна им. А. С. Макаренко (КИМ) — содружество студентов, увлечённых идеями великого воспитателя и педагога . По примеру ленинградцев коммунарские отряды, подростковые, студенческие и педагогические клубы стали возникать по всей стране. </a:t>
            </a:r>
            <a:endParaRPr b="1" lang="en-US" sz="21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Главная заслуга И. П. Иванова в освоении наследия А. С. Макаренко состоит в том, что он в педагогической теории и практике последовательно утверждал идею о специфике воспитания.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WordArt 5"/>
          <p:cNvSpPr txBox="1"/>
          <p:nvPr/>
        </p:nvSpPr>
        <p:spPr>
          <a:xfrm>
            <a:off x="1619280" y="189000"/>
            <a:ext cx="58323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. П. Иванов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11:58:42Z</dcterms:created>
  <dc:creator>Slim</dc:creator>
  <dc:description/>
  <dc:language>en-US</dc:language>
  <cp:lastModifiedBy>Admin</cp:lastModifiedBy>
  <dcterms:modified xsi:type="dcterms:W3CDTF">2015-04-21T12:38:27Z</dcterms:modified>
  <cp:revision>21</cp:revision>
  <dc:subject/>
  <dc:title>Презентация PowerPoint</dc:title>
</cp:coreProperties>
</file>