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E45B-A558-4453-9081-CF5072BD7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D301-F739-4CD0-80CD-AAF22B3A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FE36-4EA3-4DAA-924B-A4F8512C9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9D3E-04FF-4606-8767-22BDA2424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5EE0-A800-497E-B6A4-3B234CE7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E3FE-617F-4C23-84AC-8CA799BC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C950-A7D2-410E-826A-EE01E801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EADD-769C-4A55-87F0-EC085BF0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CE7F-6AB3-4E89-8A2B-AD2DB991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776D-EE90-416F-8310-46BA0226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E7B7-F8A7-41C1-A63F-82E076AE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A515-2466-4691-8593-010E8CC0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3CEF-05DD-49F4-BDC9-3B20EB6B0C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435280" y="4078080"/>
            <a:ext cx="3524040" cy="16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веркунова В.Н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читель физ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БОУ «СОШ №1 с углубленны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зучением  отдельных предметов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395280" y="1286280"/>
            <a:ext cx="482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уку все глубже постигнуть стремис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знанием вечного жаждой томи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Лишь первых познаний блеснет тебе св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Узнаешь: предела для знания н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Фирдоуси, персидский поэ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940-1030 г.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авила использования амперметр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ключается амперметр в цепь последовательно с тем прибором, силу тока в котором измеряют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ключение амперметра производится с помощью двух клемм, или двух зажимов: (+) и (-). Клемму со  знаком (+) нужно обязательно соединять с проводом, идущим от (+) полюса источник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случае "зашкаливания" — выхода стрелки за пределы шкалы — немедленно разомкните цепь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еречь прибор от резких ударов и тряски, пыл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&amp;Acy;&amp;mcy;&amp;pcy;&amp;iecy;&amp;rcy;&amp;mcy;&amp;iecy;&amp;tcy;&amp;rcy; 50&amp;Acy; (72&amp;khcy;72) - &amp;Pcy;&amp;rcy;&amp;icy;&amp;bcy;&amp;ocy;&amp;rcy;&amp;ycy; &amp;pcy;&amp;ocy;&amp;scy;&amp;tcy;&amp;ocy;&amp;yacy;&amp;ncy;&amp;ncy;&amp;ocy;&amp;gcy;&amp;ocy; &amp;tcy;&amp;ocy;&amp;kcy;&amp;acy; - &amp;SHCHcy;&amp;icy;&amp;tcy;&amp;ocy;&amp;vcy;&amp;ycy;&amp;iecy; &amp;pcy;…"/>
          <p:cNvPicPr/>
          <p:nvPr/>
        </p:nvPicPr>
        <p:blipFill>
          <a:blip r:embed="rId1"/>
          <a:stretch/>
        </p:blipFill>
        <p:spPr>
          <a:xfrm>
            <a:off x="1547640" y="0"/>
            <a:ext cx="676944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Практическая работ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измерение силы тока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выяснить какой прибор необходим для измерения силы тока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как пользоваться данным прибором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измерить силу тока на разных участках цепи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2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одержимое 4"/>
          <p:cNvSpPr/>
          <p:nvPr/>
        </p:nvSpPr>
        <p:spPr>
          <a:xfrm>
            <a:off x="539640" y="1844640"/>
            <a:ext cx="81788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СПАСИБО ЗА РАБОТУ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4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Повторение ранее изученного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то такое электрический ток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равленное, упорядоченное движение свободных заряженных частиц под действием электрического пол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12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Все ли частицы при направленном движении могут создавать электрический ток?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электрон;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протон;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нейтрон;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(+) ион;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атом;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(-) ион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зовите, вещества, относящиеся к проводникам, и скажите, какие заряженные частицы образуют ток в этих проводниках при распространении в них электрического поля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ед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зи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желез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ал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люмин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ластмасс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екл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ерами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ерево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акие условия должны быть выполнены, для того чтобы в проводнике сколь угодно долго протекал электрический ток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акие источники тока бываю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4" descr="http://festival.1september.ru/articles/101785/img11.gif"/>
          <p:cNvPicPr/>
          <p:nvPr/>
        </p:nvPicPr>
        <p:blipFill>
          <a:blip r:embed="rId1"/>
          <a:stretch/>
        </p:blipFill>
        <p:spPr>
          <a:xfrm>
            <a:off x="324000" y="1700280"/>
            <a:ext cx="856908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&amp;Icy;&amp;zcy;&amp;mcy;&amp;iecy;&amp;rcy;&amp;iecy;&amp;ncy;&amp;icy;&amp;yacy; &amp;ecy;&amp;lcy;&amp;iecy;&amp;kcy;&amp;tcy;&amp;rcy;&amp;icy;&amp;chcy;&amp;iecy;&amp;scy;&amp;kcy;&amp;icy;&amp;khcy; &amp;icy; &amp;mcy;&amp;acy;&amp;gcy;&amp;ncy;&amp;icy;&amp;tcy;&amp;ncy;&amp;ycy;&amp;khcy; &amp;vcy;&amp;iecy;&amp;lcy;&amp;icy;&amp;chcy;&amp;icy;&amp;ncy; - &amp;Fcy;&amp;Bcy;&amp;Ucy; &quot;&amp;Gcy;&amp;ocy;&amp;scy;&amp;ucy;&amp;dcy;&amp;acy;&amp;rcy;&amp;scy;&amp;tcy;&amp;vcy;&amp;iecy;&amp;ncy;&amp;ncy;&amp;ycy;&amp;jcy; &amp;rcy;&amp;iecy;&amp;gcy;&amp;icy;&amp;ocy;&amp;ncy;&amp;acy;&amp;lcy;&amp;softcy;&amp;ncy;&amp;ycy;&amp;jcy; &amp;tscy;&amp;iecy;&amp;ncy;&amp;tcy;&amp;rcy; &amp;scy;&amp;tcy;&amp;acy;&amp;ncy;&amp;dcy;&amp;acy;&amp;rcy;&amp;tcy;&amp;icy;&amp;zcy;&amp;acy;&amp;tscy;&amp;icy;&amp;icy;, &amp;mcy;&amp;iecy;&amp;tcy;&amp;rcy;&amp;ocy;&amp;lcy;&amp;ocy;&amp;gcy;&amp;icy;&amp;icy; &amp;icy; &amp;icy;&amp;scy;&amp;pcy;&amp;ycy;&amp;tcy;&amp;acy;&amp;ncy;&amp;icy;&amp;jcy; &amp;vcy; &amp;Kcy;"/>
          <p:cNvPicPr/>
          <p:nvPr/>
        </p:nvPicPr>
        <p:blipFill>
          <a:blip r:embed="rId1"/>
          <a:stretch/>
        </p:blipFill>
        <p:spPr>
          <a:xfrm>
            <a:off x="900000" y="0"/>
            <a:ext cx="6696360" cy="655488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4"/>
          <p:cNvSpPr/>
          <p:nvPr/>
        </p:nvSpPr>
        <p:spPr>
          <a:xfrm>
            <a:off x="2268360" y="1557360"/>
            <a:ext cx="71928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435280" y="4149360"/>
            <a:ext cx="35240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веркунова В.Н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читель физ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БОУ «СОШ №1 с углубленны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зучением  отдельных предметов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"/>
          <p:cNvSpPr/>
          <p:nvPr/>
        </p:nvSpPr>
        <p:spPr>
          <a:xfrm>
            <a:off x="971640" y="1964880"/>
            <a:ext cx="77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мперметр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змерение силы то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измерение силы тока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выяснить какой прибор необходим для измерения силы тока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как пользоваться данным прибором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измерить силу тока на разных участках цепи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аля</dc:creator>
  <dc:description/>
  <dc:language>en-US</dc:language>
  <cp:lastModifiedBy>Валя</cp:lastModifiedBy>
  <dcterms:modified xsi:type="dcterms:W3CDTF">2015-03-18T16:54:14Z</dcterms:modified>
  <cp:revision>29</cp:revision>
  <dc:subject/>
  <dc:title>Слайд 1</dc:title>
</cp:coreProperties>
</file>