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8A5-2966-428D-B0B3-9CFE9614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8F0-77B4-437A-9E38-859B7FA8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967-24CE-4735-A694-BC771C48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964-496D-4BC8-9D27-36CE8E08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F9D-0AA1-4B4C-A27F-A6726A5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664-1F19-41DB-9280-E2B3632E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921-D2F2-4B9A-8C67-C2351ED3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334-B459-49EE-96FF-7AAFA547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017-5015-40D1-A5B3-C7D784F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3DA-E721-4DD2-9C95-97B87D0B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0E0-513A-4948-AC71-3D0475D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D77-3655-443B-89AE-BF1561E0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0589-B80A-4CA3-A04C-95D09CB02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35280" y="4078080"/>
            <a:ext cx="352404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ркунова В.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СОШ №1 с углублен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учением 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95280" y="1286280"/>
            <a:ext cx="48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уку все глубже постигнуть стреми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нанием вечного жаждой том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ь первых познаний блеснет тебе 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наешь: предела для знания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рдоуси, персидский поэ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940-1030 г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ила использования ампермет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ключается амперметр в цепь последовательно с тем прибором, силу тока в котором измеряю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ключение амперметра производится с помощью двух клемм, или двух зажимов: (+) и (-). Клемму со  знаком (+) нужно обязательно соединять с проводом, идущим от (+) полюса источ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лучае "зашкаливания" — выхода стрелки за пределы шкалы — немедленно разомкните цепь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речь прибор от резких ударов и тряски, пы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&amp;Acy;&amp;mcy;&amp;pcy;&amp;iecy;&amp;rcy;&amp;mcy;&amp;iecy;&amp;tcy;&amp;rcy; 50&amp;Acy; (72&amp;khcy;72) - &amp;Pcy;&amp;rcy;&amp;icy;&amp;bcy;&amp;ocy;&amp;rcy;&amp;ycy; &amp;pcy;&amp;ocy;&amp;scy;&amp;tcy;&amp;ocy;&amp;yacy;&amp;ncy;&amp;ncy;&amp;ocy;&amp;gcy;&amp;ocy; &amp;tcy;&amp;ocy;&amp;kcy;&amp;acy; - &amp;SHCHcy;&amp;icy;&amp;tcy;&amp;ocy;&amp;vcy;&amp;ycy;&amp;iecy; &amp;pcy;…"/>
          <p:cNvPicPr/>
          <p:nvPr/>
        </p:nvPicPr>
        <p:blipFill>
          <a:blip r:embed="rId1"/>
          <a:stretch/>
        </p:blipFill>
        <p:spPr>
          <a:xfrm>
            <a:off x="1547640" y="0"/>
            <a:ext cx="67694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ение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ыяснить какой прибор необходим для измерения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как пользоваться данным прибором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ить силу тока на разных участках цеп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одержимое 4"/>
          <p:cNvSpPr/>
          <p:nvPr/>
        </p:nvSpPr>
        <p:spPr>
          <a:xfrm>
            <a:off x="539640" y="1844640"/>
            <a:ext cx="81788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вторение ранее изученного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электрический то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ое, упорядоченное движение свободных заряженных частиц под действием электрического п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2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се ли частицы при направленном движении могут создавать электрический ток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электрон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тон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ейтрон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(+) ион;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ат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(-) ион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зовите, вещества, относящиеся к проводникам, и скажите, какие заряженные частицы образуют ток в этих проводниках при распространении в них электрического поля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д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з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л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люми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стмас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кл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ерам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рево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ие условия должны быть выполнены, для того чтобы в проводнике сколь угодно долго протекал электрический ток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ие источники тока бываю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http://festival.1september.ru/articles/101785/img11.gif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&amp;Icy;&amp;zcy;&amp;mcy;&amp;iecy;&amp;rcy;&amp;iecy;&amp;ncy;&amp;icy;&amp;yacy; &amp;ecy;&amp;lcy;&amp;iecy;&amp;kcy;&amp;tcy;&amp;rcy;&amp;icy;&amp;chcy;&amp;iecy;&amp;scy;&amp;kcy;&amp;icy;&amp;khcy; &amp;icy; &amp;mcy;&amp;acy;&amp;gcy;&amp;ncy;&amp;icy;&amp;tcy;&amp;ncy;&amp;ycy;&amp;khcy; &amp;vcy;&amp;iecy;&amp;lcy;&amp;icy;&amp;chcy;&amp;icy;&amp;ncy; - &amp;Fcy;&amp;Bcy;&amp;Ucy; &quot;&amp;Gcy;&amp;ocy;&amp;scy;&amp;ucy;&amp;dcy;&amp;acy;&amp;rcy;&amp;scy;&amp;tcy;&amp;vcy;&amp;iecy;&amp;ncy;&amp;ncy;&amp;ycy;&amp;jcy; &amp;rcy;&amp;iecy;&amp;gcy;&amp;icy;&amp;ocy;&amp;ncy;&amp;acy;&amp;lcy;&amp;softcy;&amp;ncy;&amp;ycy;&amp;jcy; &amp;tscy;&amp;iecy;&amp;ncy;&amp;tcy;&amp;rcy; &amp;scy;&amp;tcy;&amp;acy;&amp;ncy;&amp;dcy;&amp;acy;&amp;rcy;&amp;tcy;&amp;icy;&amp;zcy;&amp;acy;&amp;tscy;&amp;icy;&amp;icy;, &amp;mcy;&amp;iecy;&amp;tcy;&amp;rcy;&amp;ocy;&amp;lcy;&amp;ocy;&amp;gcy;&amp;icy;&amp;icy; &amp;icy; &amp;icy;&amp;scy;&amp;pcy;&amp;ycy;&amp;tcy;&amp;acy;&amp;ncy;&amp;icy;&amp;jcy; &amp;vcy; &amp;Kcy;"/>
          <p:cNvPicPr/>
          <p:nvPr/>
        </p:nvPicPr>
        <p:blipFill>
          <a:blip r:embed="rId1"/>
          <a:stretch/>
        </p:blipFill>
        <p:spPr>
          <a:xfrm>
            <a:off x="900000" y="0"/>
            <a:ext cx="6696360" cy="65548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268360" y="1557360"/>
            <a:ext cx="719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435280" y="4149360"/>
            <a:ext cx="35240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ркунова В.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СОШ №1 с углублен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учением 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971640" y="19648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мпермет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мерение силы т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ение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ыяснить какой прибор необходим для измерения силы ток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как пользоваться данным прибором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измерить силу тока на разных участках цеп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я</dc:creator>
  <dc:description/>
  <dc:language>en-US</dc:language>
  <cp:lastModifiedBy>Валя</cp:lastModifiedBy>
  <dcterms:modified xsi:type="dcterms:W3CDTF">2015-03-18T16:54:14Z</dcterms:modified>
  <cp:revision>29</cp:revision>
  <dc:subject/>
  <dc:title>Слайд 1</dc:title>
</cp:coreProperties>
</file>