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192-FBFA-4054-9B65-BA5C5E06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85C-E9EC-42DA-94BB-A21F0E62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678-716A-4471-999B-EF854165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152-53F0-4E6D-A2A6-2D656E2D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901F-CA3F-4B94-A69F-0BF6D9AD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181-657C-4DA1-BDDE-A20D6F5B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0B3-87DF-4FEE-988E-B89730CE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E2AC-962A-42BC-810A-17D0C065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C21-82B1-44DF-9FA2-0F87B7C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86E7-00CE-444D-9B41-0752239A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5192-4BE0-4AF9-93DD-B7B0671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29D-8951-40B3-867F-5693C63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E2DA-E6AD-46A3-94BF-182B8F8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6A69-BDBB-446B-8715-D6F156C5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18D2-686B-431C-B676-DD6A0391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C473-F5A8-4096-BFC0-D64626F8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3011-1EC1-4613-A9AF-7E8461BA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95D2-D375-45B3-8613-6E861523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66E8-0A3B-4133-AE21-9B51496D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C844-D920-422E-8044-77C69A1F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C1AD-9F70-480D-AE80-8F57DB93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883A-A693-42FD-A894-DACE92AD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54E-957F-4CEB-B01A-2B57F371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04AA-B478-4FEE-9A5E-5DC4B15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B91A-2566-4FAC-9756-95382246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9921-0EDD-4561-BB06-2A2BCAAD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CAB4-4540-4E81-BFB1-53679AD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FB15-B303-41FE-94A5-27469264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D518-EFA3-405E-AFE9-871C99FE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1742-72A6-4B4C-8172-AC13F019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6425-7673-4C30-B892-1A687CE7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B1D1C-1755-49D7-87D2-430306D7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F893-37E3-4804-82C4-ECBCF70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65B-4150-41F7-9AA7-7AA93F96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EBC1-CA57-419C-96C0-6DCDBCBE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22EC-48E9-47DF-9EB5-2466306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5BAA-5199-4FE8-B80D-4A385161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C8ED-1099-4805-96EB-56E0D36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090E-A876-4DE7-98BA-D96987B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3E6C-AEAE-4721-A580-53536F3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3BDE-012C-44B0-AEE6-03E644AE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6D35-4C90-458E-8A51-07621620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4183-22BF-49E3-B041-070991A7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E15D-32D7-48F6-B517-A6F03E6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6AC-0B35-427D-A16D-5B1FBE7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BCD0-1203-48C5-8A67-CEF87EB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D043-BB7B-4B50-AE4C-808D8A2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E72D-D451-4362-9AD5-18A16388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CBFE-1385-407F-BDF2-0598D6F8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5FFA-154E-4414-BD17-7BC5472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BECA-51E6-41D5-B1BB-386E1452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5F77-F35D-422D-95A5-31F3044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FA6E-226A-4CC2-B1A1-F767B38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7885-E561-449B-8F57-C37D75EC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42060-98C2-4EAC-9136-74F45659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A50-4FDA-4832-BD58-18B10C9C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7220-669C-4231-ADDD-B6393ED0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988-2730-4199-BF07-AC6627D5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205-C012-4C8D-B589-293CACF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8BF-66DE-4A6E-9695-09DDAD7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661-D61E-4CB3-BAC0-B26732EBA3A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9439-A1B6-4A83-98D8-C46E69CC020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629-261E-4005-AF7D-39485B8D44E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4FC-9091-4C30-B9AA-38E5A12B558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8BC1-E6AC-448E-A0E0-F2F037659D2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6480" y="1225440"/>
            <a:ext cx="8296560" cy="5315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38080" y="1557360"/>
            <a:ext cx="3927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день – 3 ча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неделю – 21 ча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месяц – 84 часа – 3,5 суто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год – 1008 часов – 42 суток – 1 месяц 12 дн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За 10 лет – 10080 часов – 420 суток – 1 год 1 месяц 25 дн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За 25 лет - 25200 часов – 1050 суток – 2 года 10 месяцев 16 дн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17960" y="16282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rebuchet MS"/>
              </a:rPr>
              <a:t>За 60 лет – 60480 часов – 2520 суток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66ffff"/>
                </a:solidFill>
                <a:latin typeface="Trebuchet MS"/>
              </a:rPr>
              <a:t>6 лет 11 месяцев 26 дне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5" descr="157_tempo"/>
          <p:cNvPicPr/>
          <p:nvPr/>
        </p:nvPicPr>
        <p:blipFill>
          <a:blip r:embed="rId2"/>
          <a:stretch/>
        </p:blipFill>
        <p:spPr>
          <a:xfrm>
            <a:off x="5651640" y="3141720"/>
            <a:ext cx="225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746892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огда родители дарят ребенку разумное доверие, воспитывают в нем  свободную личность, тогда он может прекрасно общаться с ровесниками, быть находчивым, остроумным, сообразительным, в меру самоуверенным, способным разобраться в различных  жизненных  ситуация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73080" y="1206360"/>
            <a:ext cx="91011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66600" y="517680"/>
            <a:ext cx="8931240" cy="1347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01680" y="2142720"/>
            <a:ext cx="854064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уховность–это  творческий интеграл человеческого бытия, высшая созидательная сила общества, универсальный критерий его исторической развитост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школа в лице педагогов не способна самостоятельно справиться с этой задач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ником должна быть семья! Так как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емь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это первая общественная ступень в жизни чело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2428920"/>
            <a:ext cx="91440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еловек испытывает воздействие семьи со дня рождения до конца своей жизни. Значит, семейному воспитанию свойственны непрерывность и продолжи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 в этом с семьей не может сравниться ни один воспитательный общественный институ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85840" y="17143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продуктивная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кономическая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оспитательная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ммуникативная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рганизации досуга и отдыха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92160" y="165240"/>
            <a:ext cx="8783640" cy="1382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ервый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аспек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– формирование личности ребенка, развитие его способностей и интересов, передача детям взрослыми членами семьи накопленного обществом социального опыта; выработка  у них научного мировоззр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торой аспек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– систематическое воспитательное воздействие семейного коллектива на каждого его члена в течение всей его жизн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 демократическом стил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режде всего учитываются интересы ребенка. Стиль "согласия"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 авторитарном стил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одителями навязывается свое мнение ребенку. Стиль "подавления"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 попустительском  (либеральном) стил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ебенок предоставляется сам себ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66600" y="324000"/>
            <a:ext cx="875340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тод убеж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тод треб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тод – внуш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Игра, режим д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ощрение и наказ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оль примера родител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133200" y="139680"/>
            <a:ext cx="8676000" cy="1407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этой целью было опрошено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8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ей: 62,5% родителей имеют 2-х детей, 35% - одного ребенка и 25% - 3х де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70% опрошенных родителей ребенок предоставлен «сам себе» все 12 часов в день, у 22,5% - 8 часов и у 7,5% - 4 часа в д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75% опрошенных не знают, чем занимается ребенок в свободное  время, и только 25% иногда знают или догадываются, чем занят их ребенок днем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5:33Z</dcterms:created>
  <dc:creator>1</dc:creator>
  <dc:description/>
  <dc:language>en-US</dc:language>
  <cp:lastModifiedBy>Admin</cp:lastModifiedBy>
  <dcterms:modified xsi:type="dcterms:W3CDTF">2015-05-03T07:53:34Z</dcterms:modified>
  <cp:revision>33</cp:revision>
  <dc:subject/>
  <dc:title> Роль семьи в формировании  личности ребенка. </dc:title>
</cp:coreProperties>
</file>