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DC60-7E91-488A-8938-ABE8B24C6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9512-63C5-4FE9-994B-EA515D82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08B3-E973-4DFA-804B-DA7D6C64E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47C6-554D-43DF-99D5-B132BD9F3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268D-35CC-4709-836C-0FCFACCBB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29C0-E110-44C6-92F0-7524A6FB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8080-527B-4F2E-9404-97612BD2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C2C5-9235-48AE-BAFF-35D5BEA0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DF2C-3B11-4341-8DEA-CD4D6436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F9F2F-ED96-4DA9-A33A-BEAC558D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BC5B-839B-4196-835E-B6198C2E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3731-D0F0-4D0D-AC30-9DC4CADC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5C92-8ABD-486D-AF59-FA357D06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90BC-F14F-4DDB-A6C4-5C940FD6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DF653-51CC-410D-A474-84D37DE4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B6DF-A20A-4492-BDD6-BF968F32B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56EE-895D-4644-BBFA-2C095817F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488D9-4037-4EAA-8D93-491C6D397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36BDE-6F0E-44A8-A809-A21DD872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51F30-2ADA-4873-B2EA-1C5AD3D9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8B892-84EC-4662-97DD-75723FDA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7A13C-B526-4BC7-BA67-BC8BAF36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DD61-6B31-42E4-A34A-05460491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E7B9C-B6BA-461D-BF44-516B0524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46500-C9E8-46FE-821F-4B3D95A0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0343B-A934-434C-A806-09F9E934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7BD30-0ABF-42E1-89FB-5C285829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E02B8-BF8B-4F51-9465-8B454BF3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CE8ED-B421-4F6C-89F7-65FA35B6A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89751-9B7B-4DEB-A51C-2B9B6CFBE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50303-57AA-4549-972F-F439CFB5D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C57E6-0B49-4EC0-8A5F-B0EF8EA3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D9C93-7F14-403D-91EB-FA19CB70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E0DA-BB71-49BF-83C9-FDF0B2F8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F8CA5-FE79-4937-8165-FFEFFB52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24DC3-2781-461F-BEDC-88854A9D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A43EC-F5B0-4972-8848-A7A2682A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90573-082C-49BC-ACE0-8F60C398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EA595-610E-4EBE-8340-0B202EDC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68379-59E6-4E2A-90FC-E29497A2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CF13F-D8DA-4263-BDA2-87BDDC2D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F01A7-8139-4CE0-8622-86BDB412E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802AD-E28D-4C21-A2C9-80D24192B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04F03-0FD1-4140-9853-A02CDC150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41B3-FD74-406B-BD47-D9A1216A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9641D-7555-48F3-A22D-30793006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54DB9-1C56-41A5-A177-4BED2B69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056FB-2E8C-48B6-9810-6673151B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EEF8E-F4D6-4E8F-B7D4-E7E2DBE5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7D105-8C69-4EB0-B18E-CEDC971F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2DF40-13F6-4192-B3FE-75A7F573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F5106-10C0-4BBC-8187-56BA8913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F0003-B5F2-4D87-81E5-E04E3556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A7F1D-0ADF-4F18-9BE8-8A26156F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FEE31-5F90-42E8-9B56-D71ABAD28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3119-9CA4-47F9-B86C-E89754FB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6F060-6AAA-49A6-8F33-8CA8BBE26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F063-4017-483D-9B35-DA4A4E4B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AD4E-652B-4EBE-9193-2016A60D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C9A2-2ED9-45AB-AD51-C21F8DE4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39EC-F9AB-4F88-B621-0221A5A2826E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CDB4-52AA-4F11-BDEC-56D451D885DE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427E-D168-4BC7-9CC5-E1C3ADD8BB20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6250-0042-4B36-B73E-96A52287239B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1043-725C-42EE-A95E-C76EDEE41F75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-6480" y="1225440"/>
            <a:ext cx="8296560" cy="5315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0" y="476280"/>
            <a:ext cx="38577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rebuchet MS"/>
              </a:rPr>
              <a:t>Родительское собрание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Rectangle 2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838080" y="1557360"/>
            <a:ext cx="39276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Trebuchet MS"/>
              </a:rPr>
              <a:t>В день – 3 час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Trebuchet MS"/>
              </a:rPr>
              <a:t>В неделю – 21 час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Trebuchet MS"/>
              </a:rPr>
              <a:t>В месяц – 84 часа – 3,5 суток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Trebuchet MS"/>
              </a:rPr>
              <a:t>В год – 1008 часов – 42 суток – 1 месяц 12 дней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Trebuchet MS"/>
              </a:rPr>
              <a:t>За 10 лет – 10080 часов – 420 суток – 1 год 1 месяц 25 дней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Trebuchet MS"/>
              </a:rPr>
              <a:t>За 25 лет - 25200 часов – 1050 суток – 2 года 10 месяцев 16 дней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917960" y="1628280"/>
            <a:ext cx="3927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ff"/>
                </a:solidFill>
                <a:latin typeface="Trebuchet MS"/>
              </a:rPr>
              <a:t>За 60 лет – 60480 часов – 2520 суток –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ff"/>
                </a:solidFill>
                <a:latin typeface="Trebuchet MS"/>
              </a:rPr>
              <a:t>    </a:t>
            </a:r>
            <a:r>
              <a:rPr b="1" lang="ru-RU" sz="2400" spc="-1" strike="noStrike">
                <a:solidFill>
                  <a:srgbClr val="66ffff"/>
                </a:solidFill>
                <a:latin typeface="Trebuchet MS"/>
              </a:rPr>
              <a:t>6 лет 11 месяцев 26 дней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1" name="Picture 5" descr="157_tempo"/>
          <p:cNvPicPr/>
          <p:nvPr/>
        </p:nvPicPr>
        <p:blipFill>
          <a:blip r:embed="rId2"/>
          <a:stretch/>
        </p:blipFill>
        <p:spPr>
          <a:xfrm>
            <a:off x="5651640" y="3141720"/>
            <a:ext cx="2259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7468920" cy="51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Когда родители дарят ребенку разумное доверие, воспитывают в нем  свободную личность, тогда он может прекрасно общаться с ровесниками, быть находчивым, остроумным, сообразительным, в меру самоуверенным, способным разобраться в различных  жизненных  ситуациях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-73080" y="1206360"/>
            <a:ext cx="9101160" cy="32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66600" y="517680"/>
            <a:ext cx="8931240" cy="13474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301680" y="2142720"/>
            <a:ext cx="8540640" cy="39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Духовность–это  творческий интеграл человеческого бытия, высшая созидательная сила общества, универсальный критерий его исторической развитости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о школа в лице педагогов не способна самостоятельно справиться с этой задаче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мощником должна быть семья! Так как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семья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это первая общественная ступень в жизни человек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Rectangle 2" descr=""/>
          <p:cNvPicPr/>
          <p:nvPr/>
        </p:nvPicPr>
        <p:blipFill>
          <a:blip r:embed="rId1"/>
          <a:stretch/>
        </p:blipFill>
        <p:spPr>
          <a:xfrm>
            <a:off x="255600" y="-128520"/>
            <a:ext cx="7450200" cy="15969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0" y="2428920"/>
            <a:ext cx="9144000" cy="41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Человек испытывает воздействие семьи со дня рождения до конца своей жизни. Значит, семейному воспитанию свойственны непрерывность и продолжительность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И в этом с семьей не может сравниться ни один воспитательный общественный институ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285840" y="171432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репродуктивная,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экономическая,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воспитательная,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коммуникативная,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организации досуга и отдыха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Rectangle 2" descr=""/>
          <p:cNvPicPr/>
          <p:nvPr/>
        </p:nvPicPr>
        <p:blipFill>
          <a:blip r:embed="rId1"/>
          <a:stretch/>
        </p:blipFill>
        <p:spPr>
          <a:xfrm>
            <a:off x="92160" y="165240"/>
            <a:ext cx="8783640" cy="13824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Первый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аспект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– формирование личности ребенка, развитие его способностей и интересов, передача детям взрослыми членами семьи накопленного обществом социального опыта; выработка  у них научного мировоззрен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Второй аспект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 – систематическое воспитательное воздействие семейного коллектива на каждого его члена в течение всей его жизни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При демократическом стиле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прежде всего учитываются интересы ребенка. Стиль "согласия"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При авторитарном стиле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родителями навязывается свое мнение ребенку. Стиль "подавления"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При попустительском  (либеральном) стиле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ребенок предоставляется сам себе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66600" y="324000"/>
            <a:ext cx="8753400" cy="12366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Метод убежден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Метод требовани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Метод – внушени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Игра, режим дн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Поощрение и наказани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Роль примера родителей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Rectangle 2" descr=""/>
          <p:cNvPicPr/>
          <p:nvPr/>
        </p:nvPicPr>
        <p:blipFill>
          <a:blip r:embed="rId1"/>
          <a:stretch/>
        </p:blipFill>
        <p:spPr>
          <a:xfrm>
            <a:off x="133200" y="139680"/>
            <a:ext cx="8676000" cy="14079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этой целью было опрошено </a:t>
            </a: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800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дителей: 62,5% родителей имеют 2-х детей, 35% - одного ребенка и 25% - 3х детей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 70% опрошенных родителей ребенок предоставлен «сам себе» все 12 часов в день, у 22,5% - 8 часов и у 7,5% - 4 часа в день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 этом 75% опрошенных не знают, чем занимается ребенок в свободное  время, и только 25% иногда знают или догадываются, чем занят их ребенок днем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09:35:33Z</dcterms:created>
  <dc:creator>1</dc:creator>
  <dc:description/>
  <dc:language>en-US</dc:language>
  <cp:lastModifiedBy>Admin</cp:lastModifiedBy>
  <dcterms:modified xsi:type="dcterms:W3CDTF">2015-05-03T07:53:34Z</dcterms:modified>
  <cp:revision>33</cp:revision>
  <dc:subject/>
  <dc:title> Роль семьи в формировании  личности ребенка. </dc:title>
</cp:coreProperties>
</file>