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13F-ECFF-49F2-A031-BD150C47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CB3-D9CD-4CE6-B5A6-A1C4BA74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8F7-93C0-499D-A990-ABDE8D9B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B21-4B3F-4DB9-A860-ED3BFABD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DD2F-626C-40F3-97DD-64CEA9D3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FD5D-8ABE-4CFA-AE0C-60751505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2264-5B1C-433E-B3A8-B0B0688A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BBE0-35AC-4249-A078-7978FABB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0878-D8AF-4C7E-84AC-801E0583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CB88-3E7F-4D80-910E-4D548EC6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8887-B046-4CF0-8809-0F218948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897-3405-4189-A1E6-1ED55B01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62C2-3E54-4F6C-825E-8480088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4987-3815-4756-BA85-12288D43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BF0-E447-4D39-AC01-351F04A1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CED6-6942-4515-AC00-E336956E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440F-30B0-4B8F-9FC7-D2CCCCA5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889-52CA-4BA2-813A-0D207D2A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BE8-7E10-4822-B53E-4C9B83B2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847-843C-4A0B-979D-6A212988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4B9-A6F9-4657-B76D-276E6E70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FB5-739C-464A-B530-74B06B6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74F-2486-4967-88DD-0D7A010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9E4-8176-4712-98F5-573463A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B9DE-663F-4B19-A1F0-BA1EA21615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3E9A-EB09-4AB5-AA24-3727FCA5FB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13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65.xml"/><Relationship Id="rId26" Type="http://schemas.openxmlformats.org/officeDocument/2006/relationships/slide" Target="slide53.xml"/><Relationship Id="rId27" Type="http://schemas.openxmlformats.org/officeDocument/2006/relationships/slide" Target="slide55.xml"/><Relationship Id="rId28" Type="http://schemas.openxmlformats.org/officeDocument/2006/relationships/slide" Target="slide57.xml"/><Relationship Id="rId29" Type="http://schemas.openxmlformats.org/officeDocument/2006/relationships/slide" Target="slide59.xml"/><Relationship Id="rId30" Type="http://schemas.openxmlformats.org/officeDocument/2006/relationships/slide" Target="slide61.xml"/><Relationship Id="rId31" Type="http://schemas.openxmlformats.org/officeDocument/2006/relationships/slide" Target="slide63.xml"/><Relationship Id="rId32" Type="http://schemas.openxmlformats.org/officeDocument/2006/relationships/slide" Target="slide19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8101080" y="5877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вантовый мо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0" y="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ел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за   Невской  заставо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6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честь созданного в 1919 г. рабочего университета  в нашем районе назван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абфаковская улица 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ри Рабфаковских переул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проспект, название которого сохранило память о земледельческой ферме в селе Александровс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оспект, название которого сохранило память о земледельческой ферме в селе Александровском 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Проспект Александровской фер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4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станцию метро, расположенную на проспекте Обуховской Обороны в границах бывшего села Александровского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0920" y="474120"/>
            <a:ext cx="842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анция метро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асположенная  на проспекте Обуховской Обороны,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границах бывшего села Александровского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«Пролетарска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современное название Бертовской улицы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7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611280" y="1587600"/>
            <a:ext cx="830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овременное название Бертовской улицы -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Ул. Черно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кой жилищный массив был построен после Великой Отечественной войны на    территории бывшего сел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Михаила Архангел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68360" y="549360"/>
            <a:ext cx="7199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сле Великой Отечественной войны на    территории бывшего села Михаила Архангела был построен 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емецкий  город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кое известное здание   нашего города,  было реконструировано после пожара с  участием Александровского завод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-36360" y="0"/>
          <a:ext cx="9180360" cy="697716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1233360"/>
                <a:gridCol w="1143000"/>
                <a:gridCol w="1143000"/>
                <a:gridCol w="1143000"/>
                <a:gridCol w="1143000"/>
                <a:gridCol w="1143000"/>
              </a:tblGrid>
              <a:tr h="22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AutoShape 99">
            <a:hlinkClick r:id="rId1" action="ppaction://hlinksldjump"/>
          </p:cNvPr>
          <p:cNvSpPr/>
          <p:nvPr/>
        </p:nvSpPr>
        <p:spPr>
          <a:xfrm>
            <a:off x="0" y="40464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100">
            <a:hlinkClick r:id="rId2" action="ppaction://hlinksldjump"/>
          </p:cNvPr>
          <p:cNvSpPr/>
          <p:nvPr/>
        </p:nvSpPr>
        <p:spPr>
          <a:xfrm>
            <a:off x="1187280" y="40464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101">
            <a:hlinkClick r:id="rId3" action="ppaction://hlinksldjump"/>
          </p:cNvPr>
          <p:cNvSpPr/>
          <p:nvPr/>
        </p:nvSpPr>
        <p:spPr>
          <a:xfrm>
            <a:off x="2340000" y="40464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102">
            <a:hlinkClick r:id="rId4" action="ppaction://hlinksldjump"/>
          </p:cNvPr>
          <p:cNvSpPr/>
          <p:nvPr/>
        </p:nvSpPr>
        <p:spPr>
          <a:xfrm>
            <a:off x="3492360" y="40464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103">
            <a:hlinkClick r:id="rId5" action="ppaction://hlinksldjump"/>
          </p:cNvPr>
          <p:cNvSpPr/>
          <p:nvPr/>
        </p:nvSpPr>
        <p:spPr>
          <a:xfrm>
            <a:off x="4643280" y="40464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04">
            <a:hlinkClick r:id="rId6" action="ppaction://hlinksldjump"/>
          </p:cNvPr>
          <p:cNvSpPr/>
          <p:nvPr/>
        </p:nvSpPr>
        <p:spPr>
          <a:xfrm>
            <a:off x="5796000" y="40464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05">
            <a:hlinkClick r:id="rId7" action="ppaction://hlinksldjump"/>
          </p:cNvPr>
          <p:cNvSpPr/>
          <p:nvPr/>
        </p:nvSpPr>
        <p:spPr>
          <a:xfrm>
            <a:off x="6948360" y="404640"/>
            <a:ext cx="936720" cy="107964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894">
                <a:moveTo>
                  <a:pt x="0" y="0"/>
                </a:moveTo>
                <a:lnTo>
                  <a:pt x="21600" y="0"/>
                </a:lnTo>
                <a:lnTo>
                  <a:pt x="21600" y="24894"/>
                </a:lnTo>
                <a:lnTo>
                  <a:pt x="0" y="24894"/>
                </a:lnTo>
                <a:close/>
              </a:path>
              <a:path fill="lightenLess" w="21600" h="248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4">
                <a:moveTo>
                  <a:pt x="21600" y="0"/>
                </a:moveTo>
                <a:lnTo>
                  <a:pt x="21600" y="24894"/>
                </a:lnTo>
                <a:lnTo>
                  <a:pt x="20200" y="23494"/>
                </a:lnTo>
                <a:lnTo>
                  <a:pt x="20200" y="1400"/>
                </a:lnTo>
                <a:close/>
              </a:path>
              <a:path fill="darkenLess" w="21600" h="24894">
                <a:moveTo>
                  <a:pt x="21600" y="24894"/>
                </a:moveTo>
                <a:lnTo>
                  <a:pt x="0" y="24894"/>
                </a:lnTo>
                <a:lnTo>
                  <a:pt x="1400" y="23494"/>
                </a:lnTo>
                <a:lnTo>
                  <a:pt x="20200" y="23494"/>
                </a:lnTo>
                <a:close/>
              </a:path>
              <a:path fill="lighten" w="21600" h="24894">
                <a:moveTo>
                  <a:pt x="0" y="248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07">
            <a:hlinkClick r:id="rId8" action="ppaction://hlinksldjump"/>
          </p:cNvPr>
          <p:cNvSpPr/>
          <p:nvPr/>
        </p:nvSpPr>
        <p:spPr>
          <a:xfrm>
            <a:off x="0" y="220500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108">
            <a:hlinkClick r:id="rId9" action="ppaction://hlinksldjump"/>
          </p:cNvPr>
          <p:cNvSpPr/>
          <p:nvPr/>
        </p:nvSpPr>
        <p:spPr>
          <a:xfrm>
            <a:off x="1187280" y="220500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109">
            <a:hlinkClick r:id="rId10" action="ppaction://hlinksldjump"/>
          </p:cNvPr>
          <p:cNvSpPr/>
          <p:nvPr/>
        </p:nvSpPr>
        <p:spPr>
          <a:xfrm>
            <a:off x="2411280" y="2205000"/>
            <a:ext cx="936720" cy="107964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894">
                <a:moveTo>
                  <a:pt x="0" y="0"/>
                </a:moveTo>
                <a:lnTo>
                  <a:pt x="21600" y="0"/>
                </a:lnTo>
                <a:lnTo>
                  <a:pt x="21600" y="24894"/>
                </a:lnTo>
                <a:lnTo>
                  <a:pt x="0" y="24894"/>
                </a:lnTo>
                <a:close/>
              </a:path>
              <a:path fill="lightenLess" w="21600" h="248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4">
                <a:moveTo>
                  <a:pt x="21600" y="0"/>
                </a:moveTo>
                <a:lnTo>
                  <a:pt x="21600" y="24894"/>
                </a:lnTo>
                <a:lnTo>
                  <a:pt x="20200" y="23494"/>
                </a:lnTo>
                <a:lnTo>
                  <a:pt x="20200" y="1400"/>
                </a:lnTo>
                <a:close/>
              </a:path>
              <a:path fill="darkenLess" w="21600" h="24894">
                <a:moveTo>
                  <a:pt x="21600" y="24894"/>
                </a:moveTo>
                <a:lnTo>
                  <a:pt x="0" y="24894"/>
                </a:lnTo>
                <a:lnTo>
                  <a:pt x="1400" y="23494"/>
                </a:lnTo>
                <a:lnTo>
                  <a:pt x="20200" y="23494"/>
                </a:lnTo>
                <a:close/>
              </a:path>
              <a:path fill="lighten" w="21600" h="24894">
                <a:moveTo>
                  <a:pt x="0" y="248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10">
            <a:hlinkClick r:id="rId11" action="ppaction://hlinksldjump"/>
          </p:cNvPr>
          <p:cNvSpPr/>
          <p:nvPr/>
        </p:nvSpPr>
        <p:spPr>
          <a:xfrm>
            <a:off x="3492360" y="220500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1">
            <a:hlinkClick r:id="rId12" action="ppaction://hlinksldjump"/>
          </p:cNvPr>
          <p:cNvSpPr/>
          <p:nvPr/>
        </p:nvSpPr>
        <p:spPr>
          <a:xfrm>
            <a:off x="4643280" y="220500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112">
            <a:hlinkClick r:id="rId13" action="ppaction://hlinksldjump"/>
          </p:cNvPr>
          <p:cNvSpPr/>
          <p:nvPr/>
        </p:nvSpPr>
        <p:spPr>
          <a:xfrm>
            <a:off x="5796000" y="220500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13">
            <a:hlinkClick r:id="rId14" action="ppaction://hlinksldjump"/>
          </p:cNvPr>
          <p:cNvSpPr/>
          <p:nvPr/>
        </p:nvSpPr>
        <p:spPr>
          <a:xfrm>
            <a:off x="6948360" y="2205000"/>
            <a:ext cx="1043280" cy="107964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53">
                <a:moveTo>
                  <a:pt x="0" y="0"/>
                </a:moveTo>
                <a:lnTo>
                  <a:pt x="21600" y="0"/>
                </a:lnTo>
                <a:lnTo>
                  <a:pt x="21600" y="22353"/>
                </a:lnTo>
                <a:lnTo>
                  <a:pt x="0" y="22353"/>
                </a:lnTo>
                <a:close/>
              </a:path>
              <a:path fill="lightenLess" w="21600" h="223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53">
                <a:moveTo>
                  <a:pt x="21600" y="0"/>
                </a:moveTo>
                <a:lnTo>
                  <a:pt x="21600" y="22353"/>
                </a:lnTo>
                <a:lnTo>
                  <a:pt x="20200" y="20953"/>
                </a:lnTo>
                <a:lnTo>
                  <a:pt x="20200" y="1400"/>
                </a:lnTo>
                <a:close/>
              </a:path>
              <a:path fill="darkenLess" w="21600" h="22353">
                <a:moveTo>
                  <a:pt x="21600" y="22353"/>
                </a:moveTo>
                <a:lnTo>
                  <a:pt x="0" y="22353"/>
                </a:lnTo>
                <a:lnTo>
                  <a:pt x="1400" y="20953"/>
                </a:lnTo>
                <a:lnTo>
                  <a:pt x="20200" y="20953"/>
                </a:lnTo>
                <a:close/>
              </a:path>
              <a:path fill="lighten" w="21600" h="22353">
                <a:moveTo>
                  <a:pt x="0" y="223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5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4">
            <a:hlinkClick r:id="rId15" action="ppaction://hlinksldjump"/>
          </p:cNvPr>
          <p:cNvSpPr/>
          <p:nvPr/>
        </p:nvSpPr>
        <p:spPr>
          <a:xfrm>
            <a:off x="8101080" y="220500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116">
            <a:hlinkClick r:id="rId16" action="ppaction://hlinksldjump"/>
          </p:cNvPr>
          <p:cNvSpPr/>
          <p:nvPr/>
        </p:nvSpPr>
        <p:spPr>
          <a:xfrm>
            <a:off x="0" y="393372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117">
            <a:hlinkClick r:id="rId17" action="ppaction://hlinksldjump"/>
          </p:cNvPr>
          <p:cNvSpPr/>
          <p:nvPr/>
        </p:nvSpPr>
        <p:spPr>
          <a:xfrm>
            <a:off x="1187280" y="393372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118">
            <a:hlinkClick r:id="rId18" action="ppaction://hlinksldjump"/>
          </p:cNvPr>
          <p:cNvSpPr/>
          <p:nvPr/>
        </p:nvSpPr>
        <p:spPr>
          <a:xfrm>
            <a:off x="2340000" y="393372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119">
            <a:hlinkClick r:id="rId19" action="ppaction://hlinksldjump"/>
          </p:cNvPr>
          <p:cNvSpPr/>
          <p:nvPr/>
        </p:nvSpPr>
        <p:spPr>
          <a:xfrm>
            <a:off x="3492360" y="393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20">
            <a:hlinkClick r:id="rId20" action="ppaction://hlinksldjump"/>
          </p:cNvPr>
          <p:cNvSpPr/>
          <p:nvPr/>
        </p:nvSpPr>
        <p:spPr>
          <a:xfrm>
            <a:off x="4643280" y="393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1">
            <a:hlinkClick r:id="rId21" action="ppaction://hlinksldjump"/>
          </p:cNvPr>
          <p:cNvSpPr/>
          <p:nvPr/>
        </p:nvSpPr>
        <p:spPr>
          <a:xfrm>
            <a:off x="5796000" y="393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22">
            <a:hlinkClick r:id="rId22" action="ppaction://hlinksldjump"/>
          </p:cNvPr>
          <p:cNvSpPr/>
          <p:nvPr/>
        </p:nvSpPr>
        <p:spPr>
          <a:xfrm>
            <a:off x="6877080" y="393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23">
            <a:hlinkClick r:id="rId23" action="ppaction://hlinksldjump"/>
          </p:cNvPr>
          <p:cNvSpPr/>
          <p:nvPr/>
        </p:nvSpPr>
        <p:spPr>
          <a:xfrm>
            <a:off x="8101080" y="393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24">
            <a:hlinkClick r:id="rId24" action="ppaction://hlinksldjump"/>
          </p:cNvPr>
          <p:cNvSpPr/>
          <p:nvPr/>
        </p:nvSpPr>
        <p:spPr>
          <a:xfrm>
            <a:off x="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25">
            <a:hlinkClick r:id="rId25" action="ppaction://hlinksldjump"/>
          </p:cNvPr>
          <p:cNvSpPr/>
          <p:nvPr/>
        </p:nvSpPr>
        <p:spPr>
          <a:xfrm>
            <a:off x="118728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126">
            <a:hlinkClick r:id="rId26" action="ppaction://hlinksldjump"/>
          </p:cNvPr>
          <p:cNvSpPr/>
          <p:nvPr/>
        </p:nvSpPr>
        <p:spPr>
          <a:xfrm>
            <a:off x="2340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127">
            <a:hlinkClick r:id="rId27" action="ppaction://hlinksldjump"/>
          </p:cNvPr>
          <p:cNvSpPr/>
          <p:nvPr/>
        </p:nvSpPr>
        <p:spPr>
          <a:xfrm>
            <a:off x="3492360" y="558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128">
            <a:hlinkClick r:id="rId28" action="ppaction://hlinksldjump"/>
          </p:cNvPr>
          <p:cNvSpPr/>
          <p:nvPr/>
        </p:nvSpPr>
        <p:spPr>
          <a:xfrm>
            <a:off x="4643280" y="558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129">
            <a:hlinkClick r:id="rId29" action="ppaction://hlinksldjump"/>
          </p:cNvPr>
          <p:cNvSpPr/>
          <p:nvPr/>
        </p:nvSpPr>
        <p:spPr>
          <a:xfrm>
            <a:off x="5796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30">
            <a:hlinkClick r:id="rId30" action="ppaction://hlinksldjump"/>
          </p:cNvPr>
          <p:cNvSpPr/>
          <p:nvPr/>
        </p:nvSpPr>
        <p:spPr>
          <a:xfrm>
            <a:off x="6877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131">
            <a:hlinkClick r:id="rId31" action="ppaction://hlinksldjump"/>
          </p:cNvPr>
          <p:cNvSpPr/>
          <p:nvPr/>
        </p:nvSpPr>
        <p:spPr>
          <a:xfrm>
            <a:off x="8101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71">
            <a:hlinkClick r:id="rId32" action="ppaction://hlinksldjump"/>
          </p:cNvPr>
          <p:cNvSpPr/>
          <p:nvPr/>
        </p:nvSpPr>
        <p:spPr>
          <a:xfrm>
            <a:off x="8101080" y="40464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8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76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4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звестное здание   нашего города,  которое было реконструировано после пожара с  участием Александровского завода -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дание Зимнего дворц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кой храм находился на месте заводоуправле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АО ГО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«Обуховский завод»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4">
            <a:hlinkClick r:id="rId1" action="ppaction://hlinksldjump"/>
          </p:cNvPr>
          <p:cNvSpPr/>
          <p:nvPr/>
        </p:nvSpPr>
        <p:spPr>
          <a:xfrm>
            <a:off x="781200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месте заводо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АО Г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Обуховский завод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ходился хра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ервоверховного апостола Павл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Архитектор Захар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7931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Какое здание находится на месте церкви  Михаила-Архангела?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7524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330840"/>
            <a:ext cx="8539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ыне на  месте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церкви  Михаила-Арханге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ходитс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задние Центрального научно-исследовательского института судового машинострое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(ЦНИИ СМ)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дворец в Царском Селе перед которым были установлены скульптуры, отлитые на Александровском заводе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3545640"/>
            <a:ext cx="90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Дворец в Царском Селе, перед которым были установлены скульптуры, отлитые на Александровском заводе -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Александровский дворе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611280" y="1133280"/>
            <a:ext cx="795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ензель какой императрицы находится на стен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вято-Троицкой  церкв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селе Александровском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826920" y="618480"/>
            <a:ext cx="72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 стен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вято-Троицкой  церкви в селе Александровском находится Вензель императриц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Екатерины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кие учреждения занимают здание бывшего подворья Важеозерской мужской пустыни, расположенной на улице Крупской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чему один из переулков  бывшего села Смоленского назван Общественным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-1657440" y="2155680"/>
            <a:ext cx="1080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620640"/>
            <a:ext cx="78487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дание бывшего подворья Важеозерской мужской пустыни, расположенной на улице Крупской, занимаю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Невский федеральный суд и   Невский райвоенкома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кой храм находился недалеко от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сторико - краеведческого музе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«Невская застава»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6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-1657440" y="693360"/>
            <a:ext cx="1080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едалеко от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сторико - краеведческого музея «Невская застава» находилась церковь 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Серафима Саровског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кая школа была построе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  10-лети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ктябрьской революци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 углу улиц   Бабушкина и Ткачей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 углу улиц   Бабушкина и Ткач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 10-летию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ктябрьской революции была построе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школа  № 32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738036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900000" y="22600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24000" y="106632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промышленное предприятие бывшего села Михаила Архангела, получившего свое название в честь столицы Австри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4"/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ромышленное предприятие бывшего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ела Михаила Архангела, которое получило свое название в че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толицы Австрии –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пивзавод «Вен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Для обслуживания какой железной дороги были построены               первые паровозы на Александровском заводе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79280" y="33336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ервые паровозы на Александровском заводе были построены  для    обслуживания железной дорог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Санкт-Петербург - Москв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Какую продукцию Пролетарский завод выпуска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 1959 г.  по 1963 г.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дин из переулков  бывшего села Смоленского назван Общественным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так как здесь находился дом Общества ямщиков- «дом с подковой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(не сохранился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4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480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 1959  по 1963 годы Пролетарский завод назывался Ленинградский тепловозостроительный завод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и выпускал тепловозы ТГ-102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Назовите первое градообразующее предприятие села Александровского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вое градообразующее предприят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ела Александровского было основано по указу императора  Павл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 называлос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Александровская мануфакту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кой  знак отличия был введен в 1883 году для вагонов, выпускавшихся на Александровском заводе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1883 году было принято решение помещать на всех вагонах, выпускаемых государственными заводами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отличительный знак в виде   двуглавого орла с арматурам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891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 народного комиссара путей сообщения СССР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мя которого носил Октябрьский электровагоноремонтный завод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96720" y="549360"/>
            <a:ext cx="95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ктябрьский электровагоноремонтный завод носил им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Лазаря Моисеевича Каганович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акой награды был удостоен Обуховский завод в начале ХХ века вместе с другими предприятиями Санкт-Петербурга, аналогов которой нет до сих пор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Указом императора Николая II в 1908 году завод получил право иметь собственный 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26920" y="47628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гда был основан Обуховский завод и где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8086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современное название Московской улицы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 (16) мая 1863 года на 12 версте от Санкт-Петербурга на берегу Невы в Шлиссельбургском пригородном участ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автора первой в России подводной лодки с цельнометаллическим корпусом, построенной на Александровском заводе в 1834 году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втор первой в России подводной лод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цельнометаллическим корпусом, построенной на Александровском завод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1834 году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Карл  Андреевич  Шильдер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генерал-адъютант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оенный инженер  и изобретат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74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Назовите врача, общественного деятеля, который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 1909 года заведовал земской   больницей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в. Михаила Архангел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 1909 года земской   больницей св. Михаила Архангела заведова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рач, общественный деятель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Цимбалин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Владимир Владимирови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408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женщину поэта, в честь которой были переименованы улицы Мирная и Мартыновска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 бывшем селе Смоленск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лицы Мирная и Мартыновская в бывшем селе Смоленском были переименован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 че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Ольги Федоровны Берггольц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зовите танкиста, участни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оветско-финской войны 1939-1940 г.г.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ероя Советского Союз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менем котор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звана улиц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бывшем сел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хаила-Арханге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бывшем сел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хаила-Архангел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лица названа в честь танкиста, участника  советско-финской войны 1939-1940 г.г.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ероя Советского Союз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Дудк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Федора Михайлович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зовите партийного и государственный деятел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 1918 года главного комиссара по делам страховани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лена наркомата торговли и промышленности РСФСР, мужа сестры В. И. Ленина, в честь которого назван проспект в бывшем селе Смоленск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овременное название Московской улицы 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улица Крупской, в честь жены В.И. Ленин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дежды Константиновны Крупск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468360" y="0"/>
            <a:ext cx="98503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артийный и государственный деятель, с 1918 года главный комиссар по делам страхования, член наркомата торговли и промышленности РСФСР, муж сестры В. И. Ленина, в честь которого назван проспект в бывшем селе Смоленском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Марк Тимофеевич   Елиза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революционного деятеля, имя которого носит трамвайный парк, построенный в бывшем селе Александровском?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рамвайный парк, построенный в бывшем селе Александровском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осит имя революционного деятеля 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ладимира Володарско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518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 указу какого император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был основан Шлиссельбургский тракт?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Шлиссельбургский тракт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был основа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по указ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императо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Петра Великог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24000" y="524880"/>
            <a:ext cx="7848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зовите выдающегося архитектора и теоретика архитектуры, разработавшего способы землебитного строительства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24000" y="692280"/>
            <a:ext cx="88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79280" y="0"/>
            <a:ext cx="8272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ыдающийся архитектор и теоретик архитектуры, разработавший способы землебитного строительств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Николай Александрович Льв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8101080" y="5877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4" descr="вантовый мо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0" y="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ел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за   Невской  заставо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современное название проспекта Села Смоленского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овременное название проспек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ела Смоленского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Проспек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буховской Обор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68360" y="765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кая улица 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ри  переулка были названы в честь созданного в 1919 г. рабочего университета в нашем район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4:14:55Z</dcterms:created>
  <dc:creator>Вика</dc:creator>
  <dc:description/>
  <dc:language>en-US</dc:language>
  <cp:lastModifiedBy>AMalkova</cp:lastModifiedBy>
  <dcterms:modified xsi:type="dcterms:W3CDTF">2003-01-24T22:18:11Z</dcterms:modified>
  <cp:revision>33</cp:revision>
  <dc:subject/>
  <dc:title>Слайд 1</dc:title>
</cp:coreProperties>
</file>