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0FC5-BC55-4858-8E95-CC58E1FB6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3D78-DC1C-486E-BF0E-2CE702A8C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587-9060-4B87-B837-AF8FA637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879-BEED-4558-B021-7202B67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FE0-A3C4-4EEF-A036-8012A117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4DB-0298-4BDB-912D-7F3C349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C80-64AE-4D95-8DE6-83B73AA4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D0C-4431-41EA-9D27-8B42786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11F-DF2A-483E-9EE3-A99710D4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0BB-9B45-4B15-9296-8EBDCF84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FE9-6E6F-4349-8B36-6D71D2DE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BDC-882D-4829-845F-592F48E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437-4B5A-4A04-A31F-023D501F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3CC-460B-4CC7-94E0-60D2132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587-FFCC-4FE4-BEA2-2BF06A43A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6643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 Black"/>
              </a:rPr>
              <a:t>Шоу юных джентльм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500040" y="3213000"/>
            <a:ext cx="5786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280" y="4149720"/>
            <a:ext cx="680076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музыкальный руководитель ГБДОУ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Воробьёва Елена Вячеслав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г. Санкт-Петербург, Красногвардейский р-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User\Documents\Алёна\Детский сад\Джентльмен шоу\0_7f750_95b9a388_L.jpg"/>
          <p:cNvPicPr/>
          <p:nvPr/>
        </p:nvPicPr>
        <p:blipFill>
          <a:blip r:embed="rId1"/>
          <a:stretch/>
        </p:blipFill>
        <p:spPr>
          <a:xfrm>
            <a:off x="6227640" y="1700280"/>
            <a:ext cx="277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00720" y="2367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바탕"/>
              </a:rPr>
              <a:t>Задачи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Формирование уважительного отношения к «слабому» п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Развитие хороших ма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Воспитание чувства товари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23346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바탕"/>
              </a:rPr>
              <a:t>Цель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Развитие и вы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у мальчиков джентльменски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Джентльмены нашего с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User\Documents\Алёна\Детский сад\Джентльмен шоу\-q6KVDLrR5c.jpg"/>
          <p:cNvPicPr/>
          <p:nvPr/>
        </p:nvPicPr>
        <p:blipFill>
          <a:blip r:embed="rId1"/>
          <a:stretch/>
        </p:blipFill>
        <p:spPr>
          <a:xfrm>
            <a:off x="179280" y="1628640"/>
            <a:ext cx="5400720" cy="388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5651640" y="17002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ушкетёр: «Где же наши леди? Что-то их не видно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усар: «Неужели они забыли, что их ждут джентльмены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овбой:  «Все понятно! Они  опять прихорашиваю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усар:  «К чему?  Они и так весьма очаровательны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  <a:ea typeface="Gautami"/>
              </a:rPr>
              <a:t>Один за всех и все за одног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Users\User\Documents\Алёна\Детский сад\Джентльмен шоу\cd644419807d.jpg"/>
          <p:cNvPicPr/>
          <p:nvPr/>
        </p:nvPicPr>
        <p:blipFill>
          <a:blip r:embed="rId1"/>
          <a:stretch/>
        </p:blipFill>
        <p:spPr>
          <a:xfrm>
            <a:off x="2548080" y="140796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Documents\Алёна\Детский сад\Джентльмен шоу\RGGA05wXhSU.jpg"/>
          <p:cNvPicPr/>
          <p:nvPr/>
        </p:nvPicPr>
        <p:blipFill>
          <a:blip r:embed="rId2"/>
          <a:stretch/>
        </p:blipFill>
        <p:spPr>
          <a:xfrm>
            <a:off x="2771640" y="4076640"/>
            <a:ext cx="3456000" cy="240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User\Documents\Алёна\Детский сад\Джентльмен шоу\kPWawBk3gLg.jpg"/>
          <p:cNvPicPr/>
          <p:nvPr/>
        </p:nvPicPr>
        <p:blipFill>
          <a:blip r:embed="rId3"/>
          <a:stretch/>
        </p:blipFill>
        <p:spPr>
          <a:xfrm>
            <a:off x="6437160" y="1474920"/>
            <a:ext cx="2603520" cy="3255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6227640" y="4746960"/>
            <a:ext cx="2916360" cy="1159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- Как дивно вы танцуете, пари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 </a:t>
            </a: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Ах, милый сударь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Вы мне, право,  льст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4753080"/>
            <a:ext cx="2771640" cy="1159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Сударыня, меня вы покорил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Вы на ногу мне, сударь,   наступ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User\Documents\Алёна\Детский сад\Новая папка\DSC00163.JPG"/>
          <p:cNvPicPr/>
          <p:nvPr/>
        </p:nvPicPr>
        <p:blipFill>
          <a:blip r:embed="rId4"/>
          <a:stretch/>
        </p:blipFill>
        <p:spPr>
          <a:xfrm>
            <a:off x="-6480" y="1481040"/>
            <a:ext cx="2425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112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mic Sans MS"/>
              </a:rPr>
              <a:t>Гусарская эпох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User\Documents\Алёна\Детский сад\Джентльмен шоу\0VI9L5VaB7M.jpg"/>
          <p:cNvPicPr/>
          <p:nvPr/>
        </p:nvPicPr>
        <p:blipFill>
          <a:blip r:embed="rId1"/>
          <a:stretch/>
        </p:blipFill>
        <p:spPr>
          <a:xfrm>
            <a:off x="6659640" y="836640"/>
            <a:ext cx="238428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User\Documents\Алёна\Детский сад\Джентльмен шоу\H-Ob53W2H1o.jpg"/>
          <p:cNvPicPr/>
          <p:nvPr/>
        </p:nvPicPr>
        <p:blipFill>
          <a:blip r:embed="rId2"/>
          <a:stretch/>
        </p:blipFill>
        <p:spPr>
          <a:xfrm>
            <a:off x="108000" y="981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User\Documents\Алёна\Детский сад\Джентльмен шоу\LUoC6ZDNM8w.jpg"/>
          <p:cNvPicPr/>
          <p:nvPr/>
        </p:nvPicPr>
        <p:blipFill>
          <a:blip r:embed="rId3"/>
          <a:stretch/>
        </p:blipFill>
        <p:spPr>
          <a:xfrm>
            <a:off x="3276720" y="4076640"/>
            <a:ext cx="3671640" cy="2376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2916360" y="1125360"/>
            <a:ext cx="352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пода! А что мы будем делать потом,   когда уйдём из детского сада? Мы ведь только и умеем, что драться и скакать на одной н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дивляюсь вам, поручик, я вот, когда вырасту, артистом 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C:\Users\User\Documents\Алёна\Детский сад\Новая папка\DSC00229.JPG"/>
          <p:cNvPicPr/>
          <p:nvPr/>
        </p:nvPicPr>
        <p:blipFill>
          <a:blip r:embed="rId4"/>
          <a:stretch/>
        </p:blipFill>
        <p:spPr>
          <a:xfrm>
            <a:off x="468360" y="3429000"/>
            <a:ext cx="180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mic Sans MS"/>
              </a:rPr>
              <a:t>Гости с Дикого Запа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ocuments\Алёна\Детский сад\Джентльмен шоу\0auns-1NzUQ.jpg"/>
          <p:cNvPicPr/>
          <p:nvPr/>
        </p:nvPicPr>
        <p:blipFill>
          <a:blip r:embed="rId1"/>
          <a:stretch/>
        </p:blipFill>
        <p:spPr>
          <a:xfrm rot="21037200">
            <a:off x="293760" y="1517400"/>
            <a:ext cx="3886200" cy="26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ocuments\Алёна\Детский сад\Минута славы\iGwh1cnXzgE.jpg"/>
          <p:cNvPicPr/>
          <p:nvPr/>
        </p:nvPicPr>
        <p:blipFill>
          <a:blip r:embed="rId2"/>
          <a:stretch/>
        </p:blipFill>
        <p:spPr>
          <a:xfrm rot="471000">
            <a:off x="5016240" y="3746160"/>
            <a:ext cx="3763800" cy="255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User\Documents\Алёна\Детский сад\Минута славы\er8diqPkqt0.jpg"/>
          <p:cNvPicPr/>
          <p:nvPr/>
        </p:nvPicPr>
        <p:blipFill>
          <a:blip r:embed="rId3"/>
          <a:stretch/>
        </p:blipFill>
        <p:spPr>
          <a:xfrm rot="769200">
            <a:off x="5024520" y="1593720"/>
            <a:ext cx="3886200" cy="2694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 rot="21040800">
            <a:off x="433440" y="4384080"/>
            <a:ext cx="4236840" cy="1067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Мы - ковбои, мы - ковбо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Мы отважны и нас дв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Любим девушек прекрасных и лошад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С ними всё у нас – О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КЕ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3276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omic Sans MS"/>
              </a:rPr>
              <a:t>Конкурс </a:t>
            </a:r>
            <a:br>
              <a:rPr sz="2900"/>
            </a:br>
            <a:r>
              <a:rPr b="1" lang="ru-RU" sz="2900" spc="-1" strike="noStrike">
                <a:solidFill>
                  <a:srgbClr val="ffc000"/>
                </a:solidFill>
                <a:latin typeface="Comic Sans MS"/>
              </a:rPr>
              <a:t>«Туфелька для Золушк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5084640"/>
            <a:ext cx="3889440" cy="11912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ый день в волнен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ый день в заб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 уж эти барышн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 уж эти м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564000" y="1773360"/>
            <a:ext cx="5329080" cy="642600"/>
          </a:xfrm>
          <a:prstGeom prst="rect">
            <a:avLst/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 этими девчонками – никакого сла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успели вырасти – требуют на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Users\User\Documents\Алёна\Детский сад\Джентльмен шоу\M95PCCOSAew.jpg"/>
          <p:cNvPicPr/>
          <p:nvPr/>
        </p:nvPicPr>
        <p:blipFill>
          <a:blip r:embed="rId1"/>
          <a:stretch/>
        </p:blipFill>
        <p:spPr>
          <a:xfrm>
            <a:off x="250920" y="549360"/>
            <a:ext cx="2160360" cy="31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ocuments\Алёна\Детский сад\Джентльмен шоу\S5nayYJDpOc.jpg"/>
          <p:cNvPicPr/>
          <p:nvPr/>
        </p:nvPicPr>
        <p:blipFill>
          <a:blip r:embed="rId2"/>
          <a:stretch/>
        </p:blipFill>
        <p:spPr>
          <a:xfrm>
            <a:off x="2268360" y="2708280"/>
            <a:ext cx="3527640" cy="22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User\Documents\Алёна\Детский сад\Джентльмен шоу\vtVww-CsiJg.jpg"/>
          <p:cNvPicPr/>
          <p:nvPr/>
        </p:nvPicPr>
        <p:blipFill>
          <a:blip r:embed="rId3"/>
          <a:stretch/>
        </p:blipFill>
        <p:spPr>
          <a:xfrm>
            <a:off x="5364000" y="4149720"/>
            <a:ext cx="35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Барышни и кавал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ocuments\Алёна\Детский сад\Джентльмен шоу\QJK7ZbL1d8M (1).jpg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31:53Z</dcterms:created>
  <dc:creator>Admin</dc:creator>
  <dc:description/>
  <dc:language>en-US</dc:language>
  <cp:lastModifiedBy>User</cp:lastModifiedBy>
  <dcterms:modified xsi:type="dcterms:W3CDTF">2015-05-04T19:10:0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5b0000000000010250600207f5200358026400</vt:lpwstr>
  </property>
</Properties>
</file>