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0A3DF-047D-4885-9422-7D50F416DD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83E30-B580-4F0A-820C-CCDD967A59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200D-ABE4-4280-B7C1-1F5E7A547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C7B7-56AF-425B-B5C5-EA558FF5A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95F8-51AC-4B9E-8B4F-FD318EA24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AB4A-7048-4126-8B23-1B2088FE2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9485-7655-4EF8-AF79-1B391E6BE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9C80-5A6C-4531-A4DD-04FFFCF02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7073-115F-404E-9DF2-7B51BF9DD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AD57-F9C0-4AC7-8ED0-57B6EEFB0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F6FE-9433-4EA0-84D9-DA9F2899E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33D8-F0A0-4514-BB5D-1CCAD6E13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0C16-DEA0-4131-9FE3-B35634493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2F7F-56F7-45E0-9FF0-0AD1C4AA9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006AD-BF02-4D53-97E8-EE042B794D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1142640"/>
            <a:ext cx="664380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000"/>
                </a:solidFill>
                <a:latin typeface="Arial Black"/>
              </a:rPr>
              <a:t>Шоу юных джентльмен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одзаголовок 2"/>
          <p:cNvSpPr/>
          <p:nvPr/>
        </p:nvSpPr>
        <p:spPr>
          <a:xfrm>
            <a:off x="500040" y="3213000"/>
            <a:ext cx="578664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71280" y="4149720"/>
            <a:ext cx="6800760" cy="148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2d050"/>
                </a:solidFill>
                <a:latin typeface="Calibri"/>
              </a:rPr>
              <a:t>Подготовил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2d050"/>
                </a:solidFill>
                <a:latin typeface="Calibri"/>
              </a:rPr>
              <a:t>музыкальный руководитель ГБДОУ №1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2d050"/>
                </a:solidFill>
                <a:latin typeface="Calibri"/>
              </a:rPr>
              <a:t>Воробьёва Елена Вячеславо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2d050"/>
                </a:solidFill>
                <a:latin typeface="Calibri"/>
              </a:rPr>
              <a:t>г. Санкт-Петербург, Красногвардейский р-о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6" descr="C:\Users\User\Documents\Алёна\Детский сад\Джентльмен шоу\0_7f750_95b9a388_L.jpg"/>
          <p:cNvPicPr/>
          <p:nvPr/>
        </p:nvPicPr>
        <p:blipFill>
          <a:blip r:embed="rId1"/>
          <a:stretch/>
        </p:blipFill>
        <p:spPr>
          <a:xfrm>
            <a:off x="6227640" y="1700280"/>
            <a:ext cx="27720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Цели и задач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4500720" y="2367000"/>
            <a:ext cx="446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c000"/>
                </a:solidFill>
                <a:uFillTx/>
                <a:latin typeface="Times New Roman"/>
                <a:ea typeface="바탕"/>
              </a:rPr>
              <a:t>Задачи</a:t>
            </a:r>
            <a:r>
              <a:rPr b="1" lang="ru-RU" sz="2400" spc="-1" strike="noStrike" u="sng">
                <a:solidFill>
                  <a:srgbClr val="ffc000"/>
                </a:solidFill>
                <a:uFillTx/>
                <a:latin typeface="Times New Roman"/>
                <a:ea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바탕"/>
              </a:rPr>
              <a:t>- Формирование уважительного отношения к «слабому» пол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바탕"/>
              </a:rPr>
              <a:t>- Развитие хороших ман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바탕"/>
              </a:rPr>
              <a:t>- Воспитание чувства товарище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611280" y="2334600"/>
            <a:ext cx="295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c000"/>
                </a:solidFill>
                <a:uFillTx/>
                <a:latin typeface="Times New Roman"/>
                <a:ea typeface="바탕"/>
              </a:rPr>
              <a:t>Цель</a:t>
            </a:r>
            <a:r>
              <a:rPr b="1" lang="ru-RU" sz="2400" spc="-1" strike="noStrike" u="sng">
                <a:solidFill>
                  <a:srgbClr val="ffc000"/>
                </a:solidFill>
                <a:uFillTx/>
                <a:latin typeface="Times New Roman"/>
                <a:ea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바탕"/>
              </a:rPr>
              <a:t>Развитие и выявл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바탕"/>
              </a:rPr>
              <a:t>у мальчиков джентльменских кач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Arial"/>
                <a:ea typeface="Arial"/>
              </a:rPr>
              <a:t>Джентльмены нашего сад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5" descr="C:\Users\User\Documents\Алёна\Детский сад\Джентльмен шоу\-q6KVDLrR5c.jpg"/>
          <p:cNvPicPr/>
          <p:nvPr/>
        </p:nvPicPr>
        <p:blipFill>
          <a:blip r:embed="rId1"/>
          <a:stretch/>
        </p:blipFill>
        <p:spPr>
          <a:xfrm>
            <a:off x="179280" y="1628640"/>
            <a:ext cx="5400720" cy="388800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3"/>
          <p:cNvSpPr/>
          <p:nvPr/>
        </p:nvSpPr>
        <p:spPr>
          <a:xfrm>
            <a:off x="5651640" y="1700280"/>
            <a:ext cx="331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Мушкетёр: «Где же наши леди? Что-то их не видно..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Гусар: «Неужели они забыли, что их ждут джентльмены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Ковбой:  «Все понятно! Они  опять прихорашиваются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Гусар:  «К чему?  Они и так весьма очаровательны!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Comic Sans MS"/>
                <a:ea typeface="Gautami"/>
              </a:rPr>
              <a:t>Один за всех и все за одного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6" descr="C:\Users\User\Documents\Алёна\Детский сад\Джентльмен шоу\cd644419807d.jpg"/>
          <p:cNvPicPr/>
          <p:nvPr/>
        </p:nvPicPr>
        <p:blipFill>
          <a:blip r:embed="rId1"/>
          <a:stretch/>
        </p:blipFill>
        <p:spPr>
          <a:xfrm>
            <a:off x="2548080" y="1407960"/>
            <a:ext cx="3816360" cy="2541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C:\Users\User\Documents\Алёна\Детский сад\Джентльмен шоу\RGGA05wXhSU.jpg"/>
          <p:cNvPicPr/>
          <p:nvPr/>
        </p:nvPicPr>
        <p:blipFill>
          <a:blip r:embed="rId2"/>
          <a:stretch/>
        </p:blipFill>
        <p:spPr>
          <a:xfrm>
            <a:off x="2771640" y="4076640"/>
            <a:ext cx="3456000" cy="2406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C:\Users\User\Documents\Алёна\Детский сад\Джентльмен шоу\kPWawBk3gLg.jpg"/>
          <p:cNvPicPr/>
          <p:nvPr/>
        </p:nvPicPr>
        <p:blipFill>
          <a:blip r:embed="rId3"/>
          <a:stretch/>
        </p:blipFill>
        <p:spPr>
          <a:xfrm>
            <a:off x="6437160" y="1474920"/>
            <a:ext cx="2603520" cy="32558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7"/>
          <p:cNvSpPr/>
          <p:nvPr/>
        </p:nvSpPr>
        <p:spPr>
          <a:xfrm>
            <a:off x="6227640" y="4746960"/>
            <a:ext cx="2916360" cy="115956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000"/>
                </a:solidFill>
                <a:latin typeface="Times New Roman"/>
                <a:ea typeface="Dotum"/>
              </a:rPr>
              <a:t>- Как дивно вы танцуете, парите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000"/>
                </a:solidFill>
                <a:latin typeface="Times New Roman"/>
                <a:ea typeface="Dotum"/>
              </a:rPr>
              <a:t> </a:t>
            </a:r>
            <a:r>
              <a:rPr b="0" lang="ru-RU" sz="1400" spc="-1" strike="noStrike">
                <a:solidFill>
                  <a:srgbClr val="ffc000"/>
                </a:solidFill>
                <a:latin typeface="Times New Roman"/>
                <a:ea typeface="Dotum"/>
              </a:rPr>
              <a:t>Ах, милый сударь,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000"/>
                </a:solidFill>
                <a:latin typeface="Times New Roman"/>
                <a:ea typeface="Dotum"/>
              </a:rPr>
              <a:t>Вы мне, право,  льстит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0" y="4753080"/>
            <a:ext cx="2771640" cy="115956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-Сударыня, меня вы покорили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-Вы на ногу мне, сударь,   наступил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" descr="C:\Users\User\Documents\Алёна\Детский сад\Новая папка\DSC00163.JPG"/>
          <p:cNvPicPr/>
          <p:nvPr/>
        </p:nvPicPr>
        <p:blipFill>
          <a:blip r:embed="rId4"/>
          <a:stretch/>
        </p:blipFill>
        <p:spPr>
          <a:xfrm>
            <a:off x="-6480" y="1481040"/>
            <a:ext cx="2425680" cy="32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24000" y="0"/>
            <a:ext cx="5112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Comic Sans MS"/>
              </a:rPr>
              <a:t>Гусарская эпоха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5" descr="C:\Users\User\Documents\Алёна\Детский сад\Джентльмен шоу\0VI9L5VaB7M.jpg"/>
          <p:cNvPicPr/>
          <p:nvPr/>
        </p:nvPicPr>
        <p:blipFill>
          <a:blip r:embed="rId1"/>
          <a:stretch/>
        </p:blipFill>
        <p:spPr>
          <a:xfrm>
            <a:off x="6659640" y="836640"/>
            <a:ext cx="2384280" cy="3619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C:\Users\User\Documents\Алёна\Детский сад\Джентльмен шоу\H-Ob53W2H1o.jpg"/>
          <p:cNvPicPr/>
          <p:nvPr/>
        </p:nvPicPr>
        <p:blipFill>
          <a:blip r:embed="rId2"/>
          <a:stretch/>
        </p:blipFill>
        <p:spPr>
          <a:xfrm>
            <a:off x="108000" y="981000"/>
            <a:ext cx="2519280" cy="3456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C:\Users\User\Documents\Алёна\Детский сад\Джентльмен шоу\LUoC6ZDNM8w.jpg"/>
          <p:cNvPicPr/>
          <p:nvPr/>
        </p:nvPicPr>
        <p:blipFill>
          <a:blip r:embed="rId3"/>
          <a:stretch/>
        </p:blipFill>
        <p:spPr>
          <a:xfrm>
            <a:off x="3276720" y="4076640"/>
            <a:ext cx="3671640" cy="237672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5"/>
          <p:cNvSpPr/>
          <p:nvPr/>
        </p:nvSpPr>
        <p:spPr>
          <a:xfrm>
            <a:off x="2916360" y="1125360"/>
            <a:ext cx="3527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- </a:t>
            </a: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Господа! А что мы будем делать потом,   когда уйдём из детского сада? Мы ведь только и умеем, что драться и скакать на одной ног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Удивляюсь вам, поручик, я вот, когда вырасту, артистом бу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0" descr="C:\Users\User\Documents\Алёна\Детский сад\Новая папка\DSC00229.JPG"/>
          <p:cNvPicPr/>
          <p:nvPr/>
        </p:nvPicPr>
        <p:blipFill>
          <a:blip r:embed="rId4"/>
          <a:stretch/>
        </p:blipFill>
        <p:spPr>
          <a:xfrm>
            <a:off x="468360" y="3429000"/>
            <a:ext cx="18000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omic Sans MS"/>
              </a:rPr>
              <a:t>Гости с Дикого Запад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C:\Users\User\Documents\Алёна\Детский сад\Джентльмен шоу\0auns-1NzUQ.jpg"/>
          <p:cNvPicPr/>
          <p:nvPr/>
        </p:nvPicPr>
        <p:blipFill>
          <a:blip r:embed="rId1"/>
          <a:stretch/>
        </p:blipFill>
        <p:spPr>
          <a:xfrm rot="21037200">
            <a:off x="293760" y="1517400"/>
            <a:ext cx="3886200" cy="2616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C:\Users\User\Documents\Алёна\Детский сад\Минута славы\iGwh1cnXzgE.jpg"/>
          <p:cNvPicPr/>
          <p:nvPr/>
        </p:nvPicPr>
        <p:blipFill>
          <a:blip r:embed="rId2"/>
          <a:stretch/>
        </p:blipFill>
        <p:spPr>
          <a:xfrm rot="471000">
            <a:off x="5016240" y="3746160"/>
            <a:ext cx="3763800" cy="25588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C:\Users\User\Documents\Алёна\Детский сад\Минута славы\er8diqPkqt0.jpg"/>
          <p:cNvPicPr/>
          <p:nvPr/>
        </p:nvPicPr>
        <p:blipFill>
          <a:blip r:embed="rId3"/>
          <a:stretch/>
        </p:blipFill>
        <p:spPr>
          <a:xfrm rot="769200">
            <a:off x="5024520" y="1593720"/>
            <a:ext cx="3886200" cy="269424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7"/>
          <p:cNvSpPr/>
          <p:nvPr/>
        </p:nvSpPr>
        <p:spPr>
          <a:xfrm rot="21040800">
            <a:off x="433440" y="4384080"/>
            <a:ext cx="4236840" cy="106740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000"/>
                </a:solidFill>
                <a:latin typeface="Times New Roman"/>
                <a:ea typeface="바탕"/>
              </a:rPr>
              <a:t>Мы - ковбои, мы - ковбо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000"/>
                </a:solidFill>
                <a:latin typeface="Times New Roman"/>
                <a:ea typeface="바탕"/>
              </a:rPr>
              <a:t>Мы отважны и нас дво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000"/>
                </a:solidFill>
                <a:latin typeface="Times New Roman"/>
                <a:ea typeface="바탕"/>
              </a:rPr>
              <a:t>Любим девушек прекрасных и лошадей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000"/>
                </a:solidFill>
                <a:latin typeface="Times New Roman"/>
                <a:ea typeface="바탕"/>
              </a:rPr>
              <a:t>С ними всё у нас – О</a:t>
            </a:r>
            <a:r>
              <a:rPr b="0" lang="en-US" sz="1600" spc="-1" strike="noStrike">
                <a:solidFill>
                  <a:srgbClr val="ffc000"/>
                </a:solidFill>
                <a:latin typeface="Times New Roman"/>
                <a:ea typeface="바탕"/>
              </a:rPr>
              <a:t> </a:t>
            </a:r>
            <a:r>
              <a:rPr b="0" lang="ru-RU" sz="1600" spc="-1" strike="noStrike">
                <a:solidFill>
                  <a:srgbClr val="ffc000"/>
                </a:solidFill>
                <a:latin typeface="Times New Roman"/>
                <a:ea typeface="바탕"/>
              </a:rPr>
              <a:t>КЕЙ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84000" y="259920"/>
            <a:ext cx="532764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c000"/>
                </a:solidFill>
                <a:latin typeface="Comic Sans MS"/>
              </a:rPr>
              <a:t>Конкурс </a:t>
            </a:r>
            <a:br>
              <a:rPr sz="2900"/>
            </a:br>
            <a:r>
              <a:rPr b="1" lang="ru-RU" sz="2900" spc="-1" strike="noStrike">
                <a:solidFill>
                  <a:srgbClr val="ffc000"/>
                </a:solidFill>
                <a:latin typeface="Comic Sans MS"/>
              </a:rPr>
              <a:t>«Туфелька для Золушк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угольник 5"/>
          <p:cNvSpPr/>
          <p:nvPr/>
        </p:nvSpPr>
        <p:spPr>
          <a:xfrm>
            <a:off x="250920" y="5084640"/>
            <a:ext cx="3889440" cy="119124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Целый день в волнениях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целый день в забот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Ох уж эти барышни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Ох уж эти моды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6"/>
          <p:cNvSpPr/>
          <p:nvPr/>
        </p:nvSpPr>
        <p:spPr>
          <a:xfrm>
            <a:off x="3564000" y="1773360"/>
            <a:ext cx="5329080" cy="642600"/>
          </a:xfrm>
          <a:prstGeom prst="rect">
            <a:avLst/>
          </a:prstGeom>
          <a:solidFill>
            <a:srgbClr val="17375e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С этими девчонками – никакого сладу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Не успели вырасти – требуют наря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C:\Users\User\Documents\Алёна\Детский сад\Джентльмен шоу\M95PCCOSAew.jpg"/>
          <p:cNvPicPr/>
          <p:nvPr/>
        </p:nvPicPr>
        <p:blipFill>
          <a:blip r:embed="rId1"/>
          <a:stretch/>
        </p:blipFill>
        <p:spPr>
          <a:xfrm>
            <a:off x="250920" y="549360"/>
            <a:ext cx="2160360" cy="3166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Users\User\Documents\Алёна\Детский сад\Джентльмен шоу\S5nayYJDpOc.jpg"/>
          <p:cNvPicPr/>
          <p:nvPr/>
        </p:nvPicPr>
        <p:blipFill>
          <a:blip r:embed="rId2"/>
          <a:stretch/>
        </p:blipFill>
        <p:spPr>
          <a:xfrm>
            <a:off x="2268360" y="2708280"/>
            <a:ext cx="3527640" cy="2233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C:\Users\User\Documents\Алёна\Детский сад\Джентльмен шоу\vtVww-CsiJg.jpg"/>
          <p:cNvPicPr/>
          <p:nvPr/>
        </p:nvPicPr>
        <p:blipFill>
          <a:blip r:embed="rId3"/>
          <a:stretch/>
        </p:blipFill>
        <p:spPr>
          <a:xfrm>
            <a:off x="5364000" y="4149720"/>
            <a:ext cx="35290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Барышни и кавале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C:\Users\User\Documents\Алёна\Детский сад\Джентльмен шоу\QJK7ZbL1d8M (1).jpg"/>
          <p:cNvPicPr/>
          <p:nvPr/>
        </p:nvPicPr>
        <p:blipFill>
          <a:blip r:embed="rId1"/>
          <a:stretch/>
        </p:blipFill>
        <p:spPr>
          <a:xfrm>
            <a:off x="755640" y="1197000"/>
            <a:ext cx="7561440" cy="50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1T15:31:53Z</dcterms:created>
  <dc:creator>Admin</dc:creator>
  <dc:description/>
  <dc:language>en-US</dc:language>
  <cp:lastModifiedBy>User</cp:lastModifiedBy>
  <dcterms:modified xsi:type="dcterms:W3CDTF">2015-05-04T19:10:05Z</dcterms:modified>
  <cp:revision>10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85b0000000000010250600207f5200358026400</vt:lpwstr>
  </property>
</Properties>
</file>