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D0D-98AF-4DFB-83A5-766A5C37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066-161D-474B-9285-E9F6AE6B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1F0-8353-4CE3-A01A-38AF3F35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B6C-BB10-414C-96AD-6DB6F214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FC09E-81BB-407B-A02D-F4AC85C2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B0058-8DE7-4A49-9F09-12630AEB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C68A1-2EB7-4E0C-99C4-4DFFDACD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87D56-D092-4047-945A-A485A63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BE210-2981-473B-A61D-6C3A8F65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8B614-E5E3-48CC-9B41-BD27C049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B949B-EA79-4323-AD28-743C3EC9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6B8-0B5D-4E74-8B23-D484AA4D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ECFE0-BDCC-4A89-A580-01F8DBF5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C49F1-C041-44E9-B6C1-6707F40B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CBEE6-26B7-46EC-B185-BC998C82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0505A-EA07-43AD-BD0C-7467BECF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09BF-AB5F-4C5C-9629-D1F4B43D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951-F3E9-4485-9BAB-B0CA774E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EBE-B246-4E2A-A36F-113F1475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664-A2F2-4411-B080-F4A720CB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47E-0D5C-473A-ABD0-FE59B3FA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861-5714-4564-88EB-1C5F3C4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223-8D59-461D-9BC1-DE5601B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063-9B76-4B97-9126-91FCED48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6B57-285D-4D1D-BCC6-1CAE85CF9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5C4D-97C6-46C6-AC78-FE4370847A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7416720" cy="33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ыт работы по теме: </a:t>
            </a:r>
            <a:r>
              <a:rPr b="0" lang="ru-RU" sz="4400" spc="-1" strike="noStrike">
                <a:solidFill>
                  <a:srgbClr val="0099ff"/>
                </a:solidFill>
                <a:latin typeface="Tahoma"/>
              </a:rPr>
              <a:t>«</a:t>
            </a:r>
            <a:r>
              <a:rPr b="1" i="1" lang="ru-RU" sz="4400" spc="-1" strike="noStrike" u="sng">
                <a:solidFill>
                  <a:srgbClr val="0099ff"/>
                </a:solidFill>
                <a:uFillTx/>
                <a:latin typeface="Tahoma"/>
              </a:rPr>
              <a:t>Развитие критического мышления на уроках географии</a:t>
            </a:r>
            <a:r>
              <a:rPr b="0" lang="ru-RU" sz="4400" spc="-1" strike="noStrike">
                <a:solidFill>
                  <a:srgbClr val="0099ff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2920" y="5229360"/>
            <a:ext cx="7193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: Калиновская Наталья Серге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СОШ №7 г. Конак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Tahoma"/>
              </a:rPr>
              <a:t>3.</a:t>
            </a:r>
            <a:r>
              <a:rPr b="1" lang="ru-RU" sz="4000" spc="-1" strike="noStrike">
                <a:solidFill>
                  <a:srgbClr val="3399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99ff"/>
                </a:solidFill>
                <a:latin typeface="Tahoma"/>
              </a:rPr>
              <a:t>Метод «верные и неверные утвержд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 «Тихий океан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чале урока учащимся предлагаются следующие высказывания  о данном оке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79280" y="4149720"/>
            <a:ext cx="2519640" cy="108108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ий оке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92360" y="2924280"/>
            <a:ext cx="5329440" cy="720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ольшой по площ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211640" y="378936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спокой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211640" y="450864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холод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211640" y="522936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глубо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2627280" y="5950080"/>
            <a:ext cx="6156360" cy="691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огатый органический ми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6"/>
          <p:cNvSpPr/>
          <p:nvPr/>
        </p:nvSpPr>
        <p:spPr>
          <a:xfrm flipV="1">
            <a:off x="1692360" y="3357720"/>
            <a:ext cx="1800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7"/>
          <p:cNvSpPr/>
          <p:nvPr/>
        </p:nvSpPr>
        <p:spPr>
          <a:xfrm flipV="1">
            <a:off x="2556000" y="4076280"/>
            <a:ext cx="1655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2700360" y="4653000"/>
            <a:ext cx="1511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2556000" y="4941720"/>
            <a:ext cx="1655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050920" y="5157720"/>
            <a:ext cx="8654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ние классу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Установите, верны ли данные утверждения, обоснуйте свой ответ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знакомства с основной информацией учащиеся возвращаются к данным утверждениям и оценивают их достоверность, используя полученную на уроке информац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68360" y="4292640"/>
            <a:ext cx="2519280" cy="108108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ий оке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14920" y="3429000"/>
            <a:ext cx="5329080" cy="720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ольшой по площ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572000" y="414972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еспокой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572000" y="479736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тепл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72000" y="5516640"/>
            <a:ext cx="4248000" cy="647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глубо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987640" y="6165720"/>
            <a:ext cx="6156360" cy="692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ый богатый органический ми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 flipV="1">
            <a:off x="2484360" y="3860280"/>
            <a:ext cx="13669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 flipV="1">
            <a:off x="2916360" y="4437000"/>
            <a:ext cx="1655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2916360" y="4869000"/>
            <a:ext cx="165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2843280" y="5084640"/>
            <a:ext cx="1728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627280" y="5229360"/>
            <a:ext cx="9367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Стадия осмыс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данной стадии идет непосредственная работа с информацией, причем приемы и методы критического мышления позволяют сохранит активность ученика, сделать чтение или слушание  более осмыслен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тадии осмысления учащийся вступает в контакт с новой информацией, происходит ее систематиза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формирование собственной пози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ю осмысления можно осуществлять следующими 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метода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1. Метод ведения различных записей типа «бортовых журнало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ремя изучения темы учащиеся в «бортовой журнал» записывают свои мыс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4360" y="4149720"/>
          <a:ext cx="7920000" cy="231624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мне известно по данной теме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нового я узнал известн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щиеся заполняют графу на стадии выз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щиеся заполняют при чтении во время пау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.</a:t>
            </a:r>
            <a:r>
              <a:rPr b="1" lang="ru-RU" sz="4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Оформление таблицы «ЗХУ» («Знаю – хочу узнать – узнал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ая таблица помогает собрать уже имеющийся по теме информацию, расширить знания по изучаемому вопросу, систематизировать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4292640"/>
          <a:ext cx="8569080" cy="2020680"/>
        </p:xfrm>
        <a:graphic>
          <a:graphicData uri="http://schemas.openxmlformats.org/drawingml/2006/table">
            <a:tbl>
              <a:tblPr/>
              <a:tblGrid>
                <a:gridCol w="2855880"/>
                <a:gridCol w="3135240"/>
                <a:gridCol w="257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олняется на стадии выз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улируются вопросы на стадии выз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олняется во время чтения тек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блица «ЗХУ» (тема урока: «Ветер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341360"/>
          <a:ext cx="8964720" cy="5221440"/>
        </p:xfrm>
        <a:graphic>
          <a:graphicData uri="http://schemas.openxmlformats.org/drawingml/2006/table">
            <a:tbl>
              <a:tblPr/>
              <a:tblGrid>
                <a:gridCol w="2448000"/>
                <a:gridCol w="3838680"/>
                <a:gridCol w="267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виж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Причины возникновения ветр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От чего зависит скорость, сила и направление ветр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Какие бывают виды ветр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ная графа заполняется по мере чтения текста или изучения материала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3628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3.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Метод активного чтения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аркировка текста по мере его чтения значками «Инсерт» (самоактивизирующая системная разметка для эффективного чтения и размышления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455400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ремя чтения текста учащиеся на полях делают пометки, а после прочтения текста заполняют таблицу, где значки станут заголовками граф таблицы. В таблицу тезисно заносятся сведения из тек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476360" y="2637000"/>
            <a:ext cx="6337440" cy="1871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 - уже зн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?» - не понял, есть вопро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-» - думал инач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+» - нов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-36360" y="765000"/>
          <a:ext cx="9180360" cy="5407200"/>
        </p:xfrm>
        <a:graphic>
          <a:graphicData uri="http://schemas.openxmlformats.org/drawingml/2006/table">
            <a:tbl>
              <a:tblPr/>
              <a:tblGrid>
                <a:gridCol w="2663640"/>
                <a:gridCol w="2160720"/>
                <a:gridCol w="2089080"/>
                <a:gridCol w="226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+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-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?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исываются сведения, которые соответствует тому, что ученик знает или думает, что знае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ик записывает то, что для него является новы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ик записывает то, что противоре-чит тому, что он уже знает или думает, что зна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исывает то, что непонятно или на какие вопросы хотел бы получить отв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775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4. Метод «Концептуальная таблиц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984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ый метод особенно полезен, когда предполагается сравнение трех и более объектов или вопро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горизонтали располагаются то, что подлежит сравнению, а по вертикали различные черты и свойства, по которым это сравнение происход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а урока: «Океаны Зем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9280" y="1341360"/>
          <a:ext cx="8785440" cy="5040360"/>
        </p:xfrm>
        <a:graphic>
          <a:graphicData uri="http://schemas.openxmlformats.org/drawingml/2006/table">
            <a:tbl>
              <a:tblPr/>
              <a:tblGrid>
                <a:gridCol w="1103400"/>
                <a:gridCol w="2300400"/>
                <a:gridCol w="1803240"/>
                <a:gridCol w="1735200"/>
                <a:gridCol w="18432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хий оке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тлант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е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ния срав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дий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е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верный Ледовит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Географ. полож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История исследова-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Природа и т.д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7756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Сущность технологи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40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 ТРКМ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ехфазов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руктура ур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я включает разнообразные прие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робуждение в ученике творческой актив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едоставление учащимся условий для осмысления материа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омощь в обобщении приобретенных зн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Oval 4"/>
          <p:cNvSpPr/>
          <p:nvPr/>
        </p:nvSpPr>
        <p:spPr>
          <a:xfrm>
            <a:off x="179280" y="1628640"/>
            <a:ext cx="2449800" cy="863640"/>
          </a:xfrm>
          <a:prstGeom prst="ellipse">
            <a:avLst/>
          </a:prstGeom>
          <a:solidFill>
            <a:srgbClr val="66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з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7"/>
          <p:cNvSpPr/>
          <p:nvPr/>
        </p:nvSpPr>
        <p:spPr>
          <a:xfrm>
            <a:off x="3132000" y="1700280"/>
            <a:ext cx="2519640" cy="863640"/>
          </a:xfrm>
          <a:prstGeom prst="ellipse">
            <a:avLst/>
          </a:prstGeom>
          <a:solidFill>
            <a:srgbClr val="66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мыс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443640" y="1628640"/>
            <a:ext cx="2449440" cy="863640"/>
          </a:xfrm>
          <a:prstGeom prst="ellipse">
            <a:avLst/>
          </a:prstGeom>
          <a:solidFill>
            <a:srgbClr val="66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1834920" y="1268280"/>
            <a:ext cx="25923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4500720" y="126828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4572000" y="1268280"/>
            <a:ext cx="244800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Стадия рефлекс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этой стадии информация анализируется, интерпретируется, творчески перерабатыв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щиеся закрепляют новые знания и активно перестраивают собственные первичные представления для того, чтобы включить в них новые поня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лиз собственных мыслительных операций составляет сердцевину данного этап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628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Tahoma"/>
              </a:rPr>
              <a:t>1</a:t>
            </a:r>
            <a:r>
              <a:rPr b="1" i="1" lang="ru-RU" sz="3200" spc="-1" strike="noStrike">
                <a:solidFill>
                  <a:srgbClr val="3399ff"/>
                </a:solidFill>
                <a:latin typeface="Tahoma"/>
              </a:rPr>
              <a:t>.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 Метод «перепутанные логические цепоч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 данного метода – определить степень понимания логики изучаемых природных явлений через установление причинно-следственных связ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: Восстановите перепутанную цепоч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50920" y="4437000"/>
            <a:ext cx="2449440" cy="936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ия 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л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203640" y="4437000"/>
            <a:ext cx="2305080" cy="936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дня 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ч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6012000" y="4437000"/>
            <a:ext cx="2952720" cy="935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ращение Зем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о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900000" y="5734080"/>
            <a:ext cx="2735280" cy="934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ия 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грева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4716360" y="5805360"/>
            <a:ext cx="2376720" cy="792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4965 0 E">
                                      <p:cBhvr>
                                        <p:cTn id="29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6701 -0.17864 E">
                                      <p:cBhvr>
                                        <p:cTn id="298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309 0.17864 E">
                                      <p:cBhvr>
                                        <p:cTn id="30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7b6d2"/>
                </a:solidFill>
                <a:latin typeface="Tahoma"/>
              </a:rPr>
              <a:t>2. Метод «синквейн» </a:t>
            </a:r>
            <a:r>
              <a:rPr b="1" i="1" lang="ru-RU" sz="2800" spc="-1" strike="noStrike">
                <a:solidFill>
                  <a:srgbClr val="6699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написание пятистишия; правилами написания этого стихотворения является определенное количество слов в строке и назначение каждой стро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748720" cy="42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-я строка – название стихотворения, тема обычно выражена существительны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-я строка – описание темы, два прилагатель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-я строка – действие, обычно три глагола, относящиеся к те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-я строка – чувство, фраза из четырех слов, выражающее отношение автора к те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-я строка – повторение сути, «синоним» первой строки, обычно существитель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7120" y="285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ботать можно самостоятельно, в парах, в групп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ый приём можно использовать для анализа узкого понят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смогра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й, чувствитель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ряет, записывает, означ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ожет узнать о колебаниях земной к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2876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жно составить краткий рассказ на заданную тему, используя приготовленный дома синквейн как подсказ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ера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ряемая, зависим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ается, понижается, из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нагреваемости поверх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ич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14200" y="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жно использовать как игровой момент: учимся определять тему синквейна при отсутствующей первой ч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те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менчивый, всеобъемлю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скает, освежает, игр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ыхание жив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гранич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Антаркти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гадочная, юж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дивляет, покрывается, отлич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ажает красотой, противоречивост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д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291960"/>
            <a:ext cx="8569080" cy="19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тадии рефлексии заполняются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кластеры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азличные 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таблиц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щиеся возвращаются к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ключевым словам, верным и неверным утверждениям</a:t>
            </a: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89996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данном этапе используется метод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«незаконченные предложения»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аются ответы на поставленные вопро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, «Сегодня на уроке мне удалось…», «На мой взгляд…», «Самым интересным для меня на уроке было…», «Я думаю, что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ачестве домашнего задания ученикам предлагаются 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творческие задания (эсс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04480" y="474480"/>
            <a:ext cx="7512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Результат исследо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6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следование проводилось в 2007-2008 уч. году в МОУ СОШ № 7 г. Конак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проведения эксперимента был выбран 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7</a:t>
            </a:r>
            <a:r>
              <a:rPr b="1" lang="en-US" sz="3200" spc="-1" strike="noStrike">
                <a:solidFill>
                  <a:srgbClr val="0099ff"/>
                </a:solidFill>
                <a:latin typeface="Tahoma"/>
              </a:rPr>
              <a:t>”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А</a:t>
            </a:r>
            <a:r>
              <a:rPr b="1" lang="en-US" sz="3200" spc="-1" strike="noStrike">
                <a:solidFill>
                  <a:srgbClr val="0099ff"/>
                </a:solidFill>
                <a:latin typeface="Tahoma"/>
              </a:rPr>
              <a:t>” 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в этом классе уроки проводились с использованием приемов технологии развития критического мышления) 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который занимался по традиционной технолог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99ff"/>
                </a:solidFill>
                <a:uFillTx/>
                <a:latin typeface="Tahoma"/>
              </a:rPr>
              <a:t>Результат рабо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7 «А» классе в основном использовались такие методы, как «кластеры», «ключевые слова», « верные и неверные утверждения», «бортовой журнал», «метод активного чтения», «таблица ЗХУ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КМ на уроках применялась выбороч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468360" y="3284640"/>
          <a:ext cx="8183520" cy="35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284640"/>
                    <a:ext cx="81835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20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 полугодии 2008-2009 уч. г. на уроках в 8 «б» классе стала внедряться ТРКМ, в результате  качество знаний учащихся 8 «б» класса за 1 четверть возросло на 4% (с 64% до 68%)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250920" y="2492280"/>
          <a:ext cx="87138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492280"/>
                    <a:ext cx="87138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fb4d4"/>
                </a:solidFill>
                <a:uFillTx/>
                <a:latin typeface="Tahoma"/>
              </a:rPr>
              <a:t>Цель технологии развития критического мыш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Формировать у учащихся умение видеть проблемы и находить нестандартные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двергать рефлексии собственную интеллектуальную деятельность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Анализировать свои действия и выявлять допущенные ошиб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ahoma"/>
              </a:rPr>
              <a:t>Приемы и методы ТРКМ, наиболее приемлемые на уроках ге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97000"/>
          <a:ext cx="8713800" cy="5400720"/>
        </p:xfrm>
        <a:graphic>
          <a:graphicData uri="http://schemas.openxmlformats.org/drawingml/2006/table">
            <a:tbl>
              <a:tblPr/>
              <a:tblGrid>
                <a:gridCol w="2808360"/>
                <a:gridCol w="3000240"/>
                <a:gridCol w="2905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Составление списка «известной информаци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«ключевые слова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Графическая систематизация матери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кластеры, таблиц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Верные и неверны утвер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Перепутанные логические цеп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Метод активного чтения (маркировка с использованием пометок на поля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Ведение различных записей («бортовые журналы», «концептуальная таблица», «таблица ЗХУ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Заполнение кластеров, табли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Возврат к ключевым словам, верным и неверным утвержд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Написание творческих раб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Метод «незаконченные предложения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99ff"/>
                </a:solidFill>
                <a:uFillTx/>
                <a:latin typeface="Tahoma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критического мышления в учебном процессе – мощное средство самореализации учащихся, инструмент творчества, позволяющий лучше узнать самого себя, полнее раскрыть свои способности, проявить свою индивидуа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данной технологии повышает эффективность учебного процесса, повышает интерес к предмету географ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7080" y="360000"/>
            <a:ext cx="77695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99ff"/>
                </a:solidFill>
                <a:uFillTx/>
                <a:latin typeface="Tahoma"/>
              </a:rPr>
              <a:t>Стадия выз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тадии вызова из памяти учеников актуализируются имеющиеся знания и представление по изучаемому вопро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ю вызова можно осуществлять следующими </a:t>
            </a: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методами</a:t>
            </a: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Tahoma"/>
              </a:rPr>
              <a:t>1. 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Метод «ключевые слова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даются ключевые слова, по которым можно придумать рассказ или расставить в определенной последова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 «Внутреннее строение Земл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лючевые сло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н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емная к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асставьте в определенной последовательности, двигаясь от центра Зем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55640" y="5589720"/>
            <a:ext cx="1728720" cy="79200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др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419640" y="5157720"/>
            <a:ext cx="1728720" cy="792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н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084720" y="4724280"/>
            <a:ext cx="2592720" cy="792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ная к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V="1">
            <a:off x="2484360" y="5589360"/>
            <a:ext cx="93528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1"/>
          <p:cNvSpPr/>
          <p:nvPr/>
        </p:nvSpPr>
        <p:spPr>
          <a:xfrm flipV="1">
            <a:off x="5148360" y="5084640"/>
            <a:ext cx="86364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 «Вете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у демонстрируется слайд с прогнозом погоды на предстоящие дни, на котором изображены температура и атмосферное давл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+15 С ; 754 мм рт.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опросы классу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элементы погоды и почему в такой последовательности отражены в прогноз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 явления не доста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360" y="6021360"/>
            <a:ext cx="2376360" cy="503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щиеся определили тему урока – «Вете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Вопрос классу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кие ассоциации вызывает у вас данное атмосферное явле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мы знаем о ветре? Назовите только ключевые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Вопрос классу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формулируйте определение «ветер», используя только ключевые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тер – движение воздуха в определенном направлении, обладающее силой и скор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24000" y="3573360"/>
            <a:ext cx="230508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564000" y="3860640"/>
            <a:ext cx="230508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ор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804000" y="3573360"/>
            <a:ext cx="201600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292720" y="2852640"/>
            <a:ext cx="230508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и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825640" y="36385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2340000" y="2852640"/>
            <a:ext cx="2305080" cy="5050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362800" cy="15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ahoma"/>
              </a:rPr>
              <a:t>2. </a:t>
            </a:r>
            <a:r>
              <a:rPr b="1" i="1" lang="ru-RU" sz="3200" spc="-1" strike="noStrike">
                <a:solidFill>
                  <a:srgbClr val="0099ff"/>
                </a:solidFill>
                <a:latin typeface="Tahoma"/>
              </a:rPr>
              <a:t>Метод «кластеры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выделение смысловых единиц текста и их графическое оформление в виде гроз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0456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 «Афр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началом изучения темы учащиеся предполагают по каким вопросам будут изучать данный материк. Таким образом ученики выходят на собственное целеполаг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ый метод можно применять при изучении любого матер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23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ожения оформляем графически в виде грозд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оздья – графический прием систематизации материал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нтре – тема, вокруг нее – крупные смысловые едини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3492360" y="2708280"/>
            <a:ext cx="2159280" cy="6494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тер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 flipH="1">
            <a:off x="2339640" y="299736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5651640" y="306864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340000" y="2997360"/>
            <a:ext cx="0" cy="50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6804000" y="306864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84360" y="3500280"/>
            <a:ext cx="2879640" cy="576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084720" y="3573360"/>
            <a:ext cx="2880000" cy="576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2268360" y="4508640"/>
            <a:ext cx="1584360" cy="504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лье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3995640" y="5013360"/>
            <a:ext cx="1800360" cy="43164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им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468360" y="5734080"/>
            <a:ext cx="2232000" cy="936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нутрен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059280" y="5734080"/>
            <a:ext cx="2232000" cy="9349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род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0" y="4437000"/>
            <a:ext cx="2160720" cy="93672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ог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о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322360" y="43689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29"/>
          <p:cNvSpPr/>
          <p:nvPr/>
        </p:nvSpPr>
        <p:spPr>
          <a:xfrm flipH="1">
            <a:off x="1186920" y="4149720"/>
            <a:ext cx="289080" cy="287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30"/>
          <p:cNvSpPr/>
          <p:nvPr/>
        </p:nvSpPr>
        <p:spPr>
          <a:xfrm>
            <a:off x="2700360" y="4149720"/>
            <a:ext cx="216000" cy="358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3348000" y="4149720"/>
            <a:ext cx="1295280" cy="863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>
            <a:off x="2195640" y="41497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132000" y="414972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3564000" y="501336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5"/>
          <p:cNvSpPr/>
          <p:nvPr/>
        </p:nvSpPr>
        <p:spPr>
          <a:xfrm>
            <a:off x="5940360" y="4365720"/>
            <a:ext cx="1728720" cy="93636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аны 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6588000" y="5445000"/>
            <a:ext cx="2556000" cy="908280"/>
          </a:xfrm>
          <a:prstGeom prst="rect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зяйственн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39"/>
          <p:cNvSpPr/>
          <p:nvPr/>
        </p:nvSpPr>
        <p:spPr>
          <a:xfrm flipH="1">
            <a:off x="7020000" y="4149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8172360" y="4149720"/>
            <a:ext cx="21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5-02T21:13:24Z</dcterms:modified>
  <cp:revision>121</cp:revision>
  <dc:subject/>
  <dc:title>PowerPoint Presentation</dc:title>
</cp:coreProperties>
</file>