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D75-1EE2-440D-A924-FA101357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D70-67EF-4411-AD4E-3489A8EF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347-7FDB-47CC-A83D-837AC1CF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F6DC-E273-4ED7-9773-2BE70F98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328-93B7-4F3C-8403-FA8D7603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F32-E5E0-49F5-B295-B22F915F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C38-1CA2-4A24-AC0E-09BA025E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B0A-383F-4CB7-8E88-B68F6D41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C43-F1C7-4A94-8AC2-284F9393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B96-5988-4944-ABFE-647B651E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EA1-8EC8-4CDC-9A79-6164940B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108-7190-414F-B495-F639D1DF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1365-140D-4987-90C5-4D47BBB22C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2916360" y="1413000"/>
            <a:ext cx="3959280" cy="93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a1e6c"/>
                </a:solidFill>
                <a:latin typeface="Arial"/>
              </a:rPr>
              <a:t>вписанная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ea1e6c"/>
              </a:solidFill>
              <a:latin typeface="Arial"/>
              <a:ea typeface="Arial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2195640" y="2421000"/>
            <a:ext cx="5416560" cy="97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a1e6c"/>
                </a:solidFill>
                <a:latin typeface="Arial"/>
              </a:rPr>
              <a:t>окружность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ea1e6c"/>
              </a:solidFill>
              <a:latin typeface="Arial"/>
              <a:ea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572000" y="4869000"/>
            <a:ext cx="4168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ысшей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лексеева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ОУ №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морский рай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1"/>
          <a:stretch/>
        </p:blipFill>
        <p:spPr>
          <a:xfrm>
            <a:off x="1187280" y="4221000"/>
            <a:ext cx="30290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1e6c"/>
                </a:solidFill>
                <a:latin typeface="Arial"/>
              </a:rPr>
              <a:t>Окруж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азывается </a:t>
            </a:r>
            <a:r>
              <a:rPr b="1" lang="ru-RU" sz="3600" spc="-1" strike="noStrike">
                <a:solidFill>
                  <a:srgbClr val="e41664"/>
                </a:solidFill>
                <a:latin typeface="Arial"/>
              </a:rPr>
              <a:t>вписанно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многоугольник, если все его стороны </a:t>
            </a:r>
            <a:r>
              <a:rPr b="0" lang="ru-RU" sz="3600" spc="-1" strike="noStrike">
                <a:solidFill>
                  <a:srgbClr val="e41664"/>
                </a:solidFill>
                <a:latin typeface="Arial"/>
              </a:rPr>
              <a:t>касают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окруж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ом из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жена вписан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AutoShape 8"/>
          <p:cNvCxnSpPr>
            <a:stCxn id="46" idx="2"/>
            <a:endCxn id="46" idx="2"/>
          </p:cNvCxnSpPr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Line 9"/>
          <p:cNvSpPr/>
          <p:nvPr/>
        </p:nvSpPr>
        <p:spPr>
          <a:xfrm>
            <a:off x="4643280" y="4221000"/>
            <a:ext cx="2016360" cy="1368720"/>
          </a:xfrm>
          <a:prstGeom prst="line">
            <a:avLst/>
          </a:prstGeom>
          <a:ln w="63360">
            <a:solidFill>
              <a:srgbClr val="e416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2"/>
          <p:cNvGrpSpPr/>
          <p:nvPr/>
        </p:nvGrpSpPr>
        <p:grpSpPr>
          <a:xfrm>
            <a:off x="6443640" y="3141720"/>
            <a:ext cx="2449440" cy="1323360"/>
            <a:chOff x="6443640" y="3141720"/>
            <a:chExt cx="2449440" cy="1323360"/>
          </a:xfrm>
        </p:grpSpPr>
        <p:grpSp>
          <p:nvGrpSpPr>
            <p:cNvPr id="50" name="Group 19"/>
            <p:cNvGrpSpPr/>
            <p:nvPr/>
          </p:nvGrpSpPr>
          <p:grpSpPr>
            <a:xfrm>
              <a:off x="6443640" y="3141720"/>
              <a:ext cx="2376360" cy="1224000"/>
              <a:chOff x="6443640" y="3141720"/>
              <a:chExt cx="2376360" cy="1224000"/>
            </a:xfrm>
          </p:grpSpPr>
          <p:sp>
            <p:nvSpPr>
              <p:cNvPr id="51" name="AutoShape 5"/>
              <p:cNvSpPr/>
              <p:nvPr/>
            </p:nvSpPr>
            <p:spPr>
              <a:xfrm>
                <a:off x="6443640" y="3141720"/>
                <a:ext cx="2376360" cy="1224000"/>
              </a:xfrm>
              <a:custGeom>
                <a:avLst/>
                <a:gdLst>
                  <a:gd name="textAreaLeft" fmla="*/ 495360 w 2376360"/>
                  <a:gd name="textAreaRight" fmla="*/ 1881000 w 2376360"/>
                  <a:gd name="textAreaTop" fmla="*/ 255600 h 1224000"/>
                  <a:gd name="textAreaBottom" fmla="*/ 96840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10"/>
              <p:cNvSpPr/>
              <p:nvPr/>
            </p:nvSpPr>
            <p:spPr>
              <a:xfrm>
                <a:off x="6804000" y="3141720"/>
                <a:ext cx="1150920" cy="1152360"/>
              </a:xfrm>
              <a:prstGeom prst="ellipse">
                <a:avLst/>
              </a:prstGeom>
              <a:solidFill>
                <a:srgbClr val="ffff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Text Box 16"/>
            <p:cNvSpPr/>
            <p:nvPr/>
          </p:nvSpPr>
          <p:spPr>
            <a:xfrm>
              <a:off x="8532720" y="4005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23"/>
          <p:cNvGrpSpPr/>
          <p:nvPr/>
        </p:nvGrpSpPr>
        <p:grpSpPr>
          <a:xfrm>
            <a:off x="6659640" y="5084640"/>
            <a:ext cx="2089080" cy="1252080"/>
            <a:chOff x="6659640" y="5084640"/>
            <a:chExt cx="2089080" cy="1252080"/>
          </a:xfrm>
        </p:grpSpPr>
        <p:grpSp>
          <p:nvGrpSpPr>
            <p:cNvPr id="55" name="Group 20"/>
            <p:cNvGrpSpPr/>
            <p:nvPr/>
          </p:nvGrpSpPr>
          <p:grpSpPr>
            <a:xfrm>
              <a:off x="6659640" y="5084640"/>
              <a:ext cx="1728720" cy="1152720"/>
              <a:chOff x="6659640" y="5084640"/>
              <a:chExt cx="1728720" cy="1152720"/>
            </a:xfrm>
          </p:grpSpPr>
          <p:sp>
            <p:nvSpPr>
              <p:cNvPr id="56" name="AutoShape 7"/>
              <p:cNvSpPr/>
              <p:nvPr/>
            </p:nvSpPr>
            <p:spPr>
              <a:xfrm>
                <a:off x="6659640" y="5084640"/>
                <a:ext cx="1728720" cy="1150920"/>
              </a:xfrm>
              <a:prstGeom prst="parallelogram">
                <a:avLst>
                  <a:gd name="adj" fmla="val 37551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3"/>
              <p:cNvSpPr/>
              <p:nvPr/>
            </p:nvSpPr>
            <p:spPr>
              <a:xfrm>
                <a:off x="6910560" y="5084640"/>
                <a:ext cx="1201680" cy="1152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Text Box 17"/>
            <p:cNvSpPr/>
            <p:nvPr/>
          </p:nvSpPr>
          <p:spPr>
            <a:xfrm>
              <a:off x="8388360" y="5877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4"/>
          <p:cNvGrpSpPr/>
          <p:nvPr/>
        </p:nvGrpSpPr>
        <p:grpSpPr>
          <a:xfrm>
            <a:off x="3995640" y="5229360"/>
            <a:ext cx="2016360" cy="1368360"/>
            <a:chOff x="3995640" y="5229360"/>
            <a:chExt cx="2016360" cy="1368360"/>
          </a:xfrm>
        </p:grpSpPr>
        <p:grpSp>
          <p:nvGrpSpPr>
            <p:cNvPr id="60" name="Group 21"/>
            <p:cNvGrpSpPr/>
            <p:nvPr/>
          </p:nvGrpSpPr>
          <p:grpSpPr>
            <a:xfrm>
              <a:off x="3995640" y="5229360"/>
              <a:ext cx="1513080" cy="1368360"/>
              <a:chOff x="3995640" y="5229360"/>
              <a:chExt cx="1513080" cy="1368360"/>
            </a:xfrm>
          </p:grpSpPr>
          <p:sp>
            <p:nvSpPr>
              <p:cNvPr id="61" name="Oval 14"/>
              <p:cNvSpPr/>
              <p:nvPr/>
            </p:nvSpPr>
            <p:spPr>
              <a:xfrm>
                <a:off x="3995640" y="5229360"/>
                <a:ext cx="1513080" cy="1368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5"/>
              <p:cNvSpPr/>
              <p:nvPr/>
            </p:nvSpPr>
            <p:spPr>
              <a:xfrm>
                <a:off x="4284720" y="5373720"/>
                <a:ext cx="863640" cy="107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Text Box 18"/>
            <p:cNvSpPr/>
            <p:nvPr/>
          </p:nvSpPr>
          <p:spPr>
            <a:xfrm>
              <a:off x="5651640" y="6093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AutoShape 25">
            <a:hlinkClick r:id="" action="ppaction://hlinkshowjump?jump=previousslide"/>
          </p:cNvPr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7493"/>
                </a:moveTo>
                <a:lnTo>
                  <a:pt x="7340" y="7493"/>
                </a:lnTo>
                <a:lnTo>
                  <a:pt x="7340" y="12828"/>
                </a:lnTo>
                <a:cubicBezTo>
                  <a:pt x="7340" y="13751"/>
                  <a:pt x="8140" y="14482"/>
                  <a:pt x="9176" y="14482"/>
                </a:cubicBezTo>
                <a:lnTo>
                  <a:pt x="10839" y="14482"/>
                </a:lnTo>
                <a:cubicBezTo>
                  <a:pt x="11874" y="14482"/>
                  <a:pt x="12675" y="13751"/>
                  <a:pt x="12675" y="12828"/>
                </a:cubicBezTo>
                <a:lnTo>
                  <a:pt x="12675" y="7493"/>
                </a:lnTo>
                <a:lnTo>
                  <a:pt x="10839" y="7493"/>
                </a:lnTo>
                <a:lnTo>
                  <a:pt x="14346" y="3985"/>
                </a:lnTo>
                <a:lnTo>
                  <a:pt x="18019" y="7493"/>
                </a:lnTo>
                <a:lnTo>
                  <a:pt x="16183" y="7493"/>
                </a:lnTo>
                <a:lnTo>
                  <a:pt x="16183" y="12828"/>
                </a:lnTo>
                <a:cubicBezTo>
                  <a:pt x="16183" y="15596"/>
                  <a:pt x="13606" y="18155"/>
                  <a:pt x="10839" y="18155"/>
                </a:cubicBezTo>
                <a:lnTo>
                  <a:pt x="9176" y="18155"/>
                </a:lnTo>
                <a:cubicBezTo>
                  <a:pt x="6408" y="18155"/>
                  <a:pt x="3832" y="15596"/>
                  <a:pt x="383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93ef"/>
                </a:solidFill>
                <a:latin typeface="Arial"/>
              </a:rPr>
              <a:t>В любой треугольник можно вписать окруж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96720" y="1268280"/>
            <a:ext cx="9540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1664"/>
                </a:solidFill>
                <a:latin typeface="Arial"/>
              </a:rPr>
              <a:t>Цен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писанной окруж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пересечения </a:t>
            </a:r>
            <a:r>
              <a:rPr b="0" lang="ru-RU" sz="2400" spc="-1" strike="noStrike">
                <a:solidFill>
                  <a:srgbClr val="e41664"/>
                </a:solidFill>
                <a:latin typeface="Arial"/>
              </a:rPr>
              <a:t>биссектр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924360" y="1916280"/>
            <a:ext cx="52196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ус вписа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, 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4"/>
              <p:cNvSpPr txBox="1"/>
              <p:nvPr/>
            </p:nvSpPr>
            <p:spPr>
              <a:xfrm>
                <a:off x="6183360" y="2278080"/>
                <a:ext cx="1125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6"/>
              <p:cNvSpPr txBox="1"/>
              <p:nvPr/>
            </p:nvSpPr>
            <p:spPr>
              <a:xfrm>
                <a:off x="5940360" y="4292640"/>
                <a:ext cx="18288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Text Box 18"/>
          <p:cNvSpPr/>
          <p:nvPr/>
        </p:nvSpPr>
        <p:spPr>
          <a:xfrm>
            <a:off x="5830920" y="3789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лощадь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779400" y="2421000"/>
            <a:ext cx="5199120" cy="3544920"/>
          </a:xfrm>
          <a:prstGeom prst="rtTriangle">
            <a:avLst/>
          </a:prstGeom>
          <a:solidFill>
            <a:srgbClr val="91d3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779400" y="3556080"/>
            <a:ext cx="2463840" cy="2409840"/>
          </a:xfrm>
          <a:prstGeom prst="ellipse">
            <a:avLst/>
          </a:prstGeom>
          <a:solidFill>
            <a:srgbClr val="ff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24000" y="38401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2602080" y="591660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2843280" y="34034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4"/>
          <p:cNvSpPr/>
          <p:nvPr/>
        </p:nvSpPr>
        <p:spPr>
          <a:xfrm>
            <a:off x="779400" y="2421000"/>
            <a:ext cx="1779480" cy="3544920"/>
          </a:xfrm>
          <a:prstGeom prst="line">
            <a:avLst/>
          </a:prstGeom>
          <a:ln w="12600">
            <a:solidFill>
              <a:srgbClr val="e416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 flipV="1">
            <a:off x="779400" y="3839760"/>
            <a:ext cx="2054160" cy="2125800"/>
          </a:xfrm>
          <a:prstGeom prst="line">
            <a:avLst/>
          </a:prstGeom>
          <a:ln w="9360">
            <a:solidFill>
              <a:srgbClr val="e416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 flipH="1" flipV="1">
            <a:off x="779400" y="4404960"/>
            <a:ext cx="5199120" cy="1560600"/>
          </a:xfrm>
          <a:prstGeom prst="line">
            <a:avLst/>
          </a:prstGeom>
          <a:ln w="9360">
            <a:solidFill>
              <a:srgbClr val="e416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>
            <a:off x="1951200" y="4748040"/>
            <a:ext cx="28440" cy="120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7"/>
          <p:cNvSpPr/>
          <p:nvPr/>
        </p:nvSpPr>
        <p:spPr>
          <a:xfrm>
            <a:off x="1620720" y="5300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9"/>
          <p:cNvSpPr/>
          <p:nvPr/>
        </p:nvSpPr>
        <p:spPr>
          <a:xfrm>
            <a:off x="538920" y="6165720"/>
            <a:ext cx="79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1664"/>
                </a:solidFill>
                <a:latin typeface="Arial"/>
              </a:rPr>
              <a:t>В треугольник можно вписать только одну окружнос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0">
            <a:hlinkClick r:id="" action="ppaction://hlinkshowjump?jump=previousslide"/>
          </p:cNvPr>
          <p:cNvSpPr/>
          <p:nvPr/>
        </p:nvSpPr>
        <p:spPr>
          <a:xfrm>
            <a:off x="8388360" y="566100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7493"/>
                </a:moveTo>
                <a:lnTo>
                  <a:pt x="7332" y="7493"/>
                </a:lnTo>
                <a:lnTo>
                  <a:pt x="7332" y="12828"/>
                </a:lnTo>
                <a:cubicBezTo>
                  <a:pt x="7332" y="13751"/>
                  <a:pt x="8133" y="14482"/>
                  <a:pt x="9168" y="14482"/>
                </a:cubicBezTo>
                <a:lnTo>
                  <a:pt x="10831" y="14482"/>
                </a:lnTo>
                <a:cubicBezTo>
                  <a:pt x="11867" y="14482"/>
                  <a:pt x="12667" y="13751"/>
                  <a:pt x="12667" y="12828"/>
                </a:cubicBezTo>
                <a:lnTo>
                  <a:pt x="12667" y="7493"/>
                </a:lnTo>
                <a:lnTo>
                  <a:pt x="10831" y="7493"/>
                </a:lnTo>
                <a:lnTo>
                  <a:pt x="14338" y="3985"/>
                </a:lnTo>
                <a:lnTo>
                  <a:pt x="18011" y="7493"/>
                </a:lnTo>
                <a:lnTo>
                  <a:pt x="16175" y="7493"/>
                </a:lnTo>
                <a:lnTo>
                  <a:pt x="16175" y="12828"/>
                </a:lnTo>
                <a:cubicBezTo>
                  <a:pt x="16175" y="15596"/>
                  <a:pt x="13599" y="18155"/>
                  <a:pt x="10831" y="18155"/>
                </a:cubicBezTo>
                <a:lnTo>
                  <a:pt x="9168" y="18155"/>
                </a:lnTo>
                <a:cubicBezTo>
                  <a:pt x="6401" y="18155"/>
                  <a:pt x="3824" y="15596"/>
                  <a:pt x="382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тырехугольник, описанный около окруж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179280" y="191628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1664"/>
                </a:solidFill>
                <a:latin typeface="Arial"/>
              </a:rPr>
              <a:t>Четырехугольн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</a:t>
            </a:r>
            <a:r>
              <a:rPr b="0" lang="ru-RU" sz="2400" spc="-1" strike="noStrike">
                <a:solidFill>
                  <a:srgbClr val="e41664"/>
                </a:solidFill>
                <a:latin typeface="Arial"/>
              </a:rPr>
              <a:t>опис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оло окружности, если суммы противолежащих сторон рав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e41664"/>
                </a:solidFill>
                <a:latin typeface="Arial"/>
              </a:rPr>
              <a:t>a+c=b+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7"/>
          <p:cNvGrpSpPr/>
          <p:nvPr/>
        </p:nvGrpSpPr>
        <p:grpSpPr>
          <a:xfrm>
            <a:off x="5796000" y="1700280"/>
            <a:ext cx="2830320" cy="2846880"/>
            <a:chOff x="5796000" y="1700280"/>
            <a:chExt cx="2830320" cy="2846880"/>
          </a:xfrm>
        </p:grpSpPr>
        <p:sp>
          <p:nvSpPr>
            <p:cNvPr id="90" name="AutoShape 21"/>
            <p:cNvSpPr/>
            <p:nvPr/>
          </p:nvSpPr>
          <p:spPr>
            <a:xfrm>
              <a:off x="6156360" y="1857600"/>
              <a:ext cx="2087280" cy="2303280"/>
            </a:xfrm>
            <a:prstGeom prst="flowChartManualInput">
              <a:avLst/>
            </a:prstGeom>
            <a:solidFill>
              <a:srgbClr val="91d3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6156360" y="2131920"/>
              <a:ext cx="2087280" cy="2016360"/>
            </a:xfrm>
            <a:prstGeom prst="ellipse">
              <a:avLst/>
            </a:prstGeom>
            <a:solidFill>
              <a:srgbClr val="fff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2"/>
            <p:cNvSpPr/>
            <p:nvPr/>
          </p:nvSpPr>
          <p:spPr>
            <a:xfrm>
              <a:off x="5796000" y="2924280"/>
              <a:ext cx="3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3"/>
            <p:cNvSpPr/>
            <p:nvPr/>
          </p:nvSpPr>
          <p:spPr>
            <a:xfrm>
              <a:off x="6877080" y="1700280"/>
              <a:ext cx="3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4"/>
            <p:cNvSpPr/>
            <p:nvPr/>
          </p:nvSpPr>
          <p:spPr>
            <a:xfrm>
              <a:off x="8316720" y="2851200"/>
              <a:ext cx="3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5"/>
            <p:cNvSpPr/>
            <p:nvPr/>
          </p:nvSpPr>
          <p:spPr>
            <a:xfrm>
              <a:off x="7164360" y="4148280"/>
              <a:ext cx="3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36"/>
            <p:cNvGrpSpPr/>
            <p:nvPr/>
          </p:nvGrpSpPr>
          <p:grpSpPr>
            <a:xfrm>
              <a:off x="6516720" y="3138480"/>
              <a:ext cx="718920" cy="793800"/>
              <a:chOff x="6516720" y="3138480"/>
              <a:chExt cx="718920" cy="793800"/>
            </a:xfrm>
          </p:grpSpPr>
          <p:sp>
            <p:nvSpPr>
              <p:cNvPr id="97" name="Line 26"/>
              <p:cNvSpPr/>
              <p:nvPr/>
            </p:nvSpPr>
            <p:spPr>
              <a:xfrm flipH="1">
                <a:off x="6587640" y="3140280"/>
                <a:ext cx="647640" cy="79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27"/>
              <p:cNvSpPr/>
              <p:nvPr/>
            </p:nvSpPr>
            <p:spPr>
              <a:xfrm>
                <a:off x="6516720" y="3140280"/>
                <a:ext cx="309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AutoShape 28"/>
              <p:cNvSpPr/>
              <p:nvPr/>
            </p:nvSpPr>
            <p:spPr>
              <a:xfrm>
                <a:off x="7164360" y="3138480"/>
                <a:ext cx="71280" cy="73080"/>
              </a:xfrm>
              <a:prstGeom prst="flowChartConnector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Text Box 29"/>
            <p:cNvSpPr/>
            <p:nvPr/>
          </p:nvSpPr>
          <p:spPr>
            <a:xfrm>
              <a:off x="7165800" y="285120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0"/>
          <p:cNvSpPr/>
          <p:nvPr/>
        </p:nvSpPr>
        <p:spPr>
          <a:xfrm>
            <a:off x="179280" y="364500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четырехугольник </a:t>
            </a:r>
            <a:r>
              <a:rPr b="0" lang="ru-RU" sz="2400" spc="-1" strike="noStrike">
                <a:solidFill>
                  <a:srgbClr val="e41664"/>
                </a:solidFill>
                <a:latin typeface="Arial"/>
              </a:rPr>
              <a:t>опис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оло окружности, то суммы противолежащих сторон рав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1"/>
          <p:cNvSpPr/>
          <p:nvPr/>
        </p:nvSpPr>
        <p:spPr>
          <a:xfrm>
            <a:off x="324000" y="52038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32"/>
              <p:cNvSpPr txBox="1"/>
              <p:nvPr/>
            </p:nvSpPr>
            <p:spPr>
              <a:xfrm>
                <a:off x="1908000" y="5013360"/>
                <a:ext cx="15130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Text Box 34"/>
          <p:cNvSpPr/>
          <p:nvPr/>
        </p:nvSpPr>
        <p:spPr>
          <a:xfrm>
            <a:off x="3995640" y="5445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5"/>
          <p:cNvSpPr/>
          <p:nvPr/>
        </p:nvSpPr>
        <p:spPr>
          <a:xfrm>
            <a:off x="3419640" y="5238720"/>
            <a:ext cx="57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метр четырех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диус вписанной окру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8">
            <a:hlinkClick r:id="" action="ppaction://hlinkshowjump?jump=previous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7499"/>
                </a:moveTo>
                <a:lnTo>
                  <a:pt x="7301" y="7499"/>
                </a:lnTo>
                <a:lnTo>
                  <a:pt x="7301" y="12835"/>
                </a:lnTo>
                <a:cubicBezTo>
                  <a:pt x="7301" y="13757"/>
                  <a:pt x="8102" y="14488"/>
                  <a:pt x="9138" y="14488"/>
                </a:cubicBezTo>
                <a:lnTo>
                  <a:pt x="10800" y="14488"/>
                </a:lnTo>
                <a:cubicBezTo>
                  <a:pt x="11836" y="14488"/>
                  <a:pt x="12636" y="13757"/>
                  <a:pt x="12636" y="12835"/>
                </a:cubicBezTo>
                <a:lnTo>
                  <a:pt x="12636" y="7499"/>
                </a:lnTo>
                <a:lnTo>
                  <a:pt x="10800" y="7499"/>
                </a:lnTo>
                <a:lnTo>
                  <a:pt x="14308" y="3992"/>
                </a:lnTo>
                <a:lnTo>
                  <a:pt x="17981" y="7499"/>
                </a:lnTo>
                <a:lnTo>
                  <a:pt x="16144" y="7499"/>
                </a:lnTo>
                <a:lnTo>
                  <a:pt x="16144" y="12835"/>
                </a:lnTo>
                <a:cubicBezTo>
                  <a:pt x="16144" y="15602"/>
                  <a:pt x="13568" y="18161"/>
                  <a:pt x="10800" y="18161"/>
                </a:cubicBezTo>
                <a:lnTo>
                  <a:pt x="9138" y="18161"/>
                </a:lnTo>
                <a:cubicBezTo>
                  <a:pt x="6370" y="18161"/>
                  <a:pt x="3794" y="15602"/>
                  <a:pt x="3794" y="12835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5400" spc="-1" strike="noStrike">
                <a:solidFill>
                  <a:srgbClr val="e41664"/>
                </a:solidFill>
                <a:latin typeface="Arial"/>
              </a:rPr>
              <a:t>Выполни тест</a:t>
            </a:r>
            <a:r>
              <a:rPr b="0" lang="en-US" sz="5400" spc="-1" strike="noStrike">
                <a:solidFill>
                  <a:srgbClr val="e41664"/>
                </a:solidFill>
                <a:latin typeface="Arial"/>
              </a:rPr>
              <a:t>:</a:t>
            </a:r>
            <a:br>
              <a:rPr sz="5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Центр вписанной в треугольник окружности совпадает с точко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сечения его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3644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медиан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_x000b_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биссектри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серединных перпендикуляров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_x000b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>
            <a:hlinkClick r:id="" action="ppaction://hlinkshowjump?jump=nextslide"/>
          </p:cNvPr>
          <p:cNvSpPr/>
          <p:nvPr/>
        </p:nvSpPr>
        <p:spPr>
          <a:xfrm>
            <a:off x="7812000" y="414972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>
            <a:hlinkClick r:id="rId3" action="ppaction://hlinksldjump"/>
          </p:cNvPr>
          <p:cNvSpPr/>
          <p:nvPr/>
        </p:nvSpPr>
        <p:spPr>
          <a:xfrm>
            <a:off x="7812000" y="472428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>
            <a:hlinkClick r:id="rId4" action="ppaction://hlinksldjump"/>
          </p:cNvPr>
          <p:cNvSpPr/>
          <p:nvPr/>
        </p:nvSpPr>
        <p:spPr>
          <a:xfrm>
            <a:off x="7812000" y="357336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2H3"/>
          <p:cNvPicPr/>
          <p:nvPr/>
        </p:nvPicPr>
        <p:blipFill>
          <a:blip r:embed="rId5"/>
          <a:stretch/>
        </p:blipFill>
        <p:spPr>
          <a:xfrm>
            <a:off x="826920" y="189000"/>
            <a:ext cx="7621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Центр вписанной в треугольник окружности равноудален о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сторон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_x000b_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углов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_x000b_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ершин тре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>
            <a:hlinkClick r:id="" action="ppaction://hlinkshowjump?jump=nextslide"/>
          </p:cNvPr>
          <p:cNvSpPr/>
          <p:nvPr/>
        </p:nvSpPr>
        <p:spPr>
          <a:xfrm>
            <a:off x="7740720" y="256536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3" action="ppaction://hlinksldjump"/>
          </p:cNvPr>
          <p:cNvSpPr/>
          <p:nvPr/>
        </p:nvSpPr>
        <p:spPr>
          <a:xfrm>
            <a:off x="7740720" y="306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7740720" y="357336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Ученик"/>
          <p:cNvPicPr/>
          <p:nvPr/>
        </p:nvPicPr>
        <p:blipFill>
          <a:blip r:embed="rId4"/>
          <a:stretch/>
        </p:blipFill>
        <p:spPr>
          <a:xfrm>
            <a:off x="3419640" y="4508640"/>
            <a:ext cx="22651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Окружность называется вписанной в многоугольник, есл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все его стороны касаются окруж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все его вершины лежат на окру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се его стороны имеют общие точки с окруж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7812000" y="3067200"/>
            <a:ext cx="432000" cy="4330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080"/>
              <a:gd name="textAreaBottom" fmla="*/ 405360 h 43308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7812000" y="364320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>
            <a:hlinkClick r:id="" action="ppaction://hlinkshowjump?jump=nextslide"/>
          </p:cNvPr>
          <p:cNvSpPr/>
          <p:nvPr/>
        </p:nvSpPr>
        <p:spPr>
          <a:xfrm>
            <a:off x="7812000" y="249228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Учен1"/>
          <p:cNvPicPr/>
          <p:nvPr/>
        </p:nvPicPr>
        <p:blipFill>
          <a:blip r:embed="rId1"/>
          <a:stretch/>
        </p:blipFill>
        <p:spPr>
          <a:xfrm>
            <a:off x="3635280" y="4365720"/>
            <a:ext cx="233676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В какой из четырехугольников всегда можно вписать окружнос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7208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рямоугольни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араллелограм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ромб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7812000" y="371628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>
            <a:hlinkClick r:id="" action="ppaction://hlinkshowjump?jump=nextslide"/>
          </p:cNvPr>
          <p:cNvSpPr/>
          <p:nvPr/>
        </p:nvSpPr>
        <p:spPr>
          <a:xfrm>
            <a:off x="7812000" y="429084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12000" y="313992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Школа"/>
          <p:cNvPicPr/>
          <p:nvPr/>
        </p:nvPicPr>
        <p:blipFill>
          <a:blip r:embed="rId1"/>
          <a:stretch/>
        </p:blipFill>
        <p:spPr>
          <a:xfrm>
            <a:off x="3851280" y="4797360"/>
            <a:ext cx="19051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10"/>
          <p:cNvSpPr txBox="1"/>
          <p:nvPr/>
        </p:nvSpPr>
        <p:spPr>
          <a:xfrm>
            <a:off x="2195640" y="1989000"/>
            <a:ext cx="4576680" cy="268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молодец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08:03:50Z</dcterms:created>
  <dc:creator>Олеся</dc:creator>
  <dc:description/>
  <dc:language>en-US</dc:language>
  <cp:lastModifiedBy>user</cp:lastModifiedBy>
  <dcterms:modified xsi:type="dcterms:W3CDTF">2015-05-03T16:02:53Z</dcterms:modified>
  <cp:revision>14</cp:revision>
  <dc:subject/>
  <dc:title>Вписанная  окруж</dc:title>
</cp:coreProperties>
</file>