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90F1-0D9D-4606-AA11-B1646DED7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BACD-0757-4D26-A720-3557B12D2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0F19-67D2-4056-8EC8-46548DAFB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0E2C-B73E-453E-B1D3-3C4A517F8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5750-79B6-4F78-B11E-86D26E0A4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ADD0-53EF-40A6-974C-4BB0BA0DE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222F-E087-4C1A-A75F-D73B4EDBC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B7E4-F23C-4431-85D2-5B7C46386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9538-11EA-4DB5-9626-918052C92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9FF0-2B80-42B4-972D-E57B48AA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7195-E5BC-44F6-A3B5-2A1F8CCC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C952-20B1-40BC-8305-3B6CAF7F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A88CE-3939-4D95-A296-8CC335A16B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7"/>
          <p:cNvSpPr txBox="1"/>
          <p:nvPr/>
        </p:nvSpPr>
        <p:spPr>
          <a:xfrm>
            <a:off x="2916360" y="1413000"/>
            <a:ext cx="3959280" cy="931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a1e6c"/>
                </a:solidFill>
                <a:latin typeface="Arial"/>
              </a:rPr>
              <a:t>вписанная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ea1e6c"/>
              </a:solidFill>
              <a:latin typeface="Arial"/>
              <a:ea typeface="Arial"/>
            </a:endParaRPr>
          </a:p>
        </p:txBody>
      </p:sp>
      <p:sp>
        <p:nvSpPr>
          <p:cNvPr id="42" name="WordArt 8"/>
          <p:cNvSpPr txBox="1"/>
          <p:nvPr/>
        </p:nvSpPr>
        <p:spPr>
          <a:xfrm>
            <a:off x="2195640" y="2421000"/>
            <a:ext cx="5416560" cy="97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a1e6c"/>
                </a:solidFill>
                <a:latin typeface="Arial"/>
              </a:rPr>
              <a:t>окружность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ea1e6c"/>
              </a:solidFill>
              <a:latin typeface="Arial"/>
              <a:ea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4572000" y="4869000"/>
            <a:ext cx="4168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Геометр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8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читель математ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Высшей квалификационной категор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Алексеева Л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ГОУ №6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иморский райо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0" descr=""/>
          <p:cNvPicPr/>
          <p:nvPr/>
        </p:nvPicPr>
        <p:blipFill>
          <a:blip r:embed="rId1"/>
          <a:stretch/>
        </p:blipFill>
        <p:spPr>
          <a:xfrm>
            <a:off x="1187280" y="4221000"/>
            <a:ext cx="302904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1e6c"/>
                </a:solidFill>
                <a:latin typeface="Arial"/>
              </a:rPr>
              <a:t>Окружност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называется </a:t>
            </a:r>
            <a:r>
              <a:rPr b="1" lang="ru-RU" sz="3600" spc="-1" strike="noStrike">
                <a:solidFill>
                  <a:srgbClr val="e41664"/>
                </a:solidFill>
                <a:latin typeface="Arial"/>
              </a:rPr>
              <a:t>вписанной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в многоугольник, если все его стороны </a:t>
            </a:r>
            <a:r>
              <a:rPr b="0" lang="ru-RU" sz="3600" spc="-1" strike="noStrike">
                <a:solidFill>
                  <a:srgbClr val="e41664"/>
                </a:solidFill>
                <a:latin typeface="Arial"/>
              </a:rPr>
              <a:t>касаютс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окруж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2923920"/>
            <a:ext cx="91440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каком из рису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ображена вписанн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ружнос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AutoShape 8"/>
          <p:cNvCxnSpPr>
            <a:stCxn id="46" idx="2"/>
            <a:endCxn id="46" idx="2"/>
          </p:cNvCxnSpPr>
          <p:nvPr/>
        </p:nvCxnSpPr>
        <p:spPr>
          <a:xfrm>
            <a:off x="4571640" y="68576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Line 9"/>
          <p:cNvSpPr/>
          <p:nvPr/>
        </p:nvSpPr>
        <p:spPr>
          <a:xfrm>
            <a:off x="4643280" y="4221000"/>
            <a:ext cx="2016360" cy="1368720"/>
          </a:xfrm>
          <a:prstGeom prst="line">
            <a:avLst/>
          </a:prstGeom>
          <a:ln w="63360">
            <a:solidFill>
              <a:srgbClr val="e4166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22"/>
          <p:cNvGrpSpPr/>
          <p:nvPr/>
        </p:nvGrpSpPr>
        <p:grpSpPr>
          <a:xfrm>
            <a:off x="6443640" y="3141720"/>
            <a:ext cx="2449440" cy="1323360"/>
            <a:chOff x="6443640" y="3141720"/>
            <a:chExt cx="2449440" cy="1323360"/>
          </a:xfrm>
        </p:grpSpPr>
        <p:grpSp>
          <p:nvGrpSpPr>
            <p:cNvPr id="50" name="Group 19"/>
            <p:cNvGrpSpPr/>
            <p:nvPr/>
          </p:nvGrpSpPr>
          <p:grpSpPr>
            <a:xfrm>
              <a:off x="6443640" y="3141720"/>
              <a:ext cx="2376360" cy="1224000"/>
              <a:chOff x="6443640" y="3141720"/>
              <a:chExt cx="2376360" cy="1224000"/>
            </a:xfrm>
          </p:grpSpPr>
          <p:sp>
            <p:nvSpPr>
              <p:cNvPr id="51" name="AutoShape 5"/>
              <p:cNvSpPr/>
              <p:nvPr/>
            </p:nvSpPr>
            <p:spPr>
              <a:xfrm>
                <a:off x="6443640" y="3141720"/>
                <a:ext cx="2376360" cy="1224000"/>
              </a:xfrm>
              <a:custGeom>
                <a:avLst/>
                <a:gdLst>
                  <a:gd name="textAreaLeft" fmla="*/ 495360 w 2376360"/>
                  <a:gd name="textAreaRight" fmla="*/ 1881000 w 2376360"/>
                  <a:gd name="textAreaTop" fmla="*/ 255600 h 1224000"/>
                  <a:gd name="textAreaBottom" fmla="*/ 968400 h 1224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Oval 10"/>
              <p:cNvSpPr/>
              <p:nvPr/>
            </p:nvSpPr>
            <p:spPr>
              <a:xfrm>
                <a:off x="6804000" y="3141720"/>
                <a:ext cx="1150920" cy="1152360"/>
              </a:xfrm>
              <a:prstGeom prst="ellipse">
                <a:avLst/>
              </a:prstGeom>
              <a:solidFill>
                <a:srgbClr val="ffff9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Text Box 16"/>
            <p:cNvSpPr/>
            <p:nvPr/>
          </p:nvSpPr>
          <p:spPr>
            <a:xfrm>
              <a:off x="8532720" y="4005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23"/>
          <p:cNvGrpSpPr/>
          <p:nvPr/>
        </p:nvGrpSpPr>
        <p:grpSpPr>
          <a:xfrm>
            <a:off x="6659640" y="5084640"/>
            <a:ext cx="2089080" cy="1252080"/>
            <a:chOff x="6659640" y="5084640"/>
            <a:chExt cx="2089080" cy="1252080"/>
          </a:xfrm>
        </p:grpSpPr>
        <p:grpSp>
          <p:nvGrpSpPr>
            <p:cNvPr id="55" name="Group 20"/>
            <p:cNvGrpSpPr/>
            <p:nvPr/>
          </p:nvGrpSpPr>
          <p:grpSpPr>
            <a:xfrm>
              <a:off x="6659640" y="5084640"/>
              <a:ext cx="1728720" cy="1152720"/>
              <a:chOff x="6659640" y="5084640"/>
              <a:chExt cx="1728720" cy="1152720"/>
            </a:xfrm>
          </p:grpSpPr>
          <p:sp>
            <p:nvSpPr>
              <p:cNvPr id="56" name="AutoShape 7"/>
              <p:cNvSpPr/>
              <p:nvPr/>
            </p:nvSpPr>
            <p:spPr>
              <a:xfrm>
                <a:off x="6659640" y="5084640"/>
                <a:ext cx="1728720" cy="1150920"/>
              </a:xfrm>
              <a:prstGeom prst="parallelogram">
                <a:avLst>
                  <a:gd name="adj" fmla="val 37551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Oval 13"/>
              <p:cNvSpPr/>
              <p:nvPr/>
            </p:nvSpPr>
            <p:spPr>
              <a:xfrm>
                <a:off x="6910560" y="5084640"/>
                <a:ext cx="1201680" cy="11527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Text Box 17"/>
            <p:cNvSpPr/>
            <p:nvPr/>
          </p:nvSpPr>
          <p:spPr>
            <a:xfrm>
              <a:off x="8388360" y="58770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24"/>
          <p:cNvGrpSpPr/>
          <p:nvPr/>
        </p:nvGrpSpPr>
        <p:grpSpPr>
          <a:xfrm>
            <a:off x="3995640" y="5229360"/>
            <a:ext cx="2016360" cy="1368360"/>
            <a:chOff x="3995640" y="5229360"/>
            <a:chExt cx="2016360" cy="1368360"/>
          </a:xfrm>
        </p:grpSpPr>
        <p:grpSp>
          <p:nvGrpSpPr>
            <p:cNvPr id="60" name="Group 21"/>
            <p:cNvGrpSpPr/>
            <p:nvPr/>
          </p:nvGrpSpPr>
          <p:grpSpPr>
            <a:xfrm>
              <a:off x="3995640" y="5229360"/>
              <a:ext cx="1513080" cy="1368360"/>
              <a:chOff x="3995640" y="5229360"/>
              <a:chExt cx="1513080" cy="1368360"/>
            </a:xfrm>
          </p:grpSpPr>
          <p:sp>
            <p:nvSpPr>
              <p:cNvPr id="61" name="Oval 14"/>
              <p:cNvSpPr/>
              <p:nvPr/>
            </p:nvSpPr>
            <p:spPr>
              <a:xfrm>
                <a:off x="3995640" y="5229360"/>
                <a:ext cx="1513080" cy="1368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5"/>
              <p:cNvSpPr/>
              <p:nvPr/>
            </p:nvSpPr>
            <p:spPr>
              <a:xfrm>
                <a:off x="4284720" y="5373720"/>
                <a:ext cx="863640" cy="1079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" name="Text Box 18"/>
            <p:cNvSpPr/>
            <p:nvPr/>
          </p:nvSpPr>
          <p:spPr>
            <a:xfrm>
              <a:off x="5651640" y="60930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AutoShape 25">
            <a:hlinkClick r:id="" action="ppaction://hlinkshowjump?jump=previousslide"/>
          </p:cNvPr>
          <p:cNvSpPr/>
          <p:nvPr/>
        </p:nvSpPr>
        <p:spPr>
          <a:xfrm>
            <a:off x="250920" y="6093000"/>
            <a:ext cx="504720" cy="5029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3832" y="7493"/>
                </a:moveTo>
                <a:lnTo>
                  <a:pt x="7340" y="7493"/>
                </a:lnTo>
                <a:lnTo>
                  <a:pt x="7340" y="12828"/>
                </a:lnTo>
                <a:cubicBezTo>
                  <a:pt x="7340" y="13751"/>
                  <a:pt x="8140" y="14482"/>
                  <a:pt x="9176" y="14482"/>
                </a:cubicBezTo>
                <a:lnTo>
                  <a:pt x="10839" y="14482"/>
                </a:lnTo>
                <a:cubicBezTo>
                  <a:pt x="11874" y="14482"/>
                  <a:pt x="12675" y="13751"/>
                  <a:pt x="12675" y="12828"/>
                </a:cubicBezTo>
                <a:lnTo>
                  <a:pt x="12675" y="7493"/>
                </a:lnTo>
                <a:lnTo>
                  <a:pt x="10839" y="7493"/>
                </a:lnTo>
                <a:lnTo>
                  <a:pt x="14346" y="3985"/>
                </a:lnTo>
                <a:lnTo>
                  <a:pt x="18019" y="7493"/>
                </a:lnTo>
                <a:lnTo>
                  <a:pt x="16183" y="7493"/>
                </a:lnTo>
                <a:lnTo>
                  <a:pt x="16183" y="12828"/>
                </a:lnTo>
                <a:cubicBezTo>
                  <a:pt x="16183" y="15596"/>
                  <a:pt x="13606" y="18155"/>
                  <a:pt x="10839" y="18155"/>
                </a:cubicBezTo>
                <a:lnTo>
                  <a:pt x="9176" y="18155"/>
                </a:lnTo>
                <a:cubicBezTo>
                  <a:pt x="6408" y="18155"/>
                  <a:pt x="3832" y="15596"/>
                  <a:pt x="383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993ef"/>
                </a:solidFill>
                <a:latin typeface="Arial"/>
              </a:rPr>
              <a:t>В любой треугольник можно вписать окружност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-396720" y="1268280"/>
            <a:ext cx="9540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1664"/>
                </a:solidFill>
                <a:latin typeface="Arial"/>
              </a:rPr>
              <a:t>Цен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писанной окружн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ка пересечения </a:t>
            </a:r>
            <a:r>
              <a:rPr b="0" lang="ru-RU" sz="2400" spc="-1" strike="noStrike">
                <a:solidFill>
                  <a:srgbClr val="e41664"/>
                </a:solidFill>
                <a:latin typeface="Arial"/>
              </a:rPr>
              <a:t>биссектр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3924360" y="1916280"/>
            <a:ext cx="521964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диус вписан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руж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, г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14"/>
              <p:cNvSpPr txBox="1"/>
              <p:nvPr/>
            </p:nvSpPr>
            <p:spPr>
              <a:xfrm>
                <a:off x="6183360" y="2278080"/>
                <a:ext cx="112536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16"/>
              <p:cNvSpPr txBox="1"/>
              <p:nvPr/>
            </p:nvSpPr>
            <p:spPr>
              <a:xfrm>
                <a:off x="5940360" y="4292640"/>
                <a:ext cx="182880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" name="Text Box 18"/>
          <p:cNvSpPr/>
          <p:nvPr/>
        </p:nvSpPr>
        <p:spPr>
          <a:xfrm>
            <a:off x="5830920" y="378936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площадь треуголь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6"/>
          <p:cNvSpPr/>
          <p:nvPr/>
        </p:nvSpPr>
        <p:spPr>
          <a:xfrm>
            <a:off x="779400" y="2421000"/>
            <a:ext cx="5199120" cy="3544920"/>
          </a:xfrm>
          <a:prstGeom prst="rtTriangle">
            <a:avLst/>
          </a:prstGeom>
          <a:solidFill>
            <a:srgbClr val="91d3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7"/>
          <p:cNvSpPr/>
          <p:nvPr/>
        </p:nvSpPr>
        <p:spPr>
          <a:xfrm>
            <a:off x="779400" y="3556080"/>
            <a:ext cx="2463840" cy="2409840"/>
          </a:xfrm>
          <a:prstGeom prst="ellipse">
            <a:avLst/>
          </a:prstGeom>
          <a:solidFill>
            <a:srgbClr val="fff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0"/>
          <p:cNvSpPr/>
          <p:nvPr/>
        </p:nvSpPr>
        <p:spPr>
          <a:xfrm>
            <a:off x="324000" y="38401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1"/>
          <p:cNvSpPr/>
          <p:nvPr/>
        </p:nvSpPr>
        <p:spPr>
          <a:xfrm>
            <a:off x="2602080" y="5916600"/>
            <a:ext cx="6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2"/>
          <p:cNvSpPr/>
          <p:nvPr/>
        </p:nvSpPr>
        <p:spPr>
          <a:xfrm>
            <a:off x="2843280" y="34034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4"/>
          <p:cNvSpPr/>
          <p:nvPr/>
        </p:nvSpPr>
        <p:spPr>
          <a:xfrm>
            <a:off x="779400" y="2421000"/>
            <a:ext cx="1779480" cy="3544920"/>
          </a:xfrm>
          <a:prstGeom prst="line">
            <a:avLst/>
          </a:prstGeom>
          <a:ln w="12600">
            <a:solidFill>
              <a:srgbClr val="e416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5"/>
          <p:cNvSpPr/>
          <p:nvPr/>
        </p:nvSpPr>
        <p:spPr>
          <a:xfrm flipV="1">
            <a:off x="779400" y="3839760"/>
            <a:ext cx="2054160" cy="2125800"/>
          </a:xfrm>
          <a:prstGeom prst="line">
            <a:avLst/>
          </a:prstGeom>
          <a:ln w="9360">
            <a:solidFill>
              <a:srgbClr val="e416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6"/>
          <p:cNvSpPr/>
          <p:nvPr/>
        </p:nvSpPr>
        <p:spPr>
          <a:xfrm flipH="1" flipV="1">
            <a:off x="779400" y="4404960"/>
            <a:ext cx="5199120" cy="1560600"/>
          </a:xfrm>
          <a:prstGeom prst="line">
            <a:avLst/>
          </a:prstGeom>
          <a:ln w="9360">
            <a:solidFill>
              <a:srgbClr val="e416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7"/>
          <p:cNvSpPr/>
          <p:nvPr/>
        </p:nvSpPr>
        <p:spPr>
          <a:xfrm>
            <a:off x="1951200" y="4748040"/>
            <a:ext cx="28440" cy="1202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7"/>
          <p:cNvSpPr/>
          <p:nvPr/>
        </p:nvSpPr>
        <p:spPr>
          <a:xfrm>
            <a:off x="1620720" y="53006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9"/>
          <p:cNvSpPr/>
          <p:nvPr/>
        </p:nvSpPr>
        <p:spPr>
          <a:xfrm>
            <a:off x="538920" y="6165720"/>
            <a:ext cx="797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1664"/>
                </a:solidFill>
                <a:latin typeface="Arial"/>
              </a:rPr>
              <a:t>В треугольник можно вписать только одну окружнос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0">
            <a:hlinkClick r:id="" action="ppaction://hlinkshowjump?jump=previousslide"/>
          </p:cNvPr>
          <p:cNvSpPr/>
          <p:nvPr/>
        </p:nvSpPr>
        <p:spPr>
          <a:xfrm>
            <a:off x="8388360" y="5661000"/>
            <a:ext cx="504720" cy="5032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62" h="21600">
                <a:moveTo>
                  <a:pt x="0" y="0"/>
                </a:moveTo>
                <a:lnTo>
                  <a:pt x="21662" y="0"/>
                </a:lnTo>
                <a:lnTo>
                  <a:pt x="21662" y="21600"/>
                </a:lnTo>
                <a:lnTo>
                  <a:pt x="0" y="21600"/>
                </a:lnTo>
                <a:close/>
              </a:path>
              <a:path fill="lightenLess" w="21662" h="21600">
                <a:moveTo>
                  <a:pt x="0" y="0"/>
                </a:moveTo>
                <a:lnTo>
                  <a:pt x="21662" y="0"/>
                </a:lnTo>
                <a:lnTo>
                  <a:pt x="20262" y="1400"/>
                </a:lnTo>
                <a:lnTo>
                  <a:pt x="1400" y="1400"/>
                </a:lnTo>
                <a:close/>
              </a:path>
              <a:path fill="darken" w="21662" h="21600">
                <a:moveTo>
                  <a:pt x="21662" y="0"/>
                </a:moveTo>
                <a:lnTo>
                  <a:pt x="21662" y="21600"/>
                </a:lnTo>
                <a:lnTo>
                  <a:pt x="20262" y="20200"/>
                </a:lnTo>
                <a:lnTo>
                  <a:pt x="20262" y="1400"/>
                </a:lnTo>
                <a:close/>
              </a:path>
              <a:path fill="darkenLess" w="21662" h="21600">
                <a:moveTo>
                  <a:pt x="21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2" y="20200"/>
                </a:lnTo>
                <a:close/>
              </a:path>
              <a:path fill="lighten" w="21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2" h="21600">
                <a:moveTo>
                  <a:pt x="3824" y="7493"/>
                </a:moveTo>
                <a:lnTo>
                  <a:pt x="7332" y="7493"/>
                </a:lnTo>
                <a:lnTo>
                  <a:pt x="7332" y="12828"/>
                </a:lnTo>
                <a:cubicBezTo>
                  <a:pt x="7332" y="13751"/>
                  <a:pt x="8133" y="14482"/>
                  <a:pt x="9168" y="14482"/>
                </a:cubicBezTo>
                <a:lnTo>
                  <a:pt x="10831" y="14482"/>
                </a:lnTo>
                <a:cubicBezTo>
                  <a:pt x="11867" y="14482"/>
                  <a:pt x="12667" y="13751"/>
                  <a:pt x="12667" y="12828"/>
                </a:cubicBezTo>
                <a:lnTo>
                  <a:pt x="12667" y="7493"/>
                </a:lnTo>
                <a:lnTo>
                  <a:pt x="10831" y="7493"/>
                </a:lnTo>
                <a:lnTo>
                  <a:pt x="14338" y="3985"/>
                </a:lnTo>
                <a:lnTo>
                  <a:pt x="18011" y="7493"/>
                </a:lnTo>
                <a:lnTo>
                  <a:pt x="16175" y="7493"/>
                </a:lnTo>
                <a:lnTo>
                  <a:pt x="16175" y="12828"/>
                </a:lnTo>
                <a:cubicBezTo>
                  <a:pt x="16175" y="15596"/>
                  <a:pt x="13599" y="18155"/>
                  <a:pt x="10831" y="18155"/>
                </a:cubicBezTo>
                <a:lnTo>
                  <a:pt x="9168" y="18155"/>
                </a:lnTo>
                <a:cubicBezTo>
                  <a:pt x="6401" y="18155"/>
                  <a:pt x="3824" y="15596"/>
                  <a:pt x="382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етырехугольник, описанный около окружно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8"/>
          <p:cNvSpPr/>
          <p:nvPr/>
        </p:nvSpPr>
        <p:spPr>
          <a:xfrm>
            <a:off x="179280" y="1916280"/>
            <a:ext cx="525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1664"/>
                </a:solidFill>
                <a:latin typeface="Arial"/>
              </a:rPr>
              <a:t>Четырехугольни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ожно </a:t>
            </a:r>
            <a:r>
              <a:rPr b="0" lang="ru-RU" sz="2400" spc="-1" strike="noStrike">
                <a:solidFill>
                  <a:srgbClr val="e41664"/>
                </a:solidFill>
                <a:latin typeface="Arial"/>
              </a:rPr>
              <a:t>описа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коло окружности, если суммы противолежащих сторон равн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400" spc="-1" strike="noStrike">
                <a:solidFill>
                  <a:srgbClr val="e41664"/>
                </a:solidFill>
                <a:latin typeface="Arial"/>
              </a:rPr>
              <a:t>a+c=b+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37"/>
          <p:cNvGrpSpPr/>
          <p:nvPr/>
        </p:nvGrpSpPr>
        <p:grpSpPr>
          <a:xfrm>
            <a:off x="5796000" y="1700280"/>
            <a:ext cx="2830320" cy="2846880"/>
            <a:chOff x="5796000" y="1700280"/>
            <a:chExt cx="2830320" cy="2846880"/>
          </a:xfrm>
        </p:grpSpPr>
        <p:sp>
          <p:nvSpPr>
            <p:cNvPr id="90" name="AutoShape 21"/>
            <p:cNvSpPr/>
            <p:nvPr/>
          </p:nvSpPr>
          <p:spPr>
            <a:xfrm>
              <a:off x="6156360" y="1857600"/>
              <a:ext cx="2087280" cy="2303280"/>
            </a:xfrm>
            <a:prstGeom prst="flowChartManualInput">
              <a:avLst/>
            </a:prstGeom>
            <a:solidFill>
              <a:srgbClr val="91d3e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19"/>
            <p:cNvSpPr/>
            <p:nvPr/>
          </p:nvSpPr>
          <p:spPr>
            <a:xfrm>
              <a:off x="6156360" y="2131920"/>
              <a:ext cx="2087280" cy="2016360"/>
            </a:xfrm>
            <a:prstGeom prst="ellipse">
              <a:avLst/>
            </a:prstGeom>
            <a:solidFill>
              <a:srgbClr val="ffff9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22"/>
            <p:cNvSpPr/>
            <p:nvPr/>
          </p:nvSpPr>
          <p:spPr>
            <a:xfrm>
              <a:off x="5796000" y="2924280"/>
              <a:ext cx="30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23"/>
            <p:cNvSpPr/>
            <p:nvPr/>
          </p:nvSpPr>
          <p:spPr>
            <a:xfrm>
              <a:off x="6877080" y="1700280"/>
              <a:ext cx="30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24"/>
            <p:cNvSpPr/>
            <p:nvPr/>
          </p:nvSpPr>
          <p:spPr>
            <a:xfrm>
              <a:off x="8316720" y="2851200"/>
              <a:ext cx="30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25"/>
            <p:cNvSpPr/>
            <p:nvPr/>
          </p:nvSpPr>
          <p:spPr>
            <a:xfrm>
              <a:off x="7164360" y="4148280"/>
              <a:ext cx="30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Group 36"/>
            <p:cNvGrpSpPr/>
            <p:nvPr/>
          </p:nvGrpSpPr>
          <p:grpSpPr>
            <a:xfrm>
              <a:off x="6516720" y="3138480"/>
              <a:ext cx="718920" cy="793800"/>
              <a:chOff x="6516720" y="3138480"/>
              <a:chExt cx="718920" cy="793800"/>
            </a:xfrm>
          </p:grpSpPr>
          <p:sp>
            <p:nvSpPr>
              <p:cNvPr id="97" name="Line 26"/>
              <p:cNvSpPr/>
              <p:nvPr/>
            </p:nvSpPr>
            <p:spPr>
              <a:xfrm flipH="1">
                <a:off x="6587640" y="3140280"/>
                <a:ext cx="647640" cy="79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 Box 27"/>
              <p:cNvSpPr/>
              <p:nvPr/>
            </p:nvSpPr>
            <p:spPr>
              <a:xfrm>
                <a:off x="6516720" y="3140280"/>
                <a:ext cx="309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AutoShape 28"/>
              <p:cNvSpPr/>
              <p:nvPr/>
            </p:nvSpPr>
            <p:spPr>
              <a:xfrm>
                <a:off x="7164360" y="3138480"/>
                <a:ext cx="71280" cy="73080"/>
              </a:xfrm>
              <a:prstGeom prst="flowChartConnector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Text Box 29"/>
            <p:cNvSpPr/>
            <p:nvPr/>
          </p:nvSpPr>
          <p:spPr>
            <a:xfrm>
              <a:off x="7165800" y="2851200"/>
              <a:ext cx="35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 Box 30"/>
          <p:cNvSpPr/>
          <p:nvPr/>
        </p:nvSpPr>
        <p:spPr>
          <a:xfrm>
            <a:off x="179280" y="3645000"/>
            <a:ext cx="53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четырехугольник </a:t>
            </a:r>
            <a:r>
              <a:rPr b="0" lang="ru-RU" sz="2400" spc="-1" strike="noStrike">
                <a:solidFill>
                  <a:srgbClr val="e41664"/>
                </a:solidFill>
                <a:latin typeface="Arial"/>
              </a:rPr>
              <a:t>описа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коло окружности, то суммы противолежащих сторон рав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1"/>
          <p:cNvSpPr/>
          <p:nvPr/>
        </p:nvSpPr>
        <p:spPr>
          <a:xfrm>
            <a:off x="324000" y="520380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ощадь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32"/>
              <p:cNvSpPr txBox="1"/>
              <p:nvPr/>
            </p:nvSpPr>
            <p:spPr>
              <a:xfrm>
                <a:off x="1908000" y="5013360"/>
                <a:ext cx="15130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P</m:t>
                    </m:r>
                    <m:r>
                      <m:t xml:space="preserve">∗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Text Box 34"/>
          <p:cNvSpPr/>
          <p:nvPr/>
        </p:nvSpPr>
        <p:spPr>
          <a:xfrm>
            <a:off x="3995640" y="5445000"/>
            <a:ext cx="28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5"/>
          <p:cNvSpPr/>
          <p:nvPr/>
        </p:nvSpPr>
        <p:spPr>
          <a:xfrm>
            <a:off x="3419640" y="5238720"/>
            <a:ext cx="5724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иметр четырехуголь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диус вписанной окруж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8">
            <a:hlinkClick r:id="" action="ppaction://hlinkshowjump?jump=previousslide"/>
          </p:cNvPr>
          <p:cNvSpPr/>
          <p:nvPr/>
        </p:nvSpPr>
        <p:spPr>
          <a:xfrm>
            <a:off x="8317080" y="602136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7499"/>
                </a:moveTo>
                <a:lnTo>
                  <a:pt x="7301" y="7499"/>
                </a:lnTo>
                <a:lnTo>
                  <a:pt x="7301" y="12835"/>
                </a:lnTo>
                <a:cubicBezTo>
                  <a:pt x="7301" y="13757"/>
                  <a:pt x="8102" y="14488"/>
                  <a:pt x="9138" y="14488"/>
                </a:cubicBezTo>
                <a:lnTo>
                  <a:pt x="10800" y="14488"/>
                </a:lnTo>
                <a:cubicBezTo>
                  <a:pt x="11836" y="14488"/>
                  <a:pt x="12636" y="13757"/>
                  <a:pt x="12636" y="12835"/>
                </a:cubicBezTo>
                <a:lnTo>
                  <a:pt x="12636" y="7499"/>
                </a:lnTo>
                <a:lnTo>
                  <a:pt x="10800" y="7499"/>
                </a:lnTo>
                <a:lnTo>
                  <a:pt x="14308" y="3992"/>
                </a:lnTo>
                <a:lnTo>
                  <a:pt x="17981" y="7499"/>
                </a:lnTo>
                <a:lnTo>
                  <a:pt x="16144" y="7499"/>
                </a:lnTo>
                <a:lnTo>
                  <a:pt x="16144" y="12835"/>
                </a:lnTo>
                <a:cubicBezTo>
                  <a:pt x="16144" y="15602"/>
                  <a:pt x="13568" y="18161"/>
                  <a:pt x="10800" y="18161"/>
                </a:cubicBezTo>
                <a:lnTo>
                  <a:pt x="9138" y="18161"/>
                </a:lnTo>
                <a:cubicBezTo>
                  <a:pt x="6370" y="18161"/>
                  <a:pt x="3794" y="15602"/>
                  <a:pt x="3794" y="12835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33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5400" spc="-1" strike="noStrike">
                <a:solidFill>
                  <a:srgbClr val="e41664"/>
                </a:solidFill>
                <a:latin typeface="Arial"/>
              </a:rPr>
              <a:t>Выполни тест</a:t>
            </a:r>
            <a:r>
              <a:rPr b="0" lang="en-US" sz="5400" spc="-1" strike="noStrike">
                <a:solidFill>
                  <a:srgbClr val="e41664"/>
                </a:solidFill>
                <a:latin typeface="Arial"/>
              </a:rPr>
              <a:t>:</a:t>
            </a:r>
            <a:br>
              <a:rPr sz="54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. Центр вписанной в треугольник окружности совпадает с точкой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ресечения его…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920" y="364464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медиан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_x000b_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биссектрис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серединных перпендикуляров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_x000b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">
            <a:hlinkClick r:id="" action="ppaction://hlinkshowjump?jump=nextslide"/>
          </p:cNvPr>
          <p:cNvSpPr/>
          <p:nvPr/>
        </p:nvSpPr>
        <p:spPr>
          <a:xfrm>
            <a:off x="7812000" y="4149720"/>
            <a:ext cx="432000" cy="4334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72">
                <a:moveTo>
                  <a:pt x="0" y="0"/>
                </a:moveTo>
                <a:lnTo>
                  <a:pt x="21600" y="0"/>
                </a:lnTo>
                <a:lnTo>
                  <a:pt x="21600" y="21672"/>
                </a:lnTo>
                <a:lnTo>
                  <a:pt x="0" y="21672"/>
                </a:lnTo>
                <a:close/>
              </a:path>
              <a:path fill="lightenLess" w="21600" h="216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72">
                <a:moveTo>
                  <a:pt x="21600" y="0"/>
                </a:moveTo>
                <a:lnTo>
                  <a:pt x="21600" y="21672"/>
                </a:lnTo>
                <a:lnTo>
                  <a:pt x="20200" y="20272"/>
                </a:lnTo>
                <a:lnTo>
                  <a:pt x="20200" y="1400"/>
                </a:lnTo>
                <a:close/>
              </a:path>
              <a:path fill="darkenLess" w="21600" h="21672">
                <a:moveTo>
                  <a:pt x="21600" y="21672"/>
                </a:moveTo>
                <a:lnTo>
                  <a:pt x="0" y="21672"/>
                </a:lnTo>
                <a:lnTo>
                  <a:pt x="1400" y="20272"/>
                </a:lnTo>
                <a:lnTo>
                  <a:pt x="20200" y="20272"/>
                </a:lnTo>
                <a:close/>
              </a:path>
              <a:path fill="lighten" w="21600" h="21672">
                <a:moveTo>
                  <a:pt x="0" y="216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7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5">
            <a:hlinkClick r:id="rId3" action="ppaction://hlinksldjump"/>
          </p:cNvPr>
          <p:cNvSpPr/>
          <p:nvPr/>
        </p:nvSpPr>
        <p:spPr>
          <a:xfrm>
            <a:off x="7812000" y="4724280"/>
            <a:ext cx="432000" cy="4334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72">
                <a:moveTo>
                  <a:pt x="0" y="0"/>
                </a:moveTo>
                <a:lnTo>
                  <a:pt x="21600" y="0"/>
                </a:lnTo>
                <a:lnTo>
                  <a:pt x="21600" y="21672"/>
                </a:lnTo>
                <a:lnTo>
                  <a:pt x="0" y="21672"/>
                </a:lnTo>
                <a:close/>
              </a:path>
              <a:path fill="lightenLess" w="21600" h="216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72">
                <a:moveTo>
                  <a:pt x="21600" y="0"/>
                </a:moveTo>
                <a:lnTo>
                  <a:pt x="21600" y="21672"/>
                </a:lnTo>
                <a:lnTo>
                  <a:pt x="20200" y="20272"/>
                </a:lnTo>
                <a:lnTo>
                  <a:pt x="20200" y="1400"/>
                </a:lnTo>
                <a:close/>
              </a:path>
              <a:path fill="darkenLess" w="21600" h="21672">
                <a:moveTo>
                  <a:pt x="21600" y="21672"/>
                </a:moveTo>
                <a:lnTo>
                  <a:pt x="0" y="21672"/>
                </a:lnTo>
                <a:lnTo>
                  <a:pt x="1400" y="20272"/>
                </a:lnTo>
                <a:lnTo>
                  <a:pt x="20200" y="20272"/>
                </a:lnTo>
                <a:close/>
              </a:path>
              <a:path fill="lighten" w="21600" h="21672">
                <a:moveTo>
                  <a:pt x="0" y="216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7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6">
            <a:hlinkClick r:id="rId4" action="ppaction://hlinksldjump"/>
          </p:cNvPr>
          <p:cNvSpPr/>
          <p:nvPr/>
        </p:nvSpPr>
        <p:spPr>
          <a:xfrm>
            <a:off x="7812000" y="3573360"/>
            <a:ext cx="432000" cy="4334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72">
                <a:moveTo>
                  <a:pt x="0" y="0"/>
                </a:moveTo>
                <a:lnTo>
                  <a:pt x="21600" y="0"/>
                </a:lnTo>
                <a:lnTo>
                  <a:pt x="21600" y="21672"/>
                </a:lnTo>
                <a:lnTo>
                  <a:pt x="0" y="21672"/>
                </a:lnTo>
                <a:close/>
              </a:path>
              <a:path fill="lightenLess" w="21600" h="216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72">
                <a:moveTo>
                  <a:pt x="21600" y="0"/>
                </a:moveTo>
                <a:lnTo>
                  <a:pt x="21600" y="21672"/>
                </a:lnTo>
                <a:lnTo>
                  <a:pt x="20200" y="20272"/>
                </a:lnTo>
                <a:lnTo>
                  <a:pt x="20200" y="1400"/>
                </a:lnTo>
                <a:close/>
              </a:path>
              <a:path fill="darkenLess" w="21600" h="21672">
                <a:moveTo>
                  <a:pt x="21600" y="21672"/>
                </a:moveTo>
                <a:lnTo>
                  <a:pt x="0" y="21672"/>
                </a:lnTo>
                <a:lnTo>
                  <a:pt x="1400" y="20272"/>
                </a:lnTo>
                <a:lnTo>
                  <a:pt x="20200" y="20272"/>
                </a:lnTo>
                <a:close/>
              </a:path>
              <a:path fill="lighten" w="21600" h="21672">
                <a:moveTo>
                  <a:pt x="0" y="216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7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2H3"/>
          <p:cNvPicPr/>
          <p:nvPr/>
        </p:nvPicPr>
        <p:blipFill>
          <a:blip r:embed="rId5"/>
          <a:stretch/>
        </p:blipFill>
        <p:spPr>
          <a:xfrm>
            <a:off x="826920" y="189000"/>
            <a:ext cx="76212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. Центр вписанной в треугольник окружности равноудален от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4000" y="2565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сторон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_x000b_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углов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_x000b_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вершин треуголь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4">
            <a:hlinkClick r:id="" action="ppaction://hlinkshowjump?jump=nextslide"/>
          </p:cNvPr>
          <p:cNvSpPr/>
          <p:nvPr/>
        </p:nvSpPr>
        <p:spPr>
          <a:xfrm>
            <a:off x="7740720" y="256536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5">
            <a:hlinkClick r:id="rId3" action="ppaction://hlinksldjump"/>
          </p:cNvPr>
          <p:cNvSpPr/>
          <p:nvPr/>
        </p:nvSpPr>
        <p:spPr>
          <a:xfrm>
            <a:off x="7740720" y="306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6"/>
          <p:cNvSpPr/>
          <p:nvPr/>
        </p:nvSpPr>
        <p:spPr>
          <a:xfrm>
            <a:off x="7740720" y="357336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8" descr="Ученик"/>
          <p:cNvPicPr/>
          <p:nvPr/>
        </p:nvPicPr>
        <p:blipFill>
          <a:blip r:embed="rId4"/>
          <a:stretch/>
        </p:blipFill>
        <p:spPr>
          <a:xfrm>
            <a:off x="3419640" y="4508640"/>
            <a:ext cx="226512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. Окружность называется вписанной в многоугольник, если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1280" y="2421000"/>
            <a:ext cx="822960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все его стороны касаются окружнос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все его вершины лежат на окруж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все его стороны имеют общие точки с окружност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7812000" y="3067200"/>
            <a:ext cx="432000" cy="43308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3080"/>
              <a:gd name="textAreaBottom" fmla="*/ 405360 h 433080"/>
            </a:gdLst>
            <a:ahLst/>
            <a:rect l="textAreaLeft" t="textAreaTop" r="textAreaRight" b="textAreaBottom"/>
            <a:pathLst>
              <a:path w="21600" h="21654">
                <a:moveTo>
                  <a:pt x="0" y="0"/>
                </a:moveTo>
                <a:lnTo>
                  <a:pt x="21600" y="0"/>
                </a:lnTo>
                <a:lnTo>
                  <a:pt x="21600" y="21654"/>
                </a:lnTo>
                <a:lnTo>
                  <a:pt x="0" y="21654"/>
                </a:lnTo>
                <a:close/>
              </a:path>
              <a:path fill="lightenLess" w="21600" h="216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54">
                <a:moveTo>
                  <a:pt x="21600" y="0"/>
                </a:moveTo>
                <a:lnTo>
                  <a:pt x="21600" y="21654"/>
                </a:lnTo>
                <a:lnTo>
                  <a:pt x="20200" y="20254"/>
                </a:lnTo>
                <a:lnTo>
                  <a:pt x="20200" y="1400"/>
                </a:lnTo>
                <a:close/>
              </a:path>
              <a:path fill="darkenLess" w="21600" h="21654">
                <a:moveTo>
                  <a:pt x="21600" y="21654"/>
                </a:moveTo>
                <a:lnTo>
                  <a:pt x="0" y="21654"/>
                </a:lnTo>
                <a:lnTo>
                  <a:pt x="1400" y="20254"/>
                </a:lnTo>
                <a:lnTo>
                  <a:pt x="20200" y="20254"/>
                </a:lnTo>
                <a:close/>
              </a:path>
              <a:path fill="lighten" w="21600" h="21654">
                <a:moveTo>
                  <a:pt x="0" y="216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5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5"/>
          <p:cNvSpPr/>
          <p:nvPr/>
        </p:nvSpPr>
        <p:spPr>
          <a:xfrm>
            <a:off x="7812000" y="3643200"/>
            <a:ext cx="432000" cy="4334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72">
                <a:moveTo>
                  <a:pt x="0" y="0"/>
                </a:moveTo>
                <a:lnTo>
                  <a:pt x="21600" y="0"/>
                </a:lnTo>
                <a:lnTo>
                  <a:pt x="21600" y="21672"/>
                </a:lnTo>
                <a:lnTo>
                  <a:pt x="0" y="21672"/>
                </a:lnTo>
                <a:close/>
              </a:path>
              <a:path fill="lightenLess" w="21600" h="216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72">
                <a:moveTo>
                  <a:pt x="21600" y="0"/>
                </a:moveTo>
                <a:lnTo>
                  <a:pt x="21600" y="21672"/>
                </a:lnTo>
                <a:lnTo>
                  <a:pt x="20200" y="20272"/>
                </a:lnTo>
                <a:lnTo>
                  <a:pt x="20200" y="1400"/>
                </a:lnTo>
                <a:close/>
              </a:path>
              <a:path fill="darkenLess" w="21600" h="21672">
                <a:moveTo>
                  <a:pt x="21600" y="21672"/>
                </a:moveTo>
                <a:lnTo>
                  <a:pt x="0" y="21672"/>
                </a:lnTo>
                <a:lnTo>
                  <a:pt x="1400" y="20272"/>
                </a:lnTo>
                <a:lnTo>
                  <a:pt x="20200" y="20272"/>
                </a:lnTo>
                <a:close/>
              </a:path>
              <a:path fill="lighten" w="21600" h="21672">
                <a:moveTo>
                  <a:pt x="0" y="216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7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6">
            <a:hlinkClick r:id="" action="ppaction://hlinkshowjump?jump=nextslide"/>
          </p:cNvPr>
          <p:cNvSpPr/>
          <p:nvPr/>
        </p:nvSpPr>
        <p:spPr>
          <a:xfrm>
            <a:off x="7812000" y="2492280"/>
            <a:ext cx="432000" cy="4334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72">
                <a:moveTo>
                  <a:pt x="0" y="0"/>
                </a:moveTo>
                <a:lnTo>
                  <a:pt x="21600" y="0"/>
                </a:lnTo>
                <a:lnTo>
                  <a:pt x="21600" y="21672"/>
                </a:lnTo>
                <a:lnTo>
                  <a:pt x="0" y="21672"/>
                </a:lnTo>
                <a:close/>
              </a:path>
              <a:path fill="lightenLess" w="21600" h="216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72">
                <a:moveTo>
                  <a:pt x="21600" y="0"/>
                </a:moveTo>
                <a:lnTo>
                  <a:pt x="21600" y="21672"/>
                </a:lnTo>
                <a:lnTo>
                  <a:pt x="20200" y="20272"/>
                </a:lnTo>
                <a:lnTo>
                  <a:pt x="20200" y="1400"/>
                </a:lnTo>
                <a:close/>
              </a:path>
              <a:path fill="darkenLess" w="21600" h="21672">
                <a:moveTo>
                  <a:pt x="21600" y="21672"/>
                </a:moveTo>
                <a:lnTo>
                  <a:pt x="0" y="21672"/>
                </a:lnTo>
                <a:lnTo>
                  <a:pt x="1400" y="20272"/>
                </a:lnTo>
                <a:lnTo>
                  <a:pt x="20200" y="20272"/>
                </a:lnTo>
                <a:close/>
              </a:path>
              <a:path fill="lighten" w="21600" h="21672">
                <a:moveTo>
                  <a:pt x="0" y="216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7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Учен1"/>
          <p:cNvPicPr/>
          <p:nvPr/>
        </p:nvPicPr>
        <p:blipFill>
          <a:blip r:embed="rId1"/>
          <a:stretch/>
        </p:blipFill>
        <p:spPr>
          <a:xfrm>
            <a:off x="3635280" y="4365720"/>
            <a:ext cx="233676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. В какой из четырехугольников всегда можно вписать окружность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272088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прямоугольник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параллелограмм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ромб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7812000" y="3716280"/>
            <a:ext cx="432000" cy="4334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72">
                <a:moveTo>
                  <a:pt x="0" y="0"/>
                </a:moveTo>
                <a:lnTo>
                  <a:pt x="21600" y="0"/>
                </a:lnTo>
                <a:lnTo>
                  <a:pt x="21600" y="21672"/>
                </a:lnTo>
                <a:lnTo>
                  <a:pt x="0" y="21672"/>
                </a:lnTo>
                <a:close/>
              </a:path>
              <a:path fill="lightenLess" w="21600" h="216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72">
                <a:moveTo>
                  <a:pt x="21600" y="0"/>
                </a:moveTo>
                <a:lnTo>
                  <a:pt x="21600" y="21672"/>
                </a:lnTo>
                <a:lnTo>
                  <a:pt x="20200" y="20272"/>
                </a:lnTo>
                <a:lnTo>
                  <a:pt x="20200" y="1400"/>
                </a:lnTo>
                <a:close/>
              </a:path>
              <a:path fill="darkenLess" w="21600" h="21672">
                <a:moveTo>
                  <a:pt x="21600" y="21672"/>
                </a:moveTo>
                <a:lnTo>
                  <a:pt x="0" y="21672"/>
                </a:lnTo>
                <a:lnTo>
                  <a:pt x="1400" y="20272"/>
                </a:lnTo>
                <a:lnTo>
                  <a:pt x="20200" y="20272"/>
                </a:lnTo>
                <a:close/>
              </a:path>
              <a:path fill="lighten" w="21600" h="21672">
                <a:moveTo>
                  <a:pt x="0" y="216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7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>
            <a:hlinkClick r:id="" action="ppaction://hlinkshowjump?jump=nextslide"/>
          </p:cNvPr>
          <p:cNvSpPr/>
          <p:nvPr/>
        </p:nvSpPr>
        <p:spPr>
          <a:xfrm>
            <a:off x="7812000" y="4290840"/>
            <a:ext cx="432000" cy="4334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72">
                <a:moveTo>
                  <a:pt x="0" y="0"/>
                </a:moveTo>
                <a:lnTo>
                  <a:pt x="21600" y="0"/>
                </a:lnTo>
                <a:lnTo>
                  <a:pt x="21600" y="21672"/>
                </a:lnTo>
                <a:lnTo>
                  <a:pt x="0" y="21672"/>
                </a:lnTo>
                <a:close/>
              </a:path>
              <a:path fill="lightenLess" w="21600" h="216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72">
                <a:moveTo>
                  <a:pt x="21600" y="0"/>
                </a:moveTo>
                <a:lnTo>
                  <a:pt x="21600" y="21672"/>
                </a:lnTo>
                <a:lnTo>
                  <a:pt x="20200" y="20272"/>
                </a:lnTo>
                <a:lnTo>
                  <a:pt x="20200" y="1400"/>
                </a:lnTo>
                <a:close/>
              </a:path>
              <a:path fill="darkenLess" w="21600" h="21672">
                <a:moveTo>
                  <a:pt x="21600" y="21672"/>
                </a:moveTo>
                <a:lnTo>
                  <a:pt x="0" y="21672"/>
                </a:lnTo>
                <a:lnTo>
                  <a:pt x="1400" y="20272"/>
                </a:lnTo>
                <a:lnTo>
                  <a:pt x="20200" y="20272"/>
                </a:lnTo>
                <a:close/>
              </a:path>
              <a:path fill="lighten" w="21600" h="21672">
                <a:moveTo>
                  <a:pt x="0" y="216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7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7812000" y="3139920"/>
            <a:ext cx="432000" cy="4334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72">
                <a:moveTo>
                  <a:pt x="0" y="0"/>
                </a:moveTo>
                <a:lnTo>
                  <a:pt x="21600" y="0"/>
                </a:lnTo>
                <a:lnTo>
                  <a:pt x="21600" y="21672"/>
                </a:lnTo>
                <a:lnTo>
                  <a:pt x="0" y="21672"/>
                </a:lnTo>
                <a:close/>
              </a:path>
              <a:path fill="lightenLess" w="21600" h="216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72">
                <a:moveTo>
                  <a:pt x="21600" y="0"/>
                </a:moveTo>
                <a:lnTo>
                  <a:pt x="21600" y="21672"/>
                </a:lnTo>
                <a:lnTo>
                  <a:pt x="20200" y="20272"/>
                </a:lnTo>
                <a:lnTo>
                  <a:pt x="20200" y="1400"/>
                </a:lnTo>
                <a:close/>
              </a:path>
              <a:path fill="darkenLess" w="21600" h="21672">
                <a:moveTo>
                  <a:pt x="21600" y="21672"/>
                </a:moveTo>
                <a:lnTo>
                  <a:pt x="0" y="21672"/>
                </a:lnTo>
                <a:lnTo>
                  <a:pt x="1400" y="20272"/>
                </a:lnTo>
                <a:lnTo>
                  <a:pt x="20200" y="20272"/>
                </a:lnTo>
                <a:close/>
              </a:path>
              <a:path fill="lighten" w="21600" h="21672">
                <a:moveTo>
                  <a:pt x="0" y="216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7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Школа"/>
          <p:cNvPicPr/>
          <p:nvPr/>
        </p:nvPicPr>
        <p:blipFill>
          <a:blip r:embed="rId1"/>
          <a:stretch/>
        </p:blipFill>
        <p:spPr>
          <a:xfrm>
            <a:off x="3851280" y="4797360"/>
            <a:ext cx="190512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10"/>
          <p:cNvSpPr txBox="1"/>
          <p:nvPr/>
        </p:nvSpPr>
        <p:spPr>
          <a:xfrm>
            <a:off x="2195640" y="1989000"/>
            <a:ext cx="4576680" cy="268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37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Impact"/>
              </a:rPr>
              <a:t>молодец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5T08:03:50Z</dcterms:created>
  <dc:creator>Олеся</dc:creator>
  <dc:description/>
  <dc:language>en-US</dc:language>
  <cp:lastModifiedBy>user</cp:lastModifiedBy>
  <dcterms:modified xsi:type="dcterms:W3CDTF">2015-05-03T16:02:53Z</dcterms:modified>
  <cp:revision>14</cp:revision>
  <dc:subject/>
  <dc:title>Вписанная  окруж</dc:title>
</cp:coreProperties>
</file>