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625-3B40-49EC-B6F6-BDF9B305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252-45E1-4B05-AE37-B4A024F0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1D1-E549-41B3-A7E1-91C22C4B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77B-1372-4787-9F1D-A76B59AF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C3C-75DD-49F8-B3FD-7F8DA79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3CB-A15F-4C00-91C0-B5831DB7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B45-90DD-480E-9396-A0036A3F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0D0-19A1-4597-AEF0-1FB402E9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4AB-158F-4F3E-BC00-674427C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E15-7911-421D-A5FC-0F1E9C72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D50-C5F9-4ECD-9935-2E77A02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B8C-9CA4-4938-AC35-CF4E716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7F0-61A3-4D4D-A88D-1FF4288A9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357440" y="1856880"/>
            <a:ext cx="44290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изнь, если цели нету в ней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лега без лихих ко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Д. Кугультин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639800" y="268200"/>
            <a:ext cx="5864400" cy="1255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"/>
          <p:cNvGrpSpPr/>
          <p:nvPr/>
        </p:nvGrpSpPr>
        <p:grpSpPr>
          <a:xfrm>
            <a:off x="4071960" y="3571920"/>
            <a:ext cx="3928680" cy="2885760"/>
            <a:chOff x="4071960" y="3571920"/>
            <a:chExt cx="3928680" cy="2885760"/>
          </a:xfrm>
        </p:grpSpPr>
        <p:cxnSp>
          <p:nvCxnSpPr>
            <p:cNvPr id="44" name="AutoShape 3"/>
            <p:cNvCxnSpPr/>
            <p:nvPr/>
          </p:nvCxnSpPr>
          <p:spPr>
            <a:xfrm>
              <a:off x="4071960" y="3571920"/>
              <a:ext cx="1806480" cy="2448720"/>
            </a:xfrm>
            <a:prstGeom prst="straightConnector1">
              <a:avLst/>
            </a:prstGeom>
            <a:ln w="9360">
              <a:solidFill>
                <a:srgbClr val="a7bfde"/>
              </a:solidFill>
              <a:miter/>
            </a:ln>
          </p:spPr>
        </p:cxnSp>
        <p:sp>
          <p:nvSpPr>
            <p:cNvPr id="45" name="Oval 4"/>
            <p:cNvSpPr/>
            <p:nvPr/>
          </p:nvSpPr>
          <p:spPr>
            <a:xfrm>
              <a:off x="5570280" y="3844080"/>
              <a:ext cx="2430360" cy="2613600"/>
            </a:xfrm>
            <a:prstGeom prst="ellipse">
              <a:avLst/>
            </a:prstGeom>
            <a:solidFill>
              <a:srgbClr val="a7b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"/>
            <p:cNvSpPr/>
            <p:nvPr/>
          </p:nvSpPr>
          <p:spPr>
            <a:xfrm>
              <a:off x="5628960" y="4233960"/>
              <a:ext cx="1988280" cy="2138040"/>
            </a:xfrm>
            <a:prstGeom prst="ellipse">
              <a:avLst/>
            </a:prstGeom>
            <a:solidFill>
              <a:srgbClr val="d3d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6"/>
            <p:cNvSpPr/>
            <p:nvPr/>
          </p:nvSpPr>
          <p:spPr>
            <a:xfrm>
              <a:off x="5677920" y="4647600"/>
              <a:ext cx="1507320" cy="1621080"/>
            </a:xfrm>
            <a:prstGeom prst="ellipse">
              <a:avLst/>
            </a:prstGeom>
            <a:solidFill>
              <a:srgbClr val="7ba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7"/>
          <p:cNvGrpSpPr/>
          <p:nvPr/>
        </p:nvGrpSpPr>
        <p:grpSpPr>
          <a:xfrm>
            <a:off x="0" y="-360"/>
            <a:ext cx="9143640" cy="6858360"/>
            <a:chOff x="0" y="-360"/>
            <a:chExt cx="9143640" cy="6858360"/>
          </a:xfrm>
        </p:grpSpPr>
        <p:cxnSp>
          <p:nvCxnSpPr>
            <p:cNvPr id="49" name="AutoShape 8"/>
            <p:cNvCxnSpPr/>
            <p:nvPr/>
          </p:nvCxnSpPr>
          <p:spPr>
            <a:xfrm>
              <a:off x="0" y="-360"/>
              <a:ext cx="7506000" cy="6648840"/>
            </a:xfrm>
            <a:prstGeom prst="straightConnector1">
              <a:avLst/>
            </a:prstGeom>
            <a:ln w="9360">
              <a:solidFill>
                <a:srgbClr val="a7bfde"/>
              </a:solidFill>
              <a:miter/>
            </a:ln>
          </p:spPr>
        </p:cxnSp>
        <p:grpSp>
          <p:nvGrpSpPr>
            <p:cNvPr id="50" name="Group 9"/>
            <p:cNvGrpSpPr/>
            <p:nvPr/>
          </p:nvGrpSpPr>
          <p:grpSpPr>
            <a:xfrm>
              <a:off x="7073640" y="4929120"/>
              <a:ext cx="2070000" cy="1928880"/>
              <a:chOff x="7073640" y="4929120"/>
              <a:chExt cx="2070000" cy="1928880"/>
            </a:xfrm>
          </p:grpSpPr>
          <p:sp>
            <p:nvSpPr>
              <p:cNvPr id="51" name="Oval 10"/>
              <p:cNvSpPr/>
              <p:nvPr/>
            </p:nvSpPr>
            <p:spPr>
              <a:xfrm>
                <a:off x="7073640" y="4929120"/>
                <a:ext cx="2070000" cy="1928880"/>
              </a:xfrm>
              <a:prstGeom prst="ellipse">
                <a:avLst/>
              </a:prstGeom>
              <a:solidFill>
                <a:srgbClr val="a7b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1"/>
              <p:cNvSpPr/>
              <p:nvPr/>
            </p:nvSpPr>
            <p:spPr>
              <a:xfrm>
                <a:off x="7184160" y="5275440"/>
                <a:ext cx="1466640" cy="15822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2"/>
              <p:cNvSpPr/>
              <p:nvPr/>
            </p:nvSpPr>
            <p:spPr>
              <a:xfrm>
                <a:off x="7184160" y="5547600"/>
                <a:ext cx="943920" cy="10944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13"/>
          <p:cNvGrpSpPr/>
          <p:nvPr/>
        </p:nvGrpSpPr>
        <p:grpSpPr>
          <a:xfrm>
            <a:off x="0" y="-360"/>
            <a:ext cx="3070080" cy="6858360"/>
            <a:chOff x="0" y="-360"/>
            <a:chExt cx="3070080" cy="6858360"/>
          </a:xfrm>
        </p:grpSpPr>
        <p:cxnSp>
          <p:nvCxnSpPr>
            <p:cNvPr id="55" name="AutoShape 14"/>
            <p:cNvCxnSpPr/>
            <p:nvPr/>
          </p:nvCxnSpPr>
          <p:spPr>
            <a:xfrm>
              <a:off x="0" y="-360"/>
              <a:ext cx="2497680" cy="4985640"/>
            </a:xfrm>
            <a:prstGeom prst="straightConnector1">
              <a:avLst/>
            </a:prstGeom>
            <a:ln w="9360">
              <a:solidFill>
                <a:srgbClr val="a7bfde"/>
              </a:solidFill>
              <a:miter/>
            </a:ln>
          </p:spPr>
        </p:cxnSp>
        <p:grpSp>
          <p:nvGrpSpPr>
            <p:cNvPr id="56" name="Group 15"/>
            <p:cNvGrpSpPr/>
            <p:nvPr/>
          </p:nvGrpSpPr>
          <p:grpSpPr>
            <a:xfrm>
              <a:off x="0" y="3956040"/>
              <a:ext cx="3070080" cy="2901960"/>
              <a:chOff x="0" y="3956040"/>
              <a:chExt cx="3070080" cy="2901960"/>
            </a:xfrm>
          </p:grpSpPr>
          <p:sp>
            <p:nvSpPr>
              <p:cNvPr id="57" name="Freeform 16"/>
              <p:cNvSpPr/>
              <p:nvPr/>
            </p:nvSpPr>
            <p:spPr>
              <a:xfrm flipH="1">
                <a:off x="0" y="3956040"/>
                <a:ext cx="3070080" cy="2901960"/>
              </a:xfrm>
              <a:prstGeom prst="pie">
                <a:avLst/>
              </a:prstGeom>
              <a:solidFill>
                <a:srgbClr val="a7b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7"/>
              <p:cNvSpPr/>
              <p:nvPr/>
            </p:nvSpPr>
            <p:spPr>
              <a:xfrm flipH="1" flipV="1" rot="16272000">
                <a:off x="293760" y="4267080"/>
                <a:ext cx="2247120" cy="2470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8"/>
              <p:cNvSpPr/>
              <p:nvPr/>
            </p:nvSpPr>
            <p:spPr>
              <a:xfrm flipH="1" flipV="1" rot="16272000">
                <a:off x="828720" y="4444200"/>
                <a:ext cx="1699920" cy="18687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1.A.VENTURA.mp3" descr=""/>
          <p:cNvPicPr/>
          <p:nvPr/>
        </p:nvPicPr>
        <p:blipFill>
          <a:blip r:embed="rId2"/>
          <a:stretch/>
        </p:blipFill>
        <p:spPr>
          <a:xfrm>
            <a:off x="-5000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1"/>
          <p:cNvSpPr/>
          <p:nvPr/>
        </p:nvSpPr>
        <p:spPr>
          <a:xfrm>
            <a:off x="857160" y="142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9 села Вольного Кошехабль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2"/>
          <p:cNvSpPr/>
          <p:nvPr/>
        </p:nvSpPr>
        <p:spPr>
          <a:xfrm>
            <a:off x="285840" y="350028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 – психолог:    Кузнецова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Renat\Рабочий стол\Рисунок111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>
            <a:off x="536400" y="493560"/>
            <a:ext cx="2381400" cy="2114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6858000"/>
            <a:ext cx="810072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 решил орёл преобразовать свой край, наносить воды, удобрить землю, посадить цветущие деревь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2.5E-006 -1.41759 E">
                                      <p:cBhvr>
                                        <p:cTn id="6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6857640"/>
            <a:ext cx="86868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Много дней работал орёл, а по вечерам в своём гнезде подолгу не мог засну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00625 -1.43913 E">
                                      <p:cBhvr>
                                        <p:cTn id="68" dur="9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6858000"/>
            <a:ext cx="840096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н думал о своей дневной работе: «Потрачено уже много сил, но пустыня всё так же остаётся сухой и угрюм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00156 -1.46505 E">
                                      <p:cBhvr>
                                        <p:cTn id="74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46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685800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В такие минуты отчаяния орёл говорил себе: «Да, трудное дело я затеял! Работаешь, а конца трудам и не видно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4928760" y="1428840"/>
            <a:ext cx="3854520" cy="25002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1094 -1.48102 E">
                                      <p:cBhvr>
                                        <p:cTn id="80" dur="10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Renat\Рабочий стол\Рисунок2222.jpg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5072040" y="357120"/>
            <a:ext cx="357192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85764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«Моё решение твёрдо, когда-нибудь в моей пустыне будут звенеть ручьи и шуметь ле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045E-016 L 0.00781 -1.35972 E">
                                      <p:cBhvr>
                                        <p:cTn id="86" dur="8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Documents and Settings\Renat\Рабочий стол\Рисунок11.jpg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6857640"/>
            <a:ext cx="8443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И каждое новое утро опять заставало орла за работ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642960" y="571680"/>
            <a:ext cx="462600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00069 -1.27616 E">
                                      <p:cBhvr>
                                        <p:cTn id="92" dur="7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7800" y="571680"/>
            <a:ext cx="42861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Имея цель для всей жизни, цель для известного времени, цель для года, для месяца, для недели, для дня, для часу, жертвуй низшие цели высшим»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Л. Н. Толсто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3746520" cy="5351400"/>
          </a:xfrm>
          <a:prstGeom prst="rect">
            <a:avLst/>
          </a:prstGeom>
          <a:ln w="0">
            <a:noFill/>
          </a:ln>
        </p:spPr>
      </p:pic>
      <p:pic>
        <p:nvPicPr>
          <p:cNvPr id="100" name="1.A.VENTURA.mp3" descr=""/>
          <p:cNvPicPr/>
          <p:nvPr/>
        </p:nvPicPr>
        <p:blipFill>
          <a:blip r:embed="rId2"/>
          <a:stretch/>
        </p:blipFill>
        <p:spPr>
          <a:xfrm>
            <a:off x="285840" y="70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57160" y="150012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день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неделю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месяц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год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Renat\Рабочий стол\Рисунок1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68580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угрюмой, бескрайней пустыне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жил одинокий ор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00469 -1.22361 E">
                                      <p:cBhvr>
                                        <p:cTn id="12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rcRect l="1559" t="3956" r="2343" b="30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6857640"/>
            <a:ext cx="8715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ругом лежали мёртвые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ыпучие пески – ни кустика, ни руч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>
            <a:off x="2357280" y="857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 -1.27593 E">
                                      <p:cBhvr>
                                        <p:cTn id="18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85800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днажды орёл взлетел высоко - высоко, окинул взором четыре стороны света и увиде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-1.28102 E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nts and Settings\Renat\Рабочий стол\море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 востоке плещется синее безбрежное мор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0313 -1.19236 E">
                                      <p:cBhvr>
                                        <p:cTn id="30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5920" cy="6899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 юге ласкает взор изумрудная зелень л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00312 -1.22384 E">
                                      <p:cBhvr>
                                        <p:cTn id="3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Renat\Рабочий стол\Рисунок17776.jpg"/>
          <p:cNvPicPr/>
          <p:nvPr/>
        </p:nvPicPr>
        <p:blipFill>
          <a:blip r:embed="rId1"/>
          <a:stretch/>
        </p:blipFill>
        <p:spPr>
          <a:xfrm>
            <a:off x="-1440" y="0"/>
            <a:ext cx="9154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 западе расцветают с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0.00312 -1.20277 E">
                                      <p:cBhvr>
                                        <p:cTn id="42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68576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И подумал орёл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«Как беден и угрюм мой кр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4518000" y="214200"/>
            <a:ext cx="4626000" cy="3000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-1.18611 E">
                                      <p:cBhvr>
                                        <p:cTn id="48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Renat\Рабочий стол\Рисунок1 7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6858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«Я хотел бы, чтобы и здесь текли полноводные реки и весело шелестели сады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4500720" y="146160"/>
            <a:ext cx="4643280" cy="30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-0.9941 -0.01389 E">
                                      <p:cBhvr>
                                        <p:cTn id="54" dur="7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312 -1.34398 E">
                                      <p:cBhvr>
                                        <p:cTn id="56" dur="7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03T04:54:22Z</dcterms:modified>
  <cp:revision>60</cp:revision>
  <dc:subject/>
  <dc:title>Слайд 1</dc:title>
</cp:coreProperties>
</file>