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6.gif" ContentType="image/gif"/>
  <Override PartName="/ppt/media/image10.jpeg" ContentType="image/jpeg"/>
  <Override PartName="/ppt/media/image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28AC-F9E6-486F-B2EE-413A98454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55A-F63C-4CC4-8871-8FAAA76F5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CA8-91BF-44E0-AA57-EF955279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DD5-65E3-4D60-99F6-5165CBFD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0D8-2ECB-4C3F-9B26-AEB3343A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3B4-AC84-4695-BC45-12511C5F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81D-7B74-466B-9E91-E8C64F8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43A-C628-4D2E-8725-FF07269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25B-4D01-45B9-A1E9-C093216C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571-47ED-46D7-B0E1-9ED1D651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843-3C91-4447-9620-C9130AC1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151-CA6F-40DE-8786-5E99181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D04-6DA5-4661-9845-144E7AC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D42-5A56-4AEC-B8F9-073389F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55AD-AE08-412E-A511-169F9AA99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6221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1979640" y="260280"/>
            <a:ext cx="56181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За страницами химии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2484360" y="1484280"/>
            <a:ext cx="47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История откры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химических элемен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3492360" y="3573360"/>
            <a:ext cx="2735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Галог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867280" y="508464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й руководител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аб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867280" y="6165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пенчук 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6-Tim Wheater-Cloud Dreams.mp3" descr=""/>
          <p:cNvPicPr/>
          <p:nvPr/>
        </p:nvPicPr>
        <p:blipFill>
          <a:blip r:embed="rId2"/>
          <a:stretch/>
        </p:blipFill>
        <p:spPr>
          <a:xfrm>
            <a:off x="4643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ff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5"/>
          <p:cNvSpPr txBox="1"/>
          <p:nvPr/>
        </p:nvSpPr>
        <p:spPr>
          <a:xfrm>
            <a:off x="2771640" y="549360"/>
            <a:ext cx="4392720" cy="850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ф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12" descr="флюрит2"/>
          <p:cNvPicPr/>
          <p:nvPr/>
        </p:nvPicPr>
        <p:blipFill>
          <a:blip r:embed="rId1"/>
          <a:stretch/>
        </p:blipFill>
        <p:spPr>
          <a:xfrm>
            <a:off x="324000" y="1413000"/>
            <a:ext cx="2952720" cy="2185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Rectangle 6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276720" y="1484280"/>
            <a:ext cx="55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«фтор» (от греч. φθόρος — разрушение), предложенное Андре Ампером в 1810 году, употребляется в русском и некоторых других языках; во многих странах приняты названия, производные от латинского «Fluor» (которое происходит, в свою очередь, от fluere — «течь», по свойству соединения фтора, флюорита (CaF2), понижать температуру плавления руды и увеличивать текучесть распла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55640" y="5516640"/>
            <a:ext cx="1368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ю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Fluorit1"/>
          <p:cNvPicPr/>
          <p:nvPr/>
        </p:nvPicPr>
        <p:blipFill>
          <a:blip r:embed="rId2"/>
          <a:stretch/>
        </p:blipFill>
        <p:spPr>
          <a:xfrm>
            <a:off x="1258920" y="3429000"/>
            <a:ext cx="1778040" cy="19684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" name="AutoShape 17">
            <a:hlinkClick r:id="rId3" action="ppaction://hlinksldjump"/>
          </p:cNvPr>
          <p:cNvSpPr/>
          <p:nvPr/>
        </p:nvSpPr>
        <p:spPr>
          <a:xfrm>
            <a:off x="810108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9401" y="3837"/>
                </a:moveTo>
                <a:lnTo>
                  <a:pt x="21977" y="6448"/>
                </a:ln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lnTo>
                  <a:pt x="26364" y="10800"/>
                </a:lnTo>
                <a:lnTo>
                  <a:pt x="24710" y="10800"/>
                </a:lnTo>
                <a:lnTo>
                  <a:pt x="24710" y="17989"/>
                </a:lnTo>
                <a:lnTo>
                  <a:pt x="14092" y="17989"/>
                </a:lnTo>
                <a:lnTo>
                  <a:pt x="14092" y="10800"/>
                </a:lnTo>
                <a:lnTo>
                  <a:pt x="12438" y="10800"/>
                </a:lnTo>
                <a:close/>
              </a:path>
              <a:path fill="darkenLess" w="38802" h="21600">
                <a:moveTo>
                  <a:pt x="21977" y="6448"/>
                </a:move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close/>
              </a:path>
              <a:path fill="darkenLess" w="38802" h="21600">
                <a:moveTo>
                  <a:pt x="18479" y="14299"/>
                </a:moveTo>
                <a:lnTo>
                  <a:pt x="20324" y="14299"/>
                </a:lnTo>
                <a:lnTo>
                  <a:pt x="20324" y="17989"/>
                </a:lnTo>
                <a:lnTo>
                  <a:pt x="24710" y="17989"/>
                </a:lnTo>
                <a:lnTo>
                  <a:pt x="24710" y="10800"/>
                </a:lnTo>
                <a:lnTo>
                  <a:pt x="14092" y="10800"/>
                </a:lnTo>
                <a:lnTo>
                  <a:pt x="14092" y="17989"/>
                </a:lnTo>
                <a:lnTo>
                  <a:pt x="184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8">
            <a:hlinkClick r:id="" action="ppaction://hlinkshowjump?jump=nextslide"/>
          </p:cNvPr>
          <p:cNvSpPr/>
          <p:nvPr/>
        </p:nvSpPr>
        <p:spPr>
          <a:xfrm>
            <a:off x="759636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2411280" y="620640"/>
            <a:ext cx="4032360" cy="58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ртвы?-Нет,геро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564000" y="1341360"/>
            <a:ext cx="525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тор очень токсичен, работа с ним и его соединениями требует большой осторожности и продуманных мер защиты. Первооткрыватели фтора могли об этом только догадываться, да и то не всегда. Поэтому история открытия фтора связана с именами многих героев нау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26920" y="357336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ас и Георг Нокс пытались получить фтор из фторидов серебра и свинца. Георг Нокс стал инвалидом, Томас поги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39640" y="3716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900000" y="4365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эмфри Дэви в ходе этих опытов он отравился и тяжело забол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468360" y="436572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71640" y="494172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Гей-Люссак и Л. Тенар потеряли здоровье, так и не добившись сколько-нибудь обнадеживающ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539640" y="501336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971640" y="558972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Лавуазье, М. Фарадея, Э. Фреми фтор «пощадил», но и они не добились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39640" y="566100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1" descr="6edis3"/>
          <p:cNvPicPr/>
          <p:nvPr/>
        </p:nvPicPr>
        <p:blipFill>
          <a:blip r:embed="rId1"/>
          <a:stretch/>
        </p:blipFill>
        <p:spPr>
          <a:xfrm>
            <a:off x="539640" y="1484280"/>
            <a:ext cx="2808360" cy="1959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8" name="AutoShape 22">
            <a:hlinkClick r:id="rId2" action="ppaction://hlinksldjump"/>
          </p:cNvPr>
          <p:cNvSpPr/>
          <p:nvPr/>
        </p:nvSpPr>
        <p:spPr>
          <a:xfrm>
            <a:off x="8101080" y="6165720"/>
            <a:ext cx="718920" cy="35892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21622" y="3837"/>
                </a:moveTo>
                <a:lnTo>
                  <a:pt x="24198" y="6448"/>
                </a:lnTo>
                <a:lnTo>
                  <a:pt x="24198" y="4707"/>
                </a:lnTo>
                <a:lnTo>
                  <a:pt x="25973" y="4707"/>
                </a:lnTo>
                <a:lnTo>
                  <a:pt x="25973" y="8224"/>
                </a:lnTo>
                <a:lnTo>
                  <a:pt x="28585" y="10800"/>
                </a:lnTo>
                <a:lnTo>
                  <a:pt x="26931" y="10800"/>
                </a:lnTo>
                <a:lnTo>
                  <a:pt x="26931" y="17989"/>
                </a:lnTo>
                <a:lnTo>
                  <a:pt x="16312" y="17989"/>
                </a:lnTo>
                <a:lnTo>
                  <a:pt x="16312" y="10800"/>
                </a:lnTo>
                <a:lnTo>
                  <a:pt x="14659" y="10800"/>
                </a:lnTo>
                <a:close/>
              </a:path>
              <a:path fill="darkenLess" w="43243" h="21600">
                <a:moveTo>
                  <a:pt x="24198" y="6448"/>
                </a:moveTo>
                <a:lnTo>
                  <a:pt x="24198" y="4707"/>
                </a:lnTo>
                <a:lnTo>
                  <a:pt x="25973" y="4707"/>
                </a:lnTo>
                <a:lnTo>
                  <a:pt x="25973" y="8224"/>
                </a:lnTo>
                <a:close/>
              </a:path>
              <a:path fill="darkenLess" w="43243" h="21600">
                <a:moveTo>
                  <a:pt x="20699" y="14299"/>
                </a:moveTo>
                <a:lnTo>
                  <a:pt x="22544" y="14299"/>
                </a:lnTo>
                <a:lnTo>
                  <a:pt x="22544" y="17989"/>
                </a:lnTo>
                <a:lnTo>
                  <a:pt x="26931" y="17989"/>
                </a:lnTo>
                <a:lnTo>
                  <a:pt x="26931" y="10800"/>
                </a:lnTo>
                <a:lnTo>
                  <a:pt x="16312" y="10800"/>
                </a:lnTo>
                <a:lnTo>
                  <a:pt x="16312" y="17989"/>
                </a:lnTo>
                <a:lnTo>
                  <a:pt x="2069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3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4">
            <a:hlinkClick r:id="" action="ppaction://hlinkshowjump?jump=nextslide"/>
          </p:cNvPr>
          <p:cNvSpPr/>
          <p:nvPr/>
        </p:nvSpPr>
        <p:spPr>
          <a:xfrm>
            <a:off x="7596360" y="6165720"/>
            <a:ext cx="504720" cy="35892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66" h="21600">
                <a:moveTo>
                  <a:pt x="0" y="0"/>
                </a:moveTo>
                <a:lnTo>
                  <a:pt x="30366" y="0"/>
                </a:lnTo>
                <a:lnTo>
                  <a:pt x="30366" y="21600"/>
                </a:lnTo>
                <a:lnTo>
                  <a:pt x="0" y="21600"/>
                </a:lnTo>
                <a:close/>
              </a:path>
              <a:path fill="lightenLess" w="30366" h="21600">
                <a:moveTo>
                  <a:pt x="0" y="0"/>
                </a:moveTo>
                <a:lnTo>
                  <a:pt x="30366" y="0"/>
                </a:lnTo>
                <a:lnTo>
                  <a:pt x="28966" y="1400"/>
                </a:lnTo>
                <a:lnTo>
                  <a:pt x="1400" y="1400"/>
                </a:lnTo>
                <a:close/>
              </a:path>
              <a:path fill="darken" w="30366" h="21600">
                <a:moveTo>
                  <a:pt x="30366" y="0"/>
                </a:moveTo>
                <a:lnTo>
                  <a:pt x="30366" y="21600"/>
                </a:lnTo>
                <a:lnTo>
                  <a:pt x="28966" y="20200"/>
                </a:lnTo>
                <a:lnTo>
                  <a:pt x="28966" y="1400"/>
                </a:lnTo>
                <a:close/>
              </a:path>
              <a:path fill="darkenLess" w="30366" h="21600">
                <a:moveTo>
                  <a:pt x="3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6" y="20200"/>
                </a:lnTo>
                <a:close/>
              </a:path>
              <a:path fill="lighten" w="3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6" h="21600">
                <a:moveTo>
                  <a:pt x="8176" y="3794"/>
                </a:moveTo>
                <a:lnTo>
                  <a:pt x="22189" y="10800"/>
                </a:lnTo>
                <a:lnTo>
                  <a:pt x="81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5">
            <a:hlinkClick r:id="rId3" action="ppaction://hlinksldjump"/>
          </p:cNvPr>
          <p:cNvSpPr/>
          <p:nvPr/>
        </p:nvSpPr>
        <p:spPr>
          <a:xfrm>
            <a:off x="6443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ff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2627280" y="404640"/>
            <a:ext cx="5256360" cy="79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ф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7" descr="фтор"/>
          <p:cNvPicPr/>
          <p:nvPr/>
        </p:nvPicPr>
        <p:blipFill>
          <a:blip r:embed="rId1"/>
          <a:stretch/>
        </p:blipFill>
        <p:spPr>
          <a:xfrm>
            <a:off x="539640" y="549360"/>
            <a:ext cx="1892520" cy="2520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Text Box 9"/>
          <p:cNvSpPr/>
          <p:nvPr/>
        </p:nvSpPr>
        <p:spPr>
          <a:xfrm>
            <a:off x="468360" y="3357720"/>
            <a:ext cx="20160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ри Муас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627280" y="1125360"/>
            <a:ext cx="63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XVIII в. была открыта плавиковая кислота – водный раствор фтористого водорода. Фреми, пытаясь с помощью электролиза извлечь фтор из фторидов, нашел способ получения безводного фтористого водорода. И только 26 июня 1886 г. французский химик Анри Муассан подверг электролизу безводный фтористый водород. При температуре – 23°C он получил на аноде новое, чрезвычайно реакционноспособное газообразное вещество. Муассану удалось собрать несколько пузырьков газа. Это был фт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плавиковая"/>
          <p:cNvPicPr/>
          <p:nvPr/>
        </p:nvPicPr>
        <p:blipFill>
          <a:blip r:embed="rId2"/>
          <a:stretch/>
        </p:blipFill>
        <p:spPr>
          <a:xfrm>
            <a:off x="395280" y="4076640"/>
            <a:ext cx="2232000" cy="1635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8" name="AutoShape 13">
            <a:hlinkClick r:id="rId3" action="ppaction://hlinksldjump"/>
          </p:cNvPr>
          <p:cNvSpPr/>
          <p:nvPr/>
        </p:nvSpPr>
        <p:spPr>
          <a:xfrm>
            <a:off x="810108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9401" y="3837"/>
                </a:moveTo>
                <a:lnTo>
                  <a:pt x="21977" y="6448"/>
                </a:ln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lnTo>
                  <a:pt x="26364" y="10800"/>
                </a:lnTo>
                <a:lnTo>
                  <a:pt x="24710" y="10800"/>
                </a:lnTo>
                <a:lnTo>
                  <a:pt x="24710" y="17989"/>
                </a:lnTo>
                <a:lnTo>
                  <a:pt x="14092" y="17989"/>
                </a:lnTo>
                <a:lnTo>
                  <a:pt x="14092" y="10800"/>
                </a:lnTo>
                <a:lnTo>
                  <a:pt x="12438" y="10800"/>
                </a:lnTo>
                <a:close/>
              </a:path>
              <a:path fill="darkenLess" w="38802" h="21600">
                <a:moveTo>
                  <a:pt x="21977" y="6448"/>
                </a:move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close/>
              </a:path>
              <a:path fill="darkenLess" w="38802" h="21600">
                <a:moveTo>
                  <a:pt x="18479" y="14299"/>
                </a:moveTo>
                <a:lnTo>
                  <a:pt x="20324" y="14299"/>
                </a:lnTo>
                <a:lnTo>
                  <a:pt x="20324" y="17989"/>
                </a:lnTo>
                <a:lnTo>
                  <a:pt x="24710" y="17989"/>
                </a:lnTo>
                <a:lnTo>
                  <a:pt x="24710" y="10800"/>
                </a:lnTo>
                <a:lnTo>
                  <a:pt x="14092" y="10800"/>
                </a:lnTo>
                <a:lnTo>
                  <a:pt x="14092" y="17989"/>
                </a:lnTo>
                <a:lnTo>
                  <a:pt x="184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4">
            <a:hlinkClick r:id="" action="ppaction://hlinkshowjump?jump=previousslide"/>
          </p:cNvPr>
          <p:cNvSpPr/>
          <p:nvPr/>
        </p:nvSpPr>
        <p:spPr>
          <a:xfrm>
            <a:off x="6877080" y="609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>
            <a:hlinkClick r:id="" action="ppaction://hlinkshowjump?jump=nextslide"/>
          </p:cNvPr>
          <p:cNvSpPr/>
          <p:nvPr/>
        </p:nvSpPr>
        <p:spPr>
          <a:xfrm>
            <a:off x="752472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>
            <a:hlinkClick r:id="rId4" action="ppaction://hlinksldjump"/>
          </p:cNvPr>
          <p:cNvSpPr/>
          <p:nvPr/>
        </p:nvSpPr>
        <p:spPr>
          <a:xfrm>
            <a:off x="637236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5111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1979640" y="40464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втия брома (Br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164360" y="98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08000" y="1268280"/>
            <a:ext cx="61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ом был открыт сразу несколькими хим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1979640" y="1773360"/>
            <a:ext cx="67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825 г. в химическую лабораторию г. Гейдельберга (Германия) поступил новый студент – Карл Левиг, который заинтересовал своего учителя – профессора Леопольда Гмелина – привезенной из дома какой-то странной жидкостью. Левиг получил эту жидкость так: он пропустил хлор в раствор, который оставался после кристаллизации солей, из одного источника на его родине. Образовавшееся вещество он извлек эфиром, а затем отогнал эфир и получил какую-то тяжелую темно-красную жидкость с весьма неприятным зап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979640" y="5157720"/>
            <a:ext cx="684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ессор Гмелин предложил Левигу получить большее количество этой жидкости и подробно изучить ее свойства. Левиг с принялся за работу, как вдруг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5" descr="180px-Brom_amp"/>
          <p:cNvPicPr/>
          <p:nvPr/>
        </p:nvPicPr>
        <p:blipFill>
          <a:blip r:embed="rId1"/>
          <a:stretch/>
        </p:blipFill>
        <p:spPr>
          <a:xfrm>
            <a:off x="539640" y="1484280"/>
            <a:ext cx="1224000" cy="37720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9" name="AutoShape 18">
            <a:hlinkClick r:id="rId2" action="ppaction://hlinksldjump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21535" y="3837"/>
                </a:moveTo>
                <a:lnTo>
                  <a:pt x="24112" y="6448"/>
                </a:lnTo>
                <a:lnTo>
                  <a:pt x="24112" y="4707"/>
                </a:lnTo>
                <a:lnTo>
                  <a:pt x="25887" y="4707"/>
                </a:lnTo>
                <a:lnTo>
                  <a:pt x="25887" y="8224"/>
                </a:lnTo>
                <a:lnTo>
                  <a:pt x="28498" y="10800"/>
                </a:lnTo>
                <a:lnTo>
                  <a:pt x="26845" y="10800"/>
                </a:lnTo>
                <a:lnTo>
                  <a:pt x="26845" y="17989"/>
                </a:lnTo>
                <a:lnTo>
                  <a:pt x="16226" y="17989"/>
                </a:lnTo>
                <a:lnTo>
                  <a:pt x="16226" y="10800"/>
                </a:lnTo>
                <a:lnTo>
                  <a:pt x="14572" y="10800"/>
                </a:lnTo>
                <a:close/>
              </a:path>
              <a:path fill="darkenLess" w="43071" h="21600">
                <a:moveTo>
                  <a:pt x="24112" y="6448"/>
                </a:moveTo>
                <a:lnTo>
                  <a:pt x="24112" y="4707"/>
                </a:lnTo>
                <a:lnTo>
                  <a:pt x="25887" y="4707"/>
                </a:lnTo>
                <a:lnTo>
                  <a:pt x="25887" y="8224"/>
                </a:lnTo>
                <a:close/>
              </a:path>
              <a:path fill="darkenLess" w="43071" h="21600">
                <a:moveTo>
                  <a:pt x="20613" y="14299"/>
                </a:moveTo>
                <a:lnTo>
                  <a:pt x="22458" y="14299"/>
                </a:lnTo>
                <a:lnTo>
                  <a:pt x="22458" y="17989"/>
                </a:lnTo>
                <a:lnTo>
                  <a:pt x="26845" y="17989"/>
                </a:lnTo>
                <a:lnTo>
                  <a:pt x="26845" y="10800"/>
                </a:lnTo>
                <a:lnTo>
                  <a:pt x="16226" y="10800"/>
                </a:lnTo>
                <a:lnTo>
                  <a:pt x="16226" y="17989"/>
                </a:lnTo>
                <a:lnTo>
                  <a:pt x="2061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9">
            <a:hlinkClick r:id="" action="ppaction://hlinkshowjump?jump=nextslide"/>
          </p:cNvPr>
          <p:cNvSpPr/>
          <p:nvPr/>
        </p:nvSpPr>
        <p:spPr>
          <a:xfrm>
            <a:off x="7524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>
            <a:hlinkClick r:id="" action="ppaction://hlinkshowjump?jump=previousslide"/>
          </p:cNvPr>
          <p:cNvSpPr/>
          <p:nvPr/>
        </p:nvSpPr>
        <p:spPr>
          <a:xfrm>
            <a:off x="694836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5111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Balard"/>
          <p:cNvPicPr/>
          <p:nvPr/>
        </p:nvPicPr>
        <p:blipFill>
          <a:blip r:embed="rId1"/>
          <a:stretch/>
        </p:blipFill>
        <p:spPr>
          <a:xfrm>
            <a:off x="755640" y="620640"/>
            <a:ext cx="1922400" cy="24796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3" name="Rectangle 11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24000" y="3284640"/>
            <a:ext cx="25923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уан Жером Б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059280" y="620640"/>
            <a:ext cx="586872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826 г. в одном из парижских научных журналов появилась статья химика А.Ж.Балара об открытии им нового вещества со свойствами очень сходными с теми, которыми обладала темно-красная жидкость Левига.Не оставалось никакого сомнения в том, что французский химик опередил немецкого. Балар открыл бром, изучая флору соляных болот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ремя одного из опытов , когда он подействовал на рассол хлором, он заметил, появление интенсивной  желтой окраски. Балар установил, что она была вызвана реакцией взаимодействия содержащегося в рассоле бромида натрия с хлором: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Br+ Cl2=Br2+ 2NaC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коре он выделил необходимое количество жидкости, названной им муридом (затем переименована в бром -злово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" descr="ar1002c"/>
          <p:cNvPicPr/>
          <p:nvPr/>
        </p:nvPicPr>
        <p:blipFill>
          <a:blip r:embed="rId2"/>
          <a:stretch/>
        </p:blipFill>
        <p:spPr>
          <a:xfrm>
            <a:off x="611280" y="3933720"/>
            <a:ext cx="2232000" cy="21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7" name="AutoShape 17">
            <a:hlinkClick r:id="rId3" action="ppaction://hlinksldjump"/>
          </p:cNvPr>
          <p:cNvSpPr/>
          <p:nvPr/>
        </p:nvSpPr>
        <p:spPr>
          <a:xfrm>
            <a:off x="85327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8">
            <a:hlinkClick r:id="" action="ppaction://hlinkshowjump?jump=nextslide"/>
          </p:cNvPr>
          <p:cNvSpPr/>
          <p:nvPr/>
        </p:nvSpPr>
        <p:spPr>
          <a:xfrm>
            <a:off x="810108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9">
            <a:hlinkClick r:id="" action="ppaction://hlinkshowjump?jump=previousslide"/>
          </p:cNvPr>
          <p:cNvSpPr/>
          <p:nvPr/>
        </p:nvSpPr>
        <p:spPr>
          <a:xfrm>
            <a:off x="7667640" y="649908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10800"/>
                </a:moveTo>
                <a:lnTo>
                  <a:pt x="20047" y="3794"/>
                </a:lnTo>
                <a:lnTo>
                  <a:pt x="200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>
            <a:hlinkClick r:id="rId4" action="ppaction://hlinksldjump"/>
          </p:cNvPr>
          <p:cNvSpPr/>
          <p:nvPr/>
        </p:nvSpPr>
        <p:spPr>
          <a:xfrm>
            <a:off x="7236000" y="6524640"/>
            <a:ext cx="502920" cy="333360"/>
          </a:xfrm>
          <a:custGeom>
            <a:avLst/>
            <a:gdLst>
              <a:gd name="textAreaLeft" fmla="*/ 21600 w 502920"/>
              <a:gd name="textAreaRight" fmla="*/ 481320 w 50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75" h="21600">
                <a:moveTo>
                  <a:pt x="0" y="0"/>
                </a:moveTo>
                <a:lnTo>
                  <a:pt x="32575" y="0"/>
                </a:lnTo>
                <a:lnTo>
                  <a:pt x="32575" y="21600"/>
                </a:lnTo>
                <a:lnTo>
                  <a:pt x="0" y="21600"/>
                </a:lnTo>
                <a:close/>
              </a:path>
              <a:path fill="lightenLess" w="32575" h="21600">
                <a:moveTo>
                  <a:pt x="0" y="0"/>
                </a:moveTo>
                <a:lnTo>
                  <a:pt x="32575" y="0"/>
                </a:lnTo>
                <a:lnTo>
                  <a:pt x="31175" y="1400"/>
                </a:lnTo>
                <a:lnTo>
                  <a:pt x="1400" y="1400"/>
                </a:lnTo>
                <a:close/>
              </a:path>
              <a:path fill="darken" w="32575" h="21600">
                <a:moveTo>
                  <a:pt x="32575" y="0"/>
                </a:moveTo>
                <a:lnTo>
                  <a:pt x="32575" y="21600"/>
                </a:lnTo>
                <a:lnTo>
                  <a:pt x="31175" y="20200"/>
                </a:lnTo>
                <a:lnTo>
                  <a:pt x="31175" y="1400"/>
                </a:lnTo>
                <a:close/>
              </a:path>
              <a:path fill="darkenLess" w="32575" h="21600">
                <a:moveTo>
                  <a:pt x="32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5" y="20200"/>
                </a:lnTo>
                <a:close/>
              </a:path>
              <a:path fill="lighten" w="32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5111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250920" y="260280"/>
            <a:ext cx="871380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юстус"/>
          <p:cNvPicPr/>
          <p:nvPr/>
        </p:nvPicPr>
        <p:blipFill>
          <a:blip r:embed="rId1"/>
          <a:stretch/>
        </p:blipFill>
        <p:spPr>
          <a:xfrm>
            <a:off x="539640" y="1125360"/>
            <a:ext cx="2090880" cy="30132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3" name="Text Box 7"/>
          <p:cNvSpPr/>
          <p:nvPr/>
        </p:nvSpPr>
        <p:spPr>
          <a:xfrm>
            <a:off x="2987640" y="1413000"/>
            <a:ext cx="56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за несколько лет до того, как Балар принялся за свои исследования, одна германская фирма прислала Либиху бутыль с какой-то темно-красной жидкостью и попросила его определить ее содержание. Либих не занялся детальным исследованием этой жидкости, а сделал поспешное заключение, что она является соединением хлора с йод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11280" y="4365720"/>
            <a:ext cx="1944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стус Либ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987640" y="422100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после опубликования Баларом статьи об открытии брома Либих догадался, какой огромный промах он допустил. «Не Балар открыл бром, а бром открыл Балара»,— произнес с досадой Либих, узнав о новом откры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4">
            <a:hlinkClick r:id="rId2" action="ppaction://hlinksldjump"/>
          </p:cNvPr>
          <p:cNvSpPr/>
          <p:nvPr/>
        </p:nvSpPr>
        <p:spPr>
          <a:xfrm>
            <a:off x="8172360" y="616572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21676" y="3837"/>
                </a:moveTo>
                <a:lnTo>
                  <a:pt x="24252" y="6448"/>
                </a:lnTo>
                <a:lnTo>
                  <a:pt x="24252" y="4707"/>
                </a:lnTo>
                <a:lnTo>
                  <a:pt x="26028" y="4707"/>
                </a:lnTo>
                <a:lnTo>
                  <a:pt x="26028" y="8224"/>
                </a:lnTo>
                <a:lnTo>
                  <a:pt x="28639" y="10800"/>
                </a:lnTo>
                <a:lnTo>
                  <a:pt x="26985" y="10800"/>
                </a:lnTo>
                <a:lnTo>
                  <a:pt x="26985" y="17989"/>
                </a:lnTo>
                <a:lnTo>
                  <a:pt x="16366" y="17989"/>
                </a:lnTo>
                <a:lnTo>
                  <a:pt x="16366" y="10800"/>
                </a:lnTo>
                <a:lnTo>
                  <a:pt x="14713" y="10800"/>
                </a:lnTo>
                <a:close/>
              </a:path>
              <a:path fill="darkenLess" w="43352" h="21600">
                <a:moveTo>
                  <a:pt x="24252" y="6448"/>
                </a:moveTo>
                <a:lnTo>
                  <a:pt x="24252" y="4707"/>
                </a:lnTo>
                <a:lnTo>
                  <a:pt x="26028" y="4707"/>
                </a:lnTo>
                <a:lnTo>
                  <a:pt x="26028" y="8224"/>
                </a:lnTo>
                <a:close/>
              </a:path>
              <a:path fill="darkenLess" w="43352" h="21600">
                <a:moveTo>
                  <a:pt x="20753" y="14299"/>
                </a:moveTo>
                <a:lnTo>
                  <a:pt x="22598" y="14299"/>
                </a:lnTo>
                <a:lnTo>
                  <a:pt x="22598" y="17989"/>
                </a:lnTo>
                <a:lnTo>
                  <a:pt x="26985" y="17989"/>
                </a:lnTo>
                <a:lnTo>
                  <a:pt x="26985" y="10800"/>
                </a:lnTo>
                <a:lnTo>
                  <a:pt x="16366" y="10800"/>
                </a:lnTo>
                <a:lnTo>
                  <a:pt x="16366" y="17989"/>
                </a:lnTo>
                <a:lnTo>
                  <a:pt x="20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>
            <a:hlinkClick r:id="" action="ppaction://hlinkshowjump?jump=nextslide"/>
          </p:cNvPr>
          <p:cNvSpPr/>
          <p:nvPr/>
        </p:nvSpPr>
        <p:spPr>
          <a:xfrm>
            <a:off x="7667640" y="6165720"/>
            <a:ext cx="504720" cy="35892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66" h="21600">
                <a:moveTo>
                  <a:pt x="0" y="0"/>
                </a:moveTo>
                <a:lnTo>
                  <a:pt x="30366" y="0"/>
                </a:lnTo>
                <a:lnTo>
                  <a:pt x="30366" y="21600"/>
                </a:lnTo>
                <a:lnTo>
                  <a:pt x="0" y="21600"/>
                </a:lnTo>
                <a:close/>
              </a:path>
              <a:path fill="lightenLess" w="30366" h="21600">
                <a:moveTo>
                  <a:pt x="0" y="0"/>
                </a:moveTo>
                <a:lnTo>
                  <a:pt x="30366" y="0"/>
                </a:lnTo>
                <a:lnTo>
                  <a:pt x="28966" y="1400"/>
                </a:lnTo>
                <a:lnTo>
                  <a:pt x="1400" y="1400"/>
                </a:lnTo>
                <a:close/>
              </a:path>
              <a:path fill="darken" w="30366" h="21600">
                <a:moveTo>
                  <a:pt x="30366" y="0"/>
                </a:moveTo>
                <a:lnTo>
                  <a:pt x="30366" y="21600"/>
                </a:lnTo>
                <a:lnTo>
                  <a:pt x="28966" y="20200"/>
                </a:lnTo>
                <a:lnTo>
                  <a:pt x="28966" y="1400"/>
                </a:lnTo>
                <a:close/>
              </a:path>
              <a:path fill="darkenLess" w="30366" h="21600">
                <a:moveTo>
                  <a:pt x="3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6" y="20200"/>
                </a:lnTo>
                <a:close/>
              </a:path>
              <a:path fill="lighten" w="3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6" h="21600">
                <a:moveTo>
                  <a:pt x="8176" y="3794"/>
                </a:moveTo>
                <a:lnTo>
                  <a:pt x="22189" y="10800"/>
                </a:lnTo>
                <a:lnTo>
                  <a:pt x="81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>
            <a:hlinkClick r:id="" action="ppaction://hlinkshowjump?jump=previousslide"/>
          </p:cNvPr>
          <p:cNvSpPr/>
          <p:nvPr/>
        </p:nvSpPr>
        <p:spPr>
          <a:xfrm>
            <a:off x="709308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7">
            <a:hlinkClick r:id="rId3" action="ppaction://hlinksldjump"/>
          </p:cNvPr>
          <p:cNvSpPr/>
          <p:nvPr/>
        </p:nvSpPr>
        <p:spPr>
          <a:xfrm>
            <a:off x="6588000" y="6165720"/>
            <a:ext cx="505080" cy="35892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87" h="21600">
                <a:moveTo>
                  <a:pt x="0" y="0"/>
                </a:moveTo>
                <a:lnTo>
                  <a:pt x="30387" y="0"/>
                </a:lnTo>
                <a:lnTo>
                  <a:pt x="30387" y="21600"/>
                </a:lnTo>
                <a:lnTo>
                  <a:pt x="0" y="21600"/>
                </a:lnTo>
                <a:close/>
              </a:path>
              <a:path fill="lightenLess" w="30387" h="21600">
                <a:moveTo>
                  <a:pt x="0" y="0"/>
                </a:moveTo>
                <a:lnTo>
                  <a:pt x="30387" y="0"/>
                </a:lnTo>
                <a:lnTo>
                  <a:pt x="28987" y="1400"/>
                </a:lnTo>
                <a:lnTo>
                  <a:pt x="1400" y="1400"/>
                </a:lnTo>
                <a:close/>
              </a:path>
              <a:path fill="darken" w="30387" h="21600">
                <a:moveTo>
                  <a:pt x="30387" y="0"/>
                </a:moveTo>
                <a:lnTo>
                  <a:pt x="30387" y="21600"/>
                </a:lnTo>
                <a:lnTo>
                  <a:pt x="28987" y="20200"/>
                </a:lnTo>
                <a:lnTo>
                  <a:pt x="28987" y="1400"/>
                </a:lnTo>
                <a:close/>
              </a:path>
              <a:path fill="darkenLess" w="30387" h="21600">
                <a:moveTo>
                  <a:pt x="30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87" y="20200"/>
                </a:lnTo>
                <a:close/>
              </a:path>
              <a:path fill="lighten" w="30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2050920" y="47628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астата (At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738036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mendeleev"/>
          <p:cNvPicPr/>
          <p:nvPr/>
        </p:nvPicPr>
        <p:blipFill>
          <a:blip r:embed="rId1"/>
          <a:stretch/>
        </p:blipFill>
        <p:spPr>
          <a:xfrm>
            <a:off x="611280" y="1484280"/>
            <a:ext cx="1928880" cy="3065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4" name="Text Box 11"/>
          <p:cNvSpPr/>
          <p:nvPr/>
        </p:nvSpPr>
        <p:spPr>
          <a:xfrm>
            <a:off x="468360" y="4653000"/>
            <a:ext cx="2160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916360" y="1341360"/>
            <a:ext cx="58309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воего открытия астат был известен под именем, данным Менделеевым:"эка-иод "( Eka-Iodum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916360" y="234648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очевидно, что элемент 85 должен обладать промежуточными свойствами: с одной стороны, активностью галогенов, с другой - металлическими свойствами. Поэтому с конца XIX в. велись интенсивные поиски этого элемента в различных минералах. Иногда появлялись сообщения об его открытии, но они не подтверждались. Авторы «открытий» давали элементу разные названия: дакин (Dacinum - от названия древней страны даков, гельвеций (Helvetium – в честь Швейцарии), англогельвеций (В честь Англии), лептин (от греч.- слабый, шаткий,)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>
            <a:hlinkClick r:id="rId2" action="ppaction://hlinksldjump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>
            <a:hlinkClick r:id="" action="ppaction://hlinkshowjump?jump=nextslide"/>
          </p:cNvPr>
          <p:cNvSpPr/>
          <p:nvPr/>
        </p:nvSpPr>
        <p:spPr>
          <a:xfrm>
            <a:off x="8172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835280" y="3789360"/>
            <a:ext cx="68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1 г. Аллисон с сотрудниками Политехнического института штата Алабама в США сообщил, что ему удалось обнаружить в растворе, извлеченном из монацитного песка следы элемента 85, которому он дал название алабамий (Alaba mium). Под этим названием элемент 85 фигурировал в учебниках и справочниках до 1947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ATOMBGCL"/>
          <p:cNvPicPr/>
          <p:nvPr/>
        </p:nvPicPr>
        <p:blipFill>
          <a:blip r:embed="rId1"/>
          <a:stretch/>
        </p:blipFill>
        <p:spPr>
          <a:xfrm>
            <a:off x="826920" y="765000"/>
            <a:ext cx="2392560" cy="25927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817236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9401" y="3837"/>
                </a:moveTo>
                <a:lnTo>
                  <a:pt x="21977" y="6448"/>
                </a:ln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lnTo>
                  <a:pt x="26364" y="10800"/>
                </a:lnTo>
                <a:lnTo>
                  <a:pt x="24710" y="10800"/>
                </a:lnTo>
                <a:lnTo>
                  <a:pt x="24710" y="17989"/>
                </a:lnTo>
                <a:lnTo>
                  <a:pt x="14092" y="17989"/>
                </a:lnTo>
                <a:lnTo>
                  <a:pt x="14092" y="10800"/>
                </a:lnTo>
                <a:lnTo>
                  <a:pt x="12438" y="10800"/>
                </a:lnTo>
                <a:close/>
              </a:path>
              <a:path fill="darkenLess" w="38802" h="21600">
                <a:moveTo>
                  <a:pt x="21977" y="6448"/>
                </a:move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close/>
              </a:path>
              <a:path fill="darkenLess" w="38802" h="21600">
                <a:moveTo>
                  <a:pt x="18479" y="14299"/>
                </a:moveTo>
                <a:lnTo>
                  <a:pt x="20324" y="14299"/>
                </a:lnTo>
                <a:lnTo>
                  <a:pt x="20324" y="17989"/>
                </a:lnTo>
                <a:lnTo>
                  <a:pt x="24710" y="17989"/>
                </a:lnTo>
                <a:lnTo>
                  <a:pt x="24710" y="10800"/>
                </a:lnTo>
                <a:lnTo>
                  <a:pt x="14092" y="10800"/>
                </a:lnTo>
                <a:lnTo>
                  <a:pt x="14092" y="17989"/>
                </a:lnTo>
                <a:lnTo>
                  <a:pt x="184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">
            <a:hlinkClick r:id="" action="ppaction://hlinkshowjump?jump=nextslide"/>
          </p:cNvPr>
          <p:cNvSpPr/>
          <p:nvPr/>
        </p:nvSpPr>
        <p:spPr>
          <a:xfrm>
            <a:off x="766764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651672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627280" y="1052640"/>
            <a:ext cx="5975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ально, однако, один из изотопов элемента 85 (астат- 211) был получен лишь в 1940 г. Корсоном, Маккензи и Сегре в циклотроне, где производилась бомбардировка висмута быстрыми alfa-частицами.     Этот элемент был получен искусственно ученым Э. Сегре и его сотрудниками путем "бомбардировки" атомов висмута альфа-частицами, ускоренными на циклотроне. Период полураспада этого изотопа оказался всего 7,2 часа. Вскоре (1942 - 1943) было установлено, что изотопы элемента 85 образуются во всех трех рядах радиоактивного распада. Элемент 85 получил свое название астат (Astatium) в 1947 г.  До недавнего времени в русской литературе элемент 85 называли астатин, что нельзя признать правильным, имея в виду слово, от которого образовано наз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mak"/>
          <p:cNvPicPr/>
          <p:nvPr/>
        </p:nvPicPr>
        <p:blipFill>
          <a:blip r:embed="rId1"/>
          <a:stretch/>
        </p:blipFill>
        <p:spPr>
          <a:xfrm>
            <a:off x="468360" y="1413000"/>
            <a:ext cx="191124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0" name="Text Box 9"/>
          <p:cNvSpPr/>
          <p:nvPr/>
        </p:nvSpPr>
        <p:spPr>
          <a:xfrm>
            <a:off x="468360" y="4508640"/>
            <a:ext cx="17272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Макке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836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16220" y="3837"/>
                </a:moveTo>
                <a:lnTo>
                  <a:pt x="18797" y="6448"/>
                </a:ln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lnTo>
                  <a:pt x="23183" y="10800"/>
                </a:lnTo>
                <a:lnTo>
                  <a:pt x="21530" y="10800"/>
                </a:lnTo>
                <a:lnTo>
                  <a:pt x="21530" y="17989"/>
                </a:lnTo>
                <a:lnTo>
                  <a:pt x="10911" y="17989"/>
                </a:lnTo>
                <a:lnTo>
                  <a:pt x="10911" y="10800"/>
                </a:lnTo>
                <a:lnTo>
                  <a:pt x="9257" y="10800"/>
                </a:lnTo>
                <a:close/>
              </a:path>
              <a:path fill="darkenLess" w="32441" h="21600">
                <a:moveTo>
                  <a:pt x="18797" y="6448"/>
                </a:move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close/>
              </a:path>
              <a:path fill="darkenLess" w="32441" h="21600">
                <a:moveTo>
                  <a:pt x="15298" y="14299"/>
                </a:moveTo>
                <a:lnTo>
                  <a:pt x="17143" y="14299"/>
                </a:lnTo>
                <a:lnTo>
                  <a:pt x="17143" y="17989"/>
                </a:lnTo>
                <a:lnTo>
                  <a:pt x="21530" y="17989"/>
                </a:lnTo>
                <a:lnTo>
                  <a:pt x="21530" y="10800"/>
                </a:lnTo>
                <a:lnTo>
                  <a:pt x="10911" y="10800"/>
                </a:lnTo>
                <a:lnTo>
                  <a:pt x="10911" y="17989"/>
                </a:lnTo>
                <a:lnTo>
                  <a:pt x="152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7956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>
            <a:hlinkClick r:id="" action="ppaction://hlinkshowjump?jump=previousslide"/>
          </p:cNvPr>
          <p:cNvSpPr/>
          <p:nvPr/>
        </p:nvSpPr>
        <p:spPr>
          <a:xfrm>
            <a:off x="7451640" y="6237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702000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3132000" y="69228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Огл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042920" y="21337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2195640" y="1773360"/>
            <a:ext cx="4938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логены-общее поня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1042920" y="3716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1042920" y="4292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1042920" y="2637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3"/>
          <p:cNvSpPr txBox="1"/>
          <p:nvPr/>
        </p:nvSpPr>
        <p:spPr>
          <a:xfrm>
            <a:off x="2124000" y="2421000"/>
            <a:ext cx="548640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хлора (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752472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5"/>
          <p:cNvSpPr txBox="1"/>
          <p:nvPr/>
        </p:nvSpPr>
        <p:spPr>
          <a:xfrm>
            <a:off x="7740720" y="2349360"/>
            <a:ext cx="14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16"/>
          <p:cNvSpPr txBox="1"/>
          <p:nvPr/>
        </p:nvSpPr>
        <p:spPr>
          <a:xfrm>
            <a:off x="2124000" y="2997360"/>
            <a:ext cx="44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йода (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588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9"/>
          <p:cNvSpPr txBox="1"/>
          <p:nvPr/>
        </p:nvSpPr>
        <p:spPr>
          <a:xfrm>
            <a:off x="6804000" y="2997360"/>
            <a:ext cx="15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21"/>
          <p:cNvSpPr txBox="1"/>
          <p:nvPr/>
        </p:nvSpPr>
        <p:spPr>
          <a:xfrm>
            <a:off x="2124000" y="3573360"/>
            <a:ext cx="573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брома(Br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75247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3"/>
          <p:cNvSpPr txBox="1"/>
          <p:nvPr/>
        </p:nvSpPr>
        <p:spPr>
          <a:xfrm>
            <a:off x="2124000" y="4149720"/>
            <a:ext cx="562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фтора (F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738036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1042920" y="4869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6"/>
          <p:cNvSpPr txBox="1"/>
          <p:nvPr/>
        </p:nvSpPr>
        <p:spPr>
          <a:xfrm>
            <a:off x="2124000" y="4724280"/>
            <a:ext cx="576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астата(At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7524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>
            <a:hlinkClick r:id="" action="ppaction://hlinkshowjump?jump=nextslide"/>
          </p:cNvPr>
          <p:cNvSpPr/>
          <p:nvPr/>
        </p:nvSpPr>
        <p:spPr>
          <a:xfrm>
            <a:off x="802800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1547640" y="476280"/>
            <a:ext cx="640908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Галогены- общее поня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13" descr="27"/>
          <p:cNvPicPr/>
          <p:nvPr/>
        </p:nvPicPr>
        <p:blipFill>
          <a:blip r:embed="rId1"/>
          <a:stretch/>
        </p:blipFill>
        <p:spPr>
          <a:xfrm>
            <a:off x="611280" y="1268280"/>
            <a:ext cx="4038480" cy="2114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492360" y="3429000"/>
            <a:ext cx="54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оге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т греч. hals — соль и genes — рождающий, рожденный), химические элементы фто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хло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бро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о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ста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ставляющие главную подгруппу VII группы периодической системы Д. И. Менделеева. Названы галогены. по свойству давать соли при соединении с металлами (например, поваренную соль NaCI). Иногда пользуются названием галои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" descr="DSC02020"/>
          <p:cNvPicPr/>
          <p:nvPr/>
        </p:nvPicPr>
        <p:blipFill>
          <a:blip r:embed="rId2"/>
          <a:stretch/>
        </p:blipFill>
        <p:spPr>
          <a:xfrm>
            <a:off x="539640" y="3716280"/>
            <a:ext cx="2590920" cy="194328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18"/>
          <p:cNvSpPr/>
          <p:nvPr/>
        </p:nvSpPr>
        <p:spPr>
          <a:xfrm>
            <a:off x="5076720" y="2708280"/>
            <a:ext cx="295272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щера в поваренной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95280" y="5877000"/>
            <a:ext cx="26640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>
            <a:hlinkClick r:id="rId3" action="ppaction://hlinksldjump"/>
          </p:cNvPr>
          <p:cNvSpPr/>
          <p:nvPr/>
        </p:nvSpPr>
        <p:spPr>
          <a:xfrm>
            <a:off x="8317080" y="6308640"/>
            <a:ext cx="502920" cy="28908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58" h="21600">
                <a:moveTo>
                  <a:pt x="0" y="0"/>
                </a:moveTo>
                <a:lnTo>
                  <a:pt x="37558" y="0"/>
                </a:lnTo>
                <a:lnTo>
                  <a:pt x="37558" y="21600"/>
                </a:lnTo>
                <a:lnTo>
                  <a:pt x="0" y="21600"/>
                </a:lnTo>
                <a:close/>
              </a:path>
              <a:path fill="lightenLess" w="37558" h="21600">
                <a:moveTo>
                  <a:pt x="0" y="0"/>
                </a:moveTo>
                <a:lnTo>
                  <a:pt x="37558" y="0"/>
                </a:lnTo>
                <a:lnTo>
                  <a:pt x="36158" y="1400"/>
                </a:lnTo>
                <a:lnTo>
                  <a:pt x="1400" y="1400"/>
                </a:lnTo>
                <a:close/>
              </a:path>
              <a:path fill="darken" w="37558" h="21600">
                <a:moveTo>
                  <a:pt x="37558" y="0"/>
                </a:moveTo>
                <a:lnTo>
                  <a:pt x="37558" y="21600"/>
                </a:lnTo>
                <a:lnTo>
                  <a:pt x="36158" y="20200"/>
                </a:lnTo>
                <a:lnTo>
                  <a:pt x="36158" y="1400"/>
                </a:lnTo>
                <a:close/>
              </a:path>
              <a:path fill="darkenLess" w="37558" h="21600">
                <a:moveTo>
                  <a:pt x="3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58" y="20200"/>
                </a:lnTo>
                <a:close/>
              </a:path>
              <a:path fill="lighten" w="3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58" h="21600">
                <a:moveTo>
                  <a:pt x="18779" y="3837"/>
                </a:moveTo>
                <a:lnTo>
                  <a:pt x="21355" y="6448"/>
                </a:lnTo>
                <a:lnTo>
                  <a:pt x="21355" y="4707"/>
                </a:lnTo>
                <a:lnTo>
                  <a:pt x="23131" y="4707"/>
                </a:lnTo>
                <a:lnTo>
                  <a:pt x="23131" y="8224"/>
                </a:lnTo>
                <a:lnTo>
                  <a:pt x="25742" y="10800"/>
                </a:lnTo>
                <a:lnTo>
                  <a:pt x="24088" y="10800"/>
                </a:lnTo>
                <a:lnTo>
                  <a:pt x="24088" y="17989"/>
                </a:lnTo>
                <a:lnTo>
                  <a:pt x="13470" y="17989"/>
                </a:lnTo>
                <a:lnTo>
                  <a:pt x="13470" y="10800"/>
                </a:lnTo>
                <a:lnTo>
                  <a:pt x="11816" y="10800"/>
                </a:lnTo>
                <a:close/>
              </a:path>
              <a:path fill="darkenLess" w="37558" h="21600">
                <a:moveTo>
                  <a:pt x="21355" y="6448"/>
                </a:moveTo>
                <a:lnTo>
                  <a:pt x="21355" y="4707"/>
                </a:lnTo>
                <a:lnTo>
                  <a:pt x="23131" y="4707"/>
                </a:lnTo>
                <a:lnTo>
                  <a:pt x="23131" y="8224"/>
                </a:lnTo>
                <a:close/>
              </a:path>
              <a:path fill="darkenLess" w="37558" h="21600">
                <a:moveTo>
                  <a:pt x="17857" y="14299"/>
                </a:moveTo>
                <a:lnTo>
                  <a:pt x="19702" y="14299"/>
                </a:lnTo>
                <a:lnTo>
                  <a:pt x="19702" y="17989"/>
                </a:lnTo>
                <a:lnTo>
                  <a:pt x="24088" y="17989"/>
                </a:lnTo>
                <a:lnTo>
                  <a:pt x="24088" y="10800"/>
                </a:lnTo>
                <a:lnTo>
                  <a:pt x="13470" y="10800"/>
                </a:lnTo>
                <a:lnTo>
                  <a:pt x="13470" y="17989"/>
                </a:lnTo>
                <a:lnTo>
                  <a:pt x="1785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10800"/>
                </a:moveTo>
                <a:lnTo>
                  <a:pt x="25866" y="3794"/>
                </a:lnTo>
                <a:lnTo>
                  <a:pt x="258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2">
            <a:hlinkClick r:id="" action="ppaction://hlinkshowjump?jump=nextslide"/>
          </p:cNvPr>
          <p:cNvSpPr/>
          <p:nvPr/>
        </p:nvSpPr>
        <p:spPr>
          <a:xfrm>
            <a:off x="730872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3794"/>
                </a:moveTo>
                <a:lnTo>
                  <a:pt x="25866" y="10800"/>
                </a:lnTo>
                <a:lnTo>
                  <a:pt x="118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4d83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835280" y="404640"/>
            <a:ext cx="5986440" cy="8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История открытия хлора(Cl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3" descr="sheele"/>
          <p:cNvPicPr/>
          <p:nvPr/>
        </p:nvPicPr>
        <p:blipFill>
          <a:blip r:embed="rId1"/>
          <a:stretch/>
        </p:blipFill>
        <p:spPr>
          <a:xfrm>
            <a:off x="539640" y="1341360"/>
            <a:ext cx="205740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Rectangle 4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9280" y="1700280"/>
            <a:ext cx="21603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Ше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03640" y="2421000"/>
            <a:ext cx="5688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ведский химик Шееле так описывал один свой опыт, выполненный в 1774 г.: «Я поместил смесь черной магнезии с муриевой кислотой в реторту, к горлышку которой присоединил пузырь, лишенной воздуха, и поставил ее на песчаную баню. Пузырь наполнился газом, окрасившим его в желтый цвет…Газ имел желто- зеленый цвет, пронзительный запах.» Газ, полученный Шееле- хло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Шееле оказался первооткрывателем химического элемента хл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1258920" y="3716280"/>
          <a:ext cx="1689120" cy="22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716280"/>
                    <a:ext cx="1689120" cy="2238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7" name="Text Box 8"/>
          <p:cNvSpPr/>
          <p:nvPr/>
        </p:nvSpPr>
        <p:spPr>
          <a:xfrm>
            <a:off x="7451640" y="83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076720" y="5300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>
            <a:hlinkClick r:id="rId4" action="ppaction://hlinksldjump"/>
          </p:cNvPr>
          <p:cNvSpPr/>
          <p:nvPr/>
        </p:nvSpPr>
        <p:spPr>
          <a:xfrm>
            <a:off x="8317080" y="609300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5144" y="3837"/>
                </a:moveTo>
                <a:lnTo>
                  <a:pt x="17720" y="6448"/>
                </a:lnTo>
                <a:lnTo>
                  <a:pt x="17720" y="4707"/>
                </a:lnTo>
                <a:lnTo>
                  <a:pt x="19496" y="4707"/>
                </a:lnTo>
                <a:lnTo>
                  <a:pt x="19496" y="8224"/>
                </a:lnTo>
                <a:lnTo>
                  <a:pt x="22107" y="10800"/>
                </a:lnTo>
                <a:lnTo>
                  <a:pt x="20453" y="10800"/>
                </a:lnTo>
                <a:lnTo>
                  <a:pt x="20453" y="17989"/>
                </a:lnTo>
                <a:lnTo>
                  <a:pt x="9835" y="17989"/>
                </a:lnTo>
                <a:lnTo>
                  <a:pt x="9835" y="10800"/>
                </a:lnTo>
                <a:lnTo>
                  <a:pt x="8181" y="10800"/>
                </a:lnTo>
                <a:close/>
              </a:path>
              <a:path fill="darkenLess" w="30288" h="21600">
                <a:moveTo>
                  <a:pt x="17720" y="6448"/>
                </a:moveTo>
                <a:lnTo>
                  <a:pt x="17720" y="4707"/>
                </a:lnTo>
                <a:lnTo>
                  <a:pt x="19496" y="4707"/>
                </a:lnTo>
                <a:lnTo>
                  <a:pt x="19496" y="8224"/>
                </a:lnTo>
                <a:close/>
              </a:path>
              <a:path fill="darkenLess" w="30288" h="21600">
                <a:moveTo>
                  <a:pt x="14221" y="14299"/>
                </a:moveTo>
                <a:lnTo>
                  <a:pt x="16066" y="14299"/>
                </a:lnTo>
                <a:lnTo>
                  <a:pt x="16066" y="17989"/>
                </a:lnTo>
                <a:lnTo>
                  <a:pt x="20453" y="17989"/>
                </a:lnTo>
                <a:lnTo>
                  <a:pt x="20453" y="10800"/>
                </a:lnTo>
                <a:lnTo>
                  <a:pt x="9835" y="10800"/>
                </a:lnTo>
                <a:lnTo>
                  <a:pt x="9835" y="17989"/>
                </a:lnTo>
                <a:lnTo>
                  <a:pt x="142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c4d83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95640" y="126828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ая  магнезия- минерал пиролюз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химическое название которого-диокс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га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140360" y="2421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уриевая кислота» - хлороводородная кисло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419640" y="177336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348000" y="278136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пиролюзит"/>
          <p:cNvPicPr/>
          <p:nvPr/>
        </p:nvPicPr>
        <p:blipFill>
          <a:blip r:embed="rId1"/>
          <a:stretch/>
        </p:blipFill>
        <p:spPr>
          <a:xfrm>
            <a:off x="468360" y="476280"/>
            <a:ext cx="223200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Text Box 12"/>
          <p:cNvSpPr/>
          <p:nvPr/>
        </p:nvSpPr>
        <p:spPr>
          <a:xfrm>
            <a:off x="468360" y="2852640"/>
            <a:ext cx="10080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879640" y="3213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акция о которой сообщил Шееле, записывают сейчас так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HCl= C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637236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916360" y="400536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енный газ Шееле назвал «дефлогистированнай муриевой кислотой». Только в 1812 г. Французский химик Гей-Люссак дал этому газу современное название- хлор, что в переводе с греческого означает желто- зе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gay-lussac_joseph"/>
          <p:cNvPicPr/>
          <p:nvPr/>
        </p:nvPicPr>
        <p:blipFill>
          <a:blip r:embed="rId2"/>
          <a:stretch/>
        </p:blipFill>
        <p:spPr>
          <a:xfrm>
            <a:off x="539640" y="3645000"/>
            <a:ext cx="1798920" cy="2697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Text Box 21"/>
          <p:cNvSpPr/>
          <p:nvPr/>
        </p:nvSpPr>
        <p:spPr>
          <a:xfrm>
            <a:off x="2627280" y="5950080"/>
            <a:ext cx="26654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 - Люсс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>
            <a:hlinkClick r:id="rId3" action="ppaction://hlinksldjump"/>
          </p:cNvPr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7256" y="3837"/>
                </a:moveTo>
                <a:lnTo>
                  <a:pt x="19833" y="6448"/>
                </a:ln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lnTo>
                  <a:pt x="24219" y="10800"/>
                </a:lnTo>
                <a:lnTo>
                  <a:pt x="22566" y="10800"/>
                </a:lnTo>
                <a:lnTo>
                  <a:pt x="22566" y="17989"/>
                </a:lnTo>
                <a:lnTo>
                  <a:pt x="11947" y="17989"/>
                </a:lnTo>
                <a:lnTo>
                  <a:pt x="11947" y="10800"/>
                </a:lnTo>
                <a:lnTo>
                  <a:pt x="10293" y="10800"/>
                </a:lnTo>
                <a:close/>
              </a:path>
              <a:path fill="darkenLess" w="34513" h="21600">
                <a:moveTo>
                  <a:pt x="19833" y="6448"/>
                </a:move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close/>
              </a:path>
              <a:path fill="darkenLess" w="34513" h="21600">
                <a:moveTo>
                  <a:pt x="16334" y="14299"/>
                </a:moveTo>
                <a:lnTo>
                  <a:pt x="18179" y="14299"/>
                </a:lnTo>
                <a:lnTo>
                  <a:pt x="18179" y="17989"/>
                </a:lnTo>
                <a:lnTo>
                  <a:pt x="22566" y="17989"/>
                </a:lnTo>
                <a:lnTo>
                  <a:pt x="22566" y="10800"/>
                </a:lnTo>
                <a:lnTo>
                  <a:pt x="11947" y="10800"/>
                </a:lnTo>
                <a:lnTo>
                  <a:pt x="11947" y="17989"/>
                </a:lnTo>
                <a:lnTo>
                  <a:pt x="1633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>
            <a:hlinkClick r:id="" action="ppaction://hlinkshowjump?jump=previousslide"/>
          </p:cNvPr>
          <p:cNvSpPr/>
          <p:nvPr/>
        </p:nvSpPr>
        <p:spPr>
          <a:xfrm>
            <a:off x="709308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>
            <a:hlinkClick r:id="" action="ppaction://hlinkshowjump?jump=nextslide"/>
          </p:cNvPr>
          <p:cNvSpPr/>
          <p:nvPr/>
        </p:nvSpPr>
        <p:spPr>
          <a:xfrm>
            <a:off x="7740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>
            <a:hlinkClick r:id="rId4" action="ppaction://hlinksldjump"/>
          </p:cNvPr>
          <p:cNvSpPr/>
          <p:nvPr/>
        </p:nvSpPr>
        <p:spPr>
          <a:xfrm>
            <a:off x="6516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4d83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24000" y="260280"/>
            <a:ext cx="856908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3492360" y="765000"/>
            <a:ext cx="5040360" cy="99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рачная стра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ии хл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7" descr="0_73b1_f9b61b4c_L"/>
          <p:cNvPicPr/>
          <p:nvPr/>
        </p:nvPicPr>
        <p:blipFill>
          <a:blip r:embed="rId1"/>
          <a:stretch/>
        </p:blipFill>
        <p:spPr>
          <a:xfrm>
            <a:off x="539640" y="620640"/>
            <a:ext cx="2430720" cy="25527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1" name="Text Box 11"/>
          <p:cNvSpPr/>
          <p:nvPr/>
        </p:nvSpPr>
        <p:spPr>
          <a:xfrm>
            <a:off x="3276720" y="2133720"/>
            <a:ext cx="20160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жидании газовой ат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56000" y="2852640"/>
            <a:ext cx="439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немецкими войсками в первую мировую войну хлора в качестве отравляющего вещества было неожиданным. На ипрском участке фронта были одновременно открыты 6 тыс.  баллонов  хлора. В результате пятиминутной химической атаки было пражено15 тыс. человек,5 тыс.-  сразу остались лежать на поле б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post-1185701099"/>
          <p:cNvPicPr/>
          <p:nvPr/>
        </p:nvPicPr>
        <p:blipFill>
          <a:blip r:embed="rId2"/>
          <a:stretch/>
        </p:blipFill>
        <p:spPr>
          <a:xfrm>
            <a:off x="826920" y="2997360"/>
            <a:ext cx="3311640" cy="20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Text Box 19"/>
          <p:cNvSpPr/>
          <p:nvPr/>
        </p:nvSpPr>
        <p:spPr>
          <a:xfrm>
            <a:off x="684360" y="5373720"/>
            <a:ext cx="309708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пашный бой во время газовой ат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0">
            <a:hlinkClick r:id="rId3" action="ppaction://hlinksldjump"/>
          </p:cNvPr>
          <p:cNvSpPr/>
          <p:nvPr/>
        </p:nvSpPr>
        <p:spPr>
          <a:xfrm>
            <a:off x="824400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9444" y="3837"/>
                </a:moveTo>
                <a:lnTo>
                  <a:pt x="22021" y="6448"/>
                </a:lnTo>
                <a:lnTo>
                  <a:pt x="22021" y="4707"/>
                </a:lnTo>
                <a:lnTo>
                  <a:pt x="23796" y="4707"/>
                </a:lnTo>
                <a:lnTo>
                  <a:pt x="23796" y="8224"/>
                </a:lnTo>
                <a:lnTo>
                  <a:pt x="26407" y="10800"/>
                </a:lnTo>
                <a:lnTo>
                  <a:pt x="24754" y="10800"/>
                </a:lnTo>
                <a:lnTo>
                  <a:pt x="24754" y="17989"/>
                </a:lnTo>
                <a:lnTo>
                  <a:pt x="14135" y="17989"/>
                </a:lnTo>
                <a:lnTo>
                  <a:pt x="14135" y="10800"/>
                </a:lnTo>
                <a:lnTo>
                  <a:pt x="12481" y="10800"/>
                </a:lnTo>
                <a:close/>
              </a:path>
              <a:path fill="darkenLess" w="38889" h="21600">
                <a:moveTo>
                  <a:pt x="22021" y="6448"/>
                </a:moveTo>
                <a:lnTo>
                  <a:pt x="22021" y="4707"/>
                </a:lnTo>
                <a:lnTo>
                  <a:pt x="23796" y="4707"/>
                </a:lnTo>
                <a:lnTo>
                  <a:pt x="23796" y="8224"/>
                </a:lnTo>
                <a:close/>
              </a:path>
              <a:path fill="darkenLess" w="38889" h="21600">
                <a:moveTo>
                  <a:pt x="18522" y="14299"/>
                </a:moveTo>
                <a:lnTo>
                  <a:pt x="20367" y="14299"/>
                </a:lnTo>
                <a:lnTo>
                  <a:pt x="20367" y="17989"/>
                </a:lnTo>
                <a:lnTo>
                  <a:pt x="24754" y="17989"/>
                </a:lnTo>
                <a:lnTo>
                  <a:pt x="24754" y="10800"/>
                </a:lnTo>
                <a:lnTo>
                  <a:pt x="14135" y="10800"/>
                </a:lnTo>
                <a:lnTo>
                  <a:pt x="14135" y="17989"/>
                </a:lnTo>
                <a:lnTo>
                  <a:pt x="185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3">
            <a:hlinkClick r:id="rId4" action="ppaction://hlinksldjump"/>
          </p:cNvPr>
          <p:cNvSpPr/>
          <p:nvPr/>
        </p:nvSpPr>
        <p:spPr>
          <a:xfrm>
            <a:off x="658800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5ca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2124000" y="476280"/>
            <a:ext cx="5616720" cy="86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иода(I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Picture 9" descr="Courtois"/>
          <p:cNvPicPr/>
          <p:nvPr/>
        </p:nvPicPr>
        <p:blipFill>
          <a:blip r:embed="rId1"/>
          <a:stretch/>
        </p:blipFill>
        <p:spPr>
          <a:xfrm>
            <a:off x="755640" y="1484280"/>
            <a:ext cx="1903320" cy="23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2" name="Text Box 8"/>
          <p:cNvSpPr/>
          <p:nvPr/>
        </p:nvSpPr>
        <p:spPr>
          <a:xfrm>
            <a:off x="7380360" y="9079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987640" y="1916280"/>
            <a:ext cx="21589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нар Курту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2"/>
          <p:cNvGraphicFramePr/>
          <p:nvPr/>
        </p:nvGraphicFramePr>
        <p:xfrm>
          <a:off x="539640" y="3716280"/>
          <a:ext cx="149544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716280"/>
                    <a:ext cx="1495440" cy="19018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6" name="Text Box 14"/>
          <p:cNvSpPr/>
          <p:nvPr/>
        </p:nvSpPr>
        <p:spPr>
          <a:xfrm>
            <a:off x="2771640" y="2781360"/>
            <a:ext cx="590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лат. iodum от др.-греч. ἰοειδής , iodes — фиолетовый)был открыт в 1811 г. Французским химиком- технологом Бернаром Куртуа. В работа над производством селитры он давно уже заметил, что в продуктах, получаемых из золы морских водорослей, находится какое-то вещество, действующее разъедающе на железные и медные сосуды. Но ни сам Куртуа, ни его помощники не знали, как выделить это вещество из золы водоросле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корению открытия помог случ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>
            <a:hlinkClick r:id="rId4" action="ppaction://hlinksldjump"/>
          </p:cNvPr>
          <p:cNvSpPr/>
          <p:nvPr/>
        </p:nvSpPr>
        <p:spPr>
          <a:xfrm>
            <a:off x="802800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21589" y="3837"/>
                </a:moveTo>
                <a:lnTo>
                  <a:pt x="24166" y="6448"/>
                </a:lnTo>
                <a:lnTo>
                  <a:pt x="24166" y="4707"/>
                </a:lnTo>
                <a:lnTo>
                  <a:pt x="25941" y="4707"/>
                </a:lnTo>
                <a:lnTo>
                  <a:pt x="25941" y="8224"/>
                </a:lnTo>
                <a:lnTo>
                  <a:pt x="28552" y="10800"/>
                </a:lnTo>
                <a:lnTo>
                  <a:pt x="26898" y="10800"/>
                </a:lnTo>
                <a:lnTo>
                  <a:pt x="26898" y="17989"/>
                </a:lnTo>
                <a:lnTo>
                  <a:pt x="16280" y="17989"/>
                </a:lnTo>
                <a:lnTo>
                  <a:pt x="16280" y="10800"/>
                </a:lnTo>
                <a:lnTo>
                  <a:pt x="14626" y="10800"/>
                </a:lnTo>
                <a:close/>
              </a:path>
              <a:path fill="darkenLess" w="43178" h="21600">
                <a:moveTo>
                  <a:pt x="24166" y="6448"/>
                </a:moveTo>
                <a:lnTo>
                  <a:pt x="24166" y="4707"/>
                </a:lnTo>
                <a:lnTo>
                  <a:pt x="25941" y="4707"/>
                </a:lnTo>
                <a:lnTo>
                  <a:pt x="25941" y="8224"/>
                </a:lnTo>
                <a:close/>
              </a:path>
              <a:path fill="darkenLess" w="43178" h="21600">
                <a:moveTo>
                  <a:pt x="20667" y="14299"/>
                </a:moveTo>
                <a:lnTo>
                  <a:pt x="22512" y="14299"/>
                </a:lnTo>
                <a:lnTo>
                  <a:pt x="22512" y="17989"/>
                </a:lnTo>
                <a:lnTo>
                  <a:pt x="26898" y="17989"/>
                </a:lnTo>
                <a:lnTo>
                  <a:pt x="26898" y="10800"/>
                </a:lnTo>
                <a:lnTo>
                  <a:pt x="16280" y="10800"/>
                </a:lnTo>
                <a:lnTo>
                  <a:pt x="16280" y="17989"/>
                </a:lnTo>
                <a:lnTo>
                  <a:pt x="206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>
            <a:hlinkClick r:id="" action="ppaction://hlinkshowjump?jump=nextslide"/>
          </p:cNvPr>
          <p:cNvSpPr/>
          <p:nvPr/>
        </p:nvSpPr>
        <p:spPr>
          <a:xfrm>
            <a:off x="7308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5ca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539640" y="692280"/>
          <a:ext cx="316728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3167280" cy="1973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3" name="Text Box 7"/>
          <p:cNvSpPr/>
          <p:nvPr/>
        </p:nvSpPr>
        <p:spPr>
          <a:xfrm>
            <a:off x="3851280" y="191628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ссказах того времени утверждалось, что на заводе, где вырабатывалась селитра, рабочие как-то погнались за кошкой. Убегая от преследователей, кошка случайно опрокинула сосуд с серной кислотой на остатки солей от выработки селитры, и тогда вдруг из образовавшейся смеси выделились густые фиолет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ы, которые оседали на окружающих предметах в виде мельчайших черно-фиолетовых кристалликов с металлическим блеском едким запахом. Это был й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01"/>
          <p:cNvPicPr/>
          <p:nvPr/>
        </p:nvPicPr>
        <p:blipFill>
          <a:blip r:embed="rId3"/>
          <a:stretch/>
        </p:blipFill>
        <p:spPr>
          <a:xfrm>
            <a:off x="755640" y="3357720"/>
            <a:ext cx="2736720" cy="205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Text Box 12"/>
          <p:cNvSpPr/>
          <p:nvPr/>
        </p:nvSpPr>
        <p:spPr>
          <a:xfrm>
            <a:off x="755640" y="5661000"/>
            <a:ext cx="2160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сталлы й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>
            <a:hlinkClick r:id="rId4" action="ppaction://hlinksldjump"/>
          </p:cNvPr>
          <p:cNvSpPr/>
          <p:nvPr/>
        </p:nvSpPr>
        <p:spPr>
          <a:xfrm>
            <a:off x="802800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23818" y="3837"/>
                </a:moveTo>
                <a:lnTo>
                  <a:pt x="26395" y="6448"/>
                </a:lnTo>
                <a:lnTo>
                  <a:pt x="26395" y="4707"/>
                </a:lnTo>
                <a:lnTo>
                  <a:pt x="28170" y="4707"/>
                </a:lnTo>
                <a:lnTo>
                  <a:pt x="28170" y="8224"/>
                </a:lnTo>
                <a:lnTo>
                  <a:pt x="30781" y="10800"/>
                </a:lnTo>
                <a:lnTo>
                  <a:pt x="29128" y="10800"/>
                </a:lnTo>
                <a:lnTo>
                  <a:pt x="29128" y="17989"/>
                </a:lnTo>
                <a:lnTo>
                  <a:pt x="18509" y="17989"/>
                </a:lnTo>
                <a:lnTo>
                  <a:pt x="18509" y="10800"/>
                </a:lnTo>
                <a:lnTo>
                  <a:pt x="16855" y="10800"/>
                </a:lnTo>
                <a:close/>
              </a:path>
              <a:path fill="darkenLess" w="47637" h="21600">
                <a:moveTo>
                  <a:pt x="26395" y="6448"/>
                </a:moveTo>
                <a:lnTo>
                  <a:pt x="26395" y="4707"/>
                </a:lnTo>
                <a:lnTo>
                  <a:pt x="28170" y="4707"/>
                </a:lnTo>
                <a:lnTo>
                  <a:pt x="28170" y="8224"/>
                </a:lnTo>
                <a:close/>
              </a:path>
              <a:path fill="darkenLess" w="47637" h="21600">
                <a:moveTo>
                  <a:pt x="22896" y="14299"/>
                </a:moveTo>
                <a:lnTo>
                  <a:pt x="24741" y="14299"/>
                </a:lnTo>
                <a:lnTo>
                  <a:pt x="24741" y="17989"/>
                </a:lnTo>
                <a:lnTo>
                  <a:pt x="29128" y="17989"/>
                </a:lnTo>
                <a:lnTo>
                  <a:pt x="29128" y="10800"/>
                </a:lnTo>
                <a:lnTo>
                  <a:pt x="18509" y="10800"/>
                </a:lnTo>
                <a:lnTo>
                  <a:pt x="18509" y="17989"/>
                </a:lnTo>
                <a:lnTo>
                  <a:pt x="2289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>
            <a:hlinkClick r:id="" action="ppaction://hlinkshowjump?jump=nextslide"/>
          </p:cNvPr>
          <p:cNvSpPr/>
          <p:nvPr/>
        </p:nvSpPr>
        <p:spPr>
          <a:xfrm>
            <a:off x="7451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24343" y="10800"/>
                </a:lnTo>
                <a:lnTo>
                  <a:pt x="10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>
            <a:hlinkClick r:id="rId5" action="ppaction://hlinksldjump"/>
          </p:cNvPr>
          <p:cNvSpPr/>
          <p:nvPr/>
        </p:nvSpPr>
        <p:spPr>
          <a:xfrm>
            <a:off x="6300720" y="616572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5ca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71640" y="1773360"/>
            <a:ext cx="77040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колько правдоподобен этот рассказ в свете современных химических знаний? Действительно, серная кислота, действуя на йодистые соли щелочных металлов (KI, NI), выделяет йодистый водород (HI). Как вещество непрочное, он в присутствии серной кислоты разлагается с выделением свободного й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S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I = 2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+ S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10B5"/>
          <p:cNvPicPr/>
          <p:nvPr/>
        </p:nvPicPr>
        <p:blipFill>
          <a:blip r:embed="rId1"/>
          <a:stretch/>
        </p:blipFill>
        <p:spPr>
          <a:xfrm>
            <a:off x="826920" y="436572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>
            <a:hlinkClick r:id="rId2" action="ppaction://hlinksldjump"/>
          </p:cNvPr>
          <p:cNvSpPr/>
          <p:nvPr/>
        </p:nvSpPr>
        <p:spPr>
          <a:xfrm>
            <a:off x="810108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9479" y="3837"/>
                </a:moveTo>
                <a:lnTo>
                  <a:pt x="22055" y="6448"/>
                </a:lnTo>
                <a:lnTo>
                  <a:pt x="22055" y="4707"/>
                </a:lnTo>
                <a:lnTo>
                  <a:pt x="23831" y="4707"/>
                </a:lnTo>
                <a:lnTo>
                  <a:pt x="23831" y="8224"/>
                </a:lnTo>
                <a:lnTo>
                  <a:pt x="26442" y="10800"/>
                </a:lnTo>
                <a:lnTo>
                  <a:pt x="24788" y="10800"/>
                </a:lnTo>
                <a:lnTo>
                  <a:pt x="24788" y="17989"/>
                </a:lnTo>
                <a:lnTo>
                  <a:pt x="14170" y="17989"/>
                </a:lnTo>
                <a:lnTo>
                  <a:pt x="14170" y="10800"/>
                </a:lnTo>
                <a:lnTo>
                  <a:pt x="12516" y="10800"/>
                </a:lnTo>
                <a:close/>
              </a:path>
              <a:path fill="darkenLess" w="38958" h="21600">
                <a:moveTo>
                  <a:pt x="22055" y="6448"/>
                </a:moveTo>
                <a:lnTo>
                  <a:pt x="22055" y="4707"/>
                </a:lnTo>
                <a:lnTo>
                  <a:pt x="23831" y="4707"/>
                </a:lnTo>
                <a:lnTo>
                  <a:pt x="23831" y="8224"/>
                </a:lnTo>
                <a:close/>
              </a:path>
              <a:path fill="darkenLess" w="38958" h="21600">
                <a:moveTo>
                  <a:pt x="18556" y="14299"/>
                </a:moveTo>
                <a:lnTo>
                  <a:pt x="20402" y="14299"/>
                </a:lnTo>
                <a:lnTo>
                  <a:pt x="20402" y="17989"/>
                </a:lnTo>
                <a:lnTo>
                  <a:pt x="24788" y="17989"/>
                </a:lnTo>
                <a:lnTo>
                  <a:pt x="24788" y="10800"/>
                </a:lnTo>
                <a:lnTo>
                  <a:pt x="14170" y="10800"/>
                </a:lnTo>
                <a:lnTo>
                  <a:pt x="14170" y="17989"/>
                </a:lnTo>
                <a:lnTo>
                  <a:pt x="1855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" action="ppaction://hlinkshowjump?jump=nextslide"/>
          </p:cNvPr>
          <p:cNvSpPr/>
          <p:nvPr/>
        </p:nvSpPr>
        <p:spPr>
          <a:xfrm>
            <a:off x="7451640" y="6165720"/>
            <a:ext cx="649440" cy="35892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9066" h="21600">
                <a:moveTo>
                  <a:pt x="0" y="0"/>
                </a:moveTo>
                <a:lnTo>
                  <a:pt x="39066" y="0"/>
                </a:lnTo>
                <a:lnTo>
                  <a:pt x="39066" y="21600"/>
                </a:lnTo>
                <a:lnTo>
                  <a:pt x="0" y="21600"/>
                </a:lnTo>
                <a:close/>
              </a:path>
              <a:path fill="lightenLess" w="39066" h="21600">
                <a:moveTo>
                  <a:pt x="0" y="0"/>
                </a:moveTo>
                <a:lnTo>
                  <a:pt x="39066" y="0"/>
                </a:lnTo>
                <a:lnTo>
                  <a:pt x="37666" y="1400"/>
                </a:lnTo>
                <a:lnTo>
                  <a:pt x="1400" y="1400"/>
                </a:lnTo>
                <a:close/>
              </a:path>
              <a:path fill="darken" w="39066" h="21600">
                <a:moveTo>
                  <a:pt x="39066" y="0"/>
                </a:moveTo>
                <a:lnTo>
                  <a:pt x="39066" y="21600"/>
                </a:lnTo>
                <a:lnTo>
                  <a:pt x="37666" y="20200"/>
                </a:lnTo>
                <a:lnTo>
                  <a:pt x="37666" y="1400"/>
                </a:lnTo>
                <a:close/>
              </a:path>
              <a:path fill="darkenLess" w="39066" h="21600">
                <a:moveTo>
                  <a:pt x="39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66" y="20200"/>
                </a:lnTo>
                <a:close/>
              </a:path>
              <a:path fill="lighten" w="39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66" h="21600">
                <a:moveTo>
                  <a:pt x="12527" y="3794"/>
                </a:moveTo>
                <a:lnTo>
                  <a:pt x="26540" y="10800"/>
                </a:lnTo>
                <a:lnTo>
                  <a:pt x="125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>
            <a:hlinkClick r:id="rId3" action="ppaction://hlinksldjump"/>
          </p:cNvPr>
          <p:cNvSpPr/>
          <p:nvPr/>
        </p:nvSpPr>
        <p:spPr>
          <a:xfrm>
            <a:off x="6227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9:56:47Z</dcterms:created>
  <dc:creator>Алла</dc:creator>
  <dc:description/>
  <dc:language>en-US</dc:language>
  <cp:lastModifiedBy>Татьяна</cp:lastModifiedBy>
  <dcterms:modified xsi:type="dcterms:W3CDTF">2012-01-16T11:09:32Z</dcterms:modified>
  <cp:revision>41</cp:revision>
  <dc:subject/>
  <dc:title>Слайд 1</dc:title>
</cp:coreProperties>
</file>