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B8D56-D30C-48CB-BE31-BABE3AA50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88E77-6916-423B-87DD-568D95635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2AEEC-A8F6-4D6D-955A-F9993A096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FE998-4E31-426D-86A5-FEBB688BE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3B058-5D5F-41C4-971F-0BCEC2C90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06682-1858-431D-83F5-EB7C90AF1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D1349-E52C-46F9-948C-C0277E5E6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D3DD9-0A43-45A8-B864-DEA33FDA2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C6F5B-911A-4FE2-ACD4-076AB4364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FC2C6-1334-4809-9877-F41BAFA2E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DBBD2-B2A4-4566-9A2B-1FE07878E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9D212-EE2B-4436-8199-F851196F3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D3E15-B484-4EDC-8849-958C78EC4ED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8;&#1084;&#1087;&#1088;&#1086;&#1074;&#1080;&#1079;&#1072;&#1094;&#1080;&#1103;" TargetMode="External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К 70 летию ПОБЕДЫ Советского народа в Великой Отечественной войне </a:t>
            </a:r>
            <a:br>
              <a:rPr sz="2800"/>
            </a:b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        </a:t>
            </a:r>
            <a:br>
              <a:rPr sz="4400"/>
            </a:b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Урок МУЖЕСТВА для 9 кадетского класса на тему:</a:t>
            </a:r>
            <a:br>
              <a:rPr sz="2800"/>
            </a:br>
            <a:br>
              <a:rPr sz="2800"/>
            </a:b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«</a:t>
            </a:r>
            <a:r>
              <a:rPr b="1" lang="ru-RU" sz="4400" spc="-1" strike="noStrike" u="sng">
                <a:solidFill>
                  <a:srgbClr val="ff0000"/>
                </a:solidFill>
                <a:uFillTx/>
                <a:latin typeface="Arial"/>
              </a:rPr>
              <a:t>Знамя Победы</a:t>
            </a: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560" y="6324840"/>
            <a:ext cx="3962520" cy="3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Выполнил: Гладченко Макси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0" y="0"/>
            <a:ext cx="8763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намя – символ объединения. Знамя считается символом воинской чести. Поднять знамя означает объявить готовность к бою, опустить – признать поражение. Водружение знамени на главном здании столицы Германии означало полную и окончательную Победу над гитлеровским фашизмо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5" descr="i?id=146163480-60-72&amp;n=21"/>
          <p:cNvPicPr/>
          <p:nvPr/>
        </p:nvPicPr>
        <p:blipFill>
          <a:blip r:embed="rId1"/>
          <a:stretch/>
        </p:blipFill>
        <p:spPr>
          <a:xfrm>
            <a:off x="5257800" y="3943440"/>
            <a:ext cx="3886200" cy="29145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70" name="Picture 8" descr="i?id=411406832-45-72&amp;n=21"/>
          <p:cNvPicPr/>
          <p:nvPr/>
        </p:nvPicPr>
        <p:blipFill>
          <a:blip r:embed="rId2"/>
          <a:stretch/>
        </p:blipFill>
        <p:spPr>
          <a:xfrm>
            <a:off x="685800" y="4114800"/>
            <a:ext cx="4114800" cy="2529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228240" y="30492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 внешнему виду Знамя Победы — это изготовленный в военно-полевых условиях 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импровизированны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Государственный флаг СССР, представляющий собой прикреплённое к древку однослойное прямоугольное красное полотнище размером 82 см на 188 см, на лицевой стороне которого вверху у древка изображены серебряные пятиконечная звезда, серп и молот, на остальной части полотнища добавлена надпись белыми буквами в четыре строки: 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«150 стр. ордена Кутузова II ст. идрицк. див. 79 C.К. 3 У. А. 1 Б. Ф.»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(150-я стрелковая ордена Кутузова II степени идрицкая дивизия 79-го стрелкового корпуса 3-й ударной армии 1-го Белорусского фронта), на обратной стороне полотнища в нижнем углу у древка — надпись 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«№ 5»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3" descr="Soviet Znamya Pobedy.svg"/>
          <p:cNvPicPr/>
          <p:nvPr/>
        </p:nvPicPr>
        <p:blipFill>
          <a:blip r:embed="rId2"/>
          <a:stretch/>
        </p:blipFill>
        <p:spPr>
          <a:xfrm>
            <a:off x="1752480" y="3809880"/>
            <a:ext cx="5658120" cy="28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228600" y="22860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4 июня 1945 г. в Москве торжественным маршем по Красной площади было пронесено Знамя Победы, и герои Советского Союза несли знамена прославленных частей и соединений. Затем под барабанный стук колонна солдат, несшая 200 опущенных знамен немецких войск, бросила их к подножию Кремля в знак сокрушительного поражения агрессо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i?id=110421460-71-72&amp;n=21"/>
          <p:cNvPicPr/>
          <p:nvPr/>
        </p:nvPicPr>
        <p:blipFill>
          <a:blip r:embed="rId1"/>
          <a:stretch/>
        </p:blipFill>
        <p:spPr>
          <a:xfrm>
            <a:off x="380880" y="2819520"/>
            <a:ext cx="4810320" cy="26431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75" name="Picture 7" descr="i?id=754304140-57-72&amp;n=21"/>
          <p:cNvPicPr/>
          <p:nvPr/>
        </p:nvPicPr>
        <p:blipFill>
          <a:blip r:embed="rId2"/>
          <a:stretch/>
        </p:blipFill>
        <p:spPr>
          <a:xfrm>
            <a:off x="5486400" y="2590920"/>
            <a:ext cx="3657600" cy="284292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8"/>
          <p:cNvSpPr/>
          <p:nvPr/>
        </p:nvSpPr>
        <p:spPr>
          <a:xfrm>
            <a:off x="304920" y="6216120"/>
            <a:ext cx="883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капитан К.Я. Самсонов, младший сержант М.В. Кантария, сержант М.А. Егоров, старший сержант М.Я. Соянов, капитан С.А. Неустрое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9"/>
          <p:cNvSpPr/>
          <p:nvPr/>
        </p:nvSpPr>
        <p:spPr>
          <a:xfrm>
            <a:off x="228600" y="5562000"/>
            <a:ext cx="873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астники штурма Рейхстага, провожавшие флаг в Москву с берлинского аэродрома Темпельгоф 20 июня 1945 года (слева направо)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00"/>
                </a:solidFill>
                <a:latin typeface="Arial"/>
              </a:rPr>
              <a:t>Парад Побед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5" descr="i?id=629727965-19-72&amp;n=21"/>
          <p:cNvPicPr/>
          <p:nvPr/>
        </p:nvPicPr>
        <p:blipFill>
          <a:blip r:embed="rId1"/>
          <a:stretch/>
        </p:blipFill>
        <p:spPr>
          <a:xfrm>
            <a:off x="228600" y="1676520"/>
            <a:ext cx="4419720" cy="33145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80" name="Picture 7" descr="i?id=177872694-44-72&amp;n=21"/>
          <p:cNvPicPr/>
          <p:nvPr/>
        </p:nvPicPr>
        <p:blipFill>
          <a:blip r:embed="rId2"/>
          <a:stretch/>
        </p:blipFill>
        <p:spPr>
          <a:xfrm>
            <a:off x="5029200" y="1447920"/>
            <a:ext cx="3733920" cy="27194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81" name="Picture 9" descr="i?id=144331508-59-72&amp;n=21"/>
          <p:cNvPicPr/>
          <p:nvPr/>
        </p:nvPicPr>
        <p:blipFill>
          <a:blip r:embed="rId3"/>
          <a:stretch/>
        </p:blipFill>
        <p:spPr>
          <a:xfrm>
            <a:off x="5029200" y="4343400"/>
            <a:ext cx="3657600" cy="22478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2" name="Text Box 10"/>
          <p:cNvSpPr/>
          <p:nvPr/>
        </p:nvSpPr>
        <p:spPr>
          <a:xfrm>
            <a:off x="745560" y="5497560"/>
            <a:ext cx="250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24 июня 1945 г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304560" y="0"/>
            <a:ext cx="883908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Федеральный закон Российской Федерации от 7 мая 2007 г. N 68-ФЗ "О Знамени Победы"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целях увековечения народного подвига в Великой Отечественной войне 1941-1945 годов, в ознаменование заслуг воинов советских Вооруженных Сил перед Отечеством и в знак благодарности потомков победителям фашистских захватчиков настоящим Федеральным законом устанавливаются статус Знамени Победы, правовые основы его хранения и использов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татья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      Знаменем Победы является штурмовой флаг 150-й ордена Кутузова II степени Идрицкой стрелковой дивизии, водруженный 1 мая 1945 года на здании рейхстага в городе Берлин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      Знамя Победы является официальным символом победы советского народа и его Вооруженных Сил над фашистской Германией в Великой Отечественной войне 1941-1945 годов, государственной реликвией Росс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      Знамя Победы находится на вечном хранении в условиях, обеспечивающих его сохранность и доступность для обозр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      Место и порядок хранения Знамени Победы, порядок его транспортировки определяются Президентом Российской Федера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i?id=59503023-41-72&amp;n=21"/>
          <p:cNvPicPr/>
          <p:nvPr/>
        </p:nvPicPr>
        <p:blipFill>
          <a:blip r:embed="rId1"/>
          <a:stretch/>
        </p:blipFill>
        <p:spPr>
          <a:xfrm>
            <a:off x="304920" y="152280"/>
            <a:ext cx="5715000" cy="28576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3" descr="i?id=266218209-08-72&amp;n=21"/>
          <p:cNvPicPr/>
          <p:nvPr/>
        </p:nvPicPr>
        <p:blipFill>
          <a:blip r:embed="rId2"/>
          <a:stretch/>
        </p:blipFill>
        <p:spPr>
          <a:xfrm>
            <a:off x="4610160" y="2286000"/>
            <a:ext cx="4533840" cy="340056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4"/>
          <p:cNvSpPr/>
          <p:nvPr/>
        </p:nvSpPr>
        <p:spPr>
          <a:xfrm>
            <a:off x="304920" y="3200400"/>
            <a:ext cx="41907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 дни государственных праздников Российской Федерации, дни воинской славы (победные дни) России, при проведении воинских ритуалов, а также массовых мероприятий, связанных с боевыми победами российского народа, Знамя Победы используется наряду с Государственным флагом Российской Федераци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5" descr="i?id=373176410-21-72&amp;n=21"/>
          <p:cNvPicPr/>
          <p:nvPr/>
        </p:nvPicPr>
        <p:blipFill>
          <a:blip r:embed="rId1"/>
          <a:stretch/>
        </p:blipFill>
        <p:spPr>
          <a:xfrm>
            <a:off x="1295280" y="380880"/>
            <a:ext cx="6397920" cy="472752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6"/>
          <p:cNvSpPr/>
          <p:nvPr/>
        </p:nvSpPr>
        <p:spPr>
          <a:xfrm>
            <a:off x="228600" y="5424840"/>
            <a:ext cx="81932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настоящее время Знамя Победы является экспонатом в Центральном музее Вооружённых сил. Оно было помещено в этот музей по распоряжению Главного политуправления Советской Армии от 10 июля 1945 год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Цел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казать героические и трагические страницы жизни народов нашей страны на примере государственного символа – Знамени Побед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дачи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спитание чувства гражданского долга;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важения к государственным символам страны, её военной истории; воспитание чувства патриотизм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c0000"/>
                </a:solidFill>
                <a:latin typeface="Arial"/>
              </a:rPr>
              <a:t>Знамя  Побед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3" descr="i?id=393222514-37-72&amp;n=21"/>
          <p:cNvPicPr/>
          <p:nvPr/>
        </p:nvPicPr>
        <p:blipFill>
          <a:blip r:embed="rId1"/>
          <a:stretch/>
        </p:blipFill>
        <p:spPr>
          <a:xfrm>
            <a:off x="304920" y="1752480"/>
            <a:ext cx="6300720" cy="35402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" descr="i?id=38398358-71-72&amp;n=21"/>
          <p:cNvPicPr/>
          <p:nvPr/>
        </p:nvPicPr>
        <p:blipFill>
          <a:blip r:embed="rId2"/>
          <a:stretch/>
        </p:blipFill>
        <p:spPr>
          <a:xfrm rot="20633400">
            <a:off x="5121360" y="4687920"/>
            <a:ext cx="403848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-360" y="228600"/>
            <a:ext cx="89917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апреле 1996 г. был принят президентский указ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«О знамени Победы»,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устанавливающий, что наряду с государственным флагом России в дни государственных праздников, при проведении воинских ритуалов и массовых мероприятий, связанных с боевыми победами российского народа, используется также </a:t>
            </a: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Знамя Победы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водруженное над рейхстагом Берлина в 1945 г. в знак победоносного окончания Великой Отечественной войны. В июне 1945 г. это знамя участвовало в параде Победы на Красной площад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i?id=85351060-64-72&amp;n=21"/>
          <p:cNvPicPr/>
          <p:nvPr/>
        </p:nvPicPr>
        <p:blipFill>
          <a:blip r:embed="rId1"/>
          <a:stretch/>
        </p:blipFill>
        <p:spPr>
          <a:xfrm>
            <a:off x="5486400" y="4114800"/>
            <a:ext cx="3429000" cy="25225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50" name="Picture 7" descr="i?id=171778191-60-72&amp;n=21"/>
          <p:cNvPicPr/>
          <p:nvPr/>
        </p:nvPicPr>
        <p:blipFill>
          <a:blip r:embed="rId2"/>
          <a:stretch/>
        </p:blipFill>
        <p:spPr>
          <a:xfrm>
            <a:off x="2286000" y="4114800"/>
            <a:ext cx="3048120" cy="26128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ликая Отечественная война была самой тяжелой и самой жестокой из всех войн, когда-либо пережитых нашей Родиной. Враг дошел до предгорий Кавказа, прорвался к Волге, блокировал Ленинград, угрожал Москве. Весь народ поднялся на защиту Родины. Страна превратилась в огромный боевой лагерь, охваченный единым порывом – разбить врага, изгнать его с нашей земли, уничтожить фашизм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Бойцы Красной Армии отправляются  на фронт 1941 г. Место съемки: Ленинград Автор съемки: не установлен РГАКФД ед.хр.0-257089"/>
          <p:cNvPicPr/>
          <p:nvPr/>
        </p:nvPicPr>
        <p:blipFill>
          <a:blip r:embed="rId1"/>
          <a:stretch/>
        </p:blipFill>
        <p:spPr>
          <a:xfrm>
            <a:off x="609480" y="3276720"/>
            <a:ext cx="4886280" cy="31525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Советские воины отправляются на фронт 1941 г. Место съемки: Тамбовcкая область Автор съемки: Чернов Д. РГАКФД ед.хр.0-256305"/>
          <p:cNvPicPr/>
          <p:nvPr/>
        </p:nvPicPr>
        <p:blipFill>
          <a:blip r:embed="rId2"/>
          <a:stretch/>
        </p:blipFill>
        <p:spPr>
          <a:xfrm>
            <a:off x="6095880" y="2666880"/>
            <a:ext cx="258444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5" descr="img3"/>
          <p:cNvPicPr/>
          <p:nvPr/>
        </p:nvPicPr>
        <p:blipFill>
          <a:blip r:embed="rId1"/>
          <a:stretch/>
        </p:blipFill>
        <p:spPr>
          <a:xfrm>
            <a:off x="-380880" y="-1295280"/>
            <a:ext cx="6095880" cy="457200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-228600" y="32004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йна принесла народу огромные жертвы и разрушения. По приблизительным оценкам, война унесла 27 миллионов человеческих жизней. Советские люди погибли на полях сражений, погребены под развалинами городов и сел, расстреляны, замучены в концлагерях. Трудно найти семью, на которую в годы войны не обрушилось горе, вызванное гибелью родных и близки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7" descr="i?id=189770899-42-72&amp;n=21"/>
          <p:cNvPicPr/>
          <p:nvPr/>
        </p:nvPicPr>
        <p:blipFill>
          <a:blip r:embed="rId2"/>
          <a:stretch/>
        </p:blipFill>
        <p:spPr>
          <a:xfrm>
            <a:off x="4572000" y="152280"/>
            <a:ext cx="4114800" cy="27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151920" y="0"/>
            <a:ext cx="8991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вершающая операция – овладение Берлином 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 Наступление на Берлин началось 16 апреля 1945 г. С тяжелыми боями 20 апреля советские войска вышли на окраины Берлина. Танковые корпуса обходили город с севера и с юга. 21 апреля завязались бои на окраинах Берлина. А 24 апреля начался штурм столицы. Тем временем войска 1-го Белорусского и 1-го Украинских фронтов, преодолевая яростное сопротивление врага, приближались к центру города. 29 апреля советские войска прорвались к рейхстаг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i?id=728332763-25-72&amp;n=21"/>
          <p:cNvPicPr/>
          <p:nvPr/>
        </p:nvPicPr>
        <p:blipFill>
          <a:blip r:embed="rId1"/>
          <a:stretch/>
        </p:blipFill>
        <p:spPr>
          <a:xfrm>
            <a:off x="380880" y="3581280"/>
            <a:ext cx="3810240" cy="29908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59" name="Picture 7" descr="i?id=10998158-09-72&amp;n=21"/>
          <p:cNvPicPr/>
          <p:nvPr/>
        </p:nvPicPr>
        <p:blipFill>
          <a:blip r:embed="rId2"/>
          <a:stretch/>
        </p:blipFill>
        <p:spPr>
          <a:xfrm>
            <a:off x="4495680" y="3657600"/>
            <a:ext cx="4410360" cy="276876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304920" y="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Штабные работники 1-го Белорусского фронта маршала Г.К.Жукова  в 3-й ударной армии, шедшей на Берлин, заранее изготовили сразу девять Знамен Победы - по количеству дивизий армии, рвущихся к рейхстаг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i?id=147751552-44-72&amp;n=21"/>
          <p:cNvPicPr/>
          <p:nvPr/>
        </p:nvPicPr>
        <p:blipFill>
          <a:blip r:embed="rId1"/>
          <a:stretch/>
        </p:blipFill>
        <p:spPr>
          <a:xfrm>
            <a:off x="685800" y="3200400"/>
            <a:ext cx="4000680" cy="30002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7" descr="i?id=208811091-71-72&amp;n=21"/>
          <p:cNvPicPr/>
          <p:nvPr/>
        </p:nvPicPr>
        <p:blipFill>
          <a:blip r:embed="rId2"/>
          <a:stretch/>
        </p:blipFill>
        <p:spPr>
          <a:xfrm>
            <a:off x="5029200" y="3200400"/>
            <a:ext cx="3581280" cy="2685960"/>
          </a:xfrm>
          <a:prstGeom prst="rect">
            <a:avLst/>
          </a:prstGeom>
          <a:ln w="0">
            <a:noFill/>
          </a:ln>
        </p:spPr>
      </p:pic>
      <p:sp>
        <p:nvSpPr>
          <p:cNvPr id="63" name="Text Box 8"/>
          <p:cNvSpPr/>
          <p:nvPr/>
        </p:nvSpPr>
        <p:spPr>
          <a:xfrm>
            <a:off x="6172920" y="6095880"/>
            <a:ext cx="170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Г.К.Жу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151920" y="304920"/>
            <a:ext cx="8610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намя Победы – штурмовой флаг 150-й ордена Кутузова II степени Идрицкой стрелковой дивизии, водруженный 1 мая 1945 г. на здании рейхстага. В ходе штурма над рейхстагом было водружено несколько красных знамен военнослужащими из разных подразделений, но Знаменем Победы считается знамя, укрепленное Михаилом Егоровым и Мелитоном Кантария.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5" descr="i?id=490740796-03-72&amp;n=21"/>
          <p:cNvPicPr/>
          <p:nvPr/>
        </p:nvPicPr>
        <p:blipFill>
          <a:blip r:embed="rId1"/>
          <a:stretch/>
        </p:blipFill>
        <p:spPr>
          <a:xfrm>
            <a:off x="457200" y="3352680"/>
            <a:ext cx="3962520" cy="26528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66" name="Picture 7" descr="i?id=83460897-71-72&amp;n=21"/>
          <p:cNvPicPr/>
          <p:nvPr/>
        </p:nvPicPr>
        <p:blipFill>
          <a:blip r:embed="rId2"/>
          <a:stretch/>
        </p:blipFill>
        <p:spPr>
          <a:xfrm>
            <a:off x="6019920" y="3048120"/>
            <a:ext cx="2722320" cy="35049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7" name="Rectangle 8"/>
          <p:cNvSpPr/>
          <p:nvPr/>
        </p:nvSpPr>
        <p:spPr>
          <a:xfrm>
            <a:off x="1800" y="6491160"/>
            <a:ext cx="753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Снимок сделан фотохудожником Евгением Халдеем 2 мая 1945 г).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1</cp:lastModifiedBy>
  <dcterms:modified xsi:type="dcterms:W3CDTF">2015-05-04T05:38:02Z</dcterms:modified>
  <cp:revision>2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