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296B-0B04-43D8-ADC4-DF96138A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BBD5-C627-4610-9763-6CED5D53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BA2-77E6-42FC-8BDE-F08CF047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16D6-8F32-45BB-9E31-21E3CEB3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80E1-FD95-4F87-B4D0-9F80DF3D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532-8B01-4BB5-AFB5-D0AF6C3B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74F3-523D-4CA5-A120-4B64FC12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BFEE-F2FC-461A-BAF0-9418C987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29B5-5D3E-4901-87ED-BE4B247A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5552-D7A5-4B65-8B13-85783EC4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0D91-7FB4-46F4-A1D8-02B5D8B3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CF9-AD3C-420B-BCC8-4B8854D9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3DA4-6BEC-4E7A-8338-8DAF7AE09D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4;&#1087;&#1088;&#1086;&#1074;&#1080;&#1079;&#1072;&#1094;&#1080;&#1103;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 70 летию ПОБЕДЫ Советского народа в Великой Отечественной войне </a:t>
            </a:r>
            <a:br>
              <a:rPr sz="28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      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Урок МУЖЕСТВА для 9 кадетского класса на тему:</a:t>
            </a:r>
            <a:br>
              <a:rPr sz="2800"/>
            </a:br>
            <a:br>
              <a:rPr sz="28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Знамя Побед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560" y="6324840"/>
            <a:ext cx="39625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ыполнил: Гладченко Макс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мя – символ объединения. Знамя считается символом воинской чести. Поднять знамя означает объявить готовность к бою, опустить – признать поражение. Водружение знамени на главном здании столицы Германии означало полную и окончательную Победу над гитлеровским фашизм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i?id=146163480-60-72&amp;n=21"/>
          <p:cNvPicPr/>
          <p:nvPr/>
        </p:nvPicPr>
        <p:blipFill>
          <a:blip r:embed="rId1"/>
          <a:stretch/>
        </p:blipFill>
        <p:spPr>
          <a:xfrm>
            <a:off x="5257800" y="3943440"/>
            <a:ext cx="3886200" cy="2914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8" descr="i?id=411406832-45-72&amp;n=21"/>
          <p:cNvPicPr/>
          <p:nvPr/>
        </p:nvPicPr>
        <p:blipFill>
          <a:blip r:embed="rId2"/>
          <a:stretch/>
        </p:blipFill>
        <p:spPr>
          <a:xfrm>
            <a:off x="685800" y="4114800"/>
            <a:ext cx="4114800" cy="25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внешнему виду Знамя Победы — это изготовленный в военно-полевых условиях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мпровизирован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Государственный флаг СССР, представляющий собой прикреплённое к древку однослойное прямоугольное красное полотнище размером 82 см на 188 см, на лицевой стороне которого вверху у древка изображены серебряные пятиконечная звезда, серп и молот, на остальной части полотнища добавлена надпись белыми буквами в четыре строки: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150 стр. ордена Кутузова II ст. идрицк. див. 79 C.К. 3 У. А. 1 Б. Ф.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(150-я стрелковая ордена Кутузова II степени идрицкая дивизия 79-го стрелкового корпуса 3-й ударной армии 1-го Белорусского фронта), на обратной стороне полотнища в нижнем углу у древка — надпись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№ 5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Soviet Znamya Pobedy.svg"/>
          <p:cNvPicPr/>
          <p:nvPr/>
        </p:nvPicPr>
        <p:blipFill>
          <a:blip r:embed="rId2"/>
          <a:stretch/>
        </p:blipFill>
        <p:spPr>
          <a:xfrm>
            <a:off x="1752480" y="3809880"/>
            <a:ext cx="56581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4 июня 1945 г. в Москве торжественным маршем по Красной площади было пронесено Знамя Победы, и герои Советского Союза несли знамена прославленных частей и соединений. Затем под барабанный стук колонна солдат, несшая 200 опущенных знамен немецких войск, бросила их к подножию Кремля в знак сокрушительного поражения агрес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i?id=110421460-71-72&amp;n=21"/>
          <p:cNvPicPr/>
          <p:nvPr/>
        </p:nvPicPr>
        <p:blipFill>
          <a:blip r:embed="rId1"/>
          <a:stretch/>
        </p:blipFill>
        <p:spPr>
          <a:xfrm>
            <a:off x="380880" y="2819520"/>
            <a:ext cx="4810320" cy="2643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5" name="Picture 7" descr="i?id=754304140-57-72&amp;n=21"/>
          <p:cNvPicPr/>
          <p:nvPr/>
        </p:nvPicPr>
        <p:blipFill>
          <a:blip r:embed="rId2"/>
          <a:stretch/>
        </p:blipFill>
        <p:spPr>
          <a:xfrm>
            <a:off x="5486400" y="2590920"/>
            <a:ext cx="3657600" cy="28429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8"/>
          <p:cNvSpPr/>
          <p:nvPr/>
        </p:nvSpPr>
        <p:spPr>
          <a:xfrm>
            <a:off x="304920" y="62161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питан К.Я. Самсонов, младший сержант М.В. Кантария, сержант М.А. Егоров, старший сержант М.Я. Соянов, капитан С.А. Неустро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228600" y="5562000"/>
            <a:ext cx="873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ники штурма Рейхстага, провожавшие флаг в Москву с берлинского аэродрома Темпельгоф 20 июня 1945 года (слева направо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Парад Побе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i?id=629727965-19-72&amp;n=21"/>
          <p:cNvPicPr/>
          <p:nvPr/>
        </p:nvPicPr>
        <p:blipFill>
          <a:blip r:embed="rId1"/>
          <a:stretch/>
        </p:blipFill>
        <p:spPr>
          <a:xfrm>
            <a:off x="228600" y="1676520"/>
            <a:ext cx="4419720" cy="3314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0" name="Picture 7" descr="i?id=177872694-44-72&amp;n=21"/>
          <p:cNvPicPr/>
          <p:nvPr/>
        </p:nvPicPr>
        <p:blipFill>
          <a:blip r:embed="rId2"/>
          <a:stretch/>
        </p:blipFill>
        <p:spPr>
          <a:xfrm>
            <a:off x="5029200" y="1447920"/>
            <a:ext cx="3733920" cy="2719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1" name="Picture 9" descr="i?id=144331508-59-72&amp;n=21"/>
          <p:cNvPicPr/>
          <p:nvPr/>
        </p:nvPicPr>
        <p:blipFill>
          <a:blip r:embed="rId3"/>
          <a:stretch/>
        </p:blipFill>
        <p:spPr>
          <a:xfrm>
            <a:off x="5029200" y="4343400"/>
            <a:ext cx="3657600" cy="224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2" name="Text Box 10"/>
          <p:cNvSpPr/>
          <p:nvPr/>
        </p:nvSpPr>
        <p:spPr>
          <a:xfrm>
            <a:off x="745560" y="5497560"/>
            <a:ext cx="25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4 июня 1945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560" y="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едеральный закон Российской Федерации от 7 мая 2007 г. N 68-ФЗ "О Знамени Победы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целях увековечения народного подвига в Великой Отечественной войне 1941-1945 годов, в ознаменование заслуг воинов советских Вооруженных Сил перед Отечеством и в знак благодарности потомков победителям фашистских захватчиков настоящим Федеральным законом устанавливаются статус Знамени Победы, правовые основы его хранения и исполь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ья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      Знаменем Победы является штурмовой флаг 150-й ордена Кутузова II степени Идрицкой стрелковой дивизии, водруженный 1 мая 1945 года на здании рейхстага в городе Берл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      Знамя Победы является официальным символом победы советского народа и его Вооруженных Сил над фашистской Германией в Великой Отечественной войне 1941-1945 годов, государственной реликвией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      Знамя Победы находится на вечном хранении в условиях, обеспечивающих его сохранность и доступность для обоз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      Место и порядок хранения Знамени Победы, порядок его транспортировки определяются Президентом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i?id=59503023-41-72&amp;n=21"/>
          <p:cNvPicPr/>
          <p:nvPr/>
        </p:nvPicPr>
        <p:blipFill>
          <a:blip r:embed="rId1"/>
          <a:stretch/>
        </p:blipFill>
        <p:spPr>
          <a:xfrm>
            <a:off x="304920" y="152280"/>
            <a:ext cx="5715000" cy="2857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i?id=266218209-08-72&amp;n=21"/>
          <p:cNvPicPr/>
          <p:nvPr/>
        </p:nvPicPr>
        <p:blipFill>
          <a:blip r:embed="rId2"/>
          <a:stretch/>
        </p:blipFill>
        <p:spPr>
          <a:xfrm>
            <a:off x="4610160" y="2286000"/>
            <a:ext cx="4533840" cy="34005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304920" y="3200400"/>
            <a:ext cx="4190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дни государственных праздников Российской Федерации, дни воинской славы (победные дни) России, при проведении воинских ритуалов, а также массовых мероприятий, связанных с боевыми победами российского народа, Знамя Победы используется наряду с Государственным флагом Российской Фед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i?id=373176410-21-72&amp;n=21"/>
          <p:cNvPicPr/>
          <p:nvPr/>
        </p:nvPicPr>
        <p:blipFill>
          <a:blip r:embed="rId1"/>
          <a:stretch/>
        </p:blipFill>
        <p:spPr>
          <a:xfrm>
            <a:off x="1295280" y="380880"/>
            <a:ext cx="6397920" cy="47275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228600" y="5424840"/>
            <a:ext cx="8193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настоящее время Знамя Победы является экспонатом в Центральном музее Вооружённых сил. Оно было помещено в этот музей по распоряжению Главного политуправления Советской Армии от 10 июля 1945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ь героические и трагические страницы жизни народов нашей страны на примере государственного символа – Знамени Поб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чувства гражданского долга;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ажения к государственным символам страны, её военной истории; воспитание чувства патриот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Знамя  Побед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i?id=393222514-37-72&amp;n=21"/>
          <p:cNvPicPr/>
          <p:nvPr/>
        </p:nvPicPr>
        <p:blipFill>
          <a:blip r:embed="rId1"/>
          <a:stretch/>
        </p:blipFill>
        <p:spPr>
          <a:xfrm>
            <a:off x="304920" y="1752480"/>
            <a:ext cx="6300720" cy="3540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i?id=38398358-71-72&amp;n=21"/>
          <p:cNvPicPr/>
          <p:nvPr/>
        </p:nvPicPr>
        <p:blipFill>
          <a:blip r:embed="rId2"/>
          <a:stretch/>
        </p:blipFill>
        <p:spPr>
          <a:xfrm rot="20633400">
            <a:off x="5121360" y="4687920"/>
            <a:ext cx="4038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апреле 1996 г. был принят президентский указ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«О знамени Победы»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станавливающий, что наряду с государственным флагом России в дни государственных праздников, при проведении воинских ритуалов и массовых мероприятий, связанных с боевыми победами российского народа, используется также 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намя Побе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одруженное над рейхстагом Берлина в 1945 г. в знак победоносного окончания Великой Отечественной войны. В июне 1945 г. это знамя участвовало в параде Победы на Красной площад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i?id=85351060-64-72&amp;n=21"/>
          <p:cNvPicPr/>
          <p:nvPr/>
        </p:nvPicPr>
        <p:blipFill>
          <a:blip r:embed="rId1"/>
          <a:stretch/>
        </p:blipFill>
        <p:spPr>
          <a:xfrm>
            <a:off x="5486400" y="4114800"/>
            <a:ext cx="3429000" cy="2522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0" name="Picture 7" descr="i?id=171778191-60-72&amp;n=21"/>
          <p:cNvPicPr/>
          <p:nvPr/>
        </p:nvPicPr>
        <p:blipFill>
          <a:blip r:embed="rId2"/>
          <a:stretch/>
        </p:blipFill>
        <p:spPr>
          <a:xfrm>
            <a:off x="2286000" y="4114800"/>
            <a:ext cx="3048120" cy="2612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ая Отечественная война была самой тяжелой и самой жестокой из всех войн, когда-либо пережитых нашей Родиной. Враг дошел до предгорий Кавказа, прорвался к Волге, блокировал Ленинград, угрожал Москве. Весь народ поднялся на защиту Родины. Страна превратилась в огромный боевой лагерь, охваченный единым порывом – разбить врага, изгнать его с нашей земли, уничтожить фашизм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Бойцы Красной Армии отправляются  на фронт 1941 г. Место съемки: Ленинград Автор съемки: не установлен РГАКФД ед.хр.0-257089"/>
          <p:cNvPicPr/>
          <p:nvPr/>
        </p:nvPicPr>
        <p:blipFill>
          <a:blip r:embed="rId1"/>
          <a:stretch/>
        </p:blipFill>
        <p:spPr>
          <a:xfrm>
            <a:off x="609480" y="3276720"/>
            <a:ext cx="4886280" cy="3152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Советские воины отправляются на фронт 1941 г. Место съемки: Тамбовcкая область Автор съемки: Чернов Д. РГАКФД ед.хр.0-256305"/>
          <p:cNvPicPr/>
          <p:nvPr/>
        </p:nvPicPr>
        <p:blipFill>
          <a:blip r:embed="rId2"/>
          <a:stretch/>
        </p:blipFill>
        <p:spPr>
          <a:xfrm>
            <a:off x="6095880" y="2666880"/>
            <a:ext cx="2584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img3"/>
          <p:cNvPicPr/>
          <p:nvPr/>
        </p:nvPicPr>
        <p:blipFill>
          <a:blip r:embed="rId1"/>
          <a:stretch/>
        </p:blipFill>
        <p:spPr>
          <a:xfrm>
            <a:off x="-380880" y="-12952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228600" y="3200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йна принесла народу огромные жертвы и разрушения. По приблизительным оценкам, война унесла 27 миллионов человеческих жизней. Советские люди погибли на полях сражений, погребены под развалинами городов и сел, расстреляны, замучены в концлагерях. Трудно найти семью, на которую в годы войны не обрушилось горе, вызванное гибелью родных и близк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i?id=189770899-42-72&amp;n=21"/>
          <p:cNvPicPr/>
          <p:nvPr/>
        </p:nvPicPr>
        <p:blipFill>
          <a:blip r:embed="rId2"/>
          <a:stretch/>
        </p:blipFill>
        <p:spPr>
          <a:xfrm>
            <a:off x="4572000" y="152280"/>
            <a:ext cx="41148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1920" y="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вершающая операция – овладение Берлином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Наступление на Берлин началось 16 апреля 1945 г. С тяжелыми боями 20 апреля советские войска вышли на окраины Берлина. Танковые корпуса обходили город с севера и с юга. 21 апреля завязались бои на окраинах Берлина. А 24 апреля начался штурм столицы. Тем временем войска 1-го Белорусского и 1-го Украинских фронтов, преодолевая яростное сопротивление врага, приближались к центру города. 29 апреля советские войска прорвались к рейхста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i?id=728332763-25-72&amp;n=21"/>
          <p:cNvPicPr/>
          <p:nvPr/>
        </p:nvPicPr>
        <p:blipFill>
          <a:blip r:embed="rId1"/>
          <a:stretch/>
        </p:blipFill>
        <p:spPr>
          <a:xfrm>
            <a:off x="380880" y="3581280"/>
            <a:ext cx="3810240" cy="2990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9" name="Picture 7" descr="i?id=10998158-09-72&amp;n=21"/>
          <p:cNvPicPr/>
          <p:nvPr/>
        </p:nvPicPr>
        <p:blipFill>
          <a:blip r:embed="rId2"/>
          <a:stretch/>
        </p:blipFill>
        <p:spPr>
          <a:xfrm>
            <a:off x="4495680" y="3657600"/>
            <a:ext cx="4410360" cy="2768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табные работники 1-го Белорусского фронта маршала Г.К.Жукова  в 3-й ударной армии, шедшей на Берлин, заранее изготовили сразу девять Знамен Победы - по количеству дивизий армии, рвущихся к рейхстаг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i?id=147751552-44-72&amp;n=21"/>
          <p:cNvPicPr/>
          <p:nvPr/>
        </p:nvPicPr>
        <p:blipFill>
          <a:blip r:embed="rId1"/>
          <a:stretch/>
        </p:blipFill>
        <p:spPr>
          <a:xfrm>
            <a:off x="685800" y="320040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?id=208811091-71-72&amp;n=21"/>
          <p:cNvPicPr/>
          <p:nvPr/>
        </p:nvPicPr>
        <p:blipFill>
          <a:blip r:embed="rId2"/>
          <a:stretch/>
        </p:blipFill>
        <p:spPr>
          <a:xfrm>
            <a:off x="5029200" y="320040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6172920" y="60958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.К.Жу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51920" y="304920"/>
            <a:ext cx="861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мя Победы – штурмовой флаг 150-й ордена Кутузова II степени Идрицкой стрелковой дивизии, водруженный 1 мая 1945 г. на здании рейхстага. В ходе штурма над рейхстагом было водружено несколько красных знамен военнослужащими из разных подразделений, но Знаменем Победы считается знамя, укрепленное Михаилом Егоровым и Мелитоном Кантария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i?id=490740796-03-72&amp;n=21"/>
          <p:cNvPicPr/>
          <p:nvPr/>
        </p:nvPicPr>
        <p:blipFill>
          <a:blip r:embed="rId1"/>
          <a:stretch/>
        </p:blipFill>
        <p:spPr>
          <a:xfrm>
            <a:off x="457200" y="3352680"/>
            <a:ext cx="3962520" cy="2652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6" name="Picture 7" descr="i?id=83460897-71-72&amp;n=21"/>
          <p:cNvPicPr/>
          <p:nvPr/>
        </p:nvPicPr>
        <p:blipFill>
          <a:blip r:embed="rId2"/>
          <a:stretch/>
        </p:blipFill>
        <p:spPr>
          <a:xfrm>
            <a:off x="6019920" y="3048120"/>
            <a:ext cx="2722320" cy="350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Rectangle 8"/>
          <p:cNvSpPr/>
          <p:nvPr/>
        </p:nvSpPr>
        <p:spPr>
          <a:xfrm>
            <a:off x="1800" y="6491160"/>
            <a:ext cx="75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нимок сделан фотохудожником Евгением Халдеем 2 мая 1945 г)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5-05-04T05:38:0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