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4962-E4F9-4721-B1F4-C1D1D7254A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4C16-3037-4E1E-AF7E-2297F68FEF57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1D5-B152-4752-9EDA-777CC51E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5E3-9ED2-4E3C-94E3-0F587A40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4B96A-49C5-4A1D-8C6A-1B42167E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95609-FB66-44C8-B11C-A30A5AD8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9E621-F109-4959-AF15-6E927479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590A8-E354-4F58-A7A9-B56D3E20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88539-8E4C-43E7-9C88-8DD0C511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D561F-BFE0-4496-8A0C-1EA44769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4A3EE-B92C-4ACB-A922-5DF91596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6EA38-E2CC-4701-958B-2EF97F68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6B913-1774-451B-9095-3A541A83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9AAAD-F615-4BF1-814C-9A6FA319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A27-35FD-4113-AC46-A488BBC9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051AA-71BA-49B7-94B6-98D6BAB9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7D49C-BC1A-4FFD-B6AE-5662E24E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53CDB-5252-4543-B025-1EE19909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055FE-37A5-453B-AABB-F56DD56C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DFBE9-EC3A-444A-BDBE-6E06A7E5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CF5B4-6A67-4168-BCA2-FCE55CF2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0A502-17CC-4971-9584-B7E4C1B6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38231-F8D1-4569-A822-14CF0E51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D91C0-7123-4ABF-A952-89327F5A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BA163-D901-48E1-91A8-56A637DC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BAD-5515-4D98-8CEB-6B36071A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EF9F0-EEE4-419E-900A-21C8061B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07E78-C11C-4D15-82A7-8029A754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642A8-D6FC-479C-971A-C0ECF2D0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63633-65BF-489E-AA39-8F0DB94D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BB0A7-BD96-4C3B-841D-FFC30C86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5E024-77F7-42A5-8CCF-FB41F883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3CB31-1261-4253-9556-734B3527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141F3-AFEC-4780-9DAF-840BD93C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1D0A9-DB6F-477F-8E2A-E1D7C6EE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7F65D-380B-4FE8-B91D-AF508EBB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B92A-2CAE-4651-9A97-2A7B94D6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D7486-B74A-40BA-951C-854ECA5B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A869B-9CC3-4D0E-8198-0A83C389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48188-21A5-40AA-93D1-71F49A4E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851B9-5A84-4BED-84B9-472DC630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97ED6-7508-4E6B-9594-A84C1F8B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BBEE5-4B78-479A-B08C-9D360398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E8487-9BAF-42C2-ABFA-86A6E8F7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DEFFB-1119-40CA-975F-B764E3A0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EED6D-2ABA-470E-B8BD-34C841A3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9F980-86AD-422A-A5D4-089CA8CF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F549-AF1C-44E7-8E16-68D48FB7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9CEA8-8553-4F67-9440-891F24C4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B5FAD-DD4C-4A41-87C0-E64B057B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653A7-9CE0-4CB5-BC48-E5C501D2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B89CC-ED2C-49EE-B8C5-215F876A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460E3-83C1-4A4B-AF9A-BEED3FD1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DD519-6331-4692-A131-AA0B3D39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25299-A4FB-4B2D-B542-2E1D853A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6A57C-A10B-4860-8689-4E645FD7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A6243-7BA1-4B65-ADAB-6274F349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8DBD3-8A74-4CD4-B822-7D1EF65C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2148-35E0-4809-98A7-16F87A4F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8E154-E02F-4C6D-A96D-F2361731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5D047-2904-4234-BFC6-8F3678F5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2054C-AE72-4FE3-86EF-45B61BE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D0738-5A45-4E31-930E-29DEA3B8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60D53-8884-48DA-B3A4-76389C5D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7A03F-439B-405F-A355-70B162E1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8E9F2-F7F9-4E9B-8FF1-4C0FF437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F34D3-B17F-4473-9D65-FEEB0FCD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4FAF2-A2EB-488E-ADB5-69AA02D2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98F23-3288-41C5-8007-81504602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E290-7F6C-4463-B7D0-78B4A5E2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864CF-83D7-45B3-89C9-FE84C401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983E5-23FA-4136-B8D1-0A12B140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4AE0D-7740-48B5-9BF2-12361E8A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D6AE8-109D-4289-9566-2B55E205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36E7B-E840-4679-B9C7-41F54284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CDC46-1F13-4DBD-8AD9-B7CED12D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35C21-062F-4242-A185-1E22592E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05159-AE48-470D-8BB5-28610FA6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57711-EC9E-4536-808C-0ACBCC16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5467E-8122-4E41-B8F9-B7F2BA6F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DB93-277F-47D1-A21F-CDC39C1B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92FBF-E52C-4DBE-8BAE-0678AFD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90A9A-84FD-4689-87DB-23114B4D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06AF61-DFCD-48B6-9A12-42B78110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D3F78-A82B-4F6C-97DC-21FBA81B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889F6-7B95-411E-BA85-6A38A75E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822EF-734A-4632-A4B3-FBEBBD8E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5E2E6-94F2-4945-9F7D-686F6FC2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B5928-E504-435C-A0C0-10A90FF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0D0210-0FCD-4223-AB36-7D69FAF3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6E9CC-B799-42C3-84EA-BEF3EAFD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3C5A-6229-40AD-8289-914A6CB9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27090-1308-4D55-B82B-29851170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544168-EC1A-4991-87E6-9724D596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1236F-3DCE-49A3-A1D0-EB6D2A95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26BC6-BA6C-492F-A4EF-53079B99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AC5547-A3BF-4441-9F1D-B790AD2E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74B7B-514D-4DF6-BD27-2F955455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EC0E9-7E8E-4C6D-B1E5-47AD369D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75A82-1233-4B13-BF9D-E2B972FB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F694E-3B8A-4ED1-9403-B7097AF1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EF453-2E41-4F88-ABB4-A709FEDA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8B19-AEC0-4A07-A66B-DD01E5E5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50CEC-F532-44AA-A1A2-31B9B673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F3346-3081-4077-845D-1E28737D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4BFFB-064F-428C-B3C5-5323FDE1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0DFEE-196F-4EC6-8DA4-9803C037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36D24-FB8B-4868-A344-3C9CE37D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DE83D-0F17-4DA8-BB1C-BBB03539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7C71C-3CCA-4B71-928D-18611338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F0CF8-7847-4CDB-853C-CD81C1CD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40187F-7146-447A-ACD7-88559449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85BEC-49EE-44A0-B839-4CE61B49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4D2-06EB-40D0-A63F-DBE941D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C5A8-CC29-4227-B81D-6AF02D78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1C846-E975-4DAF-B1B9-989F9750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2BE57-A6C5-4D8A-A1EA-B620603D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7269E-5EB2-46EA-A508-8CA743B5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C1CEA4-357E-4306-8A3C-F49AA4C7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8A867-46D5-4D58-8225-E7997D36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8F68-5DA9-4C84-87F5-542EF2DF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85A4-4745-4B28-AF6D-6AEE5072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BAC4-410E-46FB-9249-AB0E06BC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5388-3F9B-4678-BC0A-C1186657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DA0F-DDD1-4389-AF27-7EFC5070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3AB0-D099-4A9D-8CE3-963276B9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8845-FFAB-4C2D-8B62-566BD71D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1686-1BDA-4A4C-AB48-1DFDD1FD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ED92-0A39-483C-9E12-BD851B5C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532-0692-4D6D-A395-4F1F4B5C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47D7-718C-4F59-B634-2004C6E0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90E8-274A-40D8-9B5D-E8F1610E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390B-4A54-4E9A-B15E-2FF66D33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33EE-A28B-4430-8899-419C4EA3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29918-097E-40C2-9AC0-3F7BB0B1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F117-4EE3-4BD5-BD31-1F75794B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1557-EEF7-4AE7-8386-2567C070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CA362-4887-432E-BEA5-D77EED47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3F18-DFE3-4BEB-AD85-9A468438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C30A1-2589-4836-B2C5-BEEDA72E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1DE-FE2F-4558-9C46-B9F5A8B7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CC5BF-9B00-4E67-954D-121ECFA7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B0F4A-8AF1-464A-AAC9-3B2C0BB1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C3AE5-8A49-4F5E-A9B6-2428B44F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64592-A191-46DE-B896-4387E364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0D7A-6137-4A8C-AFE9-0E24D8B0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6830B-5AE3-438D-AFA3-C632D12B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A7F1E-1C18-4D97-ABE7-C4303B47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8FAE0-C969-4FED-9FFA-0467D73F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E8B9F-4980-40D2-968B-6632EF89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68FDD-F2CE-455E-A1BA-2B7B3CB6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39A-A9B3-4987-B56C-101EED56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FC76E-2A5E-456A-8BF3-4484F146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86A03-D114-4A85-A0F5-D703F30E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DA4D4-347C-40F8-9C18-EE5194E5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CBF68-D6BE-45EB-8FB2-3EB33DA9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194C4-E842-4F40-8CBA-37A4F158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8B95-E3B8-401E-8C90-C0083B3F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E14ED-B4B3-4BF1-9B19-16D95E1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1E5D2-0F43-4512-9177-99FFA53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A0BDB-BF1C-40E6-8F24-782AA87A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05B25-B15A-4FA3-94B9-48E42B27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BBA-73BE-4ED9-9472-634838E7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3F059-01EA-427E-9A99-B5486E64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CC367-C633-40FA-A357-B34EE85C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E7F4E-9CA0-4BDD-A3A1-A41C4439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A0A32-80B2-436E-8C0C-326C5BEF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9AAFD-7C82-47DC-B90E-C62AA807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D7974-6371-445A-B009-BE63DB3E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63764-41D6-47ED-AFC7-FDBE239D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BC262-EBB2-452A-82D6-0511C55F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0AE10-2755-4BAF-A40A-A13B7F23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397E5-D4A6-4880-B7E5-EB0FDF5C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81B-CD67-463F-8479-3E1FEFC3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DC0B0-997F-40B0-A949-D18A7EDF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A8D24-CEF1-411B-B3A6-FD13602D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37528-0D49-4D65-923A-449AD16B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B8B19-701C-4C3E-90A0-AC04F7D3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1657E-8C2C-41D5-9A30-7FBBD15D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4DAB-FD66-447F-98A9-2BAC8BF1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36F03-F451-4558-A851-50434E7E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A4671-B5AB-445B-A9C6-479EA2EF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E1E43-43C6-4F93-B474-161CA41D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F2A04-A06A-4E99-B312-3C53B777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313-499E-4E0D-BA73-2C683D3B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044D6-472D-48F4-A6CF-DD516C84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30B83-A845-4231-90F3-8AD96246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9535F-7913-491B-995E-9C47187A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3357A-C566-466A-B7E2-DAAE01FE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375DB-693B-4887-828E-E4CD1AC4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1D363-DAAD-4393-BB6A-BF0E8CEF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79A89-A40E-4301-BCA7-FFA3FD28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A34A2-109F-4987-8A83-A9CC8FBA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29636-2B3F-4372-9A12-2D48134C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84CB0-6E98-40C1-BE43-D829F8D9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5E2-F507-4515-B1E7-C9A8349E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D53D8-D03F-4F26-B96A-3293ECB6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B5113-9E09-4812-AB1A-12D86CFA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A3A7D-A6B6-49E1-AE01-345321B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A95A4-817B-4CA9-96F3-E8EDA115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6920A-1317-4193-B57D-CAC323ED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0577D-D266-4AE1-A7B7-6169D660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94C21-889B-41A3-8DCB-539C774B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4AE67-112C-4001-B8B2-616862CE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D7B8C-F8D6-4866-AF44-ACB43ECF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1DB95-C7BA-4489-8917-F6617A37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6283-550F-4D6A-8D4D-77533FED8E7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8266-A94C-4818-8FBE-3D0B472D577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585E-F3CA-43DC-8870-C4C4AD37E67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DB4C-8202-4718-A49F-FABB53C2E9B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ACC8-A808-470A-B0D2-8B04E92B3F8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2E85-1A17-4DDD-9399-9BA0D54BFC8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93F2-FFC6-4550-B1BA-86A5E16C49E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A917-C54B-411B-8B08-90EBDBCB47D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9251-3D7D-4F9E-B949-4A1BD88708F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377C-D25B-42F3-901E-DE8AB902655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BDA1-ECC8-4C6C-A2AB-40598E980FF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5429-1810-40B7-AAB0-1E666B4B4AB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1239-9F40-4134-82D6-012EF91EC7F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BA89-FFD1-4A08-8396-4AE895A462D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0F07-25BF-4513-AAD7-0CC3FC91258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860B-29C7-46D2-9983-3EB7509238B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14B7-BAC2-4DB0-8C55-38025FD36B0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28600" y="410760"/>
            <a:ext cx="9677520" cy="13813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нтернет и безопасность  детей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2525400" y="4919400"/>
            <a:ext cx="68086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МЯКОВА МАРИНА ВАЛЕНТИНОВН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БОУ ДОД ЦВР «Гармония» г.Тихорец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32" name="Рисунок 4" descr=""/>
          <p:cNvPicPr/>
          <p:nvPr/>
        </p:nvPicPr>
        <p:blipFill>
          <a:blip r:embed="rId1"/>
          <a:stretch/>
        </p:blipFill>
        <p:spPr>
          <a:xfrm>
            <a:off x="4334040" y="1616040"/>
            <a:ext cx="3073320" cy="321804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4817520" y="219240"/>
            <a:ext cx="26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ДЛЯ ВАС, РОД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10901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емейное соглашение о работе в Интерне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77880" y="1521000"/>
            <a:ext cx="10901520" cy="45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ителям и детям нужно составить соглашение о правилах пользования Интернетом, где будут оговорены важные моменты, которые направлены на физическую и моральную безопасность ребенка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 под каким предлогом не соглашаться на установку компьютера в комнате ребенка – он должен стоять в общей, часто посещаемой, комнате. Но не забывайте, что ребенок может выходить в сеть и по мобильному телефон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оворите, сколько времени он может проводить в Интернет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д тем, как зарегистрироваться в чате, форуме или блоге, нужно внимательно прочитать соглашение о конфиденциальности личных данных и правилах поведения  ча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верие, согласие и дружественные отношения между родителями и ребенком помогут оградить его от негатива и возможной опас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ети – наше будуще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645920" y="1547640"/>
            <a:ext cx="889164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ще разговаривайте со своими детьми об обсуждаемых в чате темах, собеседниках, что их заинтересовало или насторожил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огите ребенку найти чаты и форумы по его интересам, направьте его в нужное русло, и он будет меньшее время проводить в поиске какой-либо информации, дрейфуя по сайтам и натыкаясь на ссылки с сомнительными ресурс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62" name="Picture 2" descr="http://www.proza.ru/pics/2011/12/08/578.jpg"/>
          <p:cNvPicPr/>
          <p:nvPr/>
        </p:nvPicPr>
        <p:blipFill>
          <a:blip r:embed="rId1"/>
          <a:stretch/>
        </p:blipFill>
        <p:spPr>
          <a:xfrm>
            <a:off x="4237200" y="4114800"/>
            <a:ext cx="37479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4" descr="http://papandos.ru/_bl/0/80586357.jpg"/>
          <p:cNvPicPr/>
          <p:nvPr/>
        </p:nvPicPr>
        <p:blipFill>
          <a:blip r:embed="rId1"/>
          <a:stretch/>
        </p:blipFill>
        <p:spPr>
          <a:xfrm>
            <a:off x="6872400" y="1468440"/>
            <a:ext cx="4802040" cy="4092480"/>
          </a:xfrm>
          <a:prstGeom prst="rect">
            <a:avLst/>
          </a:prstGeom>
          <a:ln w="0">
            <a:noFill/>
          </a:ln>
        </p:spPr>
      </p:pic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57440" y="285840"/>
            <a:ext cx="761688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    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урсы: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696760" y="1098360"/>
            <a:ext cx="613260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ttp://www.kaspersky.ru/keeping_children_saf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ttp://www.internet-kontrol.ru/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ttp://www.oszone.net/6213/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microsoft.com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kaspersky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mail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onlandia.org.ua/rus/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ant.pc777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rusureg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interneshka.ne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inetetiq.pp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saferinternet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content-filtering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rgdb.ru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http://www.totalbrest.cityline.b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AutoShape 2"/>
          <p:cNvSpPr/>
          <p:nvPr/>
        </p:nvSpPr>
        <p:spPr>
          <a:xfrm>
            <a:off x="4827600" y="804960"/>
            <a:ext cx="1420920" cy="14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ети и Интерне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77880" y="2779560"/>
            <a:ext cx="10855440" cy="36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ЮСЫ ИНТЕРНЕТ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еративность получения любой информа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ение: Мой мир, Контакт, Одноклассники, и другие социальные сервисы и форумы…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астие в международных конкурсах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учения дополнительного образования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еспечение досуг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ирование информационной компетентности, включающая умение работать с информацией: находить, получать, анализировать, систематизировать и использова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36" name="Picture 2" descr="http://im2-tub-ru.yandex.net/i?id=543736726-60-72&amp;n=21"/>
          <p:cNvPicPr/>
          <p:nvPr/>
        </p:nvPicPr>
        <p:blipFill>
          <a:blip r:embed="rId1"/>
          <a:stretch/>
        </p:blipFill>
        <p:spPr>
          <a:xfrm>
            <a:off x="5977080" y="555480"/>
            <a:ext cx="28922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60520" y="217440"/>
            <a:ext cx="110188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пасности, подстерегающие юных пользователей в Интернете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879120" y="-351000"/>
            <a:ext cx="7978680" cy="65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rebuchet MS"/>
              </a:rPr>
              <a:t>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УСЫ ИНТЕРНЕТА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спорядочная недостоверная информац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худшение здоровья: потеря зрения (компьютерный зрительный синдром)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подинами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кривление осанки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сихические и интеллектуальные нарушения развит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едная информация (асоциальные сайты): религиозные секты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кстремистские сайты (скинхеды, неонацисты, исламисты и др.)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цензурная лексика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сихологическое давление:  маньяки, мошенники, подростковая агресс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39" name="Рисунок 4" descr="C:\Users\VCT\Desktop\inet.jpg"/>
          <p:cNvPicPr/>
          <p:nvPr/>
        </p:nvPicPr>
        <p:blipFill>
          <a:blip r:embed="rId1"/>
          <a:stretch/>
        </p:blipFill>
        <p:spPr>
          <a:xfrm>
            <a:off x="8650440" y="3292560"/>
            <a:ext cx="31366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щита детей в Интернете.</a:t>
            </a: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53800" y="3749400"/>
            <a:ext cx="9658440" cy="26766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Я ДЛЯ РОДИТЕЛЕЙ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svobodanews.ru/content/transcript/46 2683.html - Дети и Интернет, как защитить ребенка от асоциальных сайтов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microsoft.com/rus/protect/athome/chil dren/kidsafetyfaq.mspx - Дети и Интернет частые вопросы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microsoft.com/rus/protect/athome/chil dren/parentsguide.mspx - Руководство для родителей по безопасности детей в интернете: возраст и этапы развития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psynavigator.ru/articles.php?code=538 - Чума XXI века – интернет-зависимос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42" name="Рисунок 1" descr=""/>
          <p:cNvPicPr/>
          <p:nvPr/>
        </p:nvPicPr>
        <p:blipFill>
          <a:blip r:embed="rId1"/>
          <a:stretch/>
        </p:blipFill>
        <p:spPr>
          <a:xfrm>
            <a:off x="7176960" y="387360"/>
            <a:ext cx="42213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10809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ля безопасности ваших детей в сети Интернет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говорите с ними о возможных опасностя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ьзуйтесь интернетом вмест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ощряйте обсуждение онлайн-опы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формулируйте правила работы в интернет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помощью настроек программного обеспечения ограничивайте доступ ребенка к определенному контент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забывайте также следовать всем другим правилам защиты от вредоносных программ и хакерских ата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45" name="Рисунок 1" descr=""/>
          <p:cNvPicPr/>
          <p:nvPr/>
        </p:nvPicPr>
        <p:blipFill>
          <a:blip r:embed="rId1"/>
          <a:stretch/>
        </p:blipFill>
        <p:spPr>
          <a:xfrm>
            <a:off x="7288200" y="1168560"/>
            <a:ext cx="45165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868320" y="2160360"/>
            <a:ext cx="105616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когда не сообщайте свои имя, номер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лефона, адрес проживания или учебы, пароли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 номера кредитных карт, любимые места отдых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 проведения досуг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уйте нейтральное экранное имя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выдающее никаких личных сведений, в том числе и опосредованных: о школе, в которой вы учитесь, места, которые часто посещаете или планируете посети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5680" y="609120"/>
            <a:ext cx="91886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формулируйте правила, указывающие, что вашим детям разрешается делать в Интернете, а что нет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748" name="Рисунок 1" descr=""/>
          <p:cNvPicPr/>
          <p:nvPr/>
        </p:nvPicPr>
        <p:blipFill>
          <a:blip r:embed="rId1"/>
          <a:stretch/>
        </p:blipFill>
        <p:spPr>
          <a:xfrm>
            <a:off x="7999560" y="1477800"/>
            <a:ext cx="343044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10831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Безопасность при пользовании интернет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53520" y="1819080"/>
            <a:ext cx="7108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вас что-то пугает в работе компьютера, немедленно выключите его. Расскажите об этом родителям или другим взрослым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егда сообщайте взрослым обо всех случаях в Интернете, которые вызвали у вас смущение или тревогу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уйте фильтры электронной почты для блокирования спама и нежелательных  сообщений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когда не соглашайтесь на личную встречу с людьми, с которыми вы познакомились в Интернете. О подобных предложениях немедленно расскажите родителям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кращайте любые контакты по электронной почте, в системе обмена мгновенными сообщениями или в чатах, если кто-нибудь начинает задавать вам вопросы личного характера или содержащие сексуальные намеки. Расскажите об этом родителям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51" name="Рисунок 2" descr=""/>
          <p:cNvPicPr/>
          <p:nvPr/>
        </p:nvPicPr>
        <p:blipFill>
          <a:blip r:embed="rId1"/>
          <a:stretch/>
        </p:blipFill>
        <p:spPr>
          <a:xfrm>
            <a:off x="8461440" y="1930320"/>
            <a:ext cx="30477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http://kolyan.net/uploads/posts/2008-10/thumbs/1223891155_1919638.jpg"/>
          <p:cNvPicPr/>
          <p:nvPr/>
        </p:nvPicPr>
        <p:blipFill>
          <a:blip r:embed="rId1"/>
          <a:stretch/>
        </p:blipFill>
        <p:spPr>
          <a:xfrm>
            <a:off x="7399440" y="811080"/>
            <a:ext cx="4384440" cy="273240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77520" y="296640"/>
            <a:ext cx="8596440" cy="7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Ваши дети умнее, чем вы думаете…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77520" y="3543480"/>
            <a:ext cx="8596440" cy="28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ществует большое количество программного обеспечения, с помощью которого можно осуществлять «Родительский контроль», многие антивирусы имеют эту функцию в своем арсенале. Родительский контроль так же представлен и в самой операционной системе Windows 8.1 и Windows 10, но это спасает лишь отчасти.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льзя наивно думать, что если вы скачали программу из Интернета, проблема решен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ши дети умнее, чем вы думаете, они легко могут обойти все преграды и добиться своего. Поэтому, лучше быть на шаг вперед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79160" y="609480"/>
            <a:ext cx="1125828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Лучший способ защиты детей – правильное воспит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77880" y="1615680"/>
            <a:ext cx="1105992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rebuchet MS"/>
              </a:rPr>
              <a:t>•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чите своего ребенка отличать хорошее от плохого. 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Объясните ему, как следует вести себя в той или иной ситуации. Предупрежден - значит вооружен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Помогайте ребенку решить его детские проблемы, даже если они вам кажутся пустяковым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должен всегда чувствовать вашу поддержку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Все то, чему вы учите своего ребенка, вы должны подкреплять собственным примером, иначе от обучения будет мало польз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ните, что правильное воспитание - залог хорошего будущего ребенка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57" name="Рисунок 1" descr=""/>
          <p:cNvPicPr/>
          <p:nvPr/>
        </p:nvPicPr>
        <p:blipFill>
          <a:blip r:embed="rId1"/>
          <a:stretch/>
        </p:blipFill>
        <p:spPr>
          <a:xfrm>
            <a:off x="9356760" y="3805200"/>
            <a:ext cx="25956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3:38:55Z</dcterms:created>
  <dc:creator>Galina</dc:creator>
  <dc:description/>
  <dc:language>en-US</dc:language>
  <cp:lastModifiedBy>Admin</cp:lastModifiedBy>
  <dcterms:modified xsi:type="dcterms:W3CDTF">2015-05-05T02:19:14Z</dcterms:modified>
  <cp:revision>34</cp:revision>
  <dc:subject/>
  <dc:title>Интернет и безопасность</dc:title>
</cp:coreProperties>
</file>