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9CB-4505-4369-BD0E-096345C748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CB80-4536-41B2-B410-20C1E1F98C5C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45E-FAF8-4942-B7EE-4DCE74CC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CAC-3A79-4058-B8E2-B91FDA0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287BA-FEC4-4B96-83EC-10B4205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DC5B4-43FD-4684-86B1-D356CAC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FDA6-E800-4A91-8AEB-A3C415D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BA83-A09E-461E-ACEA-2F990E4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23D27-C370-41B6-93E8-7951D9E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C531-B7CC-4D70-8F37-B0EB9FC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28A90-2A01-4553-9D9D-76815B5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FD88-BAEA-408C-9E93-825EE937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BC00-FD27-41A3-8CD1-34A50DBF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23D54-032A-4E8E-A497-2AE0AB49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2E1-B9E6-4974-89BB-6FADEEC4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68E1C-42A0-4E26-9984-0330C10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89FAD-66C1-42FA-B190-6694B13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BB3E5-A4A1-43EA-A8A0-72E66F1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573FF-5605-4955-AC6E-AC21BDEE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F1E45-7B62-4D1C-9A67-0E3138E3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325B7-7689-4CF2-8D0D-D45CC06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FB6F9-2708-4A45-B7A8-934DC5B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FC6FC-BF93-4C91-AA15-FA3C610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9B994-10FE-4B49-8510-29570BF5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05759-1463-408B-BE36-3E7CB79E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9F6-259C-40B8-885F-617890C0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51F74-49F2-466E-BD1B-C72F325E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D376-A02F-4718-B86C-9639F4E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8C47-E973-492C-86FA-CB3FE468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E58E6-B931-4CB7-B88A-B09C6CA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53046-A2AC-4C1F-94EE-BAA0EA11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8C8B0-4853-4086-B994-7F884A8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E6AC-8B1D-43BD-BEF8-3E01C1B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54828-63DE-4DE3-816E-A05A5B2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954B6-D431-4ABC-AFEB-91BCBB9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CB5FC-C9D4-4E8B-BC47-9F01B16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7F22-0C9A-4187-B521-1F03CAF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A0F69-3E80-468A-A1CF-7BE3C14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33DBE-22C4-41F0-B5A6-86EDB533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4A2FA-D070-4154-826C-A5174A2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5F1A0-3AD1-4798-B752-1BC04FF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7A830-C56C-4B43-8FCC-DD65065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DF9E-E006-40D8-8DE6-D2B6D78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F03D7-7AC7-455B-B2EB-8BBEBFF4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ADA9C-5429-47B1-B7B4-5C4E45F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51D9C-3298-4F99-9F66-1324F0D9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C1F56-D6E5-4DD6-A70E-93ADAE2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0D9B-E74B-4295-B814-ABE1A93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5C07F-E567-4AB5-BB27-6123002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558F4-53EB-4310-8FBE-B9C3241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E28F1-8D92-400C-8487-62D7A6E5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058BA-2B72-47D7-99A2-2F1E0D9D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1BF47-8B95-4E13-8B0C-DC3E510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D22DF-82EB-47C4-B6B4-5B40CE8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612CA-57A3-4BEB-AADF-18C44863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18D1F-DB9D-4E87-A2E9-3F6DEA1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C360A-F11B-4BDC-9E06-12C78E7B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38E81-8CAE-4FC8-804A-38E6901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5343-EA6A-497F-A815-9E2645FB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F85BD-62E1-428F-AD03-61DA708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E08B6-679B-4462-9A89-D92427C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0DF24-64BB-4B93-8CA8-D56BE1A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B4D7C-88CA-4621-97F2-7AB5C56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A9AF-6859-43CC-8F0B-B2155CC6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11BFA-85BC-46B6-AAA6-15640AB9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6630B-B968-4C25-A2E7-4E061ED1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C4D12-5C5C-4625-904A-69ACCB6D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F4B5B-07E0-42AE-A666-A19B4EC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F91E2-3B9B-42C0-B194-0D4BF123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90EA-39FE-4CAC-ABDB-2980753F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7570F-171C-421B-8A6B-1089B84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1E95E-8A44-4A19-B509-5A4718E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D56B2-6FA8-450F-8477-DA86388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F9AED-B1E5-4C09-AA60-3549B76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5AF2D-C5ED-4FE7-8A32-6955384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BF0EA-C135-4553-8404-6C4285F5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869AD-775A-4562-8246-D2BEDDB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1B177-B604-4520-BC21-D22A98C9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DFD16-EE16-4781-A48E-EF4CBCFD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FD9B3-2601-4001-A0C3-729B61E4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182-AB9E-4ADA-857E-B2D2F19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7F3CB-BC64-47F9-9F39-46CEE3B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89E69-4E5E-43B7-89AC-0F09E6C2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0E4E6-06E7-444A-A849-AB5CD4C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C8822-40E7-4301-AFB1-E6F6E5C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D2CF0-4948-4BCB-8ABE-24F8380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B9305-B49D-4368-ADA0-28F64DB0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5E77B-9397-4B0A-85FD-267714A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36BFD-86E1-46BA-8573-04E22A0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B5338-0B73-4419-A8A5-3409A9F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0A3BE-6664-470F-90AC-A0604574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DB3-CE73-482E-8D20-98A0C6A1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C094D-99E0-4ABE-9D40-9B8F428C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4783F-D47A-4D9B-B510-E30B6C87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A7705-8768-4D32-B975-A10DB0CF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8614E-3847-4501-BE71-331AE8C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CB933-32EE-4E43-BF0E-9C75FBEC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9DB65-2C88-4386-8344-7718A81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A6879-E373-4928-A6EE-071646B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BC2DD-9127-4816-ADA0-D46C1F1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B1500-3913-4762-9343-CF8ED68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9B802-CE73-4852-B8E7-4B44775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BF58-45E2-4E2B-A745-97B2147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10E3F-1CF6-4746-9855-C23B4D2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635BC-704D-4D56-902B-A1C18377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B9426-8A83-4CB5-AC7E-6B2447B3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E0CA6-F2B5-42C4-8A83-E821DC92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88C37-AF6F-4E29-B042-B490811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B9E50-0514-47BB-A7D1-22410B19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0807F-C63C-4CB1-B92E-0C83095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D8781-E6CD-4293-B62F-2F95EB8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BB48C-F4ED-4094-B03E-64BC4FEC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74398-A5B9-4CF7-A6F7-9283A1F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E72-E531-4833-9755-75271BFC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CF1-2ECA-48A3-987A-7CAF4BF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C8B94-F9B3-44DD-9DC8-78E7DFC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C8D6D-32A6-48D7-8C8A-63C1FF5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B7236-885A-47C4-89FE-939B01B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25F81-FD84-4968-BB76-179F7CDC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E936A-0586-45F5-85BF-87C76F8D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91D-A259-49AD-B61B-F8F8FD4D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E6E-1D57-4709-BFA5-E6169D2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2032-399A-4434-B798-4E39F1D0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6123-8205-4E83-8D1D-F83FB974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1642-C561-4F47-9D20-D4FC8C4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D6E7-384E-4A3D-B71C-10719C8E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0699-4E11-49EA-AFA5-2E67A64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6D0A-6F36-4910-928C-55B3650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2D6F-AF56-4FBB-B9D9-42E046A9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8F4-F798-4887-AA62-1724A2B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9E46-BD06-4516-9DE7-20CEA7FE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3024-9F12-49F4-8B62-E230D87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976E-A260-44D4-88C0-EA977FD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7111-31ED-48FD-9126-7A508F5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22AC-382B-4A14-AACF-DD0E2B25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5331-D90B-4A19-90E7-89D95067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3D3D-2F25-4BDC-9773-33922230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0840-7558-4038-9A41-61103059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27B0-8448-47C3-A5D8-96D77AFD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AC52-AC5B-4F56-B5AF-F97E92AE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230-C292-49A8-9559-1FFF334B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7D5E6-EF43-4C71-91F8-DBC04C05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2475-8A9E-498C-BA91-6AE03B6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1E97-EEDB-4B8D-9C81-DDB1B2F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4C8A-A577-459C-A011-46D7C76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833F-B5E2-46B1-9DA2-BC9E846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81FB-712E-476A-BA74-B6BB684D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BCA3-F4AA-4E64-B043-87CB3E3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75D1-50DA-4DE5-B95D-727C01B0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8A6E-98D6-4FEE-8E43-B70EDB1E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F5CF-6312-4495-9B61-30F663B1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A75-7DE5-4EFF-92D6-E815407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8353-E705-49D2-927E-66A110B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1CC7-2991-41FF-8686-7996B39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0365-6FA7-4219-8FB3-C8CE2A17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2D9E-2262-48AA-9794-FD370574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F9E4-4F73-4E8F-9FC4-32237E7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D189-2A98-46BC-A067-AC1AF7D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C3A1-A3C3-48A2-B566-495079F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18D9-0887-4616-97C4-A17615B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1E86-F2BF-4072-B130-05B6965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486A-8B0A-4584-8C94-EC390482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295-C0E2-423C-A238-99CEB17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C619-3FDB-4BC9-82DF-C06A4F79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3D4B-49BA-4845-A3FC-D7820B73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2E4D-830E-42C2-89B4-5D736F5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51643-700D-4F67-B07D-75D5166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C72D7-DB8A-4C72-95DD-6A4EAF6C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327F0-F70A-489D-AA64-D09BC00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A35E-B526-483C-963D-6821CB5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1C61-67D4-42A4-ADA5-9F0A159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AE13-D4C5-4AE0-B474-D5C5C82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9E29-8E7F-461A-8A51-D357500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E3C-9274-4D52-B53B-EE5358E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F2705-E95D-47F9-8F88-34675B6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40ECB-A4C2-4B98-A493-3751BD56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F810-A1D7-455B-A20D-968DCB1E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42BD9-C266-4EE3-8CF7-D0196EFB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98B6-8BFE-46DD-BBB1-97B0242D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11D0-2836-4772-AD44-98A0FDD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BC69-57E7-491C-8E82-E922D83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8F2ED-0AA0-470A-A67D-EFF27E6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D984-E0CD-47C8-90B2-BA68183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A9A6-B299-4B7A-9FA0-F19444E5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40F-C6B7-4589-B74F-7CEA5A6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CFE3-D122-44E6-B53E-5090DC2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141F-C2D9-41E0-BB1D-91112ED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0DDA-E1ED-4152-8D78-394DD86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5A4E-255D-44DB-AFA3-CAF07FC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368E6-44E2-41EC-8670-637EDD7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A56D-A50D-41D3-8716-E152B022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85877-AD2D-4B54-9773-C630D57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78A4-01BD-4750-A29E-4BA6AC7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677E-E6F9-420D-9F36-A25CDF4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0A5C-2D95-4F8A-9FC6-DCF867FE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50B-672A-4530-9353-FFFE33B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AF0C-0B02-4BDD-B74E-59115CE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F773B-D1C5-4FDF-844D-905DC66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9FB5-139C-48AF-8C36-1D91065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C9C0-7CED-4690-B9ED-A30CEA07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50151-BE89-4BEF-9CC5-FC8BED9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9B683-C1E8-4277-973A-B401A66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A280-85ED-4B6E-8F38-937FA0E2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0ED03-C3E1-44AC-9415-70B2466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8D780-CD41-4165-AA2F-388E641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355D-5A30-42A9-BAE1-2BCDD896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439-41C1-4420-AC3F-18165CB031C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A432-376C-460A-B5F2-3AB251B62C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E6C-8D2B-43B2-AF16-7C617C24A4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78C-D93F-4F0F-8D8B-01FCC3813BC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AF5-3EBA-47D6-A797-CE19F35A4F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15DD-528C-4728-AB91-8A6B42F0657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442-12AC-4BE2-9889-E02D621095A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0AF-9B17-4734-985A-60D085378CB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8CD6-056C-469D-A802-0BA8E62E26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42D9-54D3-4423-A397-3E980B8AFE6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9DD3-2A6D-4EEE-9E71-5E1A41D22A8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788B-FBB4-40FC-B728-112F759F426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439F-8999-44C2-81FF-67D27CEE62B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750-107B-4A07-8795-8E275C3B272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8CF-CE32-44F5-ACE3-B347CE3C0D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8AE-FBD2-4D70-BA9F-50945D38CA1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497-ED35-4433-A68A-05498606C6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28600" y="410760"/>
            <a:ext cx="9677520" cy="1381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нтернет и безопасность  детей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525400" y="4919400"/>
            <a:ext cx="680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МЯКОВА МАРИНА ВАЛЕНТИН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ОУ ДОД ЦВР «Гармония» г.Тихорец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2" name="Рисунок 4" descr=""/>
          <p:cNvPicPr/>
          <p:nvPr/>
        </p:nvPicPr>
        <p:blipFill>
          <a:blip r:embed="rId1"/>
          <a:stretch/>
        </p:blipFill>
        <p:spPr>
          <a:xfrm>
            <a:off x="4334040" y="1616040"/>
            <a:ext cx="3073320" cy="32180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4817520" y="219240"/>
            <a:ext cx="26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ДЛЯ ВАС, 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901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емейное соглашение о работе в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77880" y="1521000"/>
            <a:ext cx="10901520" cy="45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ителям и детям нужно составить соглашение о правилах пользования Интернетом, где будут оговорены важные моменты, которые направлены на физическую и моральную безопасность ребенк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 под каким предлогом не соглашаться на установку компьютера в комнате ребенка – он должен стоять в общей, часто посещаемой, комнате. Но не забывайте, что ребенок может выходить в сеть и по мобильному телефон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оворите, сколько времени он может проводить в Интерне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 тем, как зарегистрироваться в чате, форуме или блоге, нужно внимательно прочитать соглашение о конфиденциальности личных данных и правилах поведения  ч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верие, согласие и дружественные отношения между родителями и ребенком помогут оградить его от негатива и возможной опас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ети – наше будуще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645920" y="1547640"/>
            <a:ext cx="88916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ще разговаривайте со своими детьми об обсуждаемых в чате темах, собеседниках, что их заинтересовало или насторожил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гите ребенку найти чаты и форумы по его интересам, направьте его в нужное русло, и он будет меньшее время проводить в поиске какой-либо информации, дрейфуя по сайтам и натыкаясь на ссылки с сомнительными ресурс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62" name="Picture 2" descr="http://www.proza.ru/pics/2011/12/08/578.jpg"/>
          <p:cNvPicPr/>
          <p:nvPr/>
        </p:nvPicPr>
        <p:blipFill>
          <a:blip r:embed="rId1"/>
          <a:stretch/>
        </p:blipFill>
        <p:spPr>
          <a:xfrm>
            <a:off x="4237200" y="4114800"/>
            <a:ext cx="3747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http://papandos.ru/_bl/0/80586357.jpg"/>
          <p:cNvPicPr/>
          <p:nvPr/>
        </p:nvPicPr>
        <p:blipFill>
          <a:blip r:embed="rId1"/>
          <a:stretch/>
        </p:blipFill>
        <p:spPr>
          <a:xfrm>
            <a:off x="6872400" y="1468440"/>
            <a:ext cx="4802040" cy="409248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57440" y="285840"/>
            <a:ext cx="761688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урсы: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696760" y="1098360"/>
            <a:ext cx="61326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kaspersky.ru/keeping_children_saf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internet-kontrol.ru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oszone.net/6213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microsoft.com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kaspersky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mail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onlandia.org.ua/rus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ant.pc777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rusureg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interneshka.ne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inetetiq.pp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saferinternet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content-filtering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rgdb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totalbrest.cityline.b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AutoShape 2"/>
          <p:cNvSpPr/>
          <p:nvPr/>
        </p:nvSpPr>
        <p:spPr>
          <a:xfrm>
            <a:off x="4827600" y="804960"/>
            <a:ext cx="1420920" cy="14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ети и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77880" y="2779560"/>
            <a:ext cx="1085544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ЮСЫ ИНТЕРНЕТ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еративность получения любой информ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ние: Мой мир, Контакт, Одноклассники, и другие социальные сервисы и форумы…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ие в международных конкурсах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учения дополнительного образован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еспечение досуг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ние информационной компетентности, включающая умение работать с информацией: находить, получать, анализировать, систематизировать и использо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6" name="Picture 2" descr="http://im2-tub-ru.yandex.net/i?id=543736726-60-72&amp;n=21"/>
          <p:cNvPicPr/>
          <p:nvPr/>
        </p:nvPicPr>
        <p:blipFill>
          <a:blip r:embed="rId1"/>
          <a:stretch/>
        </p:blipFill>
        <p:spPr>
          <a:xfrm>
            <a:off x="5977080" y="555480"/>
            <a:ext cx="28922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60520" y="217440"/>
            <a:ext cx="110188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пасности, подстерегающие юных пользователей в Интернете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879120" y="-351000"/>
            <a:ext cx="7978680" cy="65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rebuchet MS"/>
              </a:rPr>
              <a:t>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УСЫ ИНТЕРНЕТ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порядочная недостоверная информац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худшение здоровья: потеря зрения (компьютерный зрительный синдром)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подинами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кривление осанк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ические и интеллектуальные нарушения развит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дная информация (асоциальные сайты): религиозные секты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кстремистские сайты (скинхеды, неонацисты, исламисты и др.)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цензурная лексика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логическое давление:  маньяки, мошенники, подростковая агресс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9" name="Рисунок 4" descr="C:\Users\VCT\Desktop\inet.jpg"/>
          <p:cNvPicPr/>
          <p:nvPr/>
        </p:nvPicPr>
        <p:blipFill>
          <a:blip r:embed="rId1"/>
          <a:stretch/>
        </p:blipFill>
        <p:spPr>
          <a:xfrm>
            <a:off x="8650440" y="3292560"/>
            <a:ext cx="31366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щита детей в Интернете.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53800" y="3749400"/>
            <a:ext cx="9658440" cy="2676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ДЛЯ РОДИТЕЛЕЙ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svobodanews.ru/content/transcript/46 2683.html - Дети и Интернет, как защитить ребенка от асоциальных сайтов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icrosoft.com/rus/protect/athome/chil dren/kidsafetyfaq.mspx - Дети и Интернет частые вопросы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icrosoft.com/rus/protect/athome/chil dren/parentsguide.mspx - Руководство для родителей по безопасности детей в интернете: возраст и этапы развит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psynavigator.ru/articles.php?code=538 - Чума XXI века – интернет-зависимос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7176960" y="387360"/>
            <a:ext cx="42213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809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ля безопасности ваших детей в сети Интерне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оворите с ними о возможных опасностя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ьзуйтесь интернетом вмест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ощряйте обсуждение онлайн-опы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формулируйте правила работы в интернет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настроек программного обеспечения ограничивайте доступ ребенка к определенному контент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забывайте также следовать всем другим правилам защиты от вредоносных программ и хакерских ата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5" name="Рисунок 1" descr=""/>
          <p:cNvPicPr/>
          <p:nvPr/>
        </p:nvPicPr>
        <p:blipFill>
          <a:blip r:embed="rId1"/>
          <a:stretch/>
        </p:blipFill>
        <p:spPr>
          <a:xfrm>
            <a:off x="7288200" y="1168560"/>
            <a:ext cx="45165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868320" y="2160360"/>
            <a:ext cx="10561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огда не сообщайте свои имя, номер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лефона, адрес проживания или учебы, парол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номера кредитных карт, любимые места отдых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проведения досуг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йте нейтральное экранное имя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выдающее никаких личных сведений, в том числе и опосредованных: о школе, в которой вы учитесь, места, которые часто посещаете или планируете посети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5680" y="609120"/>
            <a:ext cx="9188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формулируйте правила, указывающие, что вашим детям разрешается делать в Интернете, а что нет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48" name="Рисунок 1" descr=""/>
          <p:cNvPicPr/>
          <p:nvPr/>
        </p:nvPicPr>
        <p:blipFill>
          <a:blip r:embed="rId1"/>
          <a:stretch/>
        </p:blipFill>
        <p:spPr>
          <a:xfrm>
            <a:off x="7999560" y="1477800"/>
            <a:ext cx="34304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0831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езопасность при пользовании интернет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53520" y="1819080"/>
            <a:ext cx="7108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вас что-то пугает в работе компьютера, немедленно выключите его. Расскажите об этом родителям или другим взрослы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гда сообщайте взрослым обо всех случаях в Интернете, которые вызвали у вас смущение или тревог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йте фильтры электронной почты для блокирования спама и нежелательных  сообщени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огда не соглашайтесь на личную встречу с людьми, с которыми вы познакомились в Интернете. О подобных предложениях немедленно расскажите родителя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ращайте любые контакты по электронной почте, в системе обмена мгновенными сообщениями или в чатах, если кто-нибудь начинает задавать вам вопросы личного характера или содержащие сексуальные намеки. Расскажите об этом родителя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51" name="Рисунок 2" descr=""/>
          <p:cNvPicPr/>
          <p:nvPr/>
        </p:nvPicPr>
        <p:blipFill>
          <a:blip r:embed="rId1"/>
          <a:stretch/>
        </p:blipFill>
        <p:spPr>
          <a:xfrm>
            <a:off x="8461440" y="1930320"/>
            <a:ext cx="3047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http://kolyan.net/uploads/posts/2008-10/thumbs/1223891155_1919638.jpg"/>
          <p:cNvPicPr/>
          <p:nvPr/>
        </p:nvPicPr>
        <p:blipFill>
          <a:blip r:embed="rId1"/>
          <a:stretch/>
        </p:blipFill>
        <p:spPr>
          <a:xfrm>
            <a:off x="7399440" y="811080"/>
            <a:ext cx="4384440" cy="27324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77520" y="296640"/>
            <a:ext cx="859644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аши дети умнее, чем вы думаете…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77520" y="3543480"/>
            <a:ext cx="8596440" cy="28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ществует большое количество программного обеспечения, с помощью которого можно осуществлять «Родительский контроль», многие антивирусы имеют эту функцию в своем арсенале. Родительский контроль так же представлен и в самой операционной системе Windows 8.1 и Windows 10, но это спасает лишь отчасти.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льзя наивно думать, что если вы скачали программу из Интернета, проблема решен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ши дети умнее, чем вы думаете, они легко могут обойти все преграды и добиться своего. Поэтому, лучше быть на шаг вперед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79160" y="609480"/>
            <a:ext cx="112582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Лучший способ защиты детей – правильное воспит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77880" y="1615680"/>
            <a:ext cx="110599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rebuchet MS"/>
              </a:rPr>
              <a:t>•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своего ребенка отличать хорошее от плохого. 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Объясните ему, как следует вести себя в той или иной ситуации. Предупрежден - значит вооружен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Помогайте ребенку решить его детские проблемы, даже если они вам кажутся пустяковым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должен всегда чувствовать вашу поддержку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Все то, чему вы учите своего ребенка, вы должны подкреплять собственным примером, иначе от обучения будет мало польз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ните, что правильное воспитание - залог хорошего будущего ребенка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57" name="Рисунок 1" descr=""/>
          <p:cNvPicPr/>
          <p:nvPr/>
        </p:nvPicPr>
        <p:blipFill>
          <a:blip r:embed="rId1"/>
          <a:stretch/>
        </p:blipFill>
        <p:spPr>
          <a:xfrm>
            <a:off x="9356760" y="3805200"/>
            <a:ext cx="2595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3:38:55Z</dcterms:created>
  <dc:creator>Galina</dc:creator>
  <dc:description/>
  <dc:language>en-US</dc:language>
  <cp:lastModifiedBy>Admin</cp:lastModifiedBy>
  <dcterms:modified xsi:type="dcterms:W3CDTF">2015-05-05T02:19:14Z</dcterms:modified>
  <cp:revision>34</cp:revision>
  <dc:subject/>
  <dc:title>Интернет и безопасность</dc:title>
</cp:coreProperties>
</file>