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9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BB624-84D2-42C6-A926-CD3589E4C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77068-B45D-4B39-8CBC-3822403CE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B3469-8404-4A08-A391-D31887469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AD77A-E6A4-4ABA-81A2-8459F63F0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3F39E-7B76-4817-8658-C55AAF083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DE70E-B98E-4FB0-B796-0FBCF6D73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E43E4-0FD1-4BEF-876D-0E494FC0E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F6A87-0EE3-43B3-BF9F-D5A5AFC3D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D18C5-F2DF-40CA-AD3A-069407FEA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A185D-7615-48BF-B94A-09A36469F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C038C-EED7-48F3-AA90-70D6D0825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9D097-6E13-4065-BEAB-7A928B362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30883-2041-4EDF-BF40-CCCBC3C161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осударственное бюджетное образовательное учреждение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реднего профессионального образования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«Чапаевский губернский колледж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495288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етодическая разработ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«Организация двигательной деятельности детей дошкольного возраст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овместно с родителям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4038480" y="304920"/>
          <a:ext cx="857520" cy="85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04920"/>
                    <a:ext cx="857520" cy="85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2743200" y="5943600"/>
            <a:ext cx="64008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тветственный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нструктор по физической культур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Фофонова Инна Валерьев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3124080" y="1981080"/>
            <a:ext cx="283860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990720" y="1523880"/>
            <a:ext cx="7162560" cy="312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Благодарю за внимание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228240" y="6858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Цель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влечь внимание родителей к значимости детской подвижной игры и спортивных упражнен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Муниципальное казённое дошкольное образовательное учреждение"/>
          <p:cNvPicPr/>
          <p:nvPr/>
        </p:nvPicPr>
        <p:blipFill>
          <a:blip r:embed="rId1"/>
          <a:stretch/>
        </p:blipFill>
        <p:spPr>
          <a:xfrm>
            <a:off x="2057400" y="1600200"/>
            <a:ext cx="50101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Этапы рабо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1066680"/>
            <a:ext cx="3048120" cy="137160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.Знакомство с отношением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семь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к физическому воспитанию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детей дошкольного возраст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419720"/>
            <a:ext cx="2971800" cy="990360"/>
          </a:xfrm>
          <a:prstGeom prst="rect">
            <a:avLst/>
          </a:prstGeom>
          <a:solidFill>
            <a:srgbClr val="00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3.Разработка картотеки игр 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спортивных упражнений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648320" y="2666880"/>
            <a:ext cx="1676160" cy="99072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Анкета «Любимы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игры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вашего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ребенк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28600" y="2743200"/>
            <a:ext cx="1905120" cy="91440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Анкета «Как стать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крепким и здоровым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286000" y="2743200"/>
            <a:ext cx="1905120" cy="91440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Анкет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«Диалог с родителями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838080" y="2438280"/>
            <a:ext cx="486000" cy="3668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819520" y="2438280"/>
            <a:ext cx="485640" cy="3668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81480" y="1066680"/>
            <a:ext cx="2971800" cy="129564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.Формирова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установк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на сотрудничеств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05520" y="4419720"/>
            <a:ext cx="2971800" cy="990360"/>
          </a:xfrm>
          <a:prstGeom prst="rect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4.Видео презентаци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мастер класса н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род. собра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48320" y="2666880"/>
            <a:ext cx="1676160" cy="99072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Анкета «Любимы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игры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вашего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ребенк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53080" y="2666880"/>
            <a:ext cx="1828800" cy="99072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Консультац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«Поиграем вместе!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486400" y="2362320"/>
            <a:ext cx="485640" cy="366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086600" y="2362320"/>
            <a:ext cx="485640" cy="366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Картинки &quot;Семья&quot; &quot; ALLDAY - народный сайт о дизайне"/>
          <p:cNvPicPr/>
          <p:nvPr/>
        </p:nvPicPr>
        <p:blipFill>
          <a:blip r:embed="rId1"/>
          <a:stretch/>
        </p:blipFill>
        <p:spPr>
          <a:xfrm>
            <a:off x="1447920" y="2209680"/>
            <a:ext cx="6476760" cy="423864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«Делай как я!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«Мы вместе!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Главное  правило для родителей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Формы двигательной деятель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1371600"/>
            <a:ext cx="2065320" cy="792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00ff"/>
                </a:solidFill>
                <a:latin typeface="Arial"/>
              </a:rPr>
              <a:t>Физкультурны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00ff"/>
                </a:solidFill>
                <a:latin typeface="Arial"/>
              </a:rPr>
              <a:t>занят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00ff"/>
                </a:solidFill>
                <a:latin typeface="Arial"/>
              </a:rPr>
              <a:t>(2 раза в неделю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2362320"/>
            <a:ext cx="2065320" cy="792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00ff"/>
                </a:solidFill>
                <a:latin typeface="Arial"/>
              </a:rPr>
              <a:t>Утренняя гимнасти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00ff"/>
                </a:solidFill>
                <a:latin typeface="Arial"/>
              </a:rPr>
              <a:t>(ежедневно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28600" y="3505320"/>
            <a:ext cx="2065320" cy="9349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00ff"/>
                </a:solidFill>
                <a:latin typeface="Arial"/>
              </a:rPr>
              <a:t>Динамическ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00ff"/>
                </a:solidFill>
                <a:latin typeface="Arial"/>
              </a:rPr>
              <a:t>ча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00ff"/>
                </a:solidFill>
                <a:latin typeface="Arial"/>
              </a:rPr>
              <a:t>(1 раз в недел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00ff"/>
                </a:solidFill>
                <a:latin typeface="Arial"/>
              </a:rPr>
              <a:t>на свежем воздухе</a:t>
            </a:r>
            <a:r>
              <a:rPr b="0" lang="en-US" sz="1600" spc="-1" strike="noStrike">
                <a:solidFill>
                  <a:srgbClr val="6600ff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28600" y="4724280"/>
            <a:ext cx="2065320" cy="792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00ff"/>
                </a:solidFill>
                <a:latin typeface="Arial"/>
              </a:rPr>
              <a:t>Дыхательна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00ff"/>
                </a:solidFill>
                <a:latin typeface="Arial"/>
              </a:rPr>
              <a:t>гимнасти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04920" y="5791320"/>
            <a:ext cx="2065320" cy="792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00ff"/>
                </a:solidFill>
                <a:latin typeface="Arial"/>
              </a:rPr>
              <a:t>Проектна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00ff"/>
                </a:solidFill>
                <a:latin typeface="Arial"/>
              </a:rPr>
              <a:t>деятельн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590920" y="1447920"/>
            <a:ext cx="2065320" cy="792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00ff"/>
                </a:solidFill>
                <a:latin typeface="Arial"/>
              </a:rPr>
              <a:t>Прогулки 1и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00ff"/>
                </a:solidFill>
                <a:latin typeface="Arial"/>
              </a:rPr>
              <a:t>подвижные игр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514600" y="2514600"/>
            <a:ext cx="2065320" cy="792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00ff"/>
                </a:solidFill>
                <a:latin typeface="Arial"/>
              </a:rPr>
              <a:t>Физкультурны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00ff"/>
                </a:solidFill>
                <a:latin typeface="Arial"/>
              </a:rPr>
              <a:t>развлеч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00ff"/>
                </a:solidFill>
                <a:latin typeface="Arial"/>
              </a:rPr>
              <a:t>(1 раз в месяц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590920" y="3657600"/>
            <a:ext cx="2065320" cy="792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00ff"/>
                </a:solidFill>
                <a:latin typeface="Arial"/>
              </a:rPr>
              <a:t>Проведение Малых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00ff"/>
                </a:solidFill>
                <a:latin typeface="Arial"/>
              </a:rPr>
              <a:t>Олимпийских иг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00ff"/>
                </a:solidFill>
                <a:latin typeface="Arial"/>
              </a:rPr>
              <a:t>(2 раза в год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514600" y="4724280"/>
            <a:ext cx="2065320" cy="792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00ff"/>
                </a:solidFill>
                <a:latin typeface="Arial"/>
              </a:rPr>
              <a:t>Самостоятельна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00ff"/>
                </a:solidFill>
                <a:latin typeface="Arial"/>
              </a:rPr>
              <a:t>двигательна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00ff"/>
                </a:solidFill>
                <a:latin typeface="Arial"/>
              </a:rPr>
              <a:t>деятельн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14600" y="5791320"/>
            <a:ext cx="2065320" cy="792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00ff"/>
                </a:solidFill>
                <a:latin typeface="Arial"/>
              </a:rPr>
              <a:t>Дн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00ff"/>
                </a:solidFill>
                <a:latin typeface="Arial"/>
              </a:rPr>
              <a:t>канику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800600" y="1447920"/>
            <a:ext cx="2065320" cy="792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00ff"/>
                </a:solidFill>
                <a:latin typeface="Arial"/>
              </a:rPr>
              <a:t>Закаливающ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00ff"/>
                </a:solidFill>
                <a:latin typeface="Arial"/>
              </a:rPr>
              <a:t>процедур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00ff"/>
                </a:solidFill>
                <a:latin typeface="Arial"/>
              </a:rPr>
              <a:t>(ежедневно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010280" y="1447920"/>
            <a:ext cx="1727280" cy="792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00ff"/>
                </a:solidFill>
                <a:latin typeface="Arial"/>
              </a:rPr>
              <a:t>Работа с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00ff"/>
                </a:solidFill>
                <a:latin typeface="Arial"/>
              </a:rPr>
              <a:t>родителям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800600" y="2514600"/>
            <a:ext cx="2065320" cy="792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00ff"/>
                </a:solidFill>
                <a:latin typeface="Arial"/>
              </a:rPr>
              <a:t>День здоровь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800600" y="3657600"/>
            <a:ext cx="2065320" cy="792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00ff"/>
                </a:solidFill>
                <a:latin typeface="Arial"/>
              </a:rPr>
              <a:t>Спортивная секц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00ff"/>
                </a:solidFill>
                <a:latin typeface="Arial"/>
              </a:rPr>
              <a:t>ДЮС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00ff"/>
                </a:solidFill>
                <a:latin typeface="Arial"/>
              </a:rPr>
              <a:t>1 раз в недел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800600" y="4724280"/>
            <a:ext cx="2065320" cy="792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00ff"/>
                </a:solidFill>
                <a:latin typeface="Arial"/>
              </a:rPr>
              <a:t>Секция здоровь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00ff"/>
                </a:solidFill>
                <a:latin typeface="Arial"/>
              </a:rPr>
              <a:t>«Здоровячек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00ff"/>
                </a:solidFill>
                <a:latin typeface="Arial"/>
              </a:rPr>
              <a:t>2 раза в меся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724280" y="5791320"/>
            <a:ext cx="2065320" cy="792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600ff"/>
                </a:solidFill>
                <a:latin typeface="Arial"/>
              </a:rPr>
              <a:t>Спортивная секц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600ff"/>
                </a:solidFill>
                <a:latin typeface="Arial"/>
              </a:rPr>
              <a:t>«Крошка Ру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600ff"/>
                </a:solidFill>
                <a:latin typeface="Arial"/>
              </a:rPr>
              <a:t>1 раз недел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010280" y="2514600"/>
            <a:ext cx="1727280" cy="792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00ff"/>
                </a:solidFill>
                <a:latin typeface="Arial"/>
              </a:rPr>
              <a:t>Беседы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00ff"/>
                </a:solidFill>
                <a:latin typeface="Arial"/>
              </a:rPr>
              <a:t>консультац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00ff"/>
                </a:solidFill>
                <a:latin typeface="Arial"/>
              </a:rPr>
              <a:t>встреча с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00ff"/>
                </a:solidFill>
                <a:latin typeface="Arial"/>
              </a:rPr>
              <a:t>специалистам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010280" y="3657600"/>
            <a:ext cx="1727280" cy="792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00ff"/>
                </a:solidFill>
                <a:latin typeface="Arial"/>
              </a:rPr>
              <a:t>Совместны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00ff"/>
                </a:solidFill>
                <a:latin typeface="Arial"/>
              </a:rPr>
              <a:t>спортивны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00ff"/>
                </a:solidFill>
                <a:latin typeface="Arial"/>
              </a:rPr>
              <a:t>мероприят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010280" y="4724280"/>
            <a:ext cx="1727280" cy="792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00ff"/>
                </a:solidFill>
                <a:latin typeface="Arial"/>
              </a:rPr>
              <a:t>Похо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934320" y="5791320"/>
            <a:ext cx="1726920" cy="792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00ff"/>
                </a:solidFill>
                <a:latin typeface="Arial"/>
              </a:rPr>
              <a:t>Экскурсии з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00ff"/>
                </a:solidFill>
                <a:latin typeface="Arial"/>
              </a:rPr>
              <a:t>предел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00ff"/>
                </a:solidFill>
                <a:latin typeface="Arial"/>
              </a:rPr>
              <a:t>детского сад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295280" y="5486400"/>
            <a:ext cx="152640" cy="228600"/>
          </a:xfrm>
          <a:prstGeom prst="downArrow">
            <a:avLst>
              <a:gd name="adj1" fmla="val 50000"/>
              <a:gd name="adj2" fmla="val 37441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29000" y="5562720"/>
            <a:ext cx="152280" cy="2286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15000" y="5562720"/>
            <a:ext cx="152280" cy="2286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848720" y="5562720"/>
            <a:ext cx="152280" cy="2286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848720" y="4495680"/>
            <a:ext cx="152280" cy="2286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715000" y="4495680"/>
            <a:ext cx="152280" cy="2286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29000" y="4495680"/>
            <a:ext cx="152280" cy="2286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219320" y="4495680"/>
            <a:ext cx="152280" cy="2286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143000" y="3200400"/>
            <a:ext cx="152280" cy="2286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429000" y="3352680"/>
            <a:ext cx="152280" cy="2286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715000" y="3352680"/>
            <a:ext cx="152280" cy="2286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848720" y="3352680"/>
            <a:ext cx="152280" cy="2286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772400" y="2286000"/>
            <a:ext cx="152280" cy="2286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638680" y="2286000"/>
            <a:ext cx="152640" cy="228600"/>
          </a:xfrm>
          <a:prstGeom prst="downArrow">
            <a:avLst>
              <a:gd name="adj1" fmla="val 50000"/>
              <a:gd name="adj2" fmla="val 37441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429000" y="2286000"/>
            <a:ext cx="152280" cy="2286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133720"/>
            <a:ext cx="152640" cy="228600"/>
          </a:xfrm>
          <a:prstGeom prst="downArrow">
            <a:avLst>
              <a:gd name="adj1" fmla="val 50000"/>
              <a:gd name="adj2" fmla="val 37441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1333440" y="1600200"/>
            <a:ext cx="6059160" cy="3429000"/>
            <a:chOff x="1333440" y="1600200"/>
            <a:chExt cx="6059160" cy="3429000"/>
          </a:xfrm>
        </p:grpSpPr>
        <p:sp>
          <p:nvSpPr>
            <p:cNvPr id="105" name=""/>
            <p:cNvSpPr/>
            <p:nvPr/>
          </p:nvSpPr>
          <p:spPr>
            <a:xfrm>
              <a:off x="1791000" y="1600200"/>
              <a:ext cx="1599480" cy="45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От 3-х до 5-ти лет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334120" y="1600200"/>
              <a:ext cx="1599120" cy="45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От 5-ти до 6-ти лет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933640" y="2056680"/>
              <a:ext cx="2856600" cy="45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        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Главное правило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562400" y="2628720"/>
              <a:ext cx="194256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«Мы играем вместе!»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105160" y="2628720"/>
              <a:ext cx="2285640" cy="571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«Мы  играем вместе, но мы  «соперники»!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 rot="10800000">
              <a:off x="2247480" y="2171160"/>
              <a:ext cx="686160" cy="390960"/>
            </a:xfrm>
            <a:custGeom>
              <a:avLst/>
              <a:gdLst>
                <a:gd name="textAreaLeft" fmla="*/ 228600 w 686160"/>
                <a:gd name="textAreaRight" fmla="*/ 587880 w 686160"/>
                <a:gd name="textAreaTop" fmla="*/ 225360 h 390960"/>
                <a:gd name="textAreaBottom" fmla="*/ 334800 h 390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 flipH="1" rot="10800000">
              <a:off x="5789520" y="2170800"/>
              <a:ext cx="798840" cy="342360"/>
            </a:xfrm>
            <a:custGeom>
              <a:avLst/>
              <a:gdLst>
                <a:gd name="textAreaLeft" fmla="*/ 266400 w 798840"/>
                <a:gd name="textAreaRight" fmla="*/ 684360 w 798840"/>
                <a:gd name="textAreaTop" fmla="*/ 163080 h 342360"/>
                <a:gd name="textAreaBottom" fmla="*/ 293400 h 342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3400"/>
                  </a:moveTo>
                  <a:lnTo>
                    <a:pt x="10300" y="13400"/>
                  </a:lnTo>
                  <a:lnTo>
                    <a:pt x="10300" y="7200"/>
                  </a:lnTo>
                  <a:lnTo>
                    <a:pt x="7200" y="7200"/>
                  </a:lnTo>
                  <a:lnTo>
                    <a:pt x="1440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105160" y="3543120"/>
              <a:ext cx="2287440" cy="1486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Игры эстафеты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Игры с элементами спортивных игр и упражнений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Игры против команды соседей, друзей или заномых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333440" y="3543120"/>
              <a:ext cx="2287440" cy="1486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Игры с мячом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Спортивные упражнен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018880" y="3086280"/>
              <a:ext cx="486000" cy="4564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019560" y="3200760"/>
              <a:ext cx="486360" cy="3492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2895480" y="304920"/>
            <a:ext cx="266724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Прогул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2437920" y="837720"/>
            <a:ext cx="685800" cy="390600"/>
          </a:xfrm>
          <a:custGeom>
            <a:avLst/>
            <a:gdLst>
              <a:gd name="textAreaLeft" fmla="*/ 228600 w 685800"/>
              <a:gd name="textAreaRight" fmla="*/ 587520 w 685800"/>
              <a:gd name="textAreaTop" fmla="*/ 225000 h 390600"/>
              <a:gd name="textAreaBottom" fmla="*/ 334800 h 39060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 rot="10800000">
            <a:off x="5334120" y="837720"/>
            <a:ext cx="799920" cy="343080"/>
          </a:xfrm>
          <a:custGeom>
            <a:avLst/>
            <a:gdLst>
              <a:gd name="textAreaLeft" fmla="*/ 266760 w 799920"/>
              <a:gd name="textAreaRight" fmla="*/ 685080 w 799920"/>
              <a:gd name="textAreaTop" fmla="*/ 163440 h 343080"/>
              <a:gd name="textAreaBottom" fmla="*/ 294120 h 343080"/>
            </a:gdLst>
            <a:ahLst/>
            <a:rect l="textAreaLeft" t="textAreaTop" r="textAreaRight" b="textAreaBottom"/>
            <a:pathLst>
              <a:path w="21600" h="21600">
                <a:moveTo>
                  <a:pt x="0" y="13400"/>
                </a:moveTo>
                <a:lnTo>
                  <a:pt x="10300" y="13400"/>
                </a:lnTo>
                <a:lnTo>
                  <a:pt x="10300" y="7200"/>
                </a:lnTo>
                <a:lnTo>
                  <a:pt x="7200" y="7200"/>
                </a:lnTo>
                <a:lnTo>
                  <a:pt x="1440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154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-2133720" y="160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531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Совместные дискоте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3809880" cy="317664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4495680" y="1600200"/>
            <a:ext cx="381312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304920" y="152388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4648320" y="2971800"/>
            <a:ext cx="4038480" cy="302904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овместные НН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Совместные развлечения и праздни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457200" y="234792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08T10:02:00Z</dcterms:created>
  <dc:creator>инна</dc:creator>
  <dc:description/>
  <dc:language>en-US</dc:language>
  <cp:lastModifiedBy>инна</cp:lastModifiedBy>
  <dcterms:modified xsi:type="dcterms:W3CDTF">2015-05-04T07:01:16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