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013-6407-454E-8BEB-BBF0D4DD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A50-A796-4CCC-9150-E53C906F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B9D-EE06-4871-B4DD-B3C8EB55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A6D-005F-40DC-8697-96B31451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C64-F0FC-4F71-8176-1402CE2E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CFA-9F06-4BDB-B068-CE7DD472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695-5765-4EC9-9662-9F998EDC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002-1CE7-439B-A757-CF17753F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AC7-FC62-4C36-853A-B5485853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438-3EE8-425A-A1B2-39399542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E34-56AE-4204-898F-31895F96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282-DBD6-4BEB-81FC-1F8584E4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B219-4402-4C19-B309-240416C74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его профессионального образован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апаевский губерн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952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ическая раз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рганизация двигательной деятельности детей дошкольного возра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но с родителя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038480" y="304920"/>
          <a:ext cx="85752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4920"/>
                    <a:ext cx="857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743200" y="59436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тственны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фонова Инна Валер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124080" y="1981080"/>
            <a:ext cx="2838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90720" y="1523880"/>
            <a:ext cx="716256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Благодарю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лечь внимание родителей к значимости детской подвижной игры и спортивных упраж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Муниципальное казённое дошкольное образовательное учреждение"/>
          <p:cNvPicPr/>
          <p:nvPr/>
        </p:nvPicPr>
        <p:blipFill>
          <a:blip r:embed="rId1"/>
          <a:stretch/>
        </p:blipFill>
        <p:spPr>
          <a:xfrm>
            <a:off x="2057400" y="1600200"/>
            <a:ext cx="501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066680"/>
            <a:ext cx="3048120" cy="1371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Знакомство с отнош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емь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 физическому воспита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етей дошкольного возраст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419720"/>
            <a:ext cx="2971800" cy="99036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Разработка картотеки игр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портивных упражнений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2666880"/>
            <a:ext cx="167616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кета «Любим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ашег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бе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743200"/>
            <a:ext cx="1905120" cy="9144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кета «Как ст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репким и здоровы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2743200"/>
            <a:ext cx="1905120" cy="9144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к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«Диалог с родителя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438280"/>
            <a:ext cx="486000" cy="366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438280"/>
            <a:ext cx="485640" cy="366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1066680"/>
            <a:ext cx="2971800" cy="1295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Форм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стан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 сотрудни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419720"/>
            <a:ext cx="2971800" cy="990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Видео презент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астер класса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од. собр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666880"/>
            <a:ext cx="167616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кета «Любим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ашег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бе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2666880"/>
            <a:ext cx="182880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онсуль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«Поиграем вмест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362320"/>
            <a:ext cx="485640" cy="36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2362320"/>
            <a:ext cx="485640" cy="36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Картинки &quot;Семья&quot; &quot; ALLDAY - народный сайт о дизайне"/>
          <p:cNvPicPr/>
          <p:nvPr/>
        </p:nvPicPr>
        <p:blipFill>
          <a:blip r:embed="rId1"/>
          <a:stretch/>
        </p:blipFill>
        <p:spPr>
          <a:xfrm>
            <a:off x="1447920" y="2209680"/>
            <a:ext cx="6476760" cy="423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Делай как я!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Мы вместе!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ное  правило для родите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ы двиг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37160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Физкультур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(2 раза в недел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36232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Утренняя гимна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(ежедневн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2065320" cy="93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инам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(1 раз в нед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на свежем воздухе</a:t>
            </a:r>
            <a:r>
              <a:rPr b="0" lang="en-US" sz="1600" spc="-1" strike="noStrike">
                <a:solidFill>
                  <a:srgbClr val="66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724280"/>
            <a:ext cx="206532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ыхате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гимна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79132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роект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44792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рогулки 1и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одвижные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51460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Физкультур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(1 раз в месяц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65760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роведение Мал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(2 раза в го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4724280"/>
            <a:ext cx="206532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Самосто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виг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579132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каник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44792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Закалива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роцед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(ежедневн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1447920"/>
            <a:ext cx="172728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Работа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род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251460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ень здоров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365760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Спортивная сек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ЮС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1 раз в нед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724280"/>
            <a:ext cx="206532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Секция здоров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«Здоровяче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2 раза 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79132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</a:rPr>
              <a:t>Спортивная сек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</a:rPr>
              <a:t>«Крошка Р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</a:rPr>
              <a:t>1 раз нед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514600"/>
            <a:ext cx="172728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Бесе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консуль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встреча с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специалис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657600"/>
            <a:ext cx="172728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Совмест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спор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10280" y="4724280"/>
            <a:ext cx="17272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о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5791320"/>
            <a:ext cx="17269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Экскурсии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реде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етского с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48640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5562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562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5562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20040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228600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28600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28600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13372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333440" y="1600200"/>
            <a:ext cx="6059160" cy="3429000"/>
            <a:chOff x="1333440" y="1600200"/>
            <a:chExt cx="6059160" cy="3429000"/>
          </a:xfrm>
        </p:grpSpPr>
        <p:sp>
          <p:nvSpPr>
            <p:cNvPr id="105" name=""/>
            <p:cNvSpPr/>
            <p:nvPr/>
          </p:nvSpPr>
          <p:spPr>
            <a:xfrm>
              <a:off x="1791000" y="1600200"/>
              <a:ext cx="1599480" cy="45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т 3-х до 5-ти л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4120" y="1600200"/>
              <a:ext cx="1599120" cy="45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т 5-ти до 6-ти л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3640" y="2056680"/>
              <a:ext cx="2856600" cy="45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лавное правил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400" y="2628720"/>
              <a:ext cx="1942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Мы играем вместе!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05160" y="2628720"/>
              <a:ext cx="228564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Мы  играем вместе, но мы  «соперники»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2247480" y="2171160"/>
              <a:ext cx="686160" cy="390960"/>
            </a:xfrm>
            <a:custGeom>
              <a:avLst/>
              <a:gdLst>
                <a:gd name="textAreaLeft" fmla="*/ 228600 w 686160"/>
                <a:gd name="textAreaRight" fmla="*/ 587880 w 686160"/>
                <a:gd name="textAreaTop" fmla="*/ 225360 h 390960"/>
                <a:gd name="textAreaBottom" fmla="*/ 334800 h 39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10800000">
              <a:off x="5789520" y="2170800"/>
              <a:ext cx="798840" cy="342360"/>
            </a:xfrm>
            <a:custGeom>
              <a:avLst/>
              <a:gdLst>
                <a:gd name="textAreaLeft" fmla="*/ 266400 w 798840"/>
                <a:gd name="textAreaRight" fmla="*/ 684360 w 798840"/>
                <a:gd name="textAreaTop" fmla="*/ 163080 h 342360"/>
                <a:gd name="textAreaBottom" fmla="*/ 293400 h 34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400"/>
                  </a:moveTo>
                  <a:lnTo>
                    <a:pt x="10300" y="13400"/>
                  </a:lnTo>
                  <a:lnTo>
                    <a:pt x="10300" y="7200"/>
                  </a:lnTo>
                  <a:lnTo>
                    <a:pt x="7200" y="7200"/>
                  </a:lnTo>
                  <a:lnTo>
                    <a:pt x="1440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05160" y="3543120"/>
              <a:ext cx="228744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гры эстафет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гры с элементами спортивных игр и упражнени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гры против команды соседей, друзей или заном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33440" y="3543120"/>
              <a:ext cx="228744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гры с мяч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ортивные упраж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18880" y="3086280"/>
              <a:ext cx="486000" cy="456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560" y="3200760"/>
              <a:ext cx="486360" cy="349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895480" y="304920"/>
            <a:ext cx="26672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у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2437920" y="837720"/>
            <a:ext cx="685800" cy="390600"/>
          </a:xfrm>
          <a:custGeom>
            <a:avLst/>
            <a:gdLst>
              <a:gd name="textAreaLeft" fmla="*/ 228600 w 685800"/>
              <a:gd name="textAreaRight" fmla="*/ 587520 w 685800"/>
              <a:gd name="textAreaTop" fmla="*/ 225000 h 390600"/>
              <a:gd name="textAreaBottom" fmla="*/ 334800 h 390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rot="10800000">
            <a:off x="5334120" y="837720"/>
            <a:ext cx="799920" cy="343080"/>
          </a:xfrm>
          <a:custGeom>
            <a:avLst/>
            <a:gdLst>
              <a:gd name="textAreaLeft" fmla="*/ 266760 w 799920"/>
              <a:gd name="textAreaRight" fmla="*/ 685080 w 799920"/>
              <a:gd name="textAreaTop" fmla="*/ 163440 h 343080"/>
              <a:gd name="textAreaBottom" fmla="*/ 29412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13372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31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вместные дискоте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3809880" cy="3176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3813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местные НН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местные развлечения и праз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10:02:00Z</dcterms:created>
  <dc:creator>инна</dc:creator>
  <dc:description/>
  <dc:language>en-US</dc:language>
  <cp:lastModifiedBy>инна</cp:lastModifiedBy>
  <dcterms:modified xsi:type="dcterms:W3CDTF">2015-05-04T07:01:1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