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2.jpeg" ContentType="image/jpeg"/>
  <Override PartName="/ppt/media/image15.jpeg" ContentType="image/jpeg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1.jpeg" ContentType="image/jpeg"/>
  <Override PartName="/ppt/media/image48.jpeg" ContentType="image/jpeg"/>
  <Override PartName="/ppt/media/image49.jpeg" ContentType="image/jpeg"/>
  <Override PartName="/ppt/media/image52.png" ContentType="image/png"/>
  <Override PartName="/ppt/media/image50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51.png" ContentType="image/png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18.wmf" ContentType="image/x-wmf"/>
  <Override PartName="/ppt/media/image36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0E62-5924-49F1-B6E8-7A287B8EA7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A9E-D356-4DAE-91C6-283BED19CC2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A06D-F854-4636-A6BF-5896FFD14DF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9CE-3ADB-4B2D-AE0F-7232AF5FDB6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A1D-7229-4914-9CA4-B38F85CAFB1B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CF7-3865-476E-9D59-93AC8D0CB2B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049A-F89D-4C8A-A582-849BEFE85FF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699E-E35F-4E57-882C-116F43780B0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D2B3-0C5B-45D8-9E3C-30534DD3323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22E-B6B0-4E4F-8D84-60C805D36101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2D19-B771-446E-B369-5EBA17A9EE91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406F-92E9-4129-80DB-E30864B9E891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0D1-EACB-4C4C-98DC-71A80186443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4284-63F4-4FA3-875B-564B484A38F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F33-0D04-4B9E-959C-1E2F5BDAE72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738-FD1C-4FC9-9779-6225783C4A0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B84C-725C-4BD6-98EF-00E6AC6C44F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37AB-E7CD-4C64-9C9F-D445EB28D6F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6E6-7B57-4359-9987-421568C2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52D-7E2F-4FFE-8E7A-50ADCA5E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77EE-21C5-436C-B638-EC68DF74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D9A6A-2371-4464-A3D6-6B3B3CA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437E9-BC83-404F-87B9-0E643DDC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E2EB6-1DAD-432E-8B60-F6C3F0C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CC349-DC47-441C-A645-1B47CC0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EB9B9-6680-4EEC-B3DC-7E4148F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7FBA0-41E9-4077-9EE7-0D3501C1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ECA0C-6A4B-4BAE-A8D4-CB70E9DF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1E45A-7780-4463-B538-196282BA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83553-99F3-42E5-98AB-914C23A0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A27-9767-4ADE-9839-F54739CE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CC3AA-316B-4A94-BDA6-FF488161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A42B2-5B45-4D1F-A9A3-0B4196E6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7BF88-E84C-4B68-8D13-96DBF1A2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FD758-8BC7-4ACB-946F-56B8AD34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9BA50-288D-416A-85C8-D69676A0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51DA4-4F69-4427-8A86-E2EB795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54AAC-CD2F-44F2-A3B0-90CAE03F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CDB21-FC25-4E76-8919-3FA2C403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B088B-B858-4033-9408-61311A5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F1947-5576-43B9-B261-C78F167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D2E-0F56-4148-8B71-31E137E0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BFCFE-5291-4C66-A113-F8F9875A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1D00-259E-4A5A-A892-75D076CA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4C89C-E2AA-4CE1-9F85-BFA99DD1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54ED3-EB2D-46D4-8A7A-3DDE5206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EC0FC-7ACF-49AD-A240-874EEE11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EA1A9-B751-4542-9C63-A236ABC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8BCA1-019D-4D2F-8A09-8C94D313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91242-93D0-4C52-8BE4-0646E3B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99F2E-A529-4FC8-A82C-A9B4AE76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1650D-79B4-454C-8267-981BBAD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3D39-9A29-4DB0-805F-8F1EC278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A11AB-6817-48A4-A425-5F5FBA1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40177-D2FA-4711-989D-ED90B07C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F024E-DA36-4637-84A2-7E3873EC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7D349-70DE-44B4-BFF7-561F2B00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73BE1-FAB8-4B51-8969-305A6C8B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C2F98-025F-408B-AEC3-AED2C19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97A22-8067-492F-9D5A-8883311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B8904-3104-4949-ACA3-41F2055E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E6F45-8FFE-4399-8133-C8B08A71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834C1-103C-4BB9-A131-160E33CE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8A9C-29B0-4BB3-9085-6FC8852F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367CC-5A7E-4C65-9091-BCC281A5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6FB94-0FC4-4108-903F-D3ECFE90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505D0-7264-4DA5-82FB-0137D1F8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FA2F8-792F-4F71-BA3B-C594119C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FC44A-A7FA-4737-A000-BB6AED27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83E64-E642-4A5F-AF15-2FE2935E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F60F4-19C5-4627-AB6D-BA03F37C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CF5ED-55E9-4769-85BD-B1E356F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A8F5F-9181-4420-BB21-7E9A0E7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CF708-2D60-490D-8C8F-76F111E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2DC9-D1FB-44B6-A32D-ADF02AF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C2A4D-B076-48B6-B3D7-31CFB4E8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AD806-4BBA-4206-8752-F76DEC3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12A6D-D988-449A-8E52-4203C1E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09905-4101-4B2F-85C9-75B0C7A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17871-E1CE-45C9-BFB3-0F670911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EEB7E-92C8-41D5-A120-7A2DDDF9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CF6EE-8F21-4525-A502-3686201A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01EDD-1052-4291-9F71-408C476A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E992C-6E43-4A0A-BB0E-CCCBAC6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76830-FCE6-47E1-9CA2-94D1092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DAAD-25C1-4CF2-BCF9-F6DE271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5E7AF-D906-4F5C-A3CF-6136B192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46D58-4C72-4929-A0AD-5951DD6B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C62DB-1E02-4478-B314-E0E07D4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259E2-D540-4333-9B54-94F4033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34D77-ECB0-4816-9FF8-FAED9E43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1801F-FE0E-4907-A177-A7B1D53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FF512-3701-4E64-8595-73E4FE6E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0F038-5382-46CD-9179-DFF6DF6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861EE-A013-4109-A1E9-659087F6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833D2-4605-466A-8F3F-0D788134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E4DE-71A5-439D-924C-F848866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288C2-BD68-458F-89CE-2AE2C861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DE8C4-B8FE-4881-AD6A-EF004E5D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61118-2E88-4A7D-8393-FB51A466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B158A-7A46-4558-8615-E6312CF8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F45EA-FF27-4A19-9889-F3612EB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623D9-F242-431C-95AD-E3848F2F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9B495-4980-4D54-A07A-F811895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80513-4876-4A7D-AAF6-F8B9A6FA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61936-B705-484F-9B49-756E8FE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8DD41-CEA7-4E13-AE3D-6E5ACC02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4AF-C2CB-4086-A9E8-9AC7EE0C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01DB3-7813-452C-BFFE-A6F9AF45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46A3-0EAF-4BA8-89B3-6CDA201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97B-D914-479B-8AF9-E462E63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3CFD-3D56-4833-B9C9-D0214A3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1F12-24D3-437A-9242-42CB2CE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61C2-30F1-4844-A2FB-ACC07912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F0E6-95E5-4360-9371-ACB9226C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3760-23EE-46AF-8722-21929F67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1883-B546-41B1-95DB-CDE03DF4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9C44-D1BB-4BF7-B753-03B94E8E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E15E1-51C7-4025-B292-7EF88671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2076-7A05-4D87-B52E-9850B20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CD02-AAD2-49B9-9FFF-6A3DCE2C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F8B-6566-4EAB-B811-99640AE5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2A38-D74C-4307-9FF4-6E95297D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4E68-08A3-472C-8085-02CDD29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84EB-C376-4C00-AD74-5F83620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5DB26-8465-4086-94D5-7291714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785E-95D3-4E17-8C4D-712D544C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613F-847A-40BB-8BE2-36E27B21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D111-6B51-4466-BDD0-A4E9153B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5B120-0A2B-4583-AD30-196CCD53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D782-0EFE-449D-BF5D-DC4F0CB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41B95-3F05-4826-A231-13DA5C3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A46-4FAB-45BA-82B1-20B0582F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7557-83A3-46B8-AF29-8392EA4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13CE-A897-47B9-94E7-2B8CE19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267A8-AF40-403A-B9CD-CC73EC3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BA7A5-A46D-42BB-B11E-0936F39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F89F-F2EE-4309-B86C-59F2785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794C-BF28-45BF-B1F7-8BD9AF6C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FB60-56FC-4862-A84F-CA1A902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47BF-A8C9-4FBA-84BE-E727903A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B74E-A89D-4760-861E-D8ECFBC6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65691-E926-4FEC-A6CC-E62275E7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3D0-02E8-47C9-847E-4E4E43EB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DE444-3E83-47E7-9E28-57C0110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32EB-E890-4F48-96AC-06FBECC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30A4E-54E6-427B-A43D-44CE0E0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7367F-C57C-480C-9E86-A681C2E7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1983B-F644-46BA-A374-121C8258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09A72-1FA9-4A32-A402-11E15DC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CA337-EBB6-4D1B-89C4-769C319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45CD-1FF5-4765-9F9C-A183899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DC60-6C90-46FB-B8FD-A9229B8F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D684-7A23-4300-8907-792ECAA9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F2E-A908-48A6-8D87-AC103B24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56151-59DE-43F6-8334-52241048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3E8F-2298-4F2C-A01E-7A09B6B4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C2F46-761F-410E-9112-FDA23AD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A049-B4A5-4BDC-B90E-E19B529D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26D3-76CB-48ED-8BCD-DBE64DD1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02499-ABDC-4100-A68A-500DF0EE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B1EF-4CEA-4369-9FC4-24470D86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2945-9BF1-4C7D-8BAA-CFB8270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CEBCA-1417-47BF-B7C6-2BE6B51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A565-87BD-45A0-A94D-3A21A8F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FDA-4FEF-490D-A0BA-5743349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A504-B608-4E24-AE67-A78C9E2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5E5C-7DF1-4E18-B81C-8D202201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6518E-5145-41AA-B6DB-6498709D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6A9EC-A9BE-4E06-B6FE-023E44EA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B24B-A8BB-4A4A-9AA5-DA0B0192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644B5-A98D-46BC-9C90-45CDC7E1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8536-B14C-435E-ADE3-4A0D0936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C2CC-0347-49A3-A749-C00DA430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5E81-464D-44AB-A6B6-6EC228E8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C71AF-2D2E-4F01-AAAB-226214A9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79E-C548-43A8-8172-67044E3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47B3-04F7-4CFF-BA3F-F76BAA7F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BA174-7D7D-47F0-A252-C12E6742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AC173-4643-4D45-8E62-2B2F3A2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4931-0E2A-43E0-81DF-5050666E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A90B-0560-4901-983F-BD43961C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9E9AC-D1FA-45DE-8DB0-FA743A31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BD292-E498-418D-9194-53D6A655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A5E37-3898-4113-96C2-0B406549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5628-753F-4CB9-876F-1601ADB9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F98C-76F5-4E04-AE60-2DDE11B6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AF4-3659-401D-A206-75AC695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442D-6A28-4893-99DD-927861F5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C01BE-C947-40B1-8500-975CD8B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A64F0-4453-4405-B61D-0E865B1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01A19-AB53-471F-A4B0-63DE623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0FB8E-FC76-4450-8727-17B7DC5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CF7B-CCAD-4E31-A1BB-9B33EB83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0EA03-8FC7-42A6-8622-26AEA9B4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408EE-18A4-4ED3-A0AC-03C51546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40971-F34D-4DDC-BD01-4C5C4105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C07BF-6387-45B8-A0A7-C9CA9F0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83CB-6C9D-4C16-AE07-4C5C4F1659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B318-8770-49AD-A63F-DE2F63E1F7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58BD-14BE-4F9B-860A-C5E147258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DE2D-2638-4580-A9A9-2466F70163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79E1-2F05-44F0-BF47-46D71546FA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8434-D126-4045-A7F8-7E9FECF778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9812-2039-4E38-8D1C-090F2DCDD5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379E-7F10-472E-AD80-3D099E0F8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73A9-097B-496C-A33D-C674E4DEA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59DE-E85B-4A87-B2D6-3B4B22DC14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F91F-7AF0-4939-A444-7FB313574F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BD9A-BF72-44E7-9852-AAEF4ED9B6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B472-6365-4368-AC79-76222DD5D9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A034-F65F-4C12-900B-ACB9C8A78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8C83-BFA7-4BF4-A867-8730597D0B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Многогранник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– это такое тело, поверхность которого состоит из конечного числа плоских многоуголь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900000" y="4508640"/>
            <a:ext cx="2159280" cy="20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17_Звездчатый додекаэдр"/>
          <p:cNvPicPr/>
          <p:nvPr/>
        </p:nvPicPr>
        <p:blipFill>
          <a:blip r:embed="rId1"/>
          <a:stretch/>
        </p:blipFill>
        <p:spPr>
          <a:xfrm>
            <a:off x="5867280" y="3645000"/>
            <a:ext cx="3051360" cy="3002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еликие математики древ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D:\Documents and Settings\Administrator\My Documents\Танечка\Archimedes_7.jpeg"/>
          <p:cNvPicPr/>
          <p:nvPr/>
        </p:nvPicPr>
        <p:blipFill>
          <a:blip r:embed="rId1"/>
          <a:stretch/>
        </p:blipFill>
        <p:spPr>
          <a:xfrm>
            <a:off x="250920" y="1413000"/>
            <a:ext cx="2820960" cy="3278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D:\Documents and Settings\Administrator\My Documents\Танечка\pythagor.jpeg"/>
          <p:cNvPicPr/>
          <p:nvPr/>
        </p:nvPicPr>
        <p:blipFill>
          <a:blip r:embed="rId2"/>
          <a:stretch/>
        </p:blipFill>
        <p:spPr>
          <a:xfrm>
            <a:off x="6219720" y="1413000"/>
            <a:ext cx="2603520" cy="324000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2"/>
          <p:cNvSpPr/>
          <p:nvPr/>
        </p:nvSpPr>
        <p:spPr>
          <a:xfrm>
            <a:off x="179280" y="49417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мед                    Евклид                  Пифаг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3" descr="euclid"/>
          <p:cNvPicPr/>
          <p:nvPr/>
        </p:nvPicPr>
        <p:blipFill>
          <a:blip r:embed="rId3"/>
          <a:stretch/>
        </p:blipFill>
        <p:spPr>
          <a:xfrm>
            <a:off x="3419640" y="1486080"/>
            <a:ext cx="2520720" cy="3238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65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дробно описал свойства правильных многогранников древнегреческий ученый Платон. Именно поэтому правиль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огогранники назыв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4"/>
          <p:cNvSpPr txBox="1"/>
          <p:nvPr/>
        </p:nvSpPr>
        <p:spPr>
          <a:xfrm>
            <a:off x="324000" y="4221000"/>
            <a:ext cx="828036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тела  Плат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663" name="Picture 4" descr="pp_054"/>
          <p:cNvPicPr/>
          <p:nvPr/>
        </p:nvPicPr>
        <p:blipFill>
          <a:blip r:embed="rId1"/>
          <a:stretch/>
        </p:blipFill>
        <p:spPr>
          <a:xfrm>
            <a:off x="6043680" y="44280"/>
            <a:ext cx="2992320" cy="3745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WordArt 4"/>
          <p:cNvSpPr txBox="1"/>
          <p:nvPr/>
        </p:nvSpPr>
        <p:spPr>
          <a:xfrm>
            <a:off x="971640" y="62064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траэдр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5" name="WordArt 5"/>
          <p:cNvSpPr txBox="1"/>
          <p:nvPr/>
        </p:nvSpPr>
        <p:spPr>
          <a:xfrm>
            <a:off x="4500720" y="1052640"/>
            <a:ext cx="230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гон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6" name="Picture 12" descr="MCj02328160000[1]"/>
          <p:cNvPicPr/>
          <p:nvPr/>
        </p:nvPicPr>
        <p:blipFill>
          <a:blip r:embed="rId1"/>
          <a:stretch/>
        </p:blipFill>
        <p:spPr>
          <a:xfrm>
            <a:off x="6877080" y="189000"/>
            <a:ext cx="2023920" cy="1673280"/>
          </a:xfrm>
          <a:prstGeom prst="rect">
            <a:avLst/>
          </a:prstGeom>
          <a:ln w="0">
            <a:noFill/>
          </a:ln>
        </p:spPr>
      </p:pic>
      <p:sp>
        <p:nvSpPr>
          <p:cNvPr id="667" name="WordArt 15"/>
          <p:cNvSpPr txBox="1"/>
          <p:nvPr/>
        </p:nvSpPr>
        <p:spPr>
          <a:xfrm>
            <a:off x="1042920" y="1916280"/>
            <a:ext cx="58341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б  -  земл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8" name="Picture 19" descr="MCj04315320000[1]"/>
          <p:cNvPicPr/>
          <p:nvPr/>
        </p:nvPicPr>
        <p:blipFill>
          <a:blip r:embed="rId2"/>
          <a:stretch/>
        </p:blipFill>
        <p:spPr>
          <a:xfrm>
            <a:off x="6948360" y="5661000"/>
            <a:ext cx="1225800" cy="1197000"/>
          </a:xfrm>
          <a:prstGeom prst="rect">
            <a:avLst/>
          </a:prstGeom>
          <a:ln w="0">
            <a:noFill/>
          </a:ln>
        </p:spPr>
      </p:pic>
      <p:sp>
        <p:nvSpPr>
          <p:cNvPr id="669" name="WordArt 20"/>
          <p:cNvSpPr txBox="1"/>
          <p:nvPr/>
        </p:nvSpPr>
        <p:spPr>
          <a:xfrm>
            <a:off x="1042920" y="3357720"/>
            <a:ext cx="53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таэдр  -  возду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0" name="Picture 24" descr="MCj03970460000[1]"/>
          <p:cNvPicPr/>
          <p:nvPr/>
        </p:nvPicPr>
        <p:blipFill>
          <a:blip r:embed="rId3"/>
          <a:stretch/>
        </p:blipFill>
        <p:spPr>
          <a:xfrm>
            <a:off x="6659640" y="2997360"/>
            <a:ext cx="1584360" cy="1366560"/>
          </a:xfrm>
          <a:prstGeom prst="rect">
            <a:avLst/>
          </a:prstGeom>
          <a:ln w="0">
            <a:noFill/>
          </a:ln>
        </p:spPr>
      </p:pic>
      <p:sp>
        <p:nvSpPr>
          <p:cNvPr id="671" name="WordArt 28"/>
          <p:cNvSpPr txBox="1"/>
          <p:nvPr/>
        </p:nvSpPr>
        <p:spPr>
          <a:xfrm>
            <a:off x="1116000" y="4581360"/>
            <a:ext cx="52563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косаэдр  -  вод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2" name="Picture 30" descr="MCj04296610000[1]"/>
          <p:cNvPicPr/>
          <p:nvPr/>
        </p:nvPicPr>
        <p:blipFill>
          <a:blip r:embed="rId4"/>
          <a:stretch/>
        </p:blipFill>
        <p:spPr>
          <a:xfrm>
            <a:off x="7093080" y="4365720"/>
            <a:ext cx="1838160" cy="1288800"/>
          </a:xfrm>
          <a:prstGeom prst="rect">
            <a:avLst/>
          </a:prstGeom>
          <a:ln w="0">
            <a:noFill/>
          </a:ln>
        </p:spPr>
      </p:pic>
      <p:sp>
        <p:nvSpPr>
          <p:cNvPr id="673" name="WordArt 34"/>
          <p:cNvSpPr txBox="1"/>
          <p:nvPr/>
        </p:nvSpPr>
        <p:spPr>
          <a:xfrm>
            <a:off x="1042920" y="5805360"/>
            <a:ext cx="5761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декаэдр - вселенная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4" name="Picture 41" descr="MCj03907020000[1]"/>
          <p:cNvPicPr/>
          <p:nvPr/>
        </p:nvPicPr>
        <p:blipFill>
          <a:blip r:embed="rId5"/>
          <a:stretch/>
        </p:blipFill>
        <p:spPr>
          <a:xfrm>
            <a:off x="6948360" y="1844640"/>
            <a:ext cx="1836720" cy="1216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WordArt 8"/>
          <p:cNvSpPr txBox="1"/>
          <p:nvPr/>
        </p:nvSpPr>
        <p:spPr>
          <a:xfrm>
            <a:off x="684360" y="333360"/>
            <a:ext cx="80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Многогран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971640" y="249228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науках о космос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8" name="WordArt 10"/>
          <p:cNvSpPr txBox="1"/>
          <p:nvPr/>
        </p:nvSpPr>
        <p:spPr>
          <a:xfrm>
            <a:off x="2268360" y="429264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земле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374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оганн Кепл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571-1630) – немецкий астроном и математ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создателей современной астрономии - открыл законы движения планет (законы Кепл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7" descr="03_Кеплер"/>
          <p:cNvPicPr/>
          <p:nvPr/>
        </p:nvPicPr>
        <p:blipFill>
          <a:blip r:embed="rId1"/>
          <a:stretch/>
        </p:blipFill>
        <p:spPr>
          <a:xfrm>
            <a:off x="4284720" y="692280"/>
            <a:ext cx="4740120" cy="5894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8_ Космический кубок Кеплера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WordArt 8"/>
          <p:cNvSpPr txBox="1"/>
          <p:nvPr/>
        </p:nvSpPr>
        <p:spPr>
          <a:xfrm>
            <a:off x="6012000" y="3213000"/>
            <a:ext cx="302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бо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3" name="WordArt 8"/>
          <p:cNvSpPr txBox="1"/>
          <p:nvPr/>
        </p:nvSpPr>
        <p:spPr>
          <a:xfrm>
            <a:off x="5940360" y="544500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еплер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4" name="WordArt 8"/>
          <p:cNvSpPr txBox="1"/>
          <p:nvPr/>
        </p:nvSpPr>
        <p:spPr>
          <a:xfrm>
            <a:off x="5219640" y="692280"/>
            <a:ext cx="3924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мически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MCj04325690000[1]"/>
          <p:cNvPicPr/>
          <p:nvPr/>
        </p:nvPicPr>
        <p:blipFill>
          <a:blip r:embed="rId1"/>
          <a:stretch/>
        </p:blipFill>
        <p:spPr>
          <a:xfrm>
            <a:off x="1332000" y="981000"/>
            <a:ext cx="6265800" cy="5589720"/>
          </a:xfrm>
          <a:prstGeom prst="rect">
            <a:avLst/>
          </a:prstGeom>
          <a:ln w="0">
            <a:noFill/>
          </a:ln>
        </p:spPr>
      </p:pic>
      <p:sp>
        <p:nvSpPr>
          <p:cNvPr id="686" name="WordArt 6"/>
          <p:cNvSpPr txBox="1"/>
          <p:nvPr/>
        </p:nvSpPr>
        <p:spPr>
          <a:xfrm>
            <a:off x="1116000" y="260280"/>
            <a:ext cx="5688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 Экосаэдро -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WordArt 7"/>
          <p:cNvSpPr txBox="1"/>
          <p:nvPr/>
        </p:nvSpPr>
        <p:spPr>
          <a:xfrm>
            <a:off x="1619280" y="2060640"/>
            <a:ext cx="68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декаэдровая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8" name="WordArt 8"/>
          <p:cNvSpPr txBox="1"/>
          <p:nvPr/>
        </p:nvSpPr>
        <p:spPr>
          <a:xfrm>
            <a:off x="684360" y="4005360"/>
            <a:ext cx="7991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руктура  Земли 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6" descr="9_Икосаэдро-додекаэдровая структура Земли"/>
          <p:cNvPicPr/>
          <p:nvPr/>
        </p:nvPicPr>
        <p:blipFill>
          <a:blip r:embed="rId1"/>
          <a:stretch/>
        </p:blipFill>
        <p:spPr>
          <a:xfrm>
            <a:off x="1332000" y="189000"/>
            <a:ext cx="6487920" cy="6416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ногогранники в искусстве и архитекту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5" descr="Титульный лист книги Ж"/>
          <p:cNvPicPr/>
          <p:nvPr/>
        </p:nvPicPr>
        <p:blipFill>
          <a:blip r:embed="rId1"/>
          <a:stretch/>
        </p:blipFill>
        <p:spPr>
          <a:xfrm>
            <a:off x="2757600" y="1600200"/>
            <a:ext cx="3627360" cy="45259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1877760" cy="2170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0c0c0">
                <a:alpha val="50000"/>
              </a:srgbClr>
            </a:outerShdw>
          </a:effectLst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льбрехт Дюрер (1471-152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7" descr="11_Меланхолия (Дюрер)"/>
          <p:cNvPicPr/>
          <p:nvPr/>
        </p:nvPicPr>
        <p:blipFill>
          <a:blip r:embed="rId1"/>
          <a:stretch/>
        </p:blipFill>
        <p:spPr>
          <a:xfrm>
            <a:off x="4140360" y="1197000"/>
            <a:ext cx="4464000" cy="544680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4"/>
          <p:cNvSpPr/>
          <p:nvPr/>
        </p:nvSpPr>
        <p:spPr>
          <a:xfrm>
            <a:off x="0" y="3429000"/>
            <a:ext cx="40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«Меланхолия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16" descr="paintedsilver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2"/>
          <p:cNvSpPr/>
          <p:nvPr/>
        </p:nvSpPr>
        <p:spPr>
          <a:xfrm>
            <a:off x="108000" y="45086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ьные многогранники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Сальвадор Дали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йная Вечер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" descr="15_Тайная вечеря (Дали)"/>
          <p:cNvPicPr/>
          <p:nvPr/>
        </p:nvPicPr>
        <p:blipFill>
          <a:blip r:embed="rId1"/>
          <a:stretch/>
        </p:blipFill>
        <p:spPr>
          <a:xfrm>
            <a:off x="3995640" y="988920"/>
            <a:ext cx="4969080" cy="5680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1"/>
          <p:cNvSpPr/>
          <p:nvPr/>
        </p:nvSpPr>
        <p:spPr>
          <a:xfrm>
            <a:off x="857160" y="28584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е архитектурные сооружения  в виде многогранник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" descr="D:\Documents and Settings\Administrator\My Documents\Танечка\дом1.jpg"/>
          <p:cNvPicPr/>
          <p:nvPr/>
        </p:nvPicPr>
        <p:blipFill>
          <a:blip r:embed="rId1"/>
          <a:stretch/>
        </p:blipFill>
        <p:spPr>
          <a:xfrm>
            <a:off x="1143000" y="2143080"/>
            <a:ext cx="7000920" cy="4071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arxit7"/>
          <p:cNvPicPr/>
          <p:nvPr/>
        </p:nvPicPr>
        <p:blipFill>
          <a:blip r:embed="rId1"/>
          <a:stretch/>
        </p:blipFill>
        <p:spPr>
          <a:xfrm>
            <a:off x="1332000" y="1341360"/>
            <a:ext cx="6872040" cy="54007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5"/>
          <p:cNvSpPr/>
          <p:nvPr/>
        </p:nvSpPr>
        <p:spPr>
          <a:xfrm>
            <a:off x="1835280" y="549360"/>
            <a:ext cx="5221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Александрийский мая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D:\дом10.jpg"/>
          <p:cNvPicPr/>
          <p:nvPr/>
        </p:nvPicPr>
        <p:blipFill>
          <a:blip r:embed="rId1"/>
          <a:stretch/>
        </p:blipFill>
        <p:spPr>
          <a:xfrm>
            <a:off x="1000080" y="1214280"/>
            <a:ext cx="6143760" cy="4964400"/>
          </a:xfrm>
          <a:prstGeom prst="rect">
            <a:avLst/>
          </a:prstGeom>
          <a:ln w="0">
            <a:noFill/>
          </a:ln>
        </p:spPr>
      </p:pic>
      <p:sp>
        <p:nvSpPr>
          <p:cNvPr id="704" name="TextBox 2"/>
          <p:cNvSpPr/>
          <p:nvPr/>
        </p:nvSpPr>
        <p:spPr>
          <a:xfrm>
            <a:off x="1187280" y="189000"/>
            <a:ext cx="6000840" cy="8254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рпичный многогранник швейцарского архитектор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D:\дом6.jpg"/>
          <p:cNvPicPr/>
          <p:nvPr/>
        </p:nvPicPr>
        <p:blipFill>
          <a:blip r:embed="rId1"/>
          <a:stretch/>
        </p:blipFill>
        <p:spPr>
          <a:xfrm>
            <a:off x="857160" y="1214280"/>
            <a:ext cx="7143840" cy="5237280"/>
          </a:xfrm>
          <a:prstGeom prst="rect">
            <a:avLst/>
          </a:prstGeom>
          <a:ln w="0">
            <a:noFill/>
          </a:ln>
        </p:spPr>
      </p:pic>
      <p:sp>
        <p:nvSpPr>
          <p:cNvPr id="706" name="TextBox 2"/>
          <p:cNvSpPr/>
          <p:nvPr/>
        </p:nvSpPr>
        <p:spPr>
          <a:xfrm flipH="1">
            <a:off x="1331280" y="404640"/>
            <a:ext cx="6242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ое здание в Англ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ногогранники в прир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04_Феодария"/>
          <p:cNvPicPr/>
          <p:nvPr/>
        </p:nvPicPr>
        <p:blipFill>
          <a:blip r:embed="rId1"/>
          <a:stretch/>
        </p:blipFill>
        <p:spPr>
          <a:xfrm>
            <a:off x="2268360" y="992160"/>
            <a:ext cx="4248360" cy="497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"/>
          <p:cNvSpPr/>
          <p:nvPr/>
        </p:nvSpPr>
        <p:spPr>
          <a:xfrm>
            <a:off x="539640" y="5994360"/>
            <a:ext cx="7993080" cy="747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ФЕОДАР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D:\Documents and Settings\Administrator\My Documents\Танечка\колчедан.jpg"/>
          <p:cNvPicPr/>
          <p:nvPr/>
        </p:nvPicPr>
        <p:blipFill>
          <a:blip r:embed="rId1"/>
          <a:stretch/>
        </p:blipFill>
        <p:spPr>
          <a:xfrm>
            <a:off x="857160" y="1052640"/>
            <a:ext cx="2346480" cy="24127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7"/>
          <p:cNvSpPr/>
          <p:nvPr/>
        </p:nvSpPr>
        <p:spPr>
          <a:xfrm>
            <a:off x="539640" y="35002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и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ернистый колчедан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3" descr="D:\Documents and Settings\Administrator\My Documents\Танечка\албмокалиевые квасцы.jpg"/>
          <p:cNvPicPr/>
          <p:nvPr/>
        </p:nvPicPr>
        <p:blipFill>
          <a:blip r:embed="rId2"/>
          <a:stretch/>
        </p:blipFill>
        <p:spPr>
          <a:xfrm>
            <a:off x="5357880" y="1125360"/>
            <a:ext cx="2514600" cy="2359080"/>
          </a:xfrm>
          <a:prstGeom prst="rect">
            <a:avLst/>
          </a:prstGeom>
          <a:ln w="0">
            <a:noFill/>
          </a:ln>
        </p:spPr>
      </p:pic>
      <p:sp>
        <p:nvSpPr>
          <p:cNvPr id="713" name="TextBox 9"/>
          <p:cNvSpPr/>
          <p:nvPr/>
        </p:nvSpPr>
        <p:spPr>
          <a:xfrm flipH="1">
            <a:off x="5002920" y="350028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кристалл алюмокалиевых квасц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D:\Documents and Settings\Administrator\My Documents\Танечка\куприт1.jpeg"/>
          <p:cNvPicPr/>
          <p:nvPr/>
        </p:nvPicPr>
        <p:blipFill>
          <a:blip r:embed="rId3"/>
          <a:stretch/>
        </p:blipFill>
        <p:spPr>
          <a:xfrm>
            <a:off x="372960" y="4572000"/>
            <a:ext cx="2398680" cy="16653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D:\Documents and Settings\Administrator\My Documents\Танечка\куприт3.jpeg"/>
          <p:cNvPicPr/>
          <p:nvPr/>
        </p:nvPicPr>
        <p:blipFill>
          <a:blip r:embed="rId4"/>
          <a:stretch/>
        </p:blipFill>
        <p:spPr>
          <a:xfrm>
            <a:off x="6143760" y="4500720"/>
            <a:ext cx="1887480" cy="17366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" descr="D:\Documents and Settings\Administrator\My Documents\Танечка\куприт4.jpeg"/>
          <p:cNvPicPr/>
          <p:nvPr/>
        </p:nvPicPr>
        <p:blipFill>
          <a:blip r:embed="rId5"/>
          <a:stretch/>
        </p:blipFill>
        <p:spPr>
          <a:xfrm>
            <a:off x="3635280" y="4429080"/>
            <a:ext cx="1579680" cy="1990800"/>
          </a:xfrm>
          <a:prstGeom prst="rect">
            <a:avLst/>
          </a:prstGeom>
          <a:ln w="0">
            <a:noFill/>
          </a:ln>
        </p:spPr>
      </p:pic>
      <p:sp>
        <p:nvSpPr>
          <p:cNvPr id="717" name="TextBox 13"/>
          <p:cNvSpPr/>
          <p:nvPr/>
        </p:nvSpPr>
        <p:spPr>
          <a:xfrm flipV="1" rot="10800000">
            <a:off x="2556000" y="63806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сталлы красной медной ру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15"/>
          <p:cNvSpPr/>
          <p:nvPr/>
        </p:nvSpPr>
        <p:spPr>
          <a:xfrm flipH="1">
            <a:off x="826920" y="2858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ИРОДНЫЕ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РИСТАЛ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mnogogr-priroda-1"/>
          <p:cNvPicPr/>
          <p:nvPr/>
        </p:nvPicPr>
        <p:blipFill>
          <a:blip r:embed="rId1"/>
          <a:stretch/>
        </p:blipFill>
        <p:spPr>
          <a:xfrm>
            <a:off x="34920" y="189000"/>
            <a:ext cx="3116160" cy="216036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5"/>
          <p:cNvSpPr/>
          <p:nvPr/>
        </p:nvSpPr>
        <p:spPr>
          <a:xfrm>
            <a:off x="179280" y="27867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аренная соль состоит из кристаллов в форме куб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8" descr="mnogogr-priroda-3"/>
          <p:cNvPicPr/>
          <p:nvPr/>
        </p:nvPicPr>
        <p:blipFill>
          <a:blip r:embed="rId2"/>
          <a:stretch/>
        </p:blipFill>
        <p:spPr>
          <a:xfrm>
            <a:off x="108000" y="4368960"/>
            <a:ext cx="2951280" cy="23000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9"/>
          <p:cNvSpPr/>
          <p:nvPr/>
        </p:nvSpPr>
        <p:spPr>
          <a:xfrm>
            <a:off x="2987640" y="530784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ерал сильвин также имеет кристаллическую решетку в форме куб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0" descr="mnogogr-priroda-4"/>
          <p:cNvPicPr/>
          <p:nvPr/>
        </p:nvPicPr>
        <p:blipFill>
          <a:blip r:embed="rId3"/>
          <a:stretch/>
        </p:blipFill>
        <p:spPr>
          <a:xfrm>
            <a:off x="6443640" y="260280"/>
            <a:ext cx="2521080" cy="21384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2" descr="mnogogr-priroda-6"/>
          <p:cNvPicPr/>
          <p:nvPr/>
        </p:nvPicPr>
        <p:blipFill>
          <a:blip r:embed="rId4"/>
          <a:stretch/>
        </p:blipFill>
        <p:spPr>
          <a:xfrm>
            <a:off x="3203640" y="333360"/>
            <a:ext cx="3155760" cy="20160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13"/>
          <p:cNvSpPr/>
          <p:nvPr/>
        </p:nvSpPr>
        <p:spPr>
          <a:xfrm>
            <a:off x="3419640" y="2283120"/>
            <a:ext cx="27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воды имеют форму тетраэдр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14" descr="mnogogr-priroda-5"/>
          <p:cNvPicPr/>
          <p:nvPr/>
        </p:nvPicPr>
        <p:blipFill>
          <a:blip r:embed="rId5"/>
          <a:stretch/>
        </p:blipFill>
        <p:spPr>
          <a:xfrm>
            <a:off x="6296040" y="3789360"/>
            <a:ext cx="2502000" cy="180036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5"/>
          <p:cNvSpPr/>
          <p:nvPr/>
        </p:nvSpPr>
        <p:spPr>
          <a:xfrm>
            <a:off x="6443640" y="5523480"/>
            <a:ext cx="23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ерал куприт образует кристаллы в форме октаэдров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6588000" y="2491920"/>
            <a:ext cx="231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сталлы пирита имеют форму додекаэдр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547344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42544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форм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таэдр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ристаллизуются алмаз, хлорид натрия, флюорит, оливин и други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6_Алмаз"/>
          <p:cNvPicPr/>
          <p:nvPr/>
        </p:nvPicPr>
        <p:blipFill>
          <a:blip r:embed="rId1"/>
          <a:stretch/>
        </p:blipFill>
        <p:spPr>
          <a:xfrm>
            <a:off x="4859280" y="1628640"/>
            <a:ext cx="356724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1"/>
          <p:cNvSpPr/>
          <p:nvPr/>
        </p:nvSpPr>
        <p:spPr>
          <a:xfrm flipH="1">
            <a:off x="610560" y="333360"/>
            <a:ext cx="7461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ческ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ой формой огран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появившейся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е стал октаэдр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маз Ша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D:\Documents and Settings\Administrator\My Documents\Танечка\алмаз шах большой.jpg"/>
          <p:cNvPicPr/>
          <p:nvPr/>
        </p:nvPicPr>
        <p:blipFill>
          <a:blip r:embed="rId1"/>
          <a:stretch/>
        </p:blipFill>
        <p:spPr>
          <a:xfrm>
            <a:off x="1773360" y="1755720"/>
            <a:ext cx="5591160" cy="4486320"/>
          </a:xfrm>
          <a:prstGeom prst="rect">
            <a:avLst/>
          </a:prstGeom>
          <a:ln w="0">
            <a:noFill/>
          </a:ln>
        </p:spPr>
      </p:pic>
      <p:sp>
        <p:nvSpPr>
          <p:cNvPr id="734" name="TextBox 4"/>
          <p:cNvSpPr/>
          <p:nvPr/>
        </p:nvSpPr>
        <p:spPr>
          <a:xfrm>
            <a:off x="2484360" y="634032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алмаза 88,7 кара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1"/>
          <p:cNvSpPr/>
          <p:nvPr/>
        </p:nvSpPr>
        <p:spPr>
          <a:xfrm>
            <a:off x="324000" y="260280"/>
            <a:ext cx="864072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- Сколько существует правильных многогранников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- Как они определяются, какими свойствами обладают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-Где встречаются, имеют ли практическое применение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Rectangle 1"/>
          <p:cNvGrpSpPr/>
          <p:nvPr/>
        </p:nvGrpSpPr>
        <p:grpSpPr>
          <a:xfrm>
            <a:off x="-6480" y="268200"/>
            <a:ext cx="9004320" cy="5973840"/>
            <a:chOff x="-6480" y="268200"/>
            <a:chExt cx="9004320" cy="5973840"/>
          </a:xfrm>
        </p:grpSpPr>
        <p:pic>
          <p:nvPicPr>
            <p:cNvPr id="736" name="Rectangle 1" descr=""/>
            <p:cNvPicPr/>
            <p:nvPr/>
          </p:nvPicPr>
          <p:blipFill>
            <a:blip r:embed="rId1"/>
            <a:stretch/>
          </p:blipFill>
          <p:spPr>
            <a:xfrm>
              <a:off x="-6480" y="268200"/>
              <a:ext cx="900432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50920" y="432360"/>
              <a:ext cx="8461440" cy="56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Задача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глийская королева дала указание сделать  огранку вдоль ребер алмаза золотой нитью. Но огранка не была сделана, так как ювелир не сумел рассчитать максимальную длину золотой нити, а сам алмаз ему не показали. Ювелиру были сообщены следующие данные: число вершин В=54, число граней Г=48, длина наибольшего ребра L= 4мм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йти максимальную длину золотой нити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250920" y="1773360"/>
          <a:ext cx="8540640" cy="44226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59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ый многогранни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е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ши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ёбер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дек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саэд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9" name="Прямоугольник 2"/>
          <p:cNvSpPr/>
          <p:nvPr/>
        </p:nvSpPr>
        <p:spPr>
          <a:xfrm>
            <a:off x="611280" y="18900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Исследовательская рабо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«Формула Эйлера»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7" descr="6_1"/>
          <p:cNvPicPr/>
          <p:nvPr/>
        </p:nvPicPr>
        <p:blipFill>
          <a:blip r:embed="rId1"/>
          <a:stretch/>
        </p:blipFill>
        <p:spPr>
          <a:xfrm>
            <a:off x="179280" y="1125360"/>
            <a:ext cx="6985080" cy="17240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01_Эйлер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352908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6"/>
          <p:cNvSpPr/>
          <p:nvPr/>
        </p:nvSpPr>
        <p:spPr>
          <a:xfrm>
            <a:off x="324000" y="3716280"/>
            <a:ext cx="8640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ма Эйлера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любого выпуклого многогранни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+ Г - 2 = Р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вершин,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гране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ребер этого многогранн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ФИЗМИНУТК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C:\Users\777\Desktop\Тренажер Базарного.jpg"/>
          <p:cNvPicPr/>
          <p:nvPr/>
        </p:nvPicPr>
        <p:blipFill>
          <a:blip r:embed="rId1"/>
          <a:stretch/>
        </p:blipFill>
        <p:spPr>
          <a:xfrm>
            <a:off x="272880" y="981000"/>
            <a:ext cx="8259840" cy="5235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угол между двумя ребрами правильного октаэдра, которые имеют общую вершину, но не принадлежат одной гр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1" descr="C:\Documents and Settings\Администратор\Мои документы\PICTURE\Maple\ПравМног\Oct.bmp"/>
          <p:cNvPicPr/>
          <p:nvPr/>
        </p:nvPicPr>
        <p:blipFill>
          <a:blip r:embed="rId1"/>
          <a:srcRect l="51925" t="2934" r="2405" b="75"/>
          <a:stretch/>
        </p:blipFill>
        <p:spPr>
          <a:xfrm>
            <a:off x="0" y="1628640"/>
            <a:ext cx="5222880" cy="5229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высоту правильного тетраэдра с ребром 12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"/>
          <p:cNvGrpSpPr/>
          <p:nvPr/>
        </p:nvGrpSpPr>
        <p:grpSpPr>
          <a:xfrm>
            <a:off x="539280" y="1760040"/>
            <a:ext cx="4464720" cy="4477680"/>
            <a:chOff x="539280" y="1760040"/>
            <a:chExt cx="4464720" cy="4477680"/>
          </a:xfrm>
        </p:grpSpPr>
        <p:cxnSp>
          <p:nvCxnSpPr>
            <p:cNvPr id="749" name="AutoShape 3"/>
            <p:cNvCxnSpPr/>
            <p:nvPr/>
          </p:nvCxnSpPr>
          <p:spPr>
            <a:xfrm>
              <a:off x="539280" y="4768200"/>
              <a:ext cx="1887480" cy="146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0" name="AutoShape 4"/>
            <p:cNvCxnSpPr/>
            <p:nvPr/>
          </p:nvCxnSpPr>
          <p:spPr>
            <a:xfrm flipH="1">
              <a:off x="2426040" y="4358520"/>
              <a:ext cx="2577600" cy="187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1" name="AutoShape 5"/>
            <p:cNvCxnSpPr/>
            <p:nvPr/>
          </p:nvCxnSpPr>
          <p:spPr>
            <a:xfrm flipV="1">
              <a:off x="539640" y="4358520"/>
              <a:ext cx="4464720" cy="410400"/>
            </a:xfrm>
            <a:prstGeom prst="straightConnector1">
              <a:avLst/>
            </a:prstGeom>
            <a:ln w="9360">
              <a:solidFill>
                <a:srgbClr val="0d0d0d"/>
              </a:solidFill>
              <a:prstDash val="lgDashDot"/>
              <a:miter/>
            </a:ln>
          </p:spPr>
        </p:cxnSp>
        <p:cxnSp>
          <p:nvCxnSpPr>
            <p:cNvPr id="752" name="AutoShape 6"/>
            <p:cNvCxnSpPr/>
            <p:nvPr/>
          </p:nvCxnSpPr>
          <p:spPr>
            <a:xfrm flipV="1">
              <a:off x="2426040" y="4527720"/>
              <a:ext cx="430200" cy="17096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</p:cxnSp>
        <p:cxnSp>
          <p:nvCxnSpPr>
            <p:cNvPr id="753" name="AutoShape 7"/>
            <p:cNvCxnSpPr/>
            <p:nvPr/>
          </p:nvCxnSpPr>
          <p:spPr>
            <a:xfrm>
              <a:off x="539640" y="4768560"/>
              <a:ext cx="3206880" cy="5367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</p:cxnSp>
        <p:cxnSp>
          <p:nvCxnSpPr>
            <p:cNvPr id="754" name="AutoShape 8"/>
            <p:cNvCxnSpPr/>
            <p:nvPr/>
          </p:nvCxnSpPr>
          <p:spPr>
            <a:xfrm flipH="1">
              <a:off x="1567080" y="4358880"/>
              <a:ext cx="3436560" cy="11584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755" name="AutoShape 9"/>
            <p:cNvCxnSpPr/>
            <p:nvPr/>
          </p:nvCxnSpPr>
          <p:spPr>
            <a:xfrm flipV="1">
              <a:off x="2702160" y="1760040"/>
              <a:ext cx="1080" cy="337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756" name="AutoShape 10"/>
            <p:cNvCxnSpPr/>
            <p:nvPr/>
          </p:nvCxnSpPr>
          <p:spPr>
            <a:xfrm flipH="1">
              <a:off x="539280" y="1760400"/>
              <a:ext cx="2163600" cy="300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AutoShape 11"/>
            <p:cNvCxnSpPr/>
            <p:nvPr/>
          </p:nvCxnSpPr>
          <p:spPr>
            <a:xfrm>
              <a:off x="2702160" y="1760400"/>
              <a:ext cx="2301480" cy="259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AutoShape 12"/>
            <p:cNvCxnSpPr/>
            <p:nvPr/>
          </p:nvCxnSpPr>
          <p:spPr>
            <a:xfrm flipH="1">
              <a:off x="2425680" y="1760400"/>
              <a:ext cx="276840" cy="447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сталл имеет форму октаэдра, состоящего из двух правильных пирамид с общим основанием, ребро основания пирамиды 6 см. высота октаэдра 8 см. Найдите площадь боковой поверхности кристал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" descr="Рисунок3"/>
          <p:cNvPicPr/>
          <p:nvPr/>
        </p:nvPicPr>
        <p:blipFill>
          <a:blip r:embed="rId1"/>
          <a:srcRect l="26481" t="0" r="25793" b="6648"/>
          <a:stretch/>
        </p:blipFill>
        <p:spPr>
          <a:xfrm>
            <a:off x="285840" y="1628640"/>
            <a:ext cx="4862520" cy="4896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784836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ощадь поверх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ксаэ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таэ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Object 9"/>
              <p:cNvSpPr txBox="1"/>
              <p:nvPr/>
            </p:nvSpPr>
            <p:spPr>
              <a:xfrm>
                <a:off x="3492360" y="1700280"/>
                <a:ext cx="230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11"/>
              <p:cNvSpPr txBox="1"/>
              <p:nvPr/>
            </p:nvSpPr>
            <p:spPr>
              <a:xfrm>
                <a:off x="3492360" y="2637000"/>
                <a:ext cx="230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13"/>
              <p:cNvSpPr txBox="1"/>
              <p:nvPr/>
            </p:nvSpPr>
            <p:spPr>
              <a:xfrm>
                <a:off x="3564000" y="3429000"/>
                <a:ext cx="3744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5"/>
              <p:cNvSpPr txBox="1"/>
              <p:nvPr/>
            </p:nvSpPr>
            <p:spPr>
              <a:xfrm>
                <a:off x="3348000" y="5103720"/>
                <a:ext cx="24480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20"/>
              <p:cNvSpPr txBox="1"/>
              <p:nvPr/>
            </p:nvSpPr>
            <p:spPr>
              <a:xfrm>
                <a:off x="3492360" y="4292640"/>
                <a:ext cx="1800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на дом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ogogranniki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539640" y="2276280"/>
            <a:ext cx="7920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ьзуясь развертками изготовить модели 1-го правильного многогранника со стороной 15 см,  1-го полуправильного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Прямоугольник 1"/>
          <p:cNvGrpSpPr/>
          <p:nvPr/>
        </p:nvGrpSpPr>
        <p:grpSpPr>
          <a:xfrm>
            <a:off x="378000" y="96840"/>
            <a:ext cx="8381880" cy="6773760"/>
            <a:chOff x="378000" y="96840"/>
            <a:chExt cx="8381880" cy="6773760"/>
          </a:xfrm>
        </p:grpSpPr>
        <p:pic>
          <p:nvPicPr>
            <p:cNvPr id="62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78000" y="96840"/>
              <a:ext cx="8381880" cy="67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95280" y="115920"/>
              <a:ext cx="8353440" cy="66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Arial"/>
                </a:rPr>
                <a:t>Выпуклый многогранник называется </a:t>
              </a:r>
              <a:r>
                <a:rPr b="1" i="1" lang="ru-RU" sz="4800" spc="-1" strike="noStrike" u="sng">
                  <a:solidFill>
                    <a:srgbClr val="ff0000"/>
                  </a:solidFill>
                  <a:uFillTx/>
                  <a:latin typeface="Arial"/>
                </a:rPr>
                <a:t>правильным,</a:t>
              </a:r>
              <a:r>
                <a:rPr b="1" i="1" lang="ru-RU" sz="4800" spc="-1" strike="noStrike">
                  <a:solidFill>
                    <a:srgbClr val="002060"/>
                  </a:solidFill>
                  <a:latin typeface="Arial"/>
                </a:rPr>
                <a:t> если все его  грани -  равные  правильные многоугольники и в каждой его вершине сходится одно и то же число ребер.</a:t>
              </a:r>
              <a:br>
                <a:rPr sz="4800"/>
              </a:b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1"/>
          <p:cNvSpPr/>
          <p:nvPr/>
        </p:nvSpPr>
        <p:spPr>
          <a:xfrm>
            <a:off x="1763640" y="126828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"/>
          <p:cNvSpPr/>
          <p:nvPr/>
        </p:nvSpPr>
        <p:spPr>
          <a:xfrm flipH="1">
            <a:off x="1285200" y="34290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 работу 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19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эдра» - гр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тетра» - четы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екса» - шесть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окта»  -  восем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додека» - двена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«икоса» - два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3"/>
          <p:cNvSpPr txBox="1"/>
          <p:nvPr/>
        </p:nvSpPr>
        <p:spPr>
          <a:xfrm>
            <a:off x="395280" y="333360"/>
            <a:ext cx="84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3" name="Прямоугольник 4"/>
          <p:cNvSpPr/>
          <p:nvPr/>
        </p:nvSpPr>
        <p:spPr>
          <a:xfrm>
            <a:off x="900000" y="189000"/>
            <a:ext cx="69850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вания этих многогранников пришли из Древней Греции и в них указано число граней.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611280" y="1844640"/>
          <a:ext cx="8229600" cy="4781520"/>
        </p:xfrm>
        <a:graphic>
          <a:graphicData uri="http://schemas.openxmlformats.org/drawingml/2006/table">
            <a:tbl>
              <a:tblPr/>
              <a:tblGrid>
                <a:gridCol w="1765080"/>
                <a:gridCol w="1621080"/>
                <a:gridCol w="1104840"/>
                <a:gridCol w="1030320"/>
                <a:gridCol w="1104840"/>
                <a:gridCol w="16034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Название правильного многогранн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Вид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гран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Числ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реб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граней, сходящихс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Monotype Corsiva"/>
                          <a:ea typeface="Times New Roman"/>
                        </a:rPr>
                        <a:t>в одной вершин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тре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тре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тре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Куб (гексаэдр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Квадра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Comic Sans MS"/>
                          <a:ea typeface="Times New Roman"/>
                        </a:rPr>
                        <a:t>Правильный пятиугольни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5" name="Прямоугольник 2"/>
          <p:cNvSpPr/>
          <p:nvPr/>
        </p:nvSpPr>
        <p:spPr>
          <a:xfrm>
            <a:off x="1116000" y="40464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анные о правильных многогранниках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опрос (проблема):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Сколько существует правильных многогранников?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 установить их количество ?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6" descr="Модель тетраэдра (VRML)"/>
          <p:cNvPicPr/>
          <p:nvPr/>
        </p:nvPicPr>
        <p:blipFill>
          <a:blip r:embed="rId1"/>
          <a:stretch/>
        </p:blipFill>
        <p:spPr>
          <a:xfrm>
            <a:off x="396720" y="486900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028" descr="Модель куба (VRML)"/>
          <p:cNvPicPr/>
          <p:nvPr/>
        </p:nvPicPr>
        <p:blipFill>
          <a:blip r:embed="rId2"/>
          <a:stretch/>
        </p:blipFill>
        <p:spPr>
          <a:xfrm>
            <a:off x="2050920" y="486900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Модель октаэдра (VRML)"/>
          <p:cNvPicPr/>
          <p:nvPr/>
        </p:nvPicPr>
        <p:blipFill>
          <a:blip r:embed="rId3"/>
          <a:stretch/>
        </p:blipFill>
        <p:spPr>
          <a:xfrm>
            <a:off x="378000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30" descr="Модель додекаэдра - 4 цвета (VRML)"/>
          <p:cNvPicPr/>
          <p:nvPr/>
        </p:nvPicPr>
        <p:blipFill>
          <a:blip r:embed="rId4"/>
          <a:stretch/>
        </p:blipFill>
        <p:spPr>
          <a:xfrm>
            <a:off x="5435640" y="486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Модель икосаэдра - первый вариант раскраски (VRML)"/>
          <p:cNvPicPr/>
          <p:nvPr/>
        </p:nvPicPr>
        <p:blipFill>
          <a:blip r:embed="rId5"/>
          <a:stretch/>
        </p:blipFill>
        <p:spPr>
          <a:xfrm>
            <a:off x="7164360" y="486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Прямоугольник 1"/>
          <p:cNvSpPr/>
          <p:nvPr/>
        </p:nvSpPr>
        <p:spPr>
          <a:xfrm>
            <a:off x="324000" y="189000"/>
            <a:ext cx="835164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8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°(n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))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каждой вершине многогранника не меньше трех плоских углов, и их сумма должна быть меньше 3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179280" y="1125360"/>
          <a:ext cx="8785440" cy="5643720"/>
        </p:xfrm>
        <a:graphic>
          <a:graphicData uri="http://schemas.openxmlformats.org/drawingml/2006/table">
            <a:tbl>
              <a:tblPr/>
              <a:tblGrid>
                <a:gridCol w="2552760"/>
                <a:gridCol w="1909800"/>
                <a:gridCol w="2594160"/>
                <a:gridCol w="1728720"/>
              </a:tblGrid>
              <a:tr h="83952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рма гран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граней при одной верши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умма плоских углов при вершине многогранни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вод о существовании многогранни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α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4" name="Прямоугольник 4"/>
          <p:cNvSpPr/>
          <p:nvPr/>
        </p:nvSpPr>
        <p:spPr>
          <a:xfrm>
            <a:off x="468360" y="41497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авильный пятиугольник 5"/>
          <p:cNvSpPr/>
          <p:nvPr/>
        </p:nvSpPr>
        <p:spPr>
          <a:xfrm>
            <a:off x="468360" y="5229360"/>
            <a:ext cx="431640" cy="431640"/>
          </a:xfrm>
          <a:prstGeom prst="pentag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Равнобедренный треугольник 6"/>
          <p:cNvSpPr/>
          <p:nvPr/>
        </p:nvSpPr>
        <p:spPr>
          <a:xfrm>
            <a:off x="395280" y="2206800"/>
            <a:ext cx="504720" cy="35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Шестиугольник 9"/>
          <p:cNvSpPr/>
          <p:nvPr/>
        </p:nvSpPr>
        <p:spPr>
          <a:xfrm>
            <a:off x="468360" y="6308640"/>
            <a:ext cx="431640" cy="360360"/>
          </a:xfrm>
          <a:prstGeom prst="hexagon">
            <a:avLst>
              <a:gd name="adj" fmla="val 24954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Равнобедренный треугольник 6"/>
          <p:cNvSpPr/>
          <p:nvPr/>
        </p:nvSpPr>
        <p:spPr>
          <a:xfrm>
            <a:off x="395280" y="270828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Равнобедренный треугольник 6"/>
          <p:cNvSpPr/>
          <p:nvPr/>
        </p:nvSpPr>
        <p:spPr>
          <a:xfrm>
            <a:off x="395280" y="321300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Равнобедренный треугольник 6"/>
          <p:cNvSpPr/>
          <p:nvPr/>
        </p:nvSpPr>
        <p:spPr>
          <a:xfrm>
            <a:off x="395280" y="3645000"/>
            <a:ext cx="5047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4"/>
          <p:cNvSpPr/>
          <p:nvPr/>
        </p:nvSpPr>
        <p:spPr>
          <a:xfrm>
            <a:off x="468360" y="472608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авильный пятиугольник 5"/>
          <p:cNvSpPr/>
          <p:nvPr/>
        </p:nvSpPr>
        <p:spPr>
          <a:xfrm>
            <a:off x="468360" y="5734080"/>
            <a:ext cx="431640" cy="431640"/>
          </a:xfrm>
          <a:prstGeom prst="pentagon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k03064"/>
          <p:cNvPicPr/>
          <p:nvPr/>
        </p:nvPicPr>
        <p:blipFill>
          <a:blip r:embed="rId1"/>
          <a:stretch/>
        </p:blipFill>
        <p:spPr>
          <a:xfrm>
            <a:off x="6362640" y="2349360"/>
            <a:ext cx="2457360" cy="3767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0c0c0">
                <a:alpha val="50000"/>
              </a:srgbClr>
            </a:outerShdw>
          </a:effectLst>
        </p:spPr>
      </p:pic>
      <p:pic>
        <p:nvPicPr>
          <p:cNvPr id="654" name="WordArt 4" descr=""/>
          <p:cNvPicPr/>
          <p:nvPr/>
        </p:nvPicPr>
        <p:blipFill>
          <a:blip r:embed="rId2"/>
          <a:stretch/>
        </p:blipFill>
        <p:spPr>
          <a:xfrm>
            <a:off x="139680" y="182520"/>
            <a:ext cx="7383600" cy="4608720"/>
          </a:xfrm>
          <a:prstGeom prst="rect">
            <a:avLst/>
          </a:prstGeom>
          <a:ln w="0">
            <a:noFill/>
          </a:ln>
        </p:spPr>
      </p:pic>
      <p:sp>
        <p:nvSpPr>
          <p:cNvPr id="655" name="WordArt 5"/>
          <p:cNvSpPr txBox="1"/>
          <p:nvPr/>
        </p:nvSpPr>
        <p:spPr>
          <a:xfrm>
            <a:off x="6804000" y="6237360"/>
            <a:ext cx="179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. Кэррол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45:02Z</dcterms:created>
  <dc:creator>Даша</dc:creator>
  <dc:description/>
  <dc:language>en-US</dc:language>
  <cp:lastModifiedBy>Dmitriy</cp:lastModifiedBy>
  <dcterms:modified xsi:type="dcterms:W3CDTF">2015-05-04T14:16:09Z</dcterms:modified>
  <cp:revision>131</cp:revision>
  <dc:subject/>
  <dc:title>Платоновы тела</dc:title>
</cp:coreProperties>
</file>