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image19.wmf" ContentType="image/x-wmf"/>
  <Override PartName="/ppt/media/image17.png" ContentType="image/png"/>
  <Override PartName="/ppt/media/image20.wmf" ContentType="image/x-wmf"/>
  <Override PartName="/ppt/media/image32.jpeg" ContentType="image/jpeg"/>
  <Override PartName="/ppt/media/image15.jpeg" ContentType="image/jpeg"/>
  <Override PartName="/ppt/media/image16.wmf" ContentType="image/x-wmf"/>
  <Override PartName="/ppt/media/image45.jpeg" ContentType="image/jpeg"/>
  <Override PartName="/ppt/media/image14.jpeg" ContentType="image/jpeg"/>
  <Override PartName="/ppt/media/image41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9.jpeg" ContentType="image/jpeg"/>
  <Override PartName="/ppt/media/image11.png" ContentType="image/png"/>
  <Override PartName="/ppt/media/image27.png" ContentType="image/png"/>
  <Override PartName="/ppt/media/image33.jpeg" ContentType="image/jpeg"/>
  <Override PartName="/ppt/media/image30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6.png" ContentType="image/png"/>
  <Override PartName="/ppt/media/image31.jpeg" ContentType="image/jpeg"/>
  <Override PartName="/ppt/media/image48.jpeg" ContentType="image/jpeg"/>
  <Override PartName="/ppt/media/image49.jpeg" ContentType="image/jpeg"/>
  <Override PartName="/ppt/media/image52.png" ContentType="image/png"/>
  <Override PartName="/ppt/media/image50.jpeg" ContentType="image/jpeg"/>
  <Override PartName="/ppt/media/image4.png" ContentType="image/png"/>
  <Override PartName="/ppt/media/image12.jpeg" ContentType="image/jpeg"/>
  <Override PartName="/ppt/media/image42.jpeg" ContentType="image/jpeg"/>
  <Override PartName="/ppt/media/image51.png" ContentType="image/png"/>
  <Override PartName="/ppt/media/image29.jpeg" ContentType="image/jpeg"/>
  <Override PartName="/ppt/media/image47.png" ContentType="image/png"/>
  <Override PartName="/ppt/media/image35.jpeg" ContentType="image/jpeg"/>
  <Override PartName="/ppt/media/image10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18.wmf" ContentType="image/x-wmf"/>
  <Override PartName="/ppt/media/image36.jpeg" ContentType="image/jpeg"/>
  <Override PartName="/ppt/media/image40.jpeg" ContentType="image/jpeg"/>
  <Override PartName="/ppt/media/image13.jpeg" ContentType="image/jpeg"/>
  <Override PartName="/ppt/media/image8.jpeg" ContentType="image/jpeg"/>
  <Override PartName="/ppt/media/image39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  <p:sldId id="295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slide" Target="slides/slide40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5416-07A0-44E7-A2F6-0FAC3893B8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5C68-108E-4818-918B-C344BEB37978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7D17-0E44-4A5A-BC60-F36FC9179BE8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1CDD-22C4-4D50-8A43-23D70EFAC3B0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4D01-E012-448A-B436-51A173AA16DA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20FD-0800-4707-99F1-CBA14BE7E075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3D24-90A9-455E-9BD2-8B14DD48ED91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4CB5-6C94-4C7E-9439-4763291A46D1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A09B6-1318-421A-82A4-F1BD6707E574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5D6A-747B-47B3-961D-7AAE3C8B68FF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517C-7100-48D7-A49D-53831B2C9816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ABBD-B411-4DC0-A7D8-805A7DA9C4C2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4B9C-416F-46E3-8AD5-F6C530D9E19B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852D-9D47-480F-B00B-FEA9F9814613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60B5-AF17-48D9-9EE6-31B882D509D5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2BD5-0DAC-43EE-B8F4-390AFCD67B73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AB5B-1375-4072-A591-03FB2B76C309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10A0-B807-4C6A-B148-1AEA4ED57015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DD19-AB7D-4030-BECD-9E1CE97EE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6731-BE1A-49D2-A9F4-E476B403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D0CB01-7413-421E-A996-58592410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8FC1F8-FA81-45D0-9689-D13BA77E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23712B-BAC7-42FF-9B04-F88ACBAC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C66EE7-1944-4FA9-913B-6EEA8CEC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CCF09E-A911-465E-B95B-67A83DF7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E1082F-2A36-401B-852A-2DF30F6C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EF6DF9-E971-4C20-96BF-751C1CDE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347F6D-5FA4-4B1C-BED4-E5B5AE168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07CD35-4B04-4656-A373-79EB36339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5C5FDA-5F2F-447A-BC92-75DC22B41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807F-2812-4CB0-BCC3-965393ADE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B95E95-D608-406E-BAC8-5A5635CE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C72352-D47D-4025-8206-4C90F6D6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5DB73E-4E71-4E2A-B376-2BCCBDE8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7EEA18-DD60-4338-84CA-E0D9FDE1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0DA92A-E35B-4FFB-A305-AC725AA5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A5B1E7-7FE9-4106-8462-168350DC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E4F608-E06F-4CB8-AD14-81DC4B00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1160EB-069B-4E37-8EB4-47E2F198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A9C42D-A921-4D2D-8E97-C771427F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9A515F-0CA2-4119-9E09-58A6D0337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75DA-1D8C-4617-BF4A-34374CCDE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C58FAE-51D9-485E-8E01-F8BD1B0CB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6A82A-F25C-404D-BF73-3B5230CC2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9505B-CAEC-4350-80CD-3F0C80F0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281C9-EA31-4B77-84A5-E3DE18A4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861F9-CF45-441C-AB52-02499034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D02990-06C7-44B0-A6DD-30D1EB37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59AFE-1ACD-42E4-BD47-C619C008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DD7DA-DF8B-4099-BF0F-FBE07C0E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AA0B1-89AD-49BA-AA94-D8E25AA5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0EEBFF-FD5F-43EC-84BF-4BE515D6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2738-2745-4990-B088-600492CD0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8F517B-201E-4577-A1B7-09841FF2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140DB4-177D-4C76-B64F-43D80C133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FEEAF-2416-4EDC-B02A-05DCE0743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623AFD-055B-4880-AD2F-9203DF12C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57607F-9BBC-4148-A59D-CDC4A740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2BE196-3F90-4EC2-A7A0-31B258B7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5D97F4-7EFB-42AF-83D5-C15BF47B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C433C9-0A75-4A49-902F-2A52EEF8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E5435F-1950-434C-9F42-08C4B35E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2949D5-1F94-4647-8583-E145D314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0397-AC65-43D5-A476-8177D795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DCB2FC-5FBA-4241-B26A-06A734FF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46C1CA-5AA8-4E2F-9AAD-6E08B2E0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AA6F06-1E6C-4406-B8BA-96E6ECFE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43F4D8-FFEF-4C48-AFB0-05B7F16C1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21C274-FBCE-4548-945D-0DEC4C922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6CF105-B334-4C1B-A7B3-54558E840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3104A9-981F-4EA2-A77D-A38CEEF1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2904A7-F615-480B-B915-A5CFB01F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8E6925-B7E1-481A-8BD5-67F556C8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B34BDE-D11F-4716-B7A0-97C18C00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C749-8DAA-42F8-8E04-387F975E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BBF2DE-E2E4-4ECC-A252-32ABE8BF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E2DA26-191E-43A8-B249-B2B11138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98D1E8-971A-4E94-B77C-A91FD251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C5821A-E21F-4567-97D4-6B7F8BA6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AE3F27-03AE-42FE-92B1-859F27B5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6C25E2-5C91-4AAA-8BBD-101BA1BBE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4544EE-CC2A-4BDC-BF5A-6530EA507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C4BFD7-4097-460E-B6F8-DE8A441E9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3F4593-5725-4E7C-8104-CA0289D58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5C7910-D652-4F33-9683-2B7BD440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AE838-741C-4EB9-ABDC-646C38D5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1AC6AD-9C92-46B5-BC8E-68B12318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9A0B04-4E2D-447C-A29C-8DCA3A03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4D2D86-0AC8-46DB-B7AD-762CF1E7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315C59-CAF2-459D-8F02-8A1E74F6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D67573-99F2-4B9E-A7AE-31016C2B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6C338B-8BA4-43CF-B728-C9120F19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8EE76C-8FC8-48FD-80EF-8502AE45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0DA1A2-4C06-4A00-A2E4-DC6BD013A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2D19D6-34B9-4984-8881-AC43AE67B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6595D9-1455-4B5F-9B2D-DBD4AAC0A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AEEDB-7D6E-4073-88F2-E6E0753C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32172B-ABD1-4A02-B02C-700ABC4E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1C47F3-D0E6-4B68-9B0E-D0D207B1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45D2C6-1ECE-4814-B3E5-4ABD9F83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E9FED5-9851-4F70-80D4-070A205C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12E23B-EC20-4573-9F68-CD0B0707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B82124-8E91-46E9-BD95-A08B84FA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0EB463-1D00-4D80-9C49-43639ABF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E357E0-0F7F-4018-8AA1-8C17C90F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CC56B9-E040-45BA-8CE5-F5593D90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9EEF1F-9B96-444E-B47C-B14A94743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B01A-AE02-4686-AF4F-D9FB846D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D1E521-CA03-4F6D-84C2-34723F33E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7CAE-1327-4E85-9570-B539527E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FB68-DDB6-44FF-819E-A5D746DB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A9DE-74C5-4086-9FB3-B4646E19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9A60-1F83-434E-A3C7-4D830896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E2AD-AAA4-47C1-8949-18B64DFF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55EC4-B0D3-4F76-8D01-48A0690DB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FB63C-C3C1-4A4B-B8E1-F2C57BFBB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24991-F75A-4A74-A183-17649B977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24188-F338-49A9-B7AF-265832C3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46753-0366-4942-A4DA-58AA3E31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49947-0DAC-425E-9369-41D611E1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65BB5-5A96-4FB9-B6AC-73EBCD27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A09E-DF89-4D19-ACE0-5CEE9F52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3F1EB-859C-4429-A534-CC066FE1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46B37-EEAA-4675-9E84-26BBC689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3BAEC-8FB4-4FDF-871C-E273FE6E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1B540-1B34-4AC9-941C-F29DD9AF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DF20A-237E-466A-ADD3-31C409A8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3D658-375F-443E-9431-3DDFE1FB0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932D6-DB06-43E2-BE02-88521DEA8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AA406-6FBD-4217-8AEE-AF613A3D5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55574-741B-47DB-96E6-3E16AF4F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7A291-4FCC-44CA-8BC0-5A7F5BF5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5457-2E89-4799-83B4-7533F1C6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3CB5A-685C-44E1-A873-E05051BC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94F53-B61A-4599-B22B-D354E42A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A6319-9047-4F21-84C9-B8DF1EA2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EB21C-568B-47C9-A3F7-5B9F03DF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2C774-D186-4475-A929-077CE3C8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7EF7C-7B6A-4E92-8BB0-22C40B09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4EBD5-E9A5-4F43-B9A6-8CEB0DC8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1C98E-0E4E-4562-8F54-8DE515668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1F276-5898-46E5-B270-000271A03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65FDD-C17B-4D7F-B494-A7A14692B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9450-F27D-475E-AC83-07357464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81C26-E8DA-402F-B8DC-1AA47099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B4D39-0DBB-4E45-AB0C-E30DEF1A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2762E-7F69-4509-B26E-C2A811E0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D3CC3-6DE1-4DE0-9A35-53632F11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D5D8F-5819-45BD-90F1-2B9F16D7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46C02-AE12-4007-AE85-3082EFA1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A11BA-CBBD-4EE1-922C-5DD5A465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7225B-0DCB-448C-B286-142D8BB7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92990-2C18-4E5D-BB04-C1B97C6F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C727D-BB2C-402A-80D2-B27F1D00C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EF4E-4A6F-426A-BEF9-4E03F499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76457-1D59-4D11-8DDF-A1C9EBC24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66813-08FC-4DE9-929D-32C492179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280AE-7000-45AF-966E-2A0E9FF6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A1B35-E338-4063-A7F4-5A8666D3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946E0-79E7-4DCF-A084-5E6E0823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8BA9B-61C0-4394-9283-29479CE9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EF670-CC0E-45BA-9821-FE30CEAD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211B9-D941-4991-A442-83A4877B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2D293-7ED6-4CC0-B1F0-F338EE3C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40A8D-9FC9-44F8-898D-7BF6AD2C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6193-CB1D-4FCC-9F72-2B1FDBDC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9D97A-FD19-4746-AF89-525657FC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82C3A-86EE-4E7F-AE0F-BFA836FB2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41C5F-3FF7-4312-BC2A-1AB832982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7D568-72C5-4303-AE38-409161972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CA53D-1FC8-43AE-AE63-5FD0F422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6BE29-4EE3-4FEB-984B-EB9DE42F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566D2-ADF8-4F23-A097-78BF140F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F7587-8E53-4B90-B685-514D6386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0EB5C-6181-4998-9673-656CA5B9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D7493-003D-4340-822B-F3A5F8DF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85BF-4741-4153-BFCA-466C1BA8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3D443-A2E5-44A0-BF8B-488DEE99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DE32C-0630-487A-ACDD-FA67169F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0609B-EBCB-4AAA-AFC4-B3C94E5E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3577C-20DF-483C-AF5C-C2B83676D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165F3-718D-4A2D-A8CC-79704E28B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B91AC-D293-41A1-968C-F6A02DFA6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E335A-5056-48FE-9F39-A3F1244B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CB90F-D7C0-4386-BA96-A54F0728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28FE9-A510-42E9-B4D3-6E8E3E3D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78807-6AD1-4B8C-A2D8-9004E336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75B9-EDCF-4F09-9C8D-74E4720F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91CE7-86EC-4846-BB0E-4301ADE0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BF075-8A4B-4D5D-8DBC-8CEF4151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53A77-2327-4AA6-A95B-BD085A20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A197E-7B0C-4ADD-9E0F-4B899F7E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D7E25-CA95-4D7C-944C-700EF5C6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67FC1-3AE3-410F-AB94-B1AB8BA4A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FA743-2EE2-46D4-84EC-6B3F94624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543D3B-AAAF-4F4D-A630-B699B993D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5971BC-6B1B-4A3A-A0DC-C7EA5D02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A6CDA6-0E66-43D9-A78E-DF6F53AE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088C-69CC-48DD-8DE5-F918B8CC20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C6C9-04C2-4B6B-8307-D03C7C58DD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4EF0-09BF-4C97-A070-164517F1BA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8C69-E0E6-4729-A6F9-F565AF2173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6BB9-8970-46B7-AC30-70DDF91769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4C15-F916-40CF-8994-3707307280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D64B-C2A3-43CD-B5E8-CCF2BDC9C6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2FF4-0F1C-4A7F-BE65-91ECD3627F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3609-BAE1-4734-BC53-65316D1688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3083-1537-40D7-81C5-CA2C45B412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2660-BB03-4E04-8D44-EEE27E5078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ECD8-9D82-4375-BAB5-A07A28D298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F38C-0301-487D-929B-9C4AFE41BF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3CD5-58C9-4A56-8FA7-DF83644CBA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2972-ED9C-4A6F-AD1D-1E6B764942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Многогранник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 – это такое тело, поверхность которого состоит из конечного числа плоских многоугольнико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5"/>
          <p:cNvSpPr/>
          <p:nvPr/>
        </p:nvSpPr>
        <p:spPr>
          <a:xfrm>
            <a:off x="900000" y="4508640"/>
            <a:ext cx="2159280" cy="2089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7" descr="17_Звездчатый додекаэдр"/>
          <p:cNvPicPr/>
          <p:nvPr/>
        </p:nvPicPr>
        <p:blipFill>
          <a:blip r:embed="rId1"/>
          <a:stretch/>
        </p:blipFill>
        <p:spPr>
          <a:xfrm>
            <a:off x="5867280" y="3645000"/>
            <a:ext cx="3051360" cy="30020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Великие математики древност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2" descr="D:\Documents and Settings\Administrator\My Documents\Танечка\Archimedes_7.jpeg"/>
          <p:cNvPicPr/>
          <p:nvPr/>
        </p:nvPicPr>
        <p:blipFill>
          <a:blip r:embed="rId1"/>
          <a:stretch/>
        </p:blipFill>
        <p:spPr>
          <a:xfrm>
            <a:off x="250920" y="1413000"/>
            <a:ext cx="2820960" cy="327816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4" descr="D:\Documents and Settings\Administrator\My Documents\Танечка\pythagor.jpeg"/>
          <p:cNvPicPr/>
          <p:nvPr/>
        </p:nvPicPr>
        <p:blipFill>
          <a:blip r:embed="rId2"/>
          <a:stretch/>
        </p:blipFill>
        <p:spPr>
          <a:xfrm>
            <a:off x="6219720" y="1413000"/>
            <a:ext cx="2603520" cy="3240000"/>
          </a:xfrm>
          <a:prstGeom prst="rect">
            <a:avLst/>
          </a:prstGeom>
          <a:ln w="0">
            <a:noFill/>
          </a:ln>
        </p:spPr>
      </p:pic>
      <p:sp>
        <p:nvSpPr>
          <p:cNvPr id="659" name="TextBox 12"/>
          <p:cNvSpPr/>
          <p:nvPr/>
        </p:nvSpPr>
        <p:spPr>
          <a:xfrm>
            <a:off x="179280" y="4941720"/>
            <a:ext cx="857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химед                    Евклид                  Пифаго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Picture 3" descr="euclid"/>
          <p:cNvPicPr/>
          <p:nvPr/>
        </p:nvPicPr>
        <p:blipFill>
          <a:blip r:embed="rId3"/>
          <a:stretch/>
        </p:blipFill>
        <p:spPr>
          <a:xfrm>
            <a:off x="3419640" y="1486080"/>
            <a:ext cx="2520720" cy="32382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6588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Подробно описал свойства правильных многогранников древнегреческий ученый Платон. Именно поэтому правильн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многогранники называю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WordArt 4"/>
          <p:cNvSpPr txBox="1"/>
          <p:nvPr/>
        </p:nvSpPr>
        <p:spPr>
          <a:xfrm>
            <a:off x="324000" y="4221000"/>
            <a:ext cx="8280360" cy="20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тела  Плато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pic>
        <p:nvPicPr>
          <p:cNvPr id="663" name="Picture 4" descr="pp_054"/>
          <p:cNvPicPr/>
          <p:nvPr/>
        </p:nvPicPr>
        <p:blipFill>
          <a:blip r:embed="rId1"/>
          <a:stretch/>
        </p:blipFill>
        <p:spPr>
          <a:xfrm>
            <a:off x="6043680" y="44280"/>
            <a:ext cx="2992320" cy="37450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WordArt 4"/>
          <p:cNvSpPr txBox="1"/>
          <p:nvPr/>
        </p:nvSpPr>
        <p:spPr>
          <a:xfrm>
            <a:off x="971640" y="620640"/>
            <a:ext cx="3313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траэдр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5" name="WordArt 5"/>
          <p:cNvSpPr txBox="1"/>
          <p:nvPr/>
        </p:nvSpPr>
        <p:spPr>
          <a:xfrm>
            <a:off x="4500720" y="1052640"/>
            <a:ext cx="2303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огонь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66" name="Picture 12" descr="MCj02328160000[1]"/>
          <p:cNvPicPr/>
          <p:nvPr/>
        </p:nvPicPr>
        <p:blipFill>
          <a:blip r:embed="rId1"/>
          <a:stretch/>
        </p:blipFill>
        <p:spPr>
          <a:xfrm>
            <a:off x="6877080" y="189000"/>
            <a:ext cx="2023920" cy="1673280"/>
          </a:xfrm>
          <a:prstGeom prst="rect">
            <a:avLst/>
          </a:prstGeom>
          <a:ln w="0">
            <a:noFill/>
          </a:ln>
        </p:spPr>
      </p:pic>
      <p:sp>
        <p:nvSpPr>
          <p:cNvPr id="667" name="WordArt 15"/>
          <p:cNvSpPr txBox="1"/>
          <p:nvPr/>
        </p:nvSpPr>
        <p:spPr>
          <a:xfrm>
            <a:off x="1042920" y="1916280"/>
            <a:ext cx="583416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уб  -  земля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68" name="Picture 19" descr="MCj04315320000[1]"/>
          <p:cNvPicPr/>
          <p:nvPr/>
        </p:nvPicPr>
        <p:blipFill>
          <a:blip r:embed="rId2"/>
          <a:stretch/>
        </p:blipFill>
        <p:spPr>
          <a:xfrm>
            <a:off x="6948360" y="5661000"/>
            <a:ext cx="1225800" cy="1197000"/>
          </a:xfrm>
          <a:prstGeom prst="rect">
            <a:avLst/>
          </a:prstGeom>
          <a:ln w="0">
            <a:noFill/>
          </a:ln>
        </p:spPr>
      </p:pic>
      <p:sp>
        <p:nvSpPr>
          <p:cNvPr id="669" name="WordArt 20"/>
          <p:cNvSpPr txBox="1"/>
          <p:nvPr/>
        </p:nvSpPr>
        <p:spPr>
          <a:xfrm>
            <a:off x="1042920" y="3357720"/>
            <a:ext cx="53294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ктаэдр  -  воздух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70" name="Picture 24" descr="MCj03970460000[1]"/>
          <p:cNvPicPr/>
          <p:nvPr/>
        </p:nvPicPr>
        <p:blipFill>
          <a:blip r:embed="rId3"/>
          <a:stretch/>
        </p:blipFill>
        <p:spPr>
          <a:xfrm>
            <a:off x="6659640" y="2997360"/>
            <a:ext cx="1584360" cy="1366560"/>
          </a:xfrm>
          <a:prstGeom prst="rect">
            <a:avLst/>
          </a:prstGeom>
          <a:ln w="0">
            <a:noFill/>
          </a:ln>
        </p:spPr>
      </p:pic>
      <p:sp>
        <p:nvSpPr>
          <p:cNvPr id="671" name="WordArt 28"/>
          <p:cNvSpPr txBox="1"/>
          <p:nvPr/>
        </p:nvSpPr>
        <p:spPr>
          <a:xfrm>
            <a:off x="1116000" y="4581360"/>
            <a:ext cx="5256360" cy="97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косаэдр  -  вода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72" name="Picture 30" descr="MCj04296610000[1]"/>
          <p:cNvPicPr/>
          <p:nvPr/>
        </p:nvPicPr>
        <p:blipFill>
          <a:blip r:embed="rId4"/>
          <a:stretch/>
        </p:blipFill>
        <p:spPr>
          <a:xfrm>
            <a:off x="7093080" y="4365720"/>
            <a:ext cx="1838160" cy="1288800"/>
          </a:xfrm>
          <a:prstGeom prst="rect">
            <a:avLst/>
          </a:prstGeom>
          <a:ln w="0">
            <a:noFill/>
          </a:ln>
        </p:spPr>
      </p:pic>
      <p:sp>
        <p:nvSpPr>
          <p:cNvPr id="673" name="WordArt 34"/>
          <p:cNvSpPr txBox="1"/>
          <p:nvPr/>
        </p:nvSpPr>
        <p:spPr>
          <a:xfrm>
            <a:off x="1042920" y="5805360"/>
            <a:ext cx="576108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декаэдр - вселенная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74" name="Picture 41" descr="MCj03907020000[1]"/>
          <p:cNvPicPr/>
          <p:nvPr/>
        </p:nvPicPr>
        <p:blipFill>
          <a:blip r:embed="rId5"/>
          <a:stretch/>
        </p:blipFill>
        <p:spPr>
          <a:xfrm>
            <a:off x="6948360" y="1844640"/>
            <a:ext cx="1836720" cy="12160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Picture 6" descr="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6" name="WordArt 8"/>
          <p:cNvSpPr txBox="1"/>
          <p:nvPr/>
        </p:nvSpPr>
        <p:spPr>
          <a:xfrm>
            <a:off x="684360" y="333360"/>
            <a:ext cx="80643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Многогранни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77" name="WordArt 9"/>
          <p:cNvSpPr txBox="1"/>
          <p:nvPr/>
        </p:nvSpPr>
        <p:spPr>
          <a:xfrm>
            <a:off x="971640" y="2492280"/>
            <a:ext cx="7345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 науках о космосе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78" name="WordArt 10"/>
          <p:cNvSpPr txBox="1"/>
          <p:nvPr/>
        </p:nvSpPr>
        <p:spPr>
          <a:xfrm>
            <a:off x="2268360" y="4292640"/>
            <a:ext cx="4319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 земле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/>
          </p:nvPr>
        </p:nvSpPr>
        <p:spPr>
          <a:xfrm>
            <a:off x="250920" y="620640"/>
            <a:ext cx="3744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оганн Кеплер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571-1630) – немецкий астроном и математи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ин из создателей современной астрономии - открыл законы движения планет (законы Кепле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Picture 7" descr="03_Кеплер"/>
          <p:cNvPicPr/>
          <p:nvPr/>
        </p:nvPicPr>
        <p:blipFill>
          <a:blip r:embed="rId1"/>
          <a:stretch/>
        </p:blipFill>
        <p:spPr>
          <a:xfrm>
            <a:off x="4284720" y="692280"/>
            <a:ext cx="4740120" cy="58942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4" descr="8_ Космический кубок Кеплера"/>
          <p:cNvPicPr/>
          <p:nvPr/>
        </p:nvPicPr>
        <p:blipFill>
          <a:blip r:embed="rId1"/>
          <a:stretch/>
        </p:blipFill>
        <p:spPr>
          <a:xfrm>
            <a:off x="0" y="0"/>
            <a:ext cx="6012000" cy="6858000"/>
          </a:xfrm>
          <a:prstGeom prst="rect">
            <a:avLst/>
          </a:prstGeom>
          <a:ln w="0">
            <a:noFill/>
          </a:ln>
        </p:spPr>
      </p:pic>
      <p:sp>
        <p:nvSpPr>
          <p:cNvPr id="682" name="WordArt 8"/>
          <p:cNvSpPr txBox="1"/>
          <p:nvPr/>
        </p:nvSpPr>
        <p:spPr>
          <a:xfrm>
            <a:off x="6012000" y="3213000"/>
            <a:ext cx="3024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убок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3" name="WordArt 8"/>
          <p:cNvSpPr txBox="1"/>
          <p:nvPr/>
        </p:nvSpPr>
        <p:spPr>
          <a:xfrm>
            <a:off x="5940360" y="5445000"/>
            <a:ext cx="3024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еплер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4" name="WordArt 8"/>
          <p:cNvSpPr txBox="1"/>
          <p:nvPr/>
        </p:nvSpPr>
        <p:spPr>
          <a:xfrm>
            <a:off x="5219640" y="692280"/>
            <a:ext cx="392436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смический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5" descr="MCj04325690000[1]"/>
          <p:cNvPicPr/>
          <p:nvPr/>
        </p:nvPicPr>
        <p:blipFill>
          <a:blip r:embed="rId1"/>
          <a:stretch/>
        </p:blipFill>
        <p:spPr>
          <a:xfrm>
            <a:off x="1332000" y="981000"/>
            <a:ext cx="6265800" cy="5589720"/>
          </a:xfrm>
          <a:prstGeom prst="rect">
            <a:avLst/>
          </a:prstGeom>
          <a:ln w="0">
            <a:noFill/>
          </a:ln>
        </p:spPr>
      </p:pic>
      <p:sp>
        <p:nvSpPr>
          <p:cNvPr id="686" name="WordArt 6"/>
          <p:cNvSpPr txBox="1"/>
          <p:nvPr/>
        </p:nvSpPr>
        <p:spPr>
          <a:xfrm>
            <a:off x="1116000" y="260280"/>
            <a:ext cx="56880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" Экосаэдро -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87" name="WordArt 7"/>
          <p:cNvSpPr txBox="1"/>
          <p:nvPr/>
        </p:nvSpPr>
        <p:spPr>
          <a:xfrm>
            <a:off x="1619280" y="2060640"/>
            <a:ext cx="6840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одекаэдровая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88" name="WordArt 8"/>
          <p:cNvSpPr txBox="1"/>
          <p:nvPr/>
        </p:nvSpPr>
        <p:spPr>
          <a:xfrm>
            <a:off x="684360" y="4005360"/>
            <a:ext cx="79912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труктура  Земли "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6" descr="9_Икосаэдро-додекаэдровая структура Земли"/>
          <p:cNvPicPr/>
          <p:nvPr/>
        </p:nvPicPr>
        <p:blipFill>
          <a:blip r:embed="rId1"/>
          <a:stretch/>
        </p:blipFill>
        <p:spPr>
          <a:xfrm>
            <a:off x="1332000" y="189000"/>
            <a:ext cx="6487920" cy="6416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Многогранники в искусстве и архитектур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Picture 5" descr="Титульный лист книги Ж"/>
          <p:cNvPicPr/>
          <p:nvPr/>
        </p:nvPicPr>
        <p:blipFill>
          <a:blip r:embed="rId1"/>
          <a:stretch/>
        </p:blipFill>
        <p:spPr>
          <a:xfrm>
            <a:off x="2757600" y="1600200"/>
            <a:ext cx="3627360" cy="452592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2" descr=""/>
          <p:cNvPicPr/>
          <p:nvPr/>
        </p:nvPicPr>
        <p:blipFill>
          <a:blip r:embed="rId2"/>
          <a:stretch/>
        </p:blipFill>
        <p:spPr>
          <a:xfrm>
            <a:off x="611280" y="1773360"/>
            <a:ext cx="1877760" cy="21700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c0c0c0">
                <a:alpha val="50000"/>
              </a:srgbClr>
            </a:outerShdw>
          </a:effectLst>
        </p:spPr>
      </p:pic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Альбрехт Дюрер (1471-1528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7" descr="11_Меланхолия (Дюрер)"/>
          <p:cNvPicPr/>
          <p:nvPr/>
        </p:nvPicPr>
        <p:blipFill>
          <a:blip r:embed="rId1"/>
          <a:stretch/>
        </p:blipFill>
        <p:spPr>
          <a:xfrm>
            <a:off x="4140360" y="1197000"/>
            <a:ext cx="4464000" cy="5446800"/>
          </a:xfrm>
          <a:prstGeom prst="rect">
            <a:avLst/>
          </a:prstGeom>
          <a:ln w="0">
            <a:noFill/>
          </a:ln>
        </p:spPr>
      </p:pic>
      <p:sp>
        <p:nvSpPr>
          <p:cNvPr id="695" name="Rectangle 4"/>
          <p:cNvSpPr/>
          <p:nvPr/>
        </p:nvSpPr>
        <p:spPr>
          <a:xfrm>
            <a:off x="0" y="3429000"/>
            <a:ext cx="4067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«Меланхолия»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Picture 16" descr="paintedsilver"/>
          <p:cNvPicPr/>
          <p:nvPr/>
        </p:nvPicPr>
        <p:blipFill>
          <a:blip r:embed="rId1"/>
          <a:stretch/>
        </p:blipFill>
        <p:spPr>
          <a:xfrm>
            <a:off x="0" y="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626" name="Прямоугольник 2"/>
          <p:cNvSpPr/>
          <p:nvPr/>
        </p:nvSpPr>
        <p:spPr>
          <a:xfrm>
            <a:off x="108000" y="4508640"/>
            <a:ext cx="89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авильные многогранники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00000"/>
                </a:solidFill>
                <a:uFillTx/>
                <a:latin typeface="Arial"/>
              </a:rPr>
              <a:t>Сальвадор Дали</a:t>
            </a: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6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айная Вечеря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Picture 7" descr="15_Тайная вечеря (Дали)"/>
          <p:cNvPicPr/>
          <p:nvPr/>
        </p:nvPicPr>
        <p:blipFill>
          <a:blip r:embed="rId1"/>
          <a:stretch/>
        </p:blipFill>
        <p:spPr>
          <a:xfrm>
            <a:off x="3995640" y="988920"/>
            <a:ext cx="4969080" cy="56800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TextBox 1"/>
          <p:cNvSpPr/>
          <p:nvPr/>
        </p:nvSpPr>
        <p:spPr>
          <a:xfrm>
            <a:off x="857160" y="285840"/>
            <a:ext cx="7286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временные архитектурные сооружения  в виде многогранник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Picture 2" descr="D:\Documents and Settings\Administrator\My Documents\Танечка\дом1.jpg"/>
          <p:cNvPicPr/>
          <p:nvPr/>
        </p:nvPicPr>
        <p:blipFill>
          <a:blip r:embed="rId1"/>
          <a:stretch/>
        </p:blipFill>
        <p:spPr>
          <a:xfrm>
            <a:off x="1143000" y="2143080"/>
            <a:ext cx="7000920" cy="40719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Picture 2" descr="arxit7"/>
          <p:cNvPicPr/>
          <p:nvPr/>
        </p:nvPicPr>
        <p:blipFill>
          <a:blip r:embed="rId1"/>
          <a:stretch/>
        </p:blipFill>
        <p:spPr>
          <a:xfrm>
            <a:off x="1332000" y="1341360"/>
            <a:ext cx="6872040" cy="5400720"/>
          </a:xfrm>
          <a:prstGeom prst="rect">
            <a:avLst/>
          </a:prstGeom>
          <a:ln w="0">
            <a:noFill/>
          </a:ln>
        </p:spPr>
      </p:pic>
      <p:sp>
        <p:nvSpPr>
          <p:cNvPr id="702" name="Text Box 5"/>
          <p:cNvSpPr/>
          <p:nvPr/>
        </p:nvSpPr>
        <p:spPr>
          <a:xfrm>
            <a:off x="1835280" y="549360"/>
            <a:ext cx="52210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Александрийский мая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Picture 2" descr="D:\дом10.jpg"/>
          <p:cNvPicPr/>
          <p:nvPr/>
        </p:nvPicPr>
        <p:blipFill>
          <a:blip r:embed="rId1"/>
          <a:stretch/>
        </p:blipFill>
        <p:spPr>
          <a:xfrm>
            <a:off x="1000080" y="1214280"/>
            <a:ext cx="6143760" cy="4964400"/>
          </a:xfrm>
          <a:prstGeom prst="rect">
            <a:avLst/>
          </a:prstGeom>
          <a:ln w="0">
            <a:noFill/>
          </a:ln>
        </p:spPr>
      </p:pic>
      <p:sp>
        <p:nvSpPr>
          <p:cNvPr id="704" name="TextBox 2"/>
          <p:cNvSpPr/>
          <p:nvPr/>
        </p:nvSpPr>
        <p:spPr>
          <a:xfrm>
            <a:off x="1187280" y="189000"/>
            <a:ext cx="6000840" cy="8254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рпичный многогранник швейцарского архитектора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Picture 2" descr="D:\дом6.jpg"/>
          <p:cNvPicPr/>
          <p:nvPr/>
        </p:nvPicPr>
        <p:blipFill>
          <a:blip r:embed="rId1"/>
          <a:stretch/>
        </p:blipFill>
        <p:spPr>
          <a:xfrm>
            <a:off x="857160" y="1214280"/>
            <a:ext cx="7143840" cy="5237280"/>
          </a:xfrm>
          <a:prstGeom prst="rect">
            <a:avLst/>
          </a:prstGeom>
          <a:ln w="0">
            <a:noFill/>
          </a:ln>
        </p:spPr>
      </p:pic>
      <p:sp>
        <p:nvSpPr>
          <p:cNvPr id="706" name="TextBox 2"/>
          <p:cNvSpPr/>
          <p:nvPr/>
        </p:nvSpPr>
        <p:spPr>
          <a:xfrm flipH="1">
            <a:off x="1331280" y="404640"/>
            <a:ext cx="62420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временное здание в Англи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Многогранники в природ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7" descr="04_Феодария"/>
          <p:cNvPicPr/>
          <p:nvPr/>
        </p:nvPicPr>
        <p:blipFill>
          <a:blip r:embed="rId1"/>
          <a:stretch/>
        </p:blipFill>
        <p:spPr>
          <a:xfrm>
            <a:off x="2268360" y="992160"/>
            <a:ext cx="4248360" cy="4979880"/>
          </a:xfrm>
          <a:prstGeom prst="rect">
            <a:avLst/>
          </a:prstGeom>
          <a:ln w="0">
            <a:noFill/>
          </a:ln>
        </p:spPr>
      </p:pic>
      <p:sp>
        <p:nvSpPr>
          <p:cNvPr id="709" name="Rectangle 4"/>
          <p:cNvSpPr/>
          <p:nvPr/>
        </p:nvSpPr>
        <p:spPr>
          <a:xfrm>
            <a:off x="539640" y="5994360"/>
            <a:ext cx="7993080" cy="747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ФЕОДАРИЯ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2" descr="D:\Documents and Settings\Administrator\My Documents\Танечка\колчедан.jpg"/>
          <p:cNvPicPr/>
          <p:nvPr/>
        </p:nvPicPr>
        <p:blipFill>
          <a:blip r:embed="rId1"/>
          <a:stretch/>
        </p:blipFill>
        <p:spPr>
          <a:xfrm>
            <a:off x="857160" y="1052640"/>
            <a:ext cx="2346480" cy="2412720"/>
          </a:xfrm>
          <a:prstGeom prst="rect">
            <a:avLst/>
          </a:prstGeom>
          <a:ln w="0">
            <a:noFill/>
          </a:ln>
        </p:spPr>
      </p:pic>
      <p:sp>
        <p:nvSpPr>
          <p:cNvPr id="711" name="TextBox 7"/>
          <p:cNvSpPr/>
          <p:nvPr/>
        </p:nvSpPr>
        <p:spPr>
          <a:xfrm>
            <a:off x="539640" y="350028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ри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сернистый колчедан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3" descr="D:\Documents and Settings\Administrator\My Documents\Танечка\албмокалиевые квасцы.jpg"/>
          <p:cNvPicPr/>
          <p:nvPr/>
        </p:nvPicPr>
        <p:blipFill>
          <a:blip r:embed="rId2"/>
          <a:stretch/>
        </p:blipFill>
        <p:spPr>
          <a:xfrm>
            <a:off x="5357880" y="1125360"/>
            <a:ext cx="2514600" cy="2359080"/>
          </a:xfrm>
          <a:prstGeom prst="rect">
            <a:avLst/>
          </a:prstGeom>
          <a:ln w="0">
            <a:noFill/>
          </a:ln>
        </p:spPr>
      </p:pic>
      <p:sp>
        <p:nvSpPr>
          <p:cNvPr id="713" name="TextBox 9"/>
          <p:cNvSpPr/>
          <p:nvPr/>
        </p:nvSpPr>
        <p:spPr>
          <a:xfrm flipH="1">
            <a:off x="5002920" y="3500280"/>
            <a:ext cx="321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нокристалл алюмокалиевых квасцо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Picture 4" descr="D:\Documents and Settings\Administrator\My Documents\Танечка\куприт1.jpeg"/>
          <p:cNvPicPr/>
          <p:nvPr/>
        </p:nvPicPr>
        <p:blipFill>
          <a:blip r:embed="rId3"/>
          <a:stretch/>
        </p:blipFill>
        <p:spPr>
          <a:xfrm>
            <a:off x="372960" y="4572000"/>
            <a:ext cx="2398680" cy="166536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5" descr="D:\Documents and Settings\Administrator\My Documents\Танечка\куприт3.jpeg"/>
          <p:cNvPicPr/>
          <p:nvPr/>
        </p:nvPicPr>
        <p:blipFill>
          <a:blip r:embed="rId4"/>
          <a:stretch/>
        </p:blipFill>
        <p:spPr>
          <a:xfrm>
            <a:off x="6143760" y="4500720"/>
            <a:ext cx="1887480" cy="173664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6" descr="D:\Documents and Settings\Administrator\My Documents\Танечка\куприт4.jpeg"/>
          <p:cNvPicPr/>
          <p:nvPr/>
        </p:nvPicPr>
        <p:blipFill>
          <a:blip r:embed="rId5"/>
          <a:stretch/>
        </p:blipFill>
        <p:spPr>
          <a:xfrm>
            <a:off x="3635280" y="4429080"/>
            <a:ext cx="1579680" cy="1990800"/>
          </a:xfrm>
          <a:prstGeom prst="rect">
            <a:avLst/>
          </a:prstGeom>
          <a:ln w="0">
            <a:noFill/>
          </a:ln>
        </p:spPr>
      </p:pic>
      <p:sp>
        <p:nvSpPr>
          <p:cNvPr id="717" name="TextBox 13"/>
          <p:cNvSpPr/>
          <p:nvPr/>
        </p:nvSpPr>
        <p:spPr>
          <a:xfrm flipV="1" rot="10800000">
            <a:off x="2556000" y="6380640"/>
            <a:ext cx="43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исталлы красной медной руд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Box 15"/>
          <p:cNvSpPr/>
          <p:nvPr/>
        </p:nvSpPr>
        <p:spPr>
          <a:xfrm flipH="1">
            <a:off x="826920" y="28584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РИРОДНЫЕ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РИСТАЛЛ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4" descr="mnogogr-priroda-1"/>
          <p:cNvPicPr/>
          <p:nvPr/>
        </p:nvPicPr>
        <p:blipFill>
          <a:blip r:embed="rId1"/>
          <a:stretch/>
        </p:blipFill>
        <p:spPr>
          <a:xfrm>
            <a:off x="34920" y="189000"/>
            <a:ext cx="3116160" cy="2160360"/>
          </a:xfrm>
          <a:prstGeom prst="rect">
            <a:avLst/>
          </a:prstGeom>
          <a:ln w="0">
            <a:noFill/>
          </a:ln>
        </p:spPr>
      </p:pic>
      <p:sp>
        <p:nvSpPr>
          <p:cNvPr id="720" name="Rectangle 5"/>
          <p:cNvSpPr/>
          <p:nvPr/>
        </p:nvSpPr>
        <p:spPr>
          <a:xfrm>
            <a:off x="179280" y="2786760"/>
            <a:ext cx="27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аренная соль состоит из кристаллов в форме куб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Picture 8" descr="mnogogr-priroda-3"/>
          <p:cNvPicPr/>
          <p:nvPr/>
        </p:nvPicPr>
        <p:blipFill>
          <a:blip r:embed="rId2"/>
          <a:stretch/>
        </p:blipFill>
        <p:spPr>
          <a:xfrm>
            <a:off x="108000" y="4368960"/>
            <a:ext cx="2951280" cy="2300040"/>
          </a:xfrm>
          <a:prstGeom prst="rect">
            <a:avLst/>
          </a:prstGeom>
          <a:ln w="0">
            <a:noFill/>
          </a:ln>
        </p:spPr>
      </p:pic>
      <p:sp>
        <p:nvSpPr>
          <p:cNvPr id="722" name="Rectangle 9"/>
          <p:cNvSpPr/>
          <p:nvPr/>
        </p:nvSpPr>
        <p:spPr>
          <a:xfrm>
            <a:off x="2987640" y="530784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ерал сильвин также имеет кристаллическую решетку в форме куба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10" descr="mnogogr-priroda-4"/>
          <p:cNvPicPr/>
          <p:nvPr/>
        </p:nvPicPr>
        <p:blipFill>
          <a:blip r:embed="rId3"/>
          <a:stretch/>
        </p:blipFill>
        <p:spPr>
          <a:xfrm>
            <a:off x="6443640" y="260280"/>
            <a:ext cx="2521080" cy="213840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12" descr="mnogogr-priroda-6"/>
          <p:cNvPicPr/>
          <p:nvPr/>
        </p:nvPicPr>
        <p:blipFill>
          <a:blip r:embed="rId4"/>
          <a:stretch/>
        </p:blipFill>
        <p:spPr>
          <a:xfrm>
            <a:off x="3203640" y="333360"/>
            <a:ext cx="3155760" cy="2016000"/>
          </a:xfrm>
          <a:prstGeom prst="rect">
            <a:avLst/>
          </a:prstGeom>
          <a:ln w="0">
            <a:noFill/>
          </a:ln>
        </p:spPr>
      </p:pic>
      <p:sp>
        <p:nvSpPr>
          <p:cNvPr id="725" name="Rectangle 13"/>
          <p:cNvSpPr/>
          <p:nvPr/>
        </p:nvSpPr>
        <p:spPr>
          <a:xfrm>
            <a:off x="3419640" y="2283120"/>
            <a:ext cx="270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лекулы воды имеют форму тетраэдра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Picture 14" descr="mnogogr-priroda-5"/>
          <p:cNvPicPr/>
          <p:nvPr/>
        </p:nvPicPr>
        <p:blipFill>
          <a:blip r:embed="rId5"/>
          <a:stretch/>
        </p:blipFill>
        <p:spPr>
          <a:xfrm>
            <a:off x="6296040" y="3789360"/>
            <a:ext cx="2502000" cy="1800360"/>
          </a:xfrm>
          <a:prstGeom prst="rect">
            <a:avLst/>
          </a:prstGeom>
          <a:ln w="0">
            <a:noFill/>
          </a:ln>
        </p:spPr>
      </p:pic>
      <p:sp>
        <p:nvSpPr>
          <p:cNvPr id="727" name="Rectangle 15"/>
          <p:cNvSpPr/>
          <p:nvPr/>
        </p:nvSpPr>
        <p:spPr>
          <a:xfrm>
            <a:off x="6443640" y="5523480"/>
            <a:ext cx="239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ерал куприт образует кристаллы в форме октаэдров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11"/>
          <p:cNvSpPr/>
          <p:nvPr/>
        </p:nvSpPr>
        <p:spPr>
          <a:xfrm>
            <a:off x="6588000" y="2491920"/>
            <a:ext cx="231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исталлы пирита имеют форму додекаэдр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835280" y="274680"/>
            <a:ext cx="5473440" cy="113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Arial"/>
              </a:rPr>
              <a:t>Алма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425448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форме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ктаэдр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кристаллизуются алмаз, хлорид натрия, флюорит, оливин и другие веще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Picture 7" descr="6_Алмаз"/>
          <p:cNvPicPr/>
          <p:nvPr/>
        </p:nvPicPr>
        <p:blipFill>
          <a:blip r:embed="rId1"/>
          <a:stretch/>
        </p:blipFill>
        <p:spPr>
          <a:xfrm>
            <a:off x="4859280" y="1628640"/>
            <a:ext cx="3567240" cy="45259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TextBox 1"/>
          <p:cNvSpPr/>
          <p:nvPr/>
        </p:nvSpPr>
        <p:spPr>
          <a:xfrm flipH="1">
            <a:off x="610560" y="333360"/>
            <a:ext cx="746100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торическ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ервой формой огранк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появившейся 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IV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ке стал октаэдр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лмаз Шах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Picture 3" descr="D:\Documents and Settings\Administrator\My Documents\Танечка\алмаз шах большой.jpg"/>
          <p:cNvPicPr/>
          <p:nvPr/>
        </p:nvPicPr>
        <p:blipFill>
          <a:blip r:embed="rId1"/>
          <a:stretch/>
        </p:blipFill>
        <p:spPr>
          <a:xfrm>
            <a:off x="1773360" y="1755720"/>
            <a:ext cx="5591160" cy="4486320"/>
          </a:xfrm>
          <a:prstGeom prst="rect">
            <a:avLst/>
          </a:prstGeom>
          <a:ln w="0">
            <a:noFill/>
          </a:ln>
        </p:spPr>
      </p:pic>
      <p:sp>
        <p:nvSpPr>
          <p:cNvPr id="734" name="TextBox 4"/>
          <p:cNvSpPr/>
          <p:nvPr/>
        </p:nvSpPr>
        <p:spPr>
          <a:xfrm>
            <a:off x="2484360" y="6340320"/>
            <a:ext cx="41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сса  алмаза 88,7 карат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7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Прямоугольник 1"/>
          <p:cNvSpPr/>
          <p:nvPr/>
        </p:nvSpPr>
        <p:spPr>
          <a:xfrm>
            <a:off x="324000" y="260280"/>
            <a:ext cx="8640720" cy="59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Georgia"/>
              </a:rPr>
              <a:t>- Сколько существует правильных многогранников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Georgia"/>
              </a:rPr>
              <a:t>- Как они определяются, какими свойствами обладают?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Georgia"/>
              </a:rPr>
              <a:t>-Где встречаются, имеют ли практическое применение?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Rectangle 1"/>
          <p:cNvGrpSpPr/>
          <p:nvPr/>
        </p:nvGrpSpPr>
        <p:grpSpPr>
          <a:xfrm>
            <a:off x="-6480" y="268200"/>
            <a:ext cx="9004320" cy="5973840"/>
            <a:chOff x="-6480" y="268200"/>
            <a:chExt cx="9004320" cy="5973840"/>
          </a:xfrm>
        </p:grpSpPr>
        <p:pic>
          <p:nvPicPr>
            <p:cNvPr id="736" name="Rectangle 1" descr=""/>
            <p:cNvPicPr/>
            <p:nvPr/>
          </p:nvPicPr>
          <p:blipFill>
            <a:blip r:embed="rId1"/>
            <a:stretch/>
          </p:blipFill>
          <p:spPr>
            <a:xfrm>
              <a:off x="-6480" y="268200"/>
              <a:ext cx="9004320" cy="597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"/>
            <p:cNvSpPr/>
            <p:nvPr/>
          </p:nvSpPr>
          <p:spPr>
            <a:xfrm>
              <a:off x="250920" y="432360"/>
              <a:ext cx="8461440" cy="56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Задача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нглийская королева дала указание сделать  огранку вдоль ребер алмаза золотой нитью. Но огранка не была сделана, так как ювелир не сумел рассчитать максимальную длину золотой нити, а сам алмаз ему не показали. Ювелиру были сообщены следующие данные: число вершин В=54, число граней Г=48, длина наибольшего ребра L= 4мм.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йти максимальную длину золотой нити.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8" name=""/>
          <p:cNvGraphicFramePr/>
          <p:nvPr/>
        </p:nvGraphicFramePr>
        <p:xfrm>
          <a:off x="250920" y="1773360"/>
          <a:ext cx="8540640" cy="4422600"/>
        </p:xfrm>
        <a:graphic>
          <a:graphicData uri="http://schemas.openxmlformats.org/drawingml/2006/table">
            <a:tbl>
              <a:tblPr/>
              <a:tblGrid>
                <a:gridCol w="2135160"/>
                <a:gridCol w="2135160"/>
                <a:gridCol w="2135160"/>
                <a:gridCol w="2135160"/>
              </a:tblGrid>
              <a:tr h="599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льный многогранни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ней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шин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ёбер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траэдр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б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таэдр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декаэдр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косаэдр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9" name="Прямоугольник 2"/>
          <p:cNvSpPr/>
          <p:nvPr/>
        </p:nvSpPr>
        <p:spPr>
          <a:xfrm>
            <a:off x="611280" y="189000"/>
            <a:ext cx="77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00"/>
                </a:solidFill>
                <a:uFillTx/>
                <a:latin typeface="Arial"/>
              </a:rPr>
              <a:t>Исследовательская работ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i="1" lang="ru-RU" sz="4000" spc="-1" strike="noStrike" u="sng">
                <a:solidFill>
                  <a:srgbClr val="ffff00"/>
                </a:solidFill>
                <a:uFillTx/>
                <a:latin typeface="Arial"/>
              </a:rPr>
              <a:t>«Формула Эйлера»</a:t>
            </a:r>
            <a:r>
              <a:rPr b="1" lang="ru-RU" sz="40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Picture 7" descr="6_1"/>
          <p:cNvPicPr/>
          <p:nvPr/>
        </p:nvPicPr>
        <p:blipFill>
          <a:blip r:embed="rId1"/>
          <a:stretch/>
        </p:blipFill>
        <p:spPr>
          <a:xfrm>
            <a:off x="179280" y="1125360"/>
            <a:ext cx="6985080" cy="172404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7" descr="01_Эйлер"/>
          <p:cNvPicPr/>
          <p:nvPr/>
        </p:nvPicPr>
        <p:blipFill>
          <a:blip r:embed="rId2"/>
          <a:stretch/>
        </p:blipFill>
        <p:spPr>
          <a:xfrm>
            <a:off x="6500880" y="0"/>
            <a:ext cx="2643120" cy="3529080"/>
          </a:xfrm>
          <a:prstGeom prst="rect">
            <a:avLst/>
          </a:prstGeom>
          <a:ln w="0">
            <a:noFill/>
          </a:ln>
        </p:spPr>
      </p:pic>
      <p:sp>
        <p:nvSpPr>
          <p:cNvPr id="742" name="Прямоугольник 6"/>
          <p:cNvSpPr/>
          <p:nvPr/>
        </p:nvSpPr>
        <p:spPr>
          <a:xfrm>
            <a:off x="324000" y="3716280"/>
            <a:ext cx="864072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Теорема Эйлера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.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любого выпуклого многогранник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+ Г - 2 = Р 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–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о вершин,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      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–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о граней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Р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–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о ребер этого многогранник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/>
          </p:nvPr>
        </p:nvSpPr>
        <p:spPr>
          <a:xfrm>
            <a:off x="6843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Arial"/>
              </a:rPr>
              <a:t>ФИЗМИНУТКА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2" descr="C:\Users\777\Desktop\Тренажер Базарного.jpg"/>
          <p:cNvPicPr/>
          <p:nvPr/>
        </p:nvPicPr>
        <p:blipFill>
          <a:blip r:embed="rId1"/>
          <a:stretch/>
        </p:blipFill>
        <p:spPr>
          <a:xfrm>
            <a:off x="272880" y="981000"/>
            <a:ext cx="8259840" cy="52354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дача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йдите угол между двумя ребрами правильного октаэдра, которые имеют общую вершину, но не принадлежат одной гра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Picture 11" descr="C:\Documents and Settings\Администратор\Мои документы\PICTURE\Maple\ПравМног\Oct.bmp"/>
          <p:cNvPicPr/>
          <p:nvPr/>
        </p:nvPicPr>
        <p:blipFill>
          <a:blip r:embed="rId1"/>
          <a:srcRect l="51925" t="2934" r="2405" b="75"/>
          <a:stretch/>
        </p:blipFill>
        <p:spPr>
          <a:xfrm>
            <a:off x="0" y="1628640"/>
            <a:ext cx="5222880" cy="52293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адача</a:t>
            </a:r>
            <a:br>
              <a:rPr sz="28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ти высоту правильного тетраэдра с ребром 12 с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2"/>
          <p:cNvGrpSpPr/>
          <p:nvPr/>
        </p:nvGrpSpPr>
        <p:grpSpPr>
          <a:xfrm>
            <a:off x="539280" y="1760040"/>
            <a:ext cx="4464720" cy="4477680"/>
            <a:chOff x="539280" y="1760040"/>
            <a:chExt cx="4464720" cy="4477680"/>
          </a:xfrm>
        </p:grpSpPr>
        <p:cxnSp>
          <p:nvCxnSpPr>
            <p:cNvPr id="749" name="AutoShape 3"/>
            <p:cNvCxnSpPr/>
            <p:nvPr/>
          </p:nvCxnSpPr>
          <p:spPr>
            <a:xfrm>
              <a:off x="539280" y="4768200"/>
              <a:ext cx="1887480" cy="146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0" name="AutoShape 4"/>
            <p:cNvCxnSpPr/>
            <p:nvPr/>
          </p:nvCxnSpPr>
          <p:spPr>
            <a:xfrm flipH="1">
              <a:off x="2426040" y="4358520"/>
              <a:ext cx="2577600" cy="1878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1" name="AutoShape 5"/>
            <p:cNvCxnSpPr/>
            <p:nvPr/>
          </p:nvCxnSpPr>
          <p:spPr>
            <a:xfrm flipV="1">
              <a:off x="539640" y="4358520"/>
              <a:ext cx="4464720" cy="410400"/>
            </a:xfrm>
            <a:prstGeom prst="straightConnector1">
              <a:avLst/>
            </a:prstGeom>
            <a:ln w="9360">
              <a:solidFill>
                <a:srgbClr val="0d0d0d"/>
              </a:solidFill>
              <a:prstDash val="lgDashDot"/>
              <a:miter/>
            </a:ln>
          </p:spPr>
        </p:cxnSp>
        <p:cxnSp>
          <p:nvCxnSpPr>
            <p:cNvPr id="752" name="AutoShape 6"/>
            <p:cNvCxnSpPr/>
            <p:nvPr/>
          </p:nvCxnSpPr>
          <p:spPr>
            <a:xfrm flipV="1">
              <a:off x="2426040" y="4527720"/>
              <a:ext cx="430200" cy="17096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</p:cxnSp>
        <p:cxnSp>
          <p:nvCxnSpPr>
            <p:cNvPr id="753" name="AutoShape 7"/>
            <p:cNvCxnSpPr/>
            <p:nvPr/>
          </p:nvCxnSpPr>
          <p:spPr>
            <a:xfrm>
              <a:off x="539640" y="4768560"/>
              <a:ext cx="3206880" cy="5367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</p:cxnSp>
        <p:cxnSp>
          <p:nvCxnSpPr>
            <p:cNvPr id="754" name="AutoShape 8"/>
            <p:cNvCxnSpPr/>
            <p:nvPr/>
          </p:nvCxnSpPr>
          <p:spPr>
            <a:xfrm flipH="1">
              <a:off x="1567080" y="4358880"/>
              <a:ext cx="3436560" cy="11584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755" name="AutoShape 9"/>
            <p:cNvCxnSpPr/>
            <p:nvPr/>
          </p:nvCxnSpPr>
          <p:spPr>
            <a:xfrm flipV="1">
              <a:off x="2702160" y="1760040"/>
              <a:ext cx="1080" cy="33760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756" name="AutoShape 10"/>
            <p:cNvCxnSpPr/>
            <p:nvPr/>
          </p:nvCxnSpPr>
          <p:spPr>
            <a:xfrm flipH="1">
              <a:off x="539280" y="1760400"/>
              <a:ext cx="2163600" cy="300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7" name="AutoShape 11"/>
            <p:cNvCxnSpPr/>
            <p:nvPr/>
          </p:nvCxnSpPr>
          <p:spPr>
            <a:xfrm>
              <a:off x="2702160" y="1760400"/>
              <a:ext cx="2301480" cy="2599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8" name="AutoShape 12"/>
            <p:cNvCxnSpPr/>
            <p:nvPr/>
          </p:nvCxnSpPr>
          <p:spPr>
            <a:xfrm flipH="1">
              <a:off x="2425680" y="1760400"/>
              <a:ext cx="276840" cy="4477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p:transition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исталл имеет форму октаэдра, состоящего из двух правильных пирамид с общим основанием, ребро основания пирамиды 6 см. высота октаэдра 8 см. Найдите площадь боковой поверхности кристал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Picture 2" descr="Рисунок3"/>
          <p:cNvPicPr/>
          <p:nvPr/>
        </p:nvPicPr>
        <p:blipFill>
          <a:blip r:embed="rId1"/>
          <a:srcRect l="26481" t="0" r="25793" b="6648"/>
          <a:stretch/>
        </p:blipFill>
        <p:spPr>
          <a:xfrm>
            <a:off x="285840" y="1628640"/>
            <a:ext cx="4862520" cy="4896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10920" y="274680"/>
            <a:ext cx="7848360" cy="92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лощадь поверх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траэд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косаэд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декаэд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ексаэд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ктаэд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3" name="Object 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6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5" name="Object 9"/>
              <p:cNvSpPr txBox="1"/>
              <p:nvPr/>
            </p:nvSpPr>
            <p:spPr>
              <a:xfrm>
                <a:off x="3492360" y="1700280"/>
                <a:ext cx="23036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6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7" name="Object 11"/>
              <p:cNvSpPr txBox="1"/>
              <p:nvPr/>
            </p:nvSpPr>
            <p:spPr>
              <a:xfrm>
                <a:off x="3492360" y="2637000"/>
                <a:ext cx="23050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6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9" name="Object 13"/>
              <p:cNvSpPr txBox="1"/>
              <p:nvPr/>
            </p:nvSpPr>
            <p:spPr>
              <a:xfrm>
                <a:off x="3564000" y="3429000"/>
                <a:ext cx="374472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</m:e>
                        </m:ra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7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1" name="Object 15"/>
              <p:cNvSpPr txBox="1"/>
              <p:nvPr/>
            </p:nvSpPr>
            <p:spPr>
              <a:xfrm>
                <a:off x="3348000" y="5103720"/>
                <a:ext cx="244800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72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4" name="Object 20"/>
              <p:cNvSpPr txBox="1"/>
              <p:nvPr/>
            </p:nvSpPr>
            <p:spPr>
              <a:xfrm>
                <a:off x="3492360" y="4292640"/>
                <a:ext cx="18003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46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е на дом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nogogranniki.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ubTitle"/>
          </p:nvPr>
        </p:nvSpPr>
        <p:spPr>
          <a:xfrm>
            <a:off x="539640" y="2276280"/>
            <a:ext cx="79200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льзуясь развертками изготовить модели 1-го правильного многогранника со стороной 15 см,  1-го полуправильного многогран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8" name="Прямоугольник 1"/>
          <p:cNvGrpSpPr/>
          <p:nvPr/>
        </p:nvGrpSpPr>
        <p:grpSpPr>
          <a:xfrm>
            <a:off x="378000" y="96840"/>
            <a:ext cx="8381880" cy="6773760"/>
            <a:chOff x="378000" y="96840"/>
            <a:chExt cx="8381880" cy="6773760"/>
          </a:xfrm>
        </p:grpSpPr>
        <p:pic>
          <p:nvPicPr>
            <p:cNvPr id="629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378000" y="96840"/>
              <a:ext cx="8381880" cy="677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395280" y="115920"/>
              <a:ext cx="8353440" cy="66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002060"/>
                  </a:solidFill>
                  <a:latin typeface="Arial"/>
                </a:rPr>
                <a:t>Выпуклый многогранник называется </a:t>
              </a:r>
              <a:r>
                <a:rPr b="1" i="1" lang="ru-RU" sz="4800" spc="-1" strike="noStrike" u="sng">
                  <a:solidFill>
                    <a:srgbClr val="ff0000"/>
                  </a:solidFill>
                  <a:uFillTx/>
                  <a:latin typeface="Arial"/>
                </a:rPr>
                <a:t>правильным,</a:t>
              </a:r>
              <a:r>
                <a:rPr b="1" i="1" lang="ru-RU" sz="4800" spc="-1" strike="noStrike">
                  <a:solidFill>
                    <a:srgbClr val="002060"/>
                  </a:solidFill>
                  <a:latin typeface="Arial"/>
                </a:rPr>
                <a:t> если все его  грани -  равные  правильные многоугольники и в каждой его вершине сходится одно и то же число ребер.</a:t>
              </a:r>
              <a:br>
                <a:rPr sz="4800"/>
              </a:b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TextBox 1"/>
          <p:cNvSpPr/>
          <p:nvPr/>
        </p:nvSpPr>
        <p:spPr>
          <a:xfrm>
            <a:off x="1763640" y="1268280"/>
            <a:ext cx="532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Спасибо 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2"/>
          <p:cNvSpPr/>
          <p:nvPr/>
        </p:nvSpPr>
        <p:spPr>
          <a:xfrm flipH="1">
            <a:off x="1285200" y="342900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за работу !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/>
          </p:nvPr>
        </p:nvSpPr>
        <p:spPr>
          <a:xfrm>
            <a:off x="179280" y="1557360"/>
            <a:ext cx="8640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219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955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«эдра» - гра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20955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«тетра» - четы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20955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гекса» - шесть</a:t>
            </a: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20955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«окта»  -  восем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20955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«додека» - двенадц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20955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«икоса» - двадц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WordArt 3"/>
          <p:cNvSpPr txBox="1"/>
          <p:nvPr/>
        </p:nvSpPr>
        <p:spPr>
          <a:xfrm>
            <a:off x="395280" y="333360"/>
            <a:ext cx="8424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33" name="Прямоугольник 4"/>
          <p:cNvSpPr/>
          <p:nvPr/>
        </p:nvSpPr>
        <p:spPr>
          <a:xfrm>
            <a:off x="900000" y="189000"/>
            <a:ext cx="6985080" cy="137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вания этих многогранников пришли из Древней Греции и в них указано число граней.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4" name=""/>
          <p:cNvGraphicFramePr/>
          <p:nvPr/>
        </p:nvGraphicFramePr>
        <p:xfrm>
          <a:off x="611280" y="1844640"/>
          <a:ext cx="8229600" cy="4781520"/>
        </p:xfrm>
        <a:graphic>
          <a:graphicData uri="http://schemas.openxmlformats.org/drawingml/2006/table">
            <a:tbl>
              <a:tblPr/>
              <a:tblGrid>
                <a:gridCol w="1765080"/>
                <a:gridCol w="1621080"/>
                <a:gridCol w="1104840"/>
                <a:gridCol w="1030320"/>
                <a:gridCol w="1104840"/>
                <a:gridCol w="160344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cc"/>
                          </a:solidFill>
                          <a:latin typeface="Monotype Corsiva"/>
                          <a:ea typeface="Times New Roman"/>
                        </a:rPr>
                        <a:t>Название правильного многогранник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cc"/>
                          </a:solidFill>
                          <a:latin typeface="Monotype Corsiva"/>
                          <a:ea typeface="Times New Roman"/>
                        </a:rPr>
                        <a:t>Вид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cc"/>
                          </a:solidFill>
                          <a:latin typeface="Monotype Corsiva"/>
                          <a:ea typeface="Times New Roman"/>
                        </a:rPr>
                        <a:t>гран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Число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cc"/>
                          </a:solidFill>
                          <a:latin typeface="Monotype Corsiva"/>
                          <a:ea typeface="Times New Roman"/>
                        </a:rPr>
                        <a:t>верши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cc"/>
                          </a:solidFill>
                          <a:latin typeface="Monotype Corsiva"/>
                          <a:ea typeface="Times New Roman"/>
                        </a:rPr>
                        <a:t>ребе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cc"/>
                          </a:solidFill>
                          <a:latin typeface="Monotype Corsiva"/>
                          <a:ea typeface="Times New Roman"/>
                        </a:rPr>
                        <a:t>гране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cc"/>
                          </a:solidFill>
                          <a:latin typeface="Monotype Corsiva"/>
                          <a:ea typeface="Times New Roman"/>
                        </a:rPr>
                        <a:t>граней, сходящихся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cc"/>
                          </a:solidFill>
                          <a:latin typeface="Monotype Corsiva"/>
                          <a:ea typeface="Times New Roman"/>
                        </a:rPr>
                        <a:t>в одной вершин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Comic Sans MS"/>
                          <a:ea typeface="Times New Roman"/>
                        </a:rPr>
                        <a:t>Тетраэдр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Comic Sans MS"/>
                          <a:ea typeface="Times New Roman"/>
                        </a:rPr>
                        <a:t>Правильный треугольник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Comic Sans MS"/>
                          <a:ea typeface="Times New Roman"/>
                        </a:rPr>
                        <a:t>Октаэдр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Comic Sans MS"/>
                          <a:ea typeface="Times New Roman"/>
                        </a:rPr>
                        <a:t>Правильный треугольник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Comic Sans MS"/>
                          <a:ea typeface="Times New Roman"/>
                        </a:rPr>
                        <a:t>Икосаэдр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Comic Sans MS"/>
                          <a:ea typeface="Times New Roman"/>
                        </a:rPr>
                        <a:t>Правильный треугольник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3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2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Comic Sans MS"/>
                          <a:ea typeface="Times New Roman"/>
                        </a:rPr>
                        <a:t>Куб (гексаэдр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Comic Sans MS"/>
                          <a:ea typeface="Times New Roman"/>
                        </a:rPr>
                        <a:t>Квадрат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Comic Sans MS"/>
                          <a:ea typeface="Times New Roman"/>
                        </a:rPr>
                        <a:t>Додекаэдр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Comic Sans MS"/>
                          <a:ea typeface="Times New Roman"/>
                        </a:rPr>
                        <a:t>Правильный пятиугольник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2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3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35" name="Прямоугольник 2"/>
          <p:cNvSpPr/>
          <p:nvPr/>
        </p:nvSpPr>
        <p:spPr>
          <a:xfrm>
            <a:off x="1116000" y="404640"/>
            <a:ext cx="67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Данные о правильных многогранниках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Вопрос (проблема):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Сколько существует правильных многогранников?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Как установить их количество ?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6" descr="Модель тетраэдра (VRML)"/>
          <p:cNvPicPr/>
          <p:nvPr/>
        </p:nvPicPr>
        <p:blipFill>
          <a:blip r:embed="rId1"/>
          <a:stretch/>
        </p:blipFill>
        <p:spPr>
          <a:xfrm>
            <a:off x="396720" y="4869000"/>
            <a:ext cx="1727280" cy="17287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1028" descr="Модель куба (VRML)"/>
          <p:cNvPicPr/>
          <p:nvPr/>
        </p:nvPicPr>
        <p:blipFill>
          <a:blip r:embed="rId2"/>
          <a:stretch/>
        </p:blipFill>
        <p:spPr>
          <a:xfrm>
            <a:off x="2050920" y="4869000"/>
            <a:ext cx="1729080" cy="172872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10" descr="Модель октаэдра (VRML)"/>
          <p:cNvPicPr/>
          <p:nvPr/>
        </p:nvPicPr>
        <p:blipFill>
          <a:blip r:embed="rId3"/>
          <a:stretch/>
        </p:blipFill>
        <p:spPr>
          <a:xfrm>
            <a:off x="3780000" y="486900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1030" descr="Модель додекаэдра - 4 цвета (VRML)"/>
          <p:cNvPicPr/>
          <p:nvPr/>
        </p:nvPicPr>
        <p:blipFill>
          <a:blip r:embed="rId4"/>
          <a:stretch/>
        </p:blipFill>
        <p:spPr>
          <a:xfrm>
            <a:off x="5435640" y="486900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12" descr="Модель икосаэдра - первый вариант раскраски (VRML)"/>
          <p:cNvPicPr/>
          <p:nvPr/>
        </p:nvPicPr>
        <p:blipFill>
          <a:blip r:embed="rId5"/>
          <a:stretch/>
        </p:blipFill>
        <p:spPr>
          <a:xfrm>
            <a:off x="7164360" y="4869000"/>
            <a:ext cx="1728720" cy="17287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Прямоугольник 1"/>
          <p:cNvSpPr/>
          <p:nvPr/>
        </p:nvSpPr>
        <p:spPr>
          <a:xfrm>
            <a:off x="324000" y="189000"/>
            <a:ext cx="8351640" cy="85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ff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n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=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(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180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°(n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-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))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n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и каждой вершине многогранника не меньше трех плоских углов, и их сумма должна быть меньше 36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3" name=""/>
          <p:cNvGraphicFramePr/>
          <p:nvPr/>
        </p:nvGraphicFramePr>
        <p:xfrm>
          <a:off x="179280" y="1125360"/>
          <a:ext cx="8785440" cy="5643720"/>
        </p:xfrm>
        <a:graphic>
          <a:graphicData uri="http://schemas.openxmlformats.org/drawingml/2006/table">
            <a:tbl>
              <a:tblPr/>
              <a:tblGrid>
                <a:gridCol w="2552760"/>
                <a:gridCol w="1909800"/>
                <a:gridCol w="2594160"/>
                <a:gridCol w="1728720"/>
              </a:tblGrid>
              <a:tr h="839520"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Форма гране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оличество граней при одной вершин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умма плоских углов при вершине многогранник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ывод о существовании многогранник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3720" rIns="63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          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α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d0d0d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3720" rIns="63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          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α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d0d0d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3720" rIns="63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           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α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d0d0d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3720" rIns="63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            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α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d0d0d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63720" rIns="63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           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            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α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d0d0d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63720" rIns="63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                            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            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α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d0d0d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63720" rIns="63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            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α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                                  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d0d0d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3720" rIns="63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            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α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d0d0d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63720" rIns="63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          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           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α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d0d0d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4" name="Прямоугольник 4"/>
          <p:cNvSpPr/>
          <p:nvPr/>
        </p:nvSpPr>
        <p:spPr>
          <a:xfrm>
            <a:off x="468360" y="4149720"/>
            <a:ext cx="431640" cy="43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Правильный пятиугольник 5"/>
          <p:cNvSpPr/>
          <p:nvPr/>
        </p:nvSpPr>
        <p:spPr>
          <a:xfrm>
            <a:off x="468360" y="5229360"/>
            <a:ext cx="431640" cy="431640"/>
          </a:xfrm>
          <a:prstGeom prst="pentagon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Равнобедренный треугольник 6"/>
          <p:cNvSpPr/>
          <p:nvPr/>
        </p:nvSpPr>
        <p:spPr>
          <a:xfrm>
            <a:off x="395280" y="2206800"/>
            <a:ext cx="504720" cy="358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Шестиугольник 9"/>
          <p:cNvSpPr/>
          <p:nvPr/>
        </p:nvSpPr>
        <p:spPr>
          <a:xfrm>
            <a:off x="468360" y="6308640"/>
            <a:ext cx="431640" cy="360360"/>
          </a:xfrm>
          <a:prstGeom prst="hexagon">
            <a:avLst>
              <a:gd name="adj" fmla="val 24954"/>
              <a:gd name="vf" fmla="val 11547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Равнобедренный треугольник 6"/>
          <p:cNvSpPr/>
          <p:nvPr/>
        </p:nvSpPr>
        <p:spPr>
          <a:xfrm>
            <a:off x="395280" y="2708280"/>
            <a:ext cx="504720" cy="360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Равнобедренный треугольник 6"/>
          <p:cNvSpPr/>
          <p:nvPr/>
        </p:nvSpPr>
        <p:spPr>
          <a:xfrm>
            <a:off x="395280" y="3213000"/>
            <a:ext cx="504720" cy="360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Равнобедренный треугольник 6"/>
          <p:cNvSpPr/>
          <p:nvPr/>
        </p:nvSpPr>
        <p:spPr>
          <a:xfrm>
            <a:off x="395280" y="3645000"/>
            <a:ext cx="504720" cy="360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Прямоугольник 4"/>
          <p:cNvSpPr/>
          <p:nvPr/>
        </p:nvSpPr>
        <p:spPr>
          <a:xfrm>
            <a:off x="468360" y="4726080"/>
            <a:ext cx="431640" cy="43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Правильный пятиугольник 5"/>
          <p:cNvSpPr/>
          <p:nvPr/>
        </p:nvSpPr>
        <p:spPr>
          <a:xfrm>
            <a:off x="468360" y="5734080"/>
            <a:ext cx="431640" cy="431640"/>
          </a:xfrm>
          <a:prstGeom prst="pentagon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Picture 2" descr="k03064"/>
          <p:cNvPicPr/>
          <p:nvPr/>
        </p:nvPicPr>
        <p:blipFill>
          <a:blip r:embed="rId1"/>
          <a:stretch/>
        </p:blipFill>
        <p:spPr>
          <a:xfrm>
            <a:off x="6362640" y="2349360"/>
            <a:ext cx="2457360" cy="37674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c0c0c0">
                <a:alpha val="50000"/>
              </a:srgbClr>
            </a:outerShdw>
          </a:effectLst>
        </p:spPr>
      </p:pic>
      <p:pic>
        <p:nvPicPr>
          <p:cNvPr id="654" name="WordArt 4" descr=""/>
          <p:cNvPicPr/>
          <p:nvPr/>
        </p:nvPicPr>
        <p:blipFill>
          <a:blip r:embed="rId2"/>
          <a:stretch/>
        </p:blipFill>
        <p:spPr>
          <a:xfrm>
            <a:off x="139680" y="182520"/>
            <a:ext cx="7383600" cy="4608720"/>
          </a:xfrm>
          <a:prstGeom prst="rect">
            <a:avLst/>
          </a:prstGeom>
          <a:ln w="0">
            <a:noFill/>
          </a:ln>
        </p:spPr>
      </p:pic>
      <p:sp>
        <p:nvSpPr>
          <p:cNvPr id="655" name="WordArt 5"/>
          <p:cNvSpPr txBox="1"/>
          <p:nvPr/>
        </p:nvSpPr>
        <p:spPr>
          <a:xfrm>
            <a:off x="6804000" y="6237360"/>
            <a:ext cx="17985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. Кэрролл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4:45:02Z</dcterms:created>
  <dc:creator>Даша</dc:creator>
  <dc:description/>
  <dc:language>en-US</dc:language>
  <cp:lastModifiedBy>Dmitriy</cp:lastModifiedBy>
  <dcterms:modified xsi:type="dcterms:W3CDTF">2015-05-04T14:16:09Z</dcterms:modified>
  <cp:revision>131</cp:revision>
  <dc:subject/>
  <dc:title>Платоновы тела</dc:title>
</cp:coreProperties>
</file>