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A42B-6C3C-484E-A8F4-C10805DD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48F-2AD4-479E-BD8A-99BC434A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B44-2E4C-46F0-ADFE-8AFDA8CC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B060-3632-4523-82A5-5A4E543C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68D-6393-4EB6-BF9F-D70EA00C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483-1541-4DF3-B817-17584221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C27A-C44F-449F-AB83-CCDAC65D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20C-B584-42A9-8232-1D115613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011-D3CB-43A5-9E06-62E01B14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6347-38E9-4ABA-9797-9A15A6EF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E92-280B-4ADF-9463-0711A13E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688-DB18-4437-90E2-A23E3EDF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824D-9107-4EB8-A29B-EB8176FC6B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380880" y="2133720"/>
            <a:ext cx="8458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деал красоты в разные эпохи и его отражение в мод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0"/>
            <a:ext cx="184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6024600" y="6521400"/>
            <a:ext cx="183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5791320" y="304920"/>
            <a:ext cx="31147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XV ВЕК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-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Эпоха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Возрождения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7" name="Picture 5" descr="hm88_0_1_28_0"/>
          <p:cNvPicPr/>
          <p:nvPr/>
        </p:nvPicPr>
        <p:blipFill>
          <a:blip r:embed="rId1"/>
          <a:stretch/>
        </p:blipFill>
        <p:spPr>
          <a:xfrm>
            <a:off x="304920" y="152280"/>
            <a:ext cx="4846680" cy="62485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5486400" y="35812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эпоху раннего Возрождения идеал красоты становится более одухотворенным, гармоничным и естестве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071000" y="649116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онардо – «Мадонна Лит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68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r3_3_1_1c_west_euro_art"/>
          <p:cNvPicPr/>
          <p:nvPr/>
        </p:nvPicPr>
        <p:blipFill>
          <a:blip r:embed="rId1"/>
          <a:stretch/>
        </p:blipFill>
        <p:spPr>
          <a:xfrm>
            <a:off x="533520" y="304920"/>
            <a:ext cx="2998800" cy="5867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3809880" y="213372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эпоху возрождения идеальными считались стройная «лебединая шея» и высокий чистый ло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978840" y="63612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ициан «Юдиф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80"/>
                            </p:stCondLst>
                            <p:childTnLst>
                              <p:par>
                                <p:cTn id="2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8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13"/>
          <p:cNvPicPr/>
          <p:nvPr/>
        </p:nvPicPr>
        <p:blipFill>
          <a:blip r:embed="rId1"/>
          <a:stretch/>
        </p:blipFill>
        <p:spPr>
          <a:xfrm>
            <a:off x="3886200" y="152280"/>
            <a:ext cx="5014800" cy="5943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228600" y="1981080"/>
            <a:ext cx="335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окое Возрождение приносит совсем иное понимание красоты. Вместо тонких, стройных подвижных фигур торжествуют пышные формы, могучие тела с широкими бедрами, с роскошной полнотой шеи и пле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500360" y="6248520"/>
            <a:ext cx="43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оло Веронезе – «Венера у зерка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18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%D2%E8%F6%E8%E0%ED___%CB%FE%E1%EE%E2%FC_%E7%E5%EC%ED%E0%E8_%ED%E5%E1%E5%F1%ED%E0(1515)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3584520"/>
          </a:xfrm>
          <a:prstGeom prst="rect">
            <a:avLst/>
          </a:prstGeom>
          <a:ln w="0">
            <a:noFill/>
          </a:ln>
        </p:spPr>
      </p:pic>
      <p:sp>
        <p:nvSpPr>
          <p:cNvPr id="87" name="WordArt 5"/>
          <p:cNvSpPr txBox="1"/>
          <p:nvPr/>
        </p:nvSpPr>
        <p:spPr>
          <a:xfrm>
            <a:off x="609480" y="838080"/>
            <a:ext cx="8058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Тициан «Любовь земная и небесная»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990720" y="685800"/>
            <a:ext cx="71341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Тициан «Портрет дамы в белом»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Picture 5" descr="m9713"/>
          <p:cNvPicPr/>
          <p:nvPr/>
        </p:nvPicPr>
        <p:blipFill>
          <a:blip r:embed="rId1"/>
          <a:stretch/>
        </p:blipFill>
        <p:spPr>
          <a:xfrm>
            <a:off x="2362320" y="1066680"/>
            <a:ext cx="455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1701Borovikovsky"/>
          <p:cNvPicPr/>
          <p:nvPr/>
        </p:nvPicPr>
        <p:blipFill>
          <a:blip r:embed="rId1"/>
          <a:srcRect l="4079" t="7465" r="8158" b="11944"/>
          <a:stretch/>
        </p:blipFill>
        <p:spPr>
          <a:xfrm>
            <a:off x="3886200" y="0"/>
            <a:ext cx="5035680" cy="63244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4804200" y="632448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ециан – «Портрет Лапухин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685800" y="457200"/>
            <a:ext cx="220968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VIII ВЕ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52280" y="2057400"/>
            <a:ext cx="358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нце 18 века складывается новый стиль, эстетические идеалы которого заимствованы из античности. Это стиль «ампир».Одежда и прическа повторяют элементы моды Древней Греции и Рим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932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Рисунок1"/>
          <p:cNvPicPr/>
          <p:nvPr/>
        </p:nvPicPr>
        <p:blipFill>
          <a:blip r:embed="rId1"/>
          <a:stretch/>
        </p:blipFill>
        <p:spPr>
          <a:xfrm>
            <a:off x="152280" y="1295280"/>
            <a:ext cx="4367160" cy="495324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762120" y="533520"/>
            <a:ext cx="77533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Идеал красоты в начале XIX ве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035680" y="2438280"/>
            <a:ext cx="410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луэт фигуры в профиль приобр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ет необычайно женствен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-образную изогнутость. Но в ц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ом мода XIX века тяготела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кусственности. Все естественно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туральное казалось грубы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итив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10920" y="6324480"/>
            <a:ext cx="34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бинс (Неизвестный портр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8000"/>
                            </p:stCondLst>
                            <p:childTnLst>
                              <p:par>
                                <p:cTn id="3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762120" y="533520"/>
            <a:ext cx="77533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Идеал красоты в конце XIX ве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5" descr="hm88_0_2_66_1"/>
          <p:cNvPicPr/>
          <p:nvPr/>
        </p:nvPicPr>
        <p:blipFill>
          <a:blip r:embed="rId1"/>
          <a:stretch/>
        </p:blipFill>
        <p:spPr>
          <a:xfrm>
            <a:off x="5029200" y="1143000"/>
            <a:ext cx="3925800" cy="5181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5491080" y="6491160"/>
            <a:ext cx="33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ненуар – «Дама с веер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57200" y="3276720"/>
            <a:ext cx="434340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нце 19 века в восприятии женской красоты произошли коренные перемены .Торжествуют естественность , неповторимость облика , женств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hm88_0_2_66_0"/>
          <p:cNvPicPr/>
          <p:nvPr/>
        </p:nvPicPr>
        <p:blipFill>
          <a:blip r:embed="rId1"/>
          <a:stretch/>
        </p:blipFill>
        <p:spPr>
          <a:xfrm>
            <a:off x="-304920" y="0"/>
            <a:ext cx="426744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4343400" y="2514600"/>
            <a:ext cx="43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ивые и блестящие волосы , уложенны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ышны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реолом, естественные краски  косметики, одежда выгодно подчеркивает достоинства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304920" y="533520"/>
            <a:ext cx="838188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ХХ ВЕК отражение идеала красоты в мод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362320" y="1066680"/>
            <a:ext cx="6492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недалёком ХХ веке люди начали забывать идеалы красоты, свойственные прошедшим векам. На место идеалов пришла мода, модная одеж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ё началось в начал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ка, когда французский модельер Поль Пуаре упразднил корсеты. В ту пору это была неслыханная дерзость.  Позже подобные эксперименты  с одеждой участились. Появлялись новые виды одежды, новые, ранее «неразрешённые» цвета одежды. Укорочение одежды немедленно отраз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ось на длине волос. В моду начинают вход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роткие стриж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RCTR106"/>
          <p:cNvPicPr/>
          <p:nvPr/>
        </p:nvPicPr>
        <p:blipFill>
          <a:blip r:embed="rId1"/>
          <a:stretch/>
        </p:blipFill>
        <p:spPr>
          <a:xfrm>
            <a:off x="7162920" y="3048120"/>
            <a:ext cx="1717560" cy="36781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228600" y="4191120"/>
            <a:ext cx="678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юди начинают меньше обращать внимание на тело человека, об его стремлении к идеалу красоты говорит его соответствие моде: его одежда, его прическа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алоном красоты становится романтическая женщина с кукольным лицом, маленьким, пухлым, ярким ртом, с мелкой завивкой – перманентом. И по-прежнему в моде высокая, худощавая фигура, с довольно широкими плечами, тонкой талией и узкими бёдрами. (Именно такой стала идеальная фигура манекенщицы, такой она остаётся и тепер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CRCTR168"/>
          <p:cNvPicPr/>
          <p:nvPr/>
        </p:nvPicPr>
        <p:blipFill>
          <a:blip r:embed="rId2"/>
          <a:stretch/>
        </p:blipFill>
        <p:spPr>
          <a:xfrm>
            <a:off x="304920" y="1143000"/>
            <a:ext cx="1919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1680"/>
                            </p:stCondLst>
                            <p:childTnLst>
                              <p:par>
                                <p:cTn id="4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971800" y="304920"/>
            <a:ext cx="541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ие великие умы человечества размышляли о тайнах и законах красоты, о природе прекрасного. В частности, Бодлер писал, что она состоит из двух элементов — одного вечного и неизменного, не поддающегося точному определению, а другого относительного и временного, складывающегося из того, что дает данная эпоха, — мода, вкусы, страсти и господствующая мора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RCTR597"/>
          <p:cNvPicPr/>
          <p:nvPr/>
        </p:nvPicPr>
        <p:blipFill>
          <a:blip r:embed="rId1"/>
          <a:stretch/>
        </p:blipFill>
        <p:spPr>
          <a:xfrm>
            <a:off x="380880" y="304920"/>
            <a:ext cx="2162160" cy="255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RCTR331"/>
          <p:cNvPicPr/>
          <p:nvPr/>
        </p:nvPicPr>
        <p:blipFill>
          <a:blip r:embed="rId2"/>
          <a:stretch/>
        </p:blipFill>
        <p:spPr>
          <a:xfrm>
            <a:off x="5945040" y="3429000"/>
            <a:ext cx="2460600" cy="3052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152280" y="3429000"/>
            <a:ext cx="563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пременными условиями «вечной и неизменной» красоты были и остаются симметрия; гармония — единство в многообразии; взаимное соответствие всех черт и пропорций; законченный целостный образ, чувство подлин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86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386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mer-9"/>
          <p:cNvPicPr/>
          <p:nvPr/>
        </p:nvPicPr>
        <p:blipFill>
          <a:blip r:embed="rId1"/>
          <a:stretch/>
        </p:blipFill>
        <p:spPr>
          <a:xfrm>
            <a:off x="5784840" y="0"/>
            <a:ext cx="3067200" cy="6248520"/>
          </a:xfrm>
          <a:prstGeom prst="rect">
            <a:avLst/>
          </a:prstGeom>
          <a:ln w="0">
            <a:noFill/>
          </a:ln>
        </p:spPr>
      </p:pic>
      <p:sp>
        <p:nvSpPr>
          <p:cNvPr id="110" name="WordArt 5"/>
          <p:cNvSpPr txBox="1"/>
          <p:nvPr/>
        </p:nvSpPr>
        <p:spPr>
          <a:xfrm>
            <a:off x="1828800" y="380880"/>
            <a:ext cx="2133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ХХ ВЕ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52280" y="175248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685800" y="274320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и огромного изобилия эталонов красоты ,которые сформированы в 20веке, ведущим остается  голливудский стандарт : женственная блондинка с точеной фигуркой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631560" y="632448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рлин Ман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560"/>
                            </p:stCondLst>
                            <p:childTnLst>
                              <p:par>
                                <p:cTn id="4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56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133720" y="1219320"/>
            <a:ext cx="685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что же такое идеал? Идеал красоты? Это недостижимая для человека точка, в которой человек для всех является самым красивым и самым прекрасным. Почему недостижимая? Всегда, везде и всюду найдётся человек, для которого идеал красоты несовместим с вашим. Но это не повод к нему не стремиться. У каждого человека существует свой идеал, достигнув которого он может считать себя идеально красивым. У каждой странны есть свой идеал красоты (мисс Россия), в конце концов у каждой эпохи существует свой идеал (мисс вселенная). Но и эти эталоны подвергаются под сомнение. В мире не существует определённого эталона, образца идеального мужчины и женщины. Он постоянно меняется и зависит от великого множества факторо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емитесь к своему идеалу красоты и помните всегда найдётся человек, для которого именно вы будите идеально крас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RCTR217"/>
          <p:cNvPicPr/>
          <p:nvPr/>
        </p:nvPicPr>
        <p:blipFill>
          <a:blip r:embed="rId1"/>
          <a:stretch/>
        </p:blipFill>
        <p:spPr>
          <a:xfrm>
            <a:off x="152280" y="1600200"/>
            <a:ext cx="2046240" cy="3962520"/>
          </a:xfrm>
          <a:prstGeom prst="rect">
            <a:avLst/>
          </a:prstGeom>
          <a:ln w="0">
            <a:noFill/>
          </a:ln>
        </p:spPr>
      </p:pic>
      <p:sp>
        <p:nvSpPr>
          <p:cNvPr id="116" name="WordArt 6"/>
          <p:cNvSpPr txBox="1"/>
          <p:nvPr/>
        </p:nvSpPr>
        <p:spPr>
          <a:xfrm>
            <a:off x="304920" y="533520"/>
            <a:ext cx="838188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ак что же такое идеал красоты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304920" y="533520"/>
            <a:ext cx="868680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Идеал красоты в Древнем Египт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Picture 7" descr="88-1024"/>
          <p:cNvPicPr/>
          <p:nvPr/>
        </p:nvPicPr>
        <p:blipFill>
          <a:blip r:embed="rId1"/>
          <a:stretch/>
        </p:blipFill>
        <p:spPr>
          <a:xfrm>
            <a:off x="533520" y="10666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030007B"/>
          <p:cNvPicPr/>
          <p:nvPr/>
        </p:nvPicPr>
        <p:blipFill>
          <a:blip r:embed="rId2"/>
          <a:stretch/>
        </p:blipFill>
        <p:spPr>
          <a:xfrm>
            <a:off x="5562720" y="4648320"/>
            <a:ext cx="3047760" cy="20318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365040" y="3124080"/>
            <a:ext cx="877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деалом красоты Древнего Египта была стройная и грациозная женщина. Тонкие черты лица с полными губами и огромными миндалевидными глазами, форма которых подчеркивалась специальными контурами, контраст тяжелых причесок с изящной вытянутой фигурой вызывали представление об экзотическом растении на гибком колышущемся стеб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5" descr="030020B"/>
          <p:cNvPicPr/>
          <p:nvPr/>
        </p:nvPicPr>
        <p:blipFill>
          <a:blip r:embed="rId3"/>
          <a:stretch/>
        </p:blipFill>
        <p:spPr>
          <a:xfrm>
            <a:off x="533520" y="4572000"/>
            <a:ext cx="3124080" cy="2103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551031"/>
          <p:cNvPicPr/>
          <p:nvPr/>
        </p:nvPicPr>
        <p:blipFill>
          <a:blip r:embed="rId4"/>
          <a:stretch/>
        </p:blipFill>
        <p:spPr>
          <a:xfrm>
            <a:off x="5943600" y="99072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A059019"/>
          <p:cNvPicPr/>
          <p:nvPr/>
        </p:nvPicPr>
        <p:blipFill>
          <a:blip r:embed="rId1"/>
          <a:stretch/>
        </p:blipFill>
        <p:spPr>
          <a:xfrm>
            <a:off x="5410080" y="3841920"/>
            <a:ext cx="3505320" cy="285732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228600" y="914400"/>
            <a:ext cx="868680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Идеал красоты в Древнем Кита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52280" y="1752480"/>
            <a:ext cx="883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ревнем Китае идеалом красоты была маленькая, хрупкая женщина с крошечными ногами. Чтобы ножка оставалась маленькой, девочкам вскоре после рождения туго бинтовали стопу, добиваясь прекращения ее роста. Женщины белили лица, румянили щеки, удлиняли брови, красили ногти в красный цвет. Мужчины отращивали  длинные  волосы  и   заплетали  их в   ко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03480" y="445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57200" y="457164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обо красивыми считались у мужчин и женщин длинные ногти, это был символ достоинства и богат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34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334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"/>
          <p:cNvPicPr/>
          <p:nvPr/>
        </p:nvPicPr>
        <p:blipFill>
          <a:blip r:embed="rId1"/>
          <a:stretch/>
        </p:blipFill>
        <p:spPr>
          <a:xfrm>
            <a:off x="5334120" y="457200"/>
            <a:ext cx="3489120" cy="5486400"/>
          </a:xfrm>
          <a:prstGeom prst="rect">
            <a:avLst/>
          </a:prstGeom>
          <a:ln w="0">
            <a:noFill/>
          </a:ln>
        </p:spPr>
      </p:pic>
      <p:sp>
        <p:nvSpPr>
          <p:cNvPr id="60" name="WordArt 5"/>
          <p:cNvSpPr txBox="1"/>
          <p:nvPr/>
        </p:nvSpPr>
        <p:spPr>
          <a:xfrm>
            <a:off x="457200" y="1143000"/>
            <a:ext cx="39718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Эталон красоты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Греков - скульптура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Афродиты (Венеры)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Рост - 164 см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Окружность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Груди - 86 см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Талии - 69 см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Бёдер - 93 см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033160" y="6324480"/>
            <a:ext cx="39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ульптура Афродиты (Вене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hm88_2_0_1_2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5956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2518560" y="6324480"/>
            <a:ext cx="39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ульптура Афродиты (Вене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4139280" y="2362320"/>
            <a:ext cx="5002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редние века земная красота считала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еховной, а наслаждение ею недозволе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ым, тело драпировали   тяжелыми   ткан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,   которые   плотным мешком скрыв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гуру (ширина одежды к росту составля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:3). Под чепчиком полностью прятали вол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ы, был предан забвению весь арсен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ств для улучшения внешности, кото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ли так популярны в античные врем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E_234ZHTEGUXACPPIA6"/>
          <p:cNvPicPr/>
          <p:nvPr/>
        </p:nvPicPr>
        <p:blipFill>
          <a:blip r:embed="rId1"/>
          <a:stretch/>
        </p:blipFill>
        <p:spPr>
          <a:xfrm>
            <a:off x="152280" y="1143000"/>
            <a:ext cx="3764160" cy="5562720"/>
          </a:xfrm>
          <a:prstGeom prst="rect">
            <a:avLst/>
          </a:prstGeom>
          <a:ln w="0">
            <a:noFill/>
          </a:ln>
        </p:spPr>
      </p:pic>
      <p:sp>
        <p:nvSpPr>
          <p:cNvPr id="66" name="WordArt 7"/>
          <p:cNvSpPr txBox="1"/>
          <p:nvPr/>
        </p:nvSpPr>
        <p:spPr>
          <a:xfrm>
            <a:off x="2514600" y="380880"/>
            <a:ext cx="4343400" cy="106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редние ве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urer55"/>
          <p:cNvPicPr/>
          <p:nvPr/>
        </p:nvPicPr>
        <p:blipFill>
          <a:blip r:embed="rId1"/>
          <a:stretch/>
        </p:blipFill>
        <p:spPr>
          <a:xfrm>
            <a:off x="3657600" y="0"/>
            <a:ext cx="5286240" cy="64771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55160" y="2438280"/>
            <a:ext cx="324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деал женщины олицет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яла пресвятая дева М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длиненный овал лиц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черкнуто высокий лоб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громные глаз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ленький ро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380880" y="533520"/>
            <a:ext cx="272412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Пресвятая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е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Мар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852880" y="643716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дерла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2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CRCTR211"/>
          <p:cNvPicPr/>
          <p:nvPr/>
        </p:nvPicPr>
        <p:blipFill>
          <a:blip r:embed="rId1"/>
          <a:stretch/>
        </p:blipFill>
        <p:spPr>
          <a:xfrm>
            <a:off x="6934320" y="1295280"/>
            <a:ext cx="1819080" cy="2743200"/>
          </a:xfrm>
          <a:prstGeom prst="rect">
            <a:avLst/>
          </a:prstGeom>
          <a:ln w="0">
            <a:noFill/>
          </a:ln>
        </p:spPr>
      </p:pic>
      <p:sp>
        <p:nvSpPr>
          <p:cNvPr id="72" name="WordArt 5"/>
          <p:cNvSpPr txBox="1"/>
          <p:nvPr/>
        </p:nvSpPr>
        <p:spPr>
          <a:xfrm>
            <a:off x="1981080" y="457200"/>
            <a:ext cx="5791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XII - XIII Век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28600" y="173664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жным поворотным моментом в восприятии красоты становится рубеж XII—XIII веков, когда культура  приобретает  более светский  характер. Накопление богатств и стремление к роскоши в рыцарской среде породили идеалы, весьма далекие от аскетизма и умерщвления плоти. В XIII веке расцветает поклонение «прекрасной дам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RCTR360"/>
          <p:cNvPicPr/>
          <p:nvPr/>
        </p:nvPicPr>
        <p:blipFill>
          <a:blip r:embed="rId2"/>
          <a:stretch/>
        </p:blipFill>
        <p:spPr>
          <a:xfrm>
            <a:off x="533520" y="3962520"/>
            <a:ext cx="20556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2743200" y="401940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убадуры восхваляют королев рыцарских турниров, их тонкий гибкий стан, подобный виноградной лозе, светлые волосы, продолговатое лицо, прямой тонкий нос, пышные кудри, глаза ясные и веселые, кожу, подобную персику, губы алее, чем вишня или роза летней поры. Женщину сравнивают с розой — она нежна, хрупка, изящ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342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42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2-04-17T18:04:10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