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FAEB-EC7A-499D-857D-37AC580579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708F-35A1-4F16-8C65-EA15E9B5497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91BD-086F-49C5-B519-7D3FA65C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33E2-6B9B-4DCB-877A-DD8B6A0F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6F5-47E9-41AB-9866-13AE3304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77D-6E59-431B-80D6-8732091B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32E8-5591-408B-8D35-4EDDD95E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8AF2-809C-4A3D-A1C0-113F8745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910F-D1EF-4684-98E5-BB8C38BE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C366-6C67-41AC-9C8B-F75B86CC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E682-7808-4BA8-847A-5DCAF7E5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F6CE-8A09-4FB8-93AA-3FFCD4F3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B1A0-0961-4B27-A379-3827CED9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EDB8-A778-4E0B-BDDD-A3DAB711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BAE4-24AD-442A-A96F-B91F92EC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924C-BEA4-4D1B-AB13-D07E7B9C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0202-1254-4BDD-AC46-550465BF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E511-9DA6-42AD-B0AB-0109C436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B0C7-9BE4-4137-9CC8-40F6A1B1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4A8EB-141E-4A54-B704-496E4F2E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4D7B6-E390-421E-A5B3-0F39B2F2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8E70C-DB03-4FB5-BBD6-2FD41D35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894E0-E8F4-4C40-893F-FB2DB25B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4FF34-6DC0-48C1-8529-2ACB4018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8E1-66BD-44D8-A7EC-CC900A51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C4365-1B9F-447D-9570-C4F43EA6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691F1-153D-4475-95AD-920F9798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443D3-53E3-47CE-B6C0-3D94E3F7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8BFF1-A705-462A-874B-30C1A82A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49295-F944-4EDE-81F2-D833A878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CCBDF-647D-45C5-A67F-39DF08BC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5B377-F203-4A5F-ABAB-A5A6BBC7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1733E-E37C-43B5-94A9-476E48F4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74129-5E8E-4E2B-83B5-F23F16D4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D4FDE-F53D-417E-BDC0-B52A915F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FF3D-852B-4E2B-935C-05A411B0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9E3CC-7338-4B62-83E3-1946B9DC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DF0FE-36FD-4ABF-86F6-10836FAC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B4555-FBBB-4A22-AAEF-AE0FA5CD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6897F-BE57-4EC4-83D6-9B3B64A9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4EDA8-9A92-4AE1-A511-3AD11BFE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9F461-6965-4367-8B53-9EEBA93F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4E7D1-F1C0-4081-A1DF-7B3482E4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3E06E-018C-4BC0-BDD9-CC2F44FD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F9177-EDE9-42C8-BD4D-55B9E332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D8C-3A9C-4A81-9A52-D539BE90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D0A7-F62F-4FDC-81F7-CBF16D62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185-D1A1-4815-A3AA-CFCEA5D1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48E-3B49-4B3E-B2D0-8E6DFECF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165-F60A-4138-BCBD-9DBC19DE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556E-4898-4742-A29D-8876594C46B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EA74-A41A-4484-A050-9F41C2D8417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476C-9B6C-4545-992D-B7983B4E886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5A94-364C-44CA-A985-882DF13079B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42880" y="689040"/>
            <a:ext cx="7875720" cy="29131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" descr="дети3.jpg"/>
          <p:cNvPicPr/>
          <p:nvPr/>
        </p:nvPicPr>
        <p:blipFill>
          <a:blip r:embed="rId2"/>
          <a:stretch/>
        </p:blipFill>
        <p:spPr>
          <a:xfrm>
            <a:off x="324000" y="2998800"/>
            <a:ext cx="4821120" cy="34574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"/>
          <p:cNvSpPr/>
          <p:nvPr/>
        </p:nvSpPr>
        <p:spPr>
          <a:xfrm>
            <a:off x="5435640" y="429264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3495c"/>
                </a:solidFill>
                <a:latin typeface="Comic Sans MS"/>
              </a:rPr>
              <a:t>Воспитатель: Волкова И.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539640" y="363600"/>
            <a:ext cx="7848720" cy="64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mic Sans MS"/>
              </a:rPr>
              <a:t>Цель: </a:t>
            </a: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обучение детей загадывать заг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mic Sans MS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mic Sans MS"/>
              </a:rPr>
              <a:t>Младший возра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5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учить детей выделять признаки у объекта и сравнивать их с   признаками других объ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5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упражнять в сравнении объектов по признакам, значениям призна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mic Sans MS"/>
              </a:rPr>
              <a:t>Средний возра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5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продолжать учить составлять сравнение по двум – трём признак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5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побуждать детей к созданию двух – трёхстрочных загадок по разным модел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mic Sans MS"/>
              </a:rPr>
              <a:t>Старший возра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5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продолжать учить детей </a:t>
            </a:r>
            <a:r>
              <a:rPr b="0" lang="ru-RU" sz="2000" spc="-1" strike="noStrike" u="sng">
                <a:solidFill>
                  <a:srgbClr val="115964"/>
                </a:solidFill>
                <a:uFillTx/>
                <a:latin typeface="Comic Sans MS"/>
              </a:rPr>
              <a:t>самостоятельно </a:t>
            </a: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сравнивать объекты по разным признак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5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побуждать  детей объяснять смысл данного срав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5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учить детей </a:t>
            </a:r>
            <a:r>
              <a:rPr b="0" lang="ru-RU" sz="2000" spc="-1" strike="noStrike" u="sng">
                <a:solidFill>
                  <a:srgbClr val="115964"/>
                </a:solidFill>
                <a:uFillTx/>
                <a:latin typeface="Comic Sans MS"/>
              </a:rPr>
              <a:t>самостоятельно </a:t>
            </a: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составлять загадки по разным модел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5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учить оценивать сравнение и выбирать лучше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20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2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20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20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20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20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826920" y="76500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15964"/>
                </a:solidFill>
                <a:uFillTx/>
                <a:latin typeface="Comic Sans MS"/>
              </a:rPr>
              <a:t>Три основные модели составления зага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5964"/>
                </a:solidFill>
                <a:latin typeface="Comic Sans MS"/>
              </a:rPr>
              <a:t>Модель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55640" y="2133720"/>
          <a:ext cx="7704000" cy="3600360"/>
        </p:xfrm>
        <a:graphic>
          <a:graphicData uri="http://schemas.openxmlformats.org/drawingml/2006/table">
            <a:tbl>
              <a:tblPr/>
              <a:tblGrid>
                <a:gridCol w="3852720"/>
                <a:gridCol w="3851280"/>
              </a:tblGrid>
              <a:tr h="90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а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Что бывает таким же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0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лестящ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нета   (начищенна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0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Шипящ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улкан  (проснувшийс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0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ругл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рбуз  (спелый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3"/>
          <p:cNvSpPr/>
          <p:nvPr/>
        </p:nvSpPr>
        <p:spPr>
          <a:xfrm>
            <a:off x="684360" y="1166760"/>
            <a:ext cx="79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После заполнения таблички воспитатель предлагает прочитать загадку, вставляя между строчками правого и левого столбцов  связки «Как» или «Но 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Итоговая загадка про самовар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«Блестящий, как начищенная монета; шипящий, как проснувшийся вулкан; круглый, но не спелый, как арбуз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Рекомендации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целесообразно значение признака в левой части таблицы обозначить словом с чётко выделенной первой буквой, а в правой части допустима зарисовка объекта.  Это позволяет тренировать детскую память: ребёнок, не умея читать, запоминает первые буквы и воспроизводит слово в ц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7" descr="реб.jpg"/>
          <p:cNvPicPr/>
          <p:nvPr/>
        </p:nvPicPr>
        <p:blipFill>
          <a:blip r:embed="rId1"/>
          <a:stretch/>
        </p:blipFill>
        <p:spPr>
          <a:xfrm>
            <a:off x="5973840" y="4511520"/>
            <a:ext cx="31701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3"/>
          <p:cNvSpPr/>
          <p:nvPr/>
        </p:nvSpPr>
        <p:spPr>
          <a:xfrm>
            <a:off x="539640" y="549360"/>
            <a:ext cx="7777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5964"/>
                </a:solidFill>
                <a:latin typeface="Comic Sans MS"/>
              </a:rPr>
              <a:t>Модель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5964"/>
                </a:solidFill>
                <a:latin typeface="Comic Sans MS"/>
              </a:rPr>
              <a:t>Методика работы с моделью 2 аналогична работе с первой модел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39640" y="2565360"/>
          <a:ext cx="8064720" cy="3529080"/>
        </p:xfrm>
        <a:graphic>
          <a:graphicData uri="http://schemas.openxmlformats.org/drawingml/2006/table">
            <a:tbl>
              <a:tblPr/>
              <a:tblGrid>
                <a:gridCol w="4032360"/>
                <a:gridCol w="4032360"/>
              </a:tblGrid>
              <a:tr h="1097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то делает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то (кто) делает  так  же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0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11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1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324000" y="981000"/>
            <a:ext cx="882000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5964"/>
                </a:solidFill>
                <a:latin typeface="Comic Sans MS"/>
              </a:rPr>
              <a:t>Модель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5964"/>
                </a:solidFill>
                <a:latin typeface="Comic Sans MS"/>
              </a:rPr>
              <a:t>Особенность: ребёнок, сравнивая один объект с каким-либо другим объектом, находит между ними общее и различ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24000" y="2781360"/>
          <a:ext cx="7993080" cy="245880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 что похоже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ем отличается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7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0:45:16Z</dcterms:created>
  <dc:creator>МК</dc:creator>
  <dc:description/>
  <dc:language>en-US</dc:language>
  <cp:lastModifiedBy>Волкова-Волченко</cp:lastModifiedBy>
  <dcterms:modified xsi:type="dcterms:W3CDTF">2015-05-04T13:46:03Z</dcterms:modified>
  <cp:revision>17</cp:revision>
  <dc:subject/>
  <dc:title>Слайд 1</dc:title>
</cp:coreProperties>
</file>