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2FEA-2CDA-42F5-A9E2-8F2CC8D26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361F-C742-498C-8371-EF7B2EC0845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4DB-D785-4D8F-92D9-765FE983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6E7-79BE-4776-80F3-2B9DEE1E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1B8-683F-4F54-ADEB-20DE4C94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DB1-FAF1-4815-BFD5-D3319720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000-FB05-4085-B26E-F8D4C1FE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42A0-D769-485D-B198-D3F905C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BEEE-DEFD-42D4-A8F0-1ADACEA4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1B31-1095-4BE8-8F7E-5DB20A8A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56C0-69FA-456B-9763-94D4FB6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A1DC-83F6-4F58-8A5D-68ACA493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B049-74F7-45D3-A83E-61D65DD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1E9-15E5-4675-96F7-67015B5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644C-DA76-4EDA-8E4B-3793612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6829-6BDE-490D-A1AC-35DFCF4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E81F-2C9C-47CA-8A3A-8C00B90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9173-E354-4DBA-BDF3-832DB35B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6E33-16DD-4152-B3F6-AC6D37A1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15547-04CD-4924-B9CA-6A04F065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75A9-22FD-4D7E-BFE5-3229F084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3EDD-6FD3-4DB5-9E4E-E835C10C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F6FC-236D-4889-85B1-BDD33D07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D7E9-B27B-4D29-BD6A-10AD4B23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015-7737-4156-986C-0DD424E3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9F2C-1E86-416F-B626-582C95EC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D1CA-380B-454B-B059-B00E012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A681-D892-4E74-B025-B829110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35F4-1E18-44B1-BA35-ADE1C5BC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F383-7361-4C3E-9F59-5F0B8525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A7EA-7E77-4663-82ED-6CEF7EF7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C889-6AC8-4BAA-BC68-086A455C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5E16-1A66-4C0E-AF26-45CE9EAA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C9687-FB61-43B7-8706-B5CC1580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BB1D-994D-4E08-A58F-F5D2B230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325-1236-4BA0-80B7-F364B031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FCFB-5D9F-4F17-9F57-FC55515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C769-23E7-468A-ADF7-6EFA4137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86401-939C-4E8E-A13A-E328DF88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A922-E130-41C2-B09C-81B94759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AA711-F29C-4DD6-8BB6-8C1D590A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8A6D-AC0E-4851-BD7B-C23387C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7F19-9742-44F6-BF05-FBFC4F5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179C-D60A-4822-8546-A5A57449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8472-9836-4E44-AC44-189DAE74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B2A-B22F-42D8-BA8F-BB859BD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E5F-EDDA-47AA-8578-4C6C466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C14-6016-4333-8824-1EA73A0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F7A-C8CA-493C-8F8C-6354BF9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EDA-A951-4358-96D0-254D8F72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0E5B-8683-4B9A-841C-5DB4DF32B9F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0FB3-36F5-4C49-B38E-ECCBAA4B8D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69C4-ACFE-4DFA-A347-BAB94D829D5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ADF0-0F64-438B-9E3A-544A7D85726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42880" y="689040"/>
            <a:ext cx="7875720" cy="29131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дети3.jpg"/>
          <p:cNvPicPr/>
          <p:nvPr/>
        </p:nvPicPr>
        <p:blipFill>
          <a:blip r:embed="rId2"/>
          <a:stretch/>
        </p:blipFill>
        <p:spPr>
          <a:xfrm>
            <a:off x="324000" y="2998800"/>
            <a:ext cx="4821120" cy="34574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5435640" y="429264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3495c"/>
                </a:solidFill>
                <a:latin typeface="Comic Sans MS"/>
              </a:rPr>
              <a:t>Воспитатель: Волкова И.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39640" y="363600"/>
            <a:ext cx="784872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Цель: </a:t>
            </a: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обучение детей загадывать заг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Младший воз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учить детей выделять признаки у объекта и сравнивать их с   признаками других о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упражнять в сравнении объектов по признакам, значениям призна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Средний воз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продолжать учить составлять сравнение по двум – трё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побуждать детей к созданию двух – трёхстрочных загадок по разным модел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Старший воз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продолжать учить детей </a:t>
            </a:r>
            <a:r>
              <a:rPr b="0" lang="ru-RU" sz="2000" spc="-1" strike="noStrike" u="sng">
                <a:solidFill>
                  <a:srgbClr val="115964"/>
                </a:solidFill>
                <a:uFillTx/>
                <a:latin typeface="Comic Sans MS"/>
              </a:rPr>
              <a:t>самостоятельно </a:t>
            </a: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сравнивать объекты по раз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побуждать  детей объяснять смысл данного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учить детей </a:t>
            </a:r>
            <a:r>
              <a:rPr b="0" lang="ru-RU" sz="2000" spc="-1" strike="noStrike" u="sng">
                <a:solidFill>
                  <a:srgbClr val="115964"/>
                </a:solidFill>
                <a:uFillTx/>
                <a:latin typeface="Comic Sans MS"/>
              </a:rPr>
              <a:t>самостоятельно </a:t>
            </a: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составлять загадки по разным модел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учить оценивать сравнение и выбирать лучше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826920" y="76500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5964"/>
                </a:solidFill>
                <a:uFillTx/>
                <a:latin typeface="Comic Sans MS"/>
              </a:rPr>
              <a:t>Три основные модели составления заг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mic Sans MS"/>
              </a:rPr>
              <a:t>Моде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5640" y="2133720"/>
          <a:ext cx="7704000" cy="360036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90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то бывает таким же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лестящ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нета   (начищенна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ипящ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улкан  (проснувший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угл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буз  (спелый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684360" y="116676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После заполнения таблички воспитатель предлагает прочитать загадку, вставляя между строчками правого и левого столбцов  связки «Как» или «Но 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тоговая загадка про самовар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«Блестящий, как начищенная монета; шипящий, как проснувшийся вулкан; круглый, но не спелый, как арбуз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целесообразно значение признака в левой части таблицы обозначить словом с чётко выделенной первой буквой, а в правой части допустима зарисовка объекта.  Это позволяет тренировать детскую память: ребёнок, не умея читать, запоминает первые буквы и воспроизводит слово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7" descr="реб.jpg"/>
          <p:cNvPicPr/>
          <p:nvPr/>
        </p:nvPicPr>
        <p:blipFill>
          <a:blip r:embed="rId1"/>
          <a:stretch/>
        </p:blipFill>
        <p:spPr>
          <a:xfrm>
            <a:off x="5973840" y="4511520"/>
            <a:ext cx="3170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539640" y="549360"/>
            <a:ext cx="7777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mic Sans MS"/>
              </a:rPr>
              <a:t>Моде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mic Sans MS"/>
              </a:rPr>
              <a:t>Методика работы с моделью 2 аналогична работе с первой модел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9640" y="2565360"/>
          <a:ext cx="8064720" cy="352908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109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то делае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то (кто) делает  так  ж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0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1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1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24000" y="981000"/>
            <a:ext cx="882000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mic Sans MS"/>
              </a:rPr>
              <a:t>Модель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Особенность: ребёнок, сравнивая один объект с каким-либо другим объектом, находит между ними общее и разли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2781360"/>
          <a:ext cx="7993080" cy="245880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 что похож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м отличается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0:45:16Z</dcterms:created>
  <dc:creator>МК</dc:creator>
  <dc:description/>
  <dc:language>en-US</dc:language>
  <cp:lastModifiedBy>Волкова-Волченко</cp:lastModifiedBy>
  <dcterms:modified xsi:type="dcterms:W3CDTF">2015-05-04T13:46:03Z</dcterms:modified>
  <cp:revision>17</cp:revision>
  <dc:subject/>
  <dc:title>Слайд 1</dc:title>
</cp:coreProperties>
</file>