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204-FA8E-4B1D-8E38-FD04085B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7AC-B42C-4735-A824-4C79ED63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02B-9C1E-4BEC-AC7E-27BFF94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ECA-389A-472F-8B5B-95343988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5322-6001-4CBF-8D06-CCDCC367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BCE-5225-45C3-A0D2-3C69633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2F7-B1C0-4A27-B737-C54E442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5E9D-C5A2-42B8-A819-D031A44A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CDBD-5657-4E62-B9CB-533F573F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19EB-055D-4916-8734-50ADB365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69A0-7034-46A3-B833-A58E353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57E-4708-4128-BD1C-3B32591C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28B-8C14-43A1-A12F-CCF05C9B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F2A-8E36-4A8C-A6CC-05E1F09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C161-28BC-4D08-9907-90C50AB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EF2A-1B2B-45FE-BCCF-84DD849F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114E-A944-4F3D-810D-16D57311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FA89B-EF77-415F-BB4D-D56F8CF9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DE15F-B7E2-41A6-9F1A-83DB6BA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51A8C-BCCA-465D-92B6-BD298C9B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4B195-F28C-4853-AB57-4B3233EA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A6A75-B49B-4F10-BFBF-BB55D49F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C57-1A5A-4B6F-B851-127F5CA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66388-D993-4027-975E-770500A8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D780E-52BC-408B-B3E1-1B7E32A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15B9C-211D-457D-B77D-B97219C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94CBF-0E7B-4E81-B28F-5AF0894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04B8A-2D48-4F96-BF99-D29DE08C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1557F-A3ED-470D-9D84-08D7C22F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F2945-C292-4CFB-AEC5-458D173D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0CF8-DA1D-4643-9685-9A4155AC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AAB68-3A94-45FB-A1BC-30F10AFC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F5FA-5787-42D1-BB02-5AD69109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FCA-CECC-40D0-A259-1629A9D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DCB7-34B3-4A5F-B545-2F639494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E0E21-8DED-4052-BFBE-140025F9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6BFF-C102-4035-A344-83A78069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3719-9F21-4417-8A97-5303443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04AB7-7887-41B5-855A-D09DB97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371A-EC83-4148-8734-27D7C99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47F87-01AE-42AD-BB62-9177603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21E4-AC1B-4C35-9F9D-4D9A517E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05C5-1753-4808-801D-62C2816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3D6B7-A095-4CEF-9117-6AAD52C5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F3C-23AA-44A5-990C-9879ED8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B7C8A-65C0-4278-A5A2-B725A2A6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FCB96-C597-4BDD-BEF9-DDCE28D0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33F43-BC60-43D2-9D2A-9E6FC432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AB686-5DEB-463E-A3C1-2D2B889C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90D19-0BA3-4175-9D42-2C7B98D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4CF51-5C62-48A5-9A2D-31F2C65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06F0B-BCC9-4AC2-BAFA-1CDE6C8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EB987-0BCA-4FAD-8A9C-2E68F95B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8AD47-D76D-44B8-9D92-A8BAC189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D7254-C725-43D3-B22A-B96F8EEE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129-659B-4D4F-B311-FF14AB84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BFE71-C079-49E4-AC10-7F7AE45C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9CF59-F13A-43DC-93F3-A373042F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CD2F0-AA52-42BD-B62D-67328CED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45180-7244-4763-857F-F616464A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73764-A952-45C0-926E-E08EC27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8C108-FACA-4536-9040-8942E216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80E45-B159-4B0A-AF3B-570B79E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14305-BCAD-40BE-9E00-C765B7AF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2DB40-1234-4849-97B2-2DE92357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91EC9-E296-4FD0-879F-86D5970E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90B-1DFE-4AA5-B889-21F25FBE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D5553-5B8E-410C-9A93-FAB7BAC2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9F8A4-895E-4AAB-9450-42E2420F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ACC8E-43F3-4C20-8BED-FBD7553F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0411A-87C8-47F4-B78B-067D2398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E02BF-8CC4-409E-BAB6-C78CBA0B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0048D-BA4F-49B6-84FC-5FEDBC20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40295-F628-4F11-A218-7A52394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90D03-9792-4104-8976-5E579B8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33C34-F4DE-4256-BC74-96BF1FDB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35BB1-21E6-472B-B69B-9FE8230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B15-0B0A-4364-BD57-17439769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22A01-2B89-4439-A948-1E085D9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60F3C-25D2-4D44-AE19-32A2AED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153A8-ECBA-40E0-8E38-54B047C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2631D-67C5-4378-8469-CEC69527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5DC1A-BAD1-46C5-B4D5-815D6A5F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0B9-B163-4025-BC37-9F420B3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6AB-3643-4D90-8429-831468259D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B9B7-2D38-4D24-B008-D0EF88F7BE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062-7FF0-48A8-BD0B-44D0CEB15D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F59A-6542-4D2E-9EE0-64217B587A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4A7-D0F2-4FA6-9ADA-BF3348340D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9084-FB13-4680-B769-3B4E9E5E19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EA3F-75E5-437F-A613-B3ADA1895C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1476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68c4"/>
                </a:solidFill>
                <a:latin typeface="Calibri"/>
              </a:rPr>
              <a:t>РАЗВИВАЮЩИЕ МАТЕМАТИЧЕСКИЕ </a:t>
            </a:r>
            <a:br>
              <a:rPr sz="5400"/>
            </a:br>
            <a:r>
              <a:rPr b="1" lang="ru-RU" sz="5400" spc="-1" strike="noStrike">
                <a:solidFill>
                  <a:srgbClr val="3668c4"/>
                </a:solidFill>
                <a:latin typeface="Calibri"/>
              </a:rPr>
              <a:t>ИГРЫ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С ИСПОЛЬЗОВАНИЕМ СЧЕТНЫХ ПАЛОЧЕ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57480" y="2428560"/>
            <a:ext cx="3214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ЗАДАЧИ НА ПОСТРОЕНИЕ ПРОСТЫХ ФИГУ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ПО СТОРОНЕ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ПО ОБЩЕМУ КОЛИЧЕСТВУ ПАЛОЧЕ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ЗАДАЧИ НА ПОСТРОЕНИЕ СЛОЖНЫХ ФИГУ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68c4"/>
                </a:solidFill>
                <a:latin typeface="Calibri"/>
              </a:rPr>
              <a:t>ЗАДАЧИ НА ПРЕОБРАЗОВАНИЕ ФИГУ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Анастасия\Desktop\мама\Новая папка\DSC06327.JPG"/>
          <p:cNvPicPr/>
          <p:nvPr/>
        </p:nvPicPr>
        <p:blipFill>
          <a:blip r:embed="rId1"/>
          <a:stretch/>
        </p:blipFill>
        <p:spPr>
          <a:xfrm>
            <a:off x="1071720" y="1714680"/>
            <a:ext cx="2857320" cy="2143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91" name="Picture 3" descr="C:\Users\Анастасия\Desktop\мама\Новая папка\DSC06320.JPG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214344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1285560"/>
            <a:ext cx="74674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РАЗВИВАЮЩИЕ ИГРЫ МАТЕМАТИЧЕСКОГО СОДЕРЖАНИЯ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ВОСПИТЫВАЮТ ПОЗНАВАТЕЛЬНЫЙ ИНТЕРЕС,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СПОСОБНОСТЬ К ИССЛЕДОВАТЕЛЬСКОМУ И ТВОРЧЕСКОМУ ПОИСКУ,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ФОРМИРУЮТ УМЕНИЕ МЫСЛИТЬ ПРОСТРАНСТВЕННЫМИ ОБРАЗАМИ,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ТРЕНИРУЮТ ВНИМАНИЕ, ПАМЯТЬ, ВОСПРИЯТИЕ, ЛОГИЧЕСКОЕ МЫШЛЕ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Овал 6"/>
          <p:cNvSpPr/>
          <p:nvPr/>
        </p:nvSpPr>
        <p:spPr>
          <a:xfrm>
            <a:off x="785880" y="2643120"/>
            <a:ext cx="214200" cy="214560"/>
          </a:xfrm>
          <a:prstGeom prst="ellipse">
            <a:avLst/>
          </a:prstGeom>
          <a:noFill/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7"/>
          <p:cNvSpPr/>
          <p:nvPr/>
        </p:nvSpPr>
        <p:spPr>
          <a:xfrm>
            <a:off x="785880" y="4000680"/>
            <a:ext cx="214200" cy="214200"/>
          </a:xfrm>
          <a:prstGeom prst="ellipse">
            <a:avLst/>
          </a:prstGeom>
          <a:noFill/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8"/>
          <p:cNvSpPr/>
          <p:nvPr/>
        </p:nvSpPr>
        <p:spPr>
          <a:xfrm>
            <a:off x="785880" y="4929120"/>
            <a:ext cx="214200" cy="214560"/>
          </a:xfrm>
          <a:prstGeom prst="ellipse">
            <a:avLst/>
          </a:prstGeom>
          <a:noFill/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ПЛОСКОСТНОЕ МОДЕЛИР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500440" y="1857240"/>
            <a:ext cx="2423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ТАНГРАМ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ПИФАГОР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ЛИСТИК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КОЛУМБОВО ЯЙЦО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ВОЛШЕБНЫЙ КРУГ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ПЕНТАМИНО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«СЛОЖИ КВАДРАТ» (ИГРА НИКИТИНЫХ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5" descr="C:\Users\Анастасия\Desktop\мама\Новая папка\DSC06290.jpg"/>
          <p:cNvPicPr/>
          <p:nvPr/>
        </p:nvPicPr>
        <p:blipFill>
          <a:blip r:embed="rId1"/>
          <a:stretch/>
        </p:blipFill>
        <p:spPr>
          <a:xfrm>
            <a:off x="500040" y="1928880"/>
            <a:ext cx="4929120" cy="3932280"/>
          </a:xfrm>
          <a:prstGeom prst="rect">
            <a:avLst/>
          </a:prstGeom>
          <a:ln w="1908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ПЛОСКОСТНОЕ МОДЕЛИР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C:\Users\Анастасия\Desktop\мама\Новая папка\DSC0629.jpg"/>
          <p:cNvPicPr/>
          <p:nvPr/>
        </p:nvPicPr>
        <p:blipFill>
          <a:blip r:embed="rId1"/>
          <a:stretch/>
        </p:blipFill>
        <p:spPr>
          <a:xfrm>
            <a:off x="285840" y="1928880"/>
            <a:ext cx="4000320" cy="3000240"/>
          </a:xfrm>
          <a:prstGeom prst="rect">
            <a:avLst/>
          </a:prstGeom>
          <a:ln w="19080">
            <a:solidFill>
              <a:srgbClr val="fe8637"/>
            </a:solidFill>
            <a:miter/>
          </a:ln>
        </p:spPr>
      </p:pic>
      <p:pic>
        <p:nvPicPr>
          <p:cNvPr id="357" name="Picture 3" descr="C:\Users\Анастасия\Desktop\мама\Новая папка\DSC06299.jpg"/>
          <p:cNvPicPr/>
          <p:nvPr/>
        </p:nvPicPr>
        <p:blipFill>
          <a:blip r:embed="rId2"/>
          <a:stretch/>
        </p:blipFill>
        <p:spPr>
          <a:xfrm>
            <a:off x="4500720" y="1928880"/>
            <a:ext cx="4000320" cy="3000240"/>
          </a:xfrm>
          <a:prstGeom prst="rect">
            <a:avLst/>
          </a:prstGeom>
          <a:ln w="1908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МОДЕЛИРОВАНИЕ</a:t>
            </a:r>
            <a:r>
              <a:rPr b="1" lang="en-US" sz="3000" spc="-1" strike="noStrike">
                <a:solidFill>
                  <a:srgbClr val="3668c4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З ОБЪЕМНЫХ ФИГУ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857480" y="2642760"/>
            <a:ext cx="3214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ИГРЫ НИКИТИНЫ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«СЛОЖИ УЗОР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«КУБИКИ ДЛЯ ВС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68c4"/>
                </a:solidFill>
                <a:latin typeface="Calibri"/>
              </a:rPr>
              <a:t>«УНИКУБ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1" descr="C:\Users\Анастасия\Desktop\мама\Новая папка\DSC06296.JPG"/>
          <p:cNvPicPr/>
          <p:nvPr/>
        </p:nvPicPr>
        <p:blipFill>
          <a:blip r:embed="rId1"/>
          <a:stretch/>
        </p:blipFill>
        <p:spPr>
          <a:xfrm>
            <a:off x="1000080" y="1785960"/>
            <a:ext cx="2952720" cy="22147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1" name="Picture 12" descr="C:\Users\Анастасия\Desktop\мама\Новая папка\DSC06314.JPG"/>
          <p:cNvPicPr/>
          <p:nvPr/>
        </p:nvPicPr>
        <p:blipFill>
          <a:blip r:embed="rId2"/>
          <a:stretch/>
        </p:blipFill>
        <p:spPr>
          <a:xfrm>
            <a:off x="1000080" y="4143240"/>
            <a:ext cx="2952720" cy="22147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МОДЕЛИРОВАНИЕ</a:t>
            </a:r>
            <a:r>
              <a:rPr b="1" lang="en-US" sz="3000" spc="-1" strike="noStrike">
                <a:solidFill>
                  <a:srgbClr val="3668c4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З ОБЪЕМНЫХ ФИГУ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7" descr="C:\Users\Анастасия\Desktop\мама\Новая папка\DSC06281.JPG"/>
          <p:cNvPicPr/>
          <p:nvPr/>
        </p:nvPicPr>
        <p:blipFill>
          <a:blip r:embed="rId1"/>
          <a:stretch/>
        </p:blipFill>
        <p:spPr>
          <a:xfrm>
            <a:off x="4405320" y="1500120"/>
            <a:ext cx="3214800" cy="241164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4" name="Picture 8" descr="C:\Users\Анастасия\Desktop\мама\Новая папка\DSC06282.JPG"/>
          <p:cNvPicPr/>
          <p:nvPr/>
        </p:nvPicPr>
        <p:blipFill>
          <a:blip r:embed="rId2"/>
          <a:stretch/>
        </p:blipFill>
        <p:spPr>
          <a:xfrm>
            <a:off x="785880" y="1482840"/>
            <a:ext cx="321480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5" name="Picture 9" descr="C:\Users\Анастасия\Desktop\мама\Новая папка\DSC06285.JPG"/>
          <p:cNvPicPr/>
          <p:nvPr/>
        </p:nvPicPr>
        <p:blipFill>
          <a:blip r:embed="rId3"/>
          <a:stretch/>
        </p:blipFill>
        <p:spPr>
          <a:xfrm>
            <a:off x="785880" y="4214880"/>
            <a:ext cx="3222720" cy="24145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6" name="Picture 10" descr="C:\Users\Анастасия\Desktop\мама\Новая папка\DSC06286.JPG"/>
          <p:cNvPicPr/>
          <p:nvPr/>
        </p:nvPicPr>
        <p:blipFill>
          <a:blip r:embed="rId4"/>
          <a:stretch/>
        </p:blipFill>
        <p:spPr>
          <a:xfrm>
            <a:off x="4405320" y="4214880"/>
            <a:ext cx="3238560" cy="242892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ГРЫ НА МОДЕЛИРОВАНИЕ</a:t>
            </a:r>
            <a:r>
              <a:rPr b="1" lang="en-US" sz="3000" spc="-1" strike="noStrike">
                <a:solidFill>
                  <a:srgbClr val="3668c4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ИЗ ОБЪЕМНЫХ ФИГУ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Users\Анастасия\Desktop\мама\Новая папка\DSC06308.JPG"/>
          <p:cNvPicPr/>
          <p:nvPr/>
        </p:nvPicPr>
        <p:blipFill>
          <a:blip r:embed="rId1"/>
          <a:stretch/>
        </p:blipFill>
        <p:spPr>
          <a:xfrm>
            <a:off x="785880" y="1571760"/>
            <a:ext cx="321480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69" name="Picture 5" descr="C:\Users\Анастасия\Desktop\мама\Новая папка\DSC06313.JPG"/>
          <p:cNvPicPr/>
          <p:nvPr/>
        </p:nvPicPr>
        <p:blipFill>
          <a:blip r:embed="rId2"/>
          <a:stretch/>
        </p:blipFill>
        <p:spPr>
          <a:xfrm>
            <a:off x="4357800" y="4160880"/>
            <a:ext cx="321444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0" name="Picture 6" descr="C:\Users\Анастасия\Desktop\мама\Новая папка\DSC06309.JPG"/>
          <p:cNvPicPr/>
          <p:nvPr/>
        </p:nvPicPr>
        <p:blipFill>
          <a:blip r:embed="rId3"/>
          <a:stretch/>
        </p:blipFill>
        <p:spPr>
          <a:xfrm>
            <a:off x="4357800" y="1571760"/>
            <a:ext cx="321444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1" name="Picture 7" descr="C:\Users\Анастасия\Desktop\мама\Новая папка\DSC06318.JPG"/>
          <p:cNvPicPr/>
          <p:nvPr/>
        </p:nvPicPr>
        <p:blipFill>
          <a:blip r:embed="rId4"/>
          <a:stretch/>
        </p:blipFill>
        <p:spPr>
          <a:xfrm>
            <a:off x="785880" y="4160880"/>
            <a:ext cx="3214800" cy="2411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ЛОГИКО-МАТЕМА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57480" y="2428560"/>
            <a:ext cx="3214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БЛОКИ ДЬЕНЫША: «</a:t>
            </a: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УГАДАЙ ФИГУРУ», «ЗАСЕЛИ ДОМИКИ»,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     </a:t>
            </a: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«У КОГО В ГОСТЯХ ВИННИ-ПУХ И ПЯТАЧОК?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ПАЛОЧКИ КЮИЗЕНЕ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ИГРЫ ВОСКОБОВИЧ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68c4"/>
                </a:solidFill>
                <a:latin typeface="Calibri"/>
              </a:rPr>
              <a:t>    </a:t>
            </a:r>
            <a:r>
              <a:rPr b="0" lang="ru-RU" sz="1900" spc="-1" strike="noStrike">
                <a:solidFill>
                  <a:srgbClr val="3668c4"/>
                </a:solidFill>
                <a:latin typeface="Calibri"/>
              </a:rPr>
              <a:t>«ЧУДО-КРЕСТКИКИ», «ЖИВОЙ КВАДРАТ», «ПРОЗРАЧНЫЙ КВАДРАТ»,         «ГЕОКОНТ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C:\Users\Анастасия\Desktop\мама\Новая папка\DSC06273.JPG"/>
          <p:cNvPicPr/>
          <p:nvPr/>
        </p:nvPicPr>
        <p:blipFill>
          <a:blip r:embed="rId1"/>
          <a:stretch/>
        </p:blipFill>
        <p:spPr>
          <a:xfrm>
            <a:off x="428760" y="221472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5" name="Picture 3" descr="C:\Users\Анастасия\Desktop\мама\Новая папка\DSC06274.JPG"/>
          <p:cNvPicPr/>
          <p:nvPr/>
        </p:nvPicPr>
        <p:blipFill>
          <a:blip r:embed="rId2"/>
          <a:stretch/>
        </p:blipFill>
        <p:spPr>
          <a:xfrm>
            <a:off x="2714760" y="221472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6" name="Picture 4" descr="C:\Users\Анастасия\Desktop\мама\Новая папка\DSC06275.JPG"/>
          <p:cNvPicPr/>
          <p:nvPr/>
        </p:nvPicPr>
        <p:blipFill>
          <a:blip r:embed="rId3"/>
          <a:stretch/>
        </p:blipFill>
        <p:spPr>
          <a:xfrm>
            <a:off x="428760" y="392904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77" name="Picture 5" descr="C:\Users\Анастасия\Desktop\мама\Новая папка\DSC06276.JPG"/>
          <p:cNvPicPr/>
          <p:nvPr/>
        </p:nvPicPr>
        <p:blipFill>
          <a:blip r:embed="rId4"/>
          <a:stretch/>
        </p:blipFill>
        <p:spPr>
          <a:xfrm>
            <a:off x="2714760" y="3929040"/>
            <a:ext cx="2133360" cy="160020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ЛОГИКО-МАТЕМА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Users\Анастасия\Desktop\мама\Новая папка\DSC06278.JPG"/>
          <p:cNvPicPr/>
          <p:nvPr/>
        </p:nvPicPr>
        <p:blipFill>
          <a:blip r:embed="rId1"/>
          <a:stretch/>
        </p:blipFill>
        <p:spPr>
          <a:xfrm>
            <a:off x="1285920" y="17859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0" name="Picture 3" descr="C:\Users\Анастасия\Desktop\мама\Новая папка\DSC06291.JPG"/>
          <p:cNvPicPr/>
          <p:nvPr/>
        </p:nvPicPr>
        <p:blipFill>
          <a:blip r:embed="rId2"/>
          <a:stretch/>
        </p:blipFill>
        <p:spPr>
          <a:xfrm>
            <a:off x="4572000" y="17859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1" name="Picture 4" descr="C:\Users\Анастасия\Desktop\мама\Новая папка\DSC06292.JPG"/>
          <p:cNvPicPr/>
          <p:nvPr/>
        </p:nvPicPr>
        <p:blipFill>
          <a:blip r:embed="rId3"/>
          <a:stretch/>
        </p:blipFill>
        <p:spPr>
          <a:xfrm>
            <a:off x="1285920" y="42861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2" name="Picture 5" descr="C:\Users\Анастасия\Desktop\мама\Новая папка\DSC06293.JPG"/>
          <p:cNvPicPr/>
          <p:nvPr/>
        </p:nvPicPr>
        <p:blipFill>
          <a:blip r:embed="rId4"/>
          <a:stretch/>
        </p:blipFill>
        <p:spPr>
          <a:xfrm>
            <a:off x="4572000" y="4286160"/>
            <a:ext cx="2928960" cy="21970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alibri"/>
              </a:rPr>
              <a:t>ЛОГИКО-МАТЕМА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Users\Анастасия\Desktop\мама\Новая папка\DSC06312.JPG"/>
          <p:cNvPicPr/>
          <p:nvPr/>
        </p:nvPicPr>
        <p:blipFill>
          <a:blip r:embed="rId1"/>
          <a:stretch/>
        </p:blipFill>
        <p:spPr>
          <a:xfrm>
            <a:off x="1071720" y="157176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5" name="Picture 3" descr="C:\Users\Анастасия\Desktop\мама\Новая папка\DSC06315.JPG"/>
          <p:cNvPicPr/>
          <p:nvPr/>
        </p:nvPicPr>
        <p:blipFill>
          <a:blip r:embed="rId2"/>
          <a:stretch/>
        </p:blipFill>
        <p:spPr>
          <a:xfrm>
            <a:off x="4572000" y="157176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6" name="Picture 4" descr="C:\Users\Анастасия\Desktop\мама\Новая папка\DSC06319.JPG"/>
          <p:cNvPicPr/>
          <p:nvPr/>
        </p:nvPicPr>
        <p:blipFill>
          <a:blip r:embed="rId3"/>
          <a:stretch/>
        </p:blipFill>
        <p:spPr>
          <a:xfrm>
            <a:off x="1071720" y="421488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  <p:pic>
        <p:nvPicPr>
          <p:cNvPr id="387" name="Picture 5" descr="C:\Users\Анастасия\Desktop\мама\Новая папка\DSC06328.JPG"/>
          <p:cNvPicPr/>
          <p:nvPr/>
        </p:nvPicPr>
        <p:blipFill>
          <a:blip r:embed="rId4"/>
          <a:stretch/>
        </p:blipFill>
        <p:spPr>
          <a:xfrm>
            <a:off x="4572000" y="4214880"/>
            <a:ext cx="3143160" cy="2357280"/>
          </a:xfrm>
          <a:prstGeom prst="rect">
            <a:avLst/>
          </a:prstGeom>
          <a:ln w="2844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13:30:00Z</dcterms:created>
  <dc:creator>Анастасия Федорова</dc:creator>
  <dc:description/>
  <dc:language>en-US</dc:language>
  <cp:lastModifiedBy>Анастасия Федорова</cp:lastModifiedBy>
  <dcterms:modified xsi:type="dcterms:W3CDTF">2015-05-04T08:42:38Z</dcterms:modified>
  <cp:revision>28</cp:revision>
  <dc:subject/>
  <dc:title>Слайд 1</dc:title>
</cp:coreProperties>
</file>