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598-413E-4EED-9F6B-AA153515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E72-1E10-4EB7-A085-80D90B2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F17-01B0-40EF-8987-D863A195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53B-486C-4BF3-8369-82342458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BCA1-B5E5-4307-9F81-C6B6AEBD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2B9F-F420-4CA4-9098-0910CB70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703-24E6-4AF8-8C0E-2DE6C7B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EC25-869C-4FFE-A565-1D04E195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B1A3-9A53-40DC-8978-5A2FCBC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BC2F-C92E-4810-BD6F-7B5B152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A9EB-6797-46E2-8854-75D6DA9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987-AF19-4706-BB81-1CD50C5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2B3F-D578-46C3-9A81-EE70C29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327-5564-4117-B4F7-46A707E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3D79-AD5A-4FCE-9609-F9C92E8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6503-620E-4451-84F3-7D14A15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DA3E-EF32-4E8D-9910-BABAFBB8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9B896-F4C1-4232-8805-EFA3E56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EA074-8F16-4D45-9E77-BCD3F15E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F60FC-70C7-4850-87E2-1818D431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E2E07-ED78-4562-A8C6-7FD460A8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3CBC2-8009-49B2-9E26-0ED62DC1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B14-C848-4599-8029-132F0EF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C7068-5D77-461C-BBAC-2D71210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5648C-C64F-41E3-BACE-1B7308C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8D9C0-79FD-4ECE-A057-1FB6C512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AE813-A3AB-4DC5-8BC6-B445725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4E26E-7695-470F-BF5C-00A4DFDC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6AEB8-C4B6-4D29-986D-FE08F17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68DBC-5973-47FA-8238-630F5889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91AE-8635-4221-BDFE-8E715FFF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8013-1C79-4BD7-9081-51A7CE3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B17C-8FC3-4B7D-8C1F-2E6F769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2C3-5282-423E-A76F-E5ED035C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ED71-2395-4B93-9347-0A24A4A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EB3C-E0D2-4578-8B02-FFFA878E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72C9-E496-491F-93F4-FFEA264C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6783-C1C3-4CCB-B579-CB5E462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9C61-48EB-4886-AD91-B6E3DDB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F34A-BC93-44DA-9116-345AD7C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5471-7B1C-4526-AA45-FC753E2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B41E-546E-410C-9F06-7D4A9F2D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3BD3-45A5-4285-8213-D3FE243A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6D64F-3F4D-4863-BC7B-F982B346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17B-0A3F-48F6-9317-A7A8CC9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E02FA-0CDA-4EAD-A3F3-5E04E6CF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D27F8-1596-4331-93C2-6E079429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DFF71-79B2-4615-8C94-0739132F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82351-F7F8-4F88-A6F4-C85785C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7D498-4712-4277-B30D-C414062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749FD-3A84-4A2B-9492-695F5CB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3B2F7-D74A-43EB-8939-E052409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E5BC1-11FC-4E16-B474-33C5483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95B9E-8691-4ED6-8289-CA78044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2A2DF-F9BD-495F-81C5-A487FEDD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0E6-BAC9-49AE-97A2-0A0FAFD2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8F01F-0C07-47C3-AD17-8A64053C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521FE-A3AF-4D9D-81AD-3FD38E4A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7A71B-47AE-47A8-8B87-47412F5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2789D-B98E-486A-BED5-E6C0E23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E9456-A257-48AC-A73D-B173D94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8EEE7-25BD-4F9E-983C-D0A3844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8EF20-4BD0-47FA-8A67-C9F4B837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2B88F-6053-4445-B7A6-8094551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ACE11-EE5C-489C-B235-4EF1CD4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AE7F2-08B8-4D51-97DE-FDC2974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E29-E361-4FBE-871F-242DBCEF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0213B-B60D-4D0F-A4B2-A500DDB8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A3555-8CBF-4273-8028-BB059CCF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E79FC-700D-457B-A12F-CFD3AEB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ECF35-4B7D-4A65-8BB8-532714BF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9D2C0-252B-48B6-9EAA-CC56AC9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E5F5B-7FDB-4881-AF9F-3FA0717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AC83E-1114-468E-9CDF-E829477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927A9-307C-4B18-AB60-CBF6E2A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6B705-586F-47E7-9B98-F1CA5A26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2A19B-E4C1-4099-AF45-4A684CB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2F9-434B-4A35-9437-93B7F7D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BB3FB-B0BF-47E1-97D8-87059B0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97545-ED66-4B61-9D28-54CD3B0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80C3D-8BF9-492B-AC87-4AF0BFB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F94C3-2E1F-4C7C-B7F9-333A8B11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A3A9E-C717-4863-852F-13D60704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578-B3E9-4225-AD1F-0264F0B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34D-C9AB-4B37-9F56-9ECB4BA6A64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9A7B-46CE-496F-858F-7A8BFD2C23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91A1-8726-4D16-8494-F07BC5178F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1025-37D7-421F-929A-E31F1BFA4D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6CA9-559B-4092-8DFA-8E091501E2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58B-841F-4235-A661-3CE5C0B8F2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26F-EC73-4E21-B885-2EDAB435C5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76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68c4"/>
                </a:solidFill>
                <a:latin typeface="Calibri"/>
              </a:rPr>
              <a:t>РАЗВИВАЮЩИЕ МАТЕМАТИЧЕСКИЕ </a:t>
            </a:r>
            <a:br>
              <a:rPr sz="5400"/>
            </a:br>
            <a:r>
              <a:rPr b="1" lang="ru-RU" sz="5400" spc="-1" strike="noStrike">
                <a:solidFill>
                  <a:srgbClr val="3668c4"/>
                </a:solidFill>
                <a:latin typeface="Calibri"/>
              </a:rPr>
              <a:t>ИГРЫ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С ИСПОЛЬЗОВАНИЕМ СЧЕТНЫХ ПАЛОЧЕ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57480" y="24285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ОСТРОЕНИЕ ПРОСТЫХ ФИГУ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ПО СТОРОНЕ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ПО ОБЩЕМУ КОЛИЧЕСТВУ ПАЛОЧЕ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ОСТРОЕНИЕ СЛОЖНЫХ ФИГУ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РЕОБРАЗОВАНИЕ ФИГУ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Анастасия\Desktop\мама\Новая папка\DSC06327.JPG"/>
          <p:cNvPicPr/>
          <p:nvPr/>
        </p:nvPicPr>
        <p:blipFill>
          <a:blip r:embed="rId1"/>
          <a:stretch/>
        </p:blipFill>
        <p:spPr>
          <a:xfrm>
            <a:off x="1071720" y="1714680"/>
            <a:ext cx="2857320" cy="2143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91" name="Picture 3" descr="C:\Users\Анастасия\Desktop\мама\Новая папка\DSC06320.JPG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214344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128556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РАЗВИВАЮЩИЕ ИГРЫ МАТЕМАТИЧЕСКОГО СОДЕРЖАНИЯ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ВОСПИТЫВАЮТ ПОЗНАВАТЕЛЬНЫЙ ИНТЕРЕС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СПОСОБНОСТЬ К ИССЛЕДОВАТЕЛЬСКОМУ И ТВОРЧЕСКОМУ ПОИСКУ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ФОРМИРУЮТ УМЕНИЕ МЫСЛИТЬ ПРОСТРАНСТВЕННЫМИ ОБРАЗАМИ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ТРЕНИРУЮТ ВНИМАНИЕ, ПАМЯТЬ, ВОСПРИЯТИЕ, ЛОГИЧЕСКОЕ МЫШЛЕ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Овал 6"/>
          <p:cNvSpPr/>
          <p:nvPr/>
        </p:nvSpPr>
        <p:spPr>
          <a:xfrm>
            <a:off x="785880" y="2643120"/>
            <a:ext cx="214200" cy="21456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7"/>
          <p:cNvSpPr/>
          <p:nvPr/>
        </p:nvSpPr>
        <p:spPr>
          <a:xfrm>
            <a:off x="785880" y="4000680"/>
            <a:ext cx="214200" cy="21420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8"/>
          <p:cNvSpPr/>
          <p:nvPr/>
        </p:nvSpPr>
        <p:spPr>
          <a:xfrm>
            <a:off x="785880" y="4929120"/>
            <a:ext cx="214200" cy="21456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ПЛОСКОСТНОЕ МОДЕЛИР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500440" y="1857240"/>
            <a:ext cx="2423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ТАНГРАМ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ПИФАГОР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ЛИСТИ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КОЛУМБОВО ЯЙЦО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ВОЛШЕБНЫЙ КРУГ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ПЕНТАМИНО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СЛОЖИ КВАДРАТ» (ИГРА НИКИТИНЫХ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C:\Users\Анастасия\Desktop\мама\Новая папка\DSC06290.jpg"/>
          <p:cNvPicPr/>
          <p:nvPr/>
        </p:nvPicPr>
        <p:blipFill>
          <a:blip r:embed="rId1"/>
          <a:stretch/>
        </p:blipFill>
        <p:spPr>
          <a:xfrm>
            <a:off x="500040" y="1928880"/>
            <a:ext cx="4929120" cy="393228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ПЛОСКОСТНОЕ МОДЕЛИР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Users\Анастасия\Desktop\мама\Новая папка\DSC0629.jpg"/>
          <p:cNvPicPr/>
          <p:nvPr/>
        </p:nvPicPr>
        <p:blipFill>
          <a:blip r:embed="rId1"/>
          <a:stretch/>
        </p:blipFill>
        <p:spPr>
          <a:xfrm>
            <a:off x="285840" y="1928880"/>
            <a:ext cx="4000320" cy="300024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  <p:pic>
        <p:nvPicPr>
          <p:cNvPr id="357" name="Picture 3" descr="C:\Users\Анастасия\Desktop\мама\Новая папка\DSC06299.jpg"/>
          <p:cNvPicPr/>
          <p:nvPr/>
        </p:nvPicPr>
        <p:blipFill>
          <a:blip r:embed="rId2"/>
          <a:stretch/>
        </p:blipFill>
        <p:spPr>
          <a:xfrm>
            <a:off x="4500720" y="1928880"/>
            <a:ext cx="4000320" cy="300024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857480" y="26427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ИГРЫ НИКИТИНЫ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СЛОЖИ УЗОР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КУБИКИ ДЛЯ ВС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УНИКУБ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1" descr="C:\Users\Анастасия\Desktop\мама\Новая папка\DSC06296.JPG"/>
          <p:cNvPicPr/>
          <p:nvPr/>
        </p:nvPicPr>
        <p:blipFill>
          <a:blip r:embed="rId1"/>
          <a:stretch/>
        </p:blipFill>
        <p:spPr>
          <a:xfrm>
            <a:off x="1000080" y="1785960"/>
            <a:ext cx="2952720" cy="22147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1" name="Picture 12" descr="C:\Users\Анастасия\Desktop\мама\Новая папка\DSC06314.JPG"/>
          <p:cNvPicPr/>
          <p:nvPr/>
        </p:nvPicPr>
        <p:blipFill>
          <a:blip r:embed="rId2"/>
          <a:stretch/>
        </p:blipFill>
        <p:spPr>
          <a:xfrm>
            <a:off x="1000080" y="4143240"/>
            <a:ext cx="2952720" cy="22147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7" descr="C:\Users\Анастасия\Desktop\мама\Новая папка\DSC06281.JPG"/>
          <p:cNvPicPr/>
          <p:nvPr/>
        </p:nvPicPr>
        <p:blipFill>
          <a:blip r:embed="rId1"/>
          <a:stretch/>
        </p:blipFill>
        <p:spPr>
          <a:xfrm>
            <a:off x="4405320" y="1500120"/>
            <a:ext cx="3214800" cy="241164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4" name="Picture 8" descr="C:\Users\Анастасия\Desktop\мама\Новая папка\DSC06282.JPG"/>
          <p:cNvPicPr/>
          <p:nvPr/>
        </p:nvPicPr>
        <p:blipFill>
          <a:blip r:embed="rId2"/>
          <a:stretch/>
        </p:blipFill>
        <p:spPr>
          <a:xfrm>
            <a:off x="785880" y="148284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5" name="Picture 9" descr="C:\Users\Анастасия\Desktop\мама\Новая папка\DSC06285.JPG"/>
          <p:cNvPicPr/>
          <p:nvPr/>
        </p:nvPicPr>
        <p:blipFill>
          <a:blip r:embed="rId3"/>
          <a:stretch/>
        </p:blipFill>
        <p:spPr>
          <a:xfrm>
            <a:off x="785880" y="4214880"/>
            <a:ext cx="3222720" cy="24145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6" name="Picture 10" descr="C:\Users\Анастасия\Desktop\мама\Новая папка\DSC06286.JPG"/>
          <p:cNvPicPr/>
          <p:nvPr/>
        </p:nvPicPr>
        <p:blipFill>
          <a:blip r:embed="rId4"/>
          <a:stretch/>
        </p:blipFill>
        <p:spPr>
          <a:xfrm>
            <a:off x="4405320" y="4214880"/>
            <a:ext cx="3238560" cy="24289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Users\Анастасия\Desktop\мама\Новая папка\DSC06308.JPG"/>
          <p:cNvPicPr/>
          <p:nvPr/>
        </p:nvPicPr>
        <p:blipFill>
          <a:blip r:embed="rId1"/>
          <a:stretch/>
        </p:blipFill>
        <p:spPr>
          <a:xfrm>
            <a:off x="785880" y="157176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9" name="Picture 5" descr="C:\Users\Анастасия\Desktop\мама\Новая папка\DSC06313.JPG"/>
          <p:cNvPicPr/>
          <p:nvPr/>
        </p:nvPicPr>
        <p:blipFill>
          <a:blip r:embed="rId2"/>
          <a:stretch/>
        </p:blipFill>
        <p:spPr>
          <a:xfrm>
            <a:off x="4357800" y="4160880"/>
            <a:ext cx="321444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0" name="Picture 6" descr="C:\Users\Анастасия\Desktop\мама\Новая папка\DSC06309.JPG"/>
          <p:cNvPicPr/>
          <p:nvPr/>
        </p:nvPicPr>
        <p:blipFill>
          <a:blip r:embed="rId3"/>
          <a:stretch/>
        </p:blipFill>
        <p:spPr>
          <a:xfrm>
            <a:off x="4357800" y="1571760"/>
            <a:ext cx="321444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1" name="Picture 7" descr="C:\Users\Анастасия\Desktop\мама\Новая папка\DSC06318.JPG"/>
          <p:cNvPicPr/>
          <p:nvPr/>
        </p:nvPicPr>
        <p:blipFill>
          <a:blip r:embed="rId4"/>
          <a:stretch/>
        </p:blipFill>
        <p:spPr>
          <a:xfrm>
            <a:off x="785880" y="416088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57480" y="24285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БЛОКИ ДЬЕНЫША: «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УГАДАЙ ФИГУРУ», «ЗАСЕЛИ ДОМИКИ»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«У КОГО В ГОСТЯХ ВИННИ-ПУХ И ПЯТАЧОК?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ПАЛОЧКИ КЮИЗЕНЕ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ИГРЫ ВОСКОБОВИЧ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    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«ЧУДО-КРЕСТКИКИ», «ЖИВОЙ КВАДРАТ», «ПРОЗРАЧНЫЙ КВАДРАТ»,         «ГЕОКОНТ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Анастасия\Desktop\мама\Новая папка\DSC06273.JPG"/>
          <p:cNvPicPr/>
          <p:nvPr/>
        </p:nvPicPr>
        <p:blipFill>
          <a:blip r:embed="rId1"/>
          <a:stretch/>
        </p:blipFill>
        <p:spPr>
          <a:xfrm>
            <a:off x="428760" y="221472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5" name="Picture 3" descr="C:\Users\Анастасия\Desktop\мама\Новая папка\DSC06274.JPG"/>
          <p:cNvPicPr/>
          <p:nvPr/>
        </p:nvPicPr>
        <p:blipFill>
          <a:blip r:embed="rId2"/>
          <a:stretch/>
        </p:blipFill>
        <p:spPr>
          <a:xfrm>
            <a:off x="2714760" y="221472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6" name="Picture 4" descr="C:\Users\Анастасия\Desktop\мама\Новая папка\DSC06275.JPG"/>
          <p:cNvPicPr/>
          <p:nvPr/>
        </p:nvPicPr>
        <p:blipFill>
          <a:blip r:embed="rId3"/>
          <a:stretch/>
        </p:blipFill>
        <p:spPr>
          <a:xfrm>
            <a:off x="428760" y="392904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7" name="Picture 5" descr="C:\Users\Анастасия\Desktop\мама\Новая папка\DSC06276.JPG"/>
          <p:cNvPicPr/>
          <p:nvPr/>
        </p:nvPicPr>
        <p:blipFill>
          <a:blip r:embed="rId4"/>
          <a:stretch/>
        </p:blipFill>
        <p:spPr>
          <a:xfrm>
            <a:off x="2714760" y="392904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Анастасия\Desktop\мама\Новая папка\DSC06278.JPG"/>
          <p:cNvPicPr/>
          <p:nvPr/>
        </p:nvPicPr>
        <p:blipFill>
          <a:blip r:embed="rId1"/>
          <a:stretch/>
        </p:blipFill>
        <p:spPr>
          <a:xfrm>
            <a:off x="1285920" y="17859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0" name="Picture 3" descr="C:\Users\Анастасия\Desktop\мама\Новая папка\DSC06291.JPG"/>
          <p:cNvPicPr/>
          <p:nvPr/>
        </p:nvPicPr>
        <p:blipFill>
          <a:blip r:embed="rId2"/>
          <a:stretch/>
        </p:blipFill>
        <p:spPr>
          <a:xfrm>
            <a:off x="4572000" y="17859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1" name="Picture 4" descr="C:\Users\Анастасия\Desktop\мама\Новая папка\DSC06292.JPG"/>
          <p:cNvPicPr/>
          <p:nvPr/>
        </p:nvPicPr>
        <p:blipFill>
          <a:blip r:embed="rId3"/>
          <a:stretch/>
        </p:blipFill>
        <p:spPr>
          <a:xfrm>
            <a:off x="1285920" y="42861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2" name="Picture 5" descr="C:\Users\Анастасия\Desktop\мама\Новая папка\DSC06293.JPG"/>
          <p:cNvPicPr/>
          <p:nvPr/>
        </p:nvPicPr>
        <p:blipFill>
          <a:blip r:embed="rId4"/>
          <a:stretch/>
        </p:blipFill>
        <p:spPr>
          <a:xfrm>
            <a:off x="4572000" y="42861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Users\Анастасия\Desktop\мама\Новая папка\DSC06312.JPG"/>
          <p:cNvPicPr/>
          <p:nvPr/>
        </p:nvPicPr>
        <p:blipFill>
          <a:blip r:embed="rId1"/>
          <a:stretch/>
        </p:blipFill>
        <p:spPr>
          <a:xfrm>
            <a:off x="1071720" y="157176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5" name="Picture 3" descr="C:\Users\Анастасия\Desktop\мама\Новая папка\DSC06315.JPG"/>
          <p:cNvPicPr/>
          <p:nvPr/>
        </p:nvPicPr>
        <p:blipFill>
          <a:blip r:embed="rId2"/>
          <a:stretch/>
        </p:blipFill>
        <p:spPr>
          <a:xfrm>
            <a:off x="4572000" y="157176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6" name="Picture 4" descr="C:\Users\Анастасия\Desktop\мама\Новая папка\DSC06319.JPG"/>
          <p:cNvPicPr/>
          <p:nvPr/>
        </p:nvPicPr>
        <p:blipFill>
          <a:blip r:embed="rId3"/>
          <a:stretch/>
        </p:blipFill>
        <p:spPr>
          <a:xfrm>
            <a:off x="1071720" y="421488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7" name="Picture 5" descr="C:\Users\Анастасия\Desktop\мама\Новая папка\DSC06328.JPG"/>
          <p:cNvPicPr/>
          <p:nvPr/>
        </p:nvPicPr>
        <p:blipFill>
          <a:blip r:embed="rId4"/>
          <a:stretch/>
        </p:blipFill>
        <p:spPr>
          <a:xfrm>
            <a:off x="4572000" y="421488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3:30:00Z</dcterms:created>
  <dc:creator>Анастасия Федорова</dc:creator>
  <dc:description/>
  <dc:language>en-US</dc:language>
  <cp:lastModifiedBy>Анастасия Федорова</cp:lastModifiedBy>
  <dcterms:modified xsi:type="dcterms:W3CDTF">2015-05-04T08:42:38Z</dcterms:modified>
  <cp:revision>28</cp:revision>
  <dc:subject/>
  <dc:title>Слайд 1</dc:title>
</cp:coreProperties>
</file>