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6.png" ContentType="image/png"/>
  <Override PartName="/ppt/media/image18.png" ContentType="image/png"/>
  <Override PartName="/ppt/media/image57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36.png" ContentType="image/png"/>
  <Override PartName="/ppt/media/image44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32.png" ContentType="image/png"/>
  <Override PartName="/ppt/media/image24.jpeg" ContentType="image/jpeg"/>
  <Override PartName="/ppt/media/image16.jpeg" ContentType="image/jpeg"/>
  <Override PartName="/ppt/media/image34.png" ContentType="image/png"/>
  <Override PartName="/ppt/media/image4.png" ContentType="image/png"/>
  <Override PartName="/ppt/media/image67.png" ContentType="image/png"/>
  <Override PartName="/ppt/media/image30.png" ContentType="image/png"/>
  <Override PartName="/ppt/media/image11.png" ContentType="image/png"/>
  <Override PartName="/ppt/media/image60.png" ContentType="image/png"/>
  <Override PartName="/ppt/media/image26.jpeg" ContentType="image/jpeg"/>
  <Override PartName="/ppt/media/image42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15.png" ContentType="image/png"/>
  <Override PartName="/ppt/media/image3.png" ContentType="image/png"/>
  <Override PartName="/ppt/media/image61.jpeg" ContentType="image/jpeg"/>
  <Override PartName="/ppt/media/image38.wmf" ContentType="image/x-wmf"/>
  <Override PartName="/ppt/media/image12.png" ContentType="image/png"/>
  <Override PartName="/ppt/media/image21.jpeg" ContentType="image/jpeg"/>
  <Override PartName="/ppt/media/image65.png" ContentType="image/png"/>
  <Override PartName="/ppt/media/image4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7.png" ContentType="image/png"/>
  <Override PartName="/ppt/media/image23.jpeg" ContentType="image/jpeg"/>
  <Override PartName="/ppt/media/image8.png" ContentType="image/png"/>
  <Override PartName="/ppt/media/image7.png" ContentType="image/png"/>
  <Override PartName="/ppt/media/image41.wmf" ContentType="image/x-wmf"/>
  <Override PartName="/ppt/media/image62.jpeg" ContentType="image/jpeg"/>
  <Override PartName="/ppt/media/image1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9.wmf" ContentType="image/x-wmf"/>
  <Override PartName="/ppt/media/image43.png" ContentType="image/png"/>
  <Override PartName="/ppt/media/image48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68.png" ContentType="image/png"/>
  <Override PartName="/ppt/media/image47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737-4901-496F-AAFD-2CF2EBCBFB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ED0-DCB8-46A5-ACC3-B7B7985F6E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5C8-097A-4200-BD1B-A61F362D5D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B86-6CCF-4D8E-A782-29919C647D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A3F-579F-4C24-945E-4A8B8C9B9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7D7-9375-4E3D-8E45-A8830DD00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B90-5049-4534-A719-9314713C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1BB-BD1A-4FA3-9B1E-FF0C616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D3E-8EC5-4A0F-90CA-35B68E86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7D3-26D5-44F2-8C10-891C9591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034-6FAF-414D-850D-94D792D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407-E064-4127-BD66-32B6401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4B4-09E5-4E05-A75A-E66C7E7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0C4-0878-4D1B-AE33-B1E72B3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8E7-B82D-44A6-AF1F-BF29493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F05-3B9D-4C0F-81C4-67EE6C5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899-1BAA-4F86-9A11-446E33B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84E-310E-42D7-9974-F50744F1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4137-A562-466E-87F8-33907015C2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1.xml"/><Relationship Id="rId3" Type="http://schemas.openxmlformats.org/officeDocument/2006/relationships/image" Target="../media/image1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0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4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2666880" y="1604880"/>
            <a:ext cx="6477120" cy="3886200"/>
          </a:xfrm>
          <a:prstGeom prst="verticalScroll">
            <a:avLst>
              <a:gd name="adj" fmla="val 7217"/>
            </a:avLst>
          </a:prstGeom>
          <a:gradFill rotWithShape="0">
            <a:gsLst>
              <a:gs pos="0">
                <a:srgbClr val="987a5c"/>
              </a:gs>
              <a:gs pos="50000">
                <a:srgbClr val="ffcc99"/>
              </a:gs>
              <a:gs pos="100000">
                <a:srgbClr val="987a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4" descr="C:\WINDOWS\Рабочий стол\Преподавание\1-ые слайды презентации\Рис для презентации\рожицa_5.jpg"/>
          <p:cNvPicPr/>
          <p:nvPr/>
        </p:nvPicPr>
        <p:blipFill>
          <a:blip r:embed="rId1"/>
          <a:stretch/>
        </p:blipFill>
        <p:spPr>
          <a:xfrm>
            <a:off x="6189840" y="196920"/>
            <a:ext cx="936360" cy="154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WINDOWS\Рабочий стол\Преподавание\1-ые слайды презентации\Рис для презентации\рожицa_4.jpg"/>
          <p:cNvPicPr/>
          <p:nvPr/>
        </p:nvPicPr>
        <p:blipFill>
          <a:blip r:embed="rId2"/>
          <a:stretch/>
        </p:blipFill>
        <p:spPr>
          <a:xfrm>
            <a:off x="7704000" y="5454720"/>
            <a:ext cx="1086120" cy="146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WINDOWS\Рабочий стол\Risssssssss\Резерв_отнесла\Рамки\Рамки\негр-указывает.jpg"/>
          <p:cNvPicPr/>
          <p:nvPr/>
        </p:nvPicPr>
        <p:blipFill>
          <a:blip r:embed="rId3"/>
          <a:stretch/>
        </p:blipFill>
        <p:spPr>
          <a:xfrm>
            <a:off x="-152280" y="1488960"/>
            <a:ext cx="4038480" cy="525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733920" y="2540160"/>
            <a:ext cx="5410080" cy="113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Она обучит, как  с помощью  программы  </a:t>
            </a:r>
            <a:br>
              <a:rPr sz="1700"/>
            </a:br>
            <a:r>
              <a:rPr b="0" lang="en-US" sz="1700" spc="-1" strike="noStrike">
                <a:solidFill>
                  <a:srgbClr val="663300"/>
                </a:solidFill>
                <a:latin typeface="Comic Sans MS"/>
              </a:rPr>
              <a:t>PowerPoint 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создать  презентацию,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правильно  изложив  в  ней  содержание  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своей  темы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86200" y="2006640"/>
            <a:ext cx="44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2200"/>
                </a:solidFill>
                <a:latin typeface="Comic Sans MS"/>
              </a:rPr>
              <a:t>Данная  презентация - обучающа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352680" y="3774960"/>
            <a:ext cx="5410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Для  этого  нужно  знать 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требования  </a:t>
            </a:r>
            <a:r>
              <a:rPr b="1" lang="ru-RU" sz="1700" spc="-1" strike="noStrike" u="sng">
                <a:solidFill>
                  <a:srgbClr val="663300"/>
                </a:solidFill>
                <a:uFillTx/>
                <a:latin typeface="Comic Sans MS"/>
              </a:rPr>
              <a:t>дизайна</a:t>
            </a:r>
            <a:r>
              <a:rPr b="1" lang="ru-RU" sz="1700" spc="-1" strike="noStrike">
                <a:solidFill>
                  <a:srgbClr val="663300"/>
                </a:solidFill>
                <a:latin typeface="Comic Sans MS"/>
              </a:rPr>
              <a:t>  и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 требования  к  </a:t>
            </a:r>
            <a:br>
              <a:rPr sz="1700"/>
            </a:br>
            <a:r>
              <a:rPr b="1" lang="ru-RU" sz="1700" spc="-1" strike="noStrike" u="sng">
                <a:solidFill>
                  <a:srgbClr val="663300"/>
                </a:solidFill>
                <a:uFillTx/>
                <a:latin typeface="Comic Sans MS"/>
              </a:rPr>
              <a:t>представлению  информации  на  экране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  компьюте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WINDOWS\Рабочий стол\Преподавание\1-ые слайды презентации\Рис для презентации\рожицa_2.jpg"/>
          <p:cNvPicPr/>
          <p:nvPr/>
        </p:nvPicPr>
        <p:blipFill>
          <a:blip r:embed="rId4"/>
          <a:stretch/>
        </p:blipFill>
        <p:spPr>
          <a:xfrm>
            <a:off x="4371840" y="281160"/>
            <a:ext cx="1076400" cy="14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C:\WINDOWS\Рабочий стол\Преподавание\1-ые слайды презентации\Рис для презентации\рожицa_3.jpg"/>
          <p:cNvPicPr/>
          <p:nvPr/>
        </p:nvPicPr>
        <p:blipFill>
          <a:blip r:embed="rId5"/>
          <a:stretch/>
        </p:blipFill>
        <p:spPr>
          <a:xfrm>
            <a:off x="7473960" y="27000"/>
            <a:ext cx="1025640" cy="169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WINDOWS\Рабочий стол\Преподавание\1-ые слайды презентации\Рис для презентации\рожицa_1.jpg"/>
          <p:cNvPicPr/>
          <p:nvPr/>
        </p:nvPicPr>
        <p:blipFill>
          <a:blip r:embed="rId6"/>
          <a:stretch/>
        </p:blipFill>
        <p:spPr>
          <a:xfrm>
            <a:off x="5076720" y="187200"/>
            <a:ext cx="122076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WINDOWS\Рабочий стол\Преподавание\1-ые слайды презентации\Рис для презентации\рожицa_4.jpg"/>
          <p:cNvPicPr/>
          <p:nvPr/>
        </p:nvPicPr>
        <p:blipFill>
          <a:blip r:embed="rId7"/>
          <a:stretch/>
        </p:blipFill>
        <p:spPr>
          <a:xfrm>
            <a:off x="3314880" y="291960"/>
            <a:ext cx="1085760" cy="146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C:\WINDOWS\Рабочий стол\Преподавание\1-ые слайды презентации\Рис для презентации\рожицa_3.jpg"/>
          <p:cNvPicPr/>
          <p:nvPr/>
        </p:nvPicPr>
        <p:blipFill>
          <a:blip r:embed="rId8"/>
          <a:stretch/>
        </p:blipFill>
        <p:spPr>
          <a:xfrm>
            <a:off x="3871800" y="5216400"/>
            <a:ext cx="102564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6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1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074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огда  допускаются  исключ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077"/>
          <p:cNvSpPr/>
          <p:nvPr/>
        </p:nvSpPr>
        <p:spPr>
          <a:xfrm>
            <a:off x="228600" y="914400"/>
            <a:ext cx="3962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ногда  </a:t>
            </a:r>
            <a:r>
              <a:rPr b="1" i="1" lang="ru-RU" sz="1500" spc="-1" strike="noStrike">
                <a:solidFill>
                  <a:srgbClr val="660033"/>
                </a:solidFill>
                <a:latin typeface="Arial"/>
              </a:rPr>
              <a:t>допускаются  изменени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ыбранного стиля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пример, изменяют  цвет  шрифта, если на данном  слайде  текст  располагается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верх картинки, фон которой сливается с цветом шрифта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бранного стил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078" descr="C:\WINDOWS\Рабочий стол\Преподавание\1-ые слайды презентации\Рис для презентации\стили.jpg"/>
          <p:cNvPicPr/>
          <p:nvPr/>
        </p:nvPicPr>
        <p:blipFill>
          <a:blip r:embed="rId1"/>
          <a:stretch/>
        </p:blipFill>
        <p:spPr>
          <a:xfrm>
            <a:off x="4572000" y="2266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3083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086"/>
          <p:cNvSpPr/>
          <p:nvPr/>
        </p:nvSpPr>
        <p:spPr>
          <a:xfrm>
            <a:off x="609480" y="4038480"/>
            <a:ext cx="3353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лю  картинку на голубом  фоне. 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87"/>
          <p:cNvSpPr/>
          <p:nvPr/>
        </p:nvSpPr>
        <p:spPr>
          <a:xfrm flipV="1">
            <a:off x="3809880" y="411480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80"/>
          <p:cNvSpPr/>
          <p:nvPr/>
        </p:nvSpPr>
        <p:spPr>
          <a:xfrm>
            <a:off x="5181480" y="33685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пределяется  как  разница  между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выручкой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и 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издержками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3088"/>
          <p:cNvSpPr txBox="1"/>
          <p:nvPr/>
        </p:nvSpPr>
        <p:spPr>
          <a:xfrm>
            <a:off x="5257800" y="2971800"/>
            <a:ext cx="33321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52300" dir="4563564" blurRad="0" rotWithShape="0">
                    <a:srgbClr val="800000"/>
                  </a:outerShdw>
                </a:effectLst>
                <a:latin typeface="Impact"/>
              </a:rPr>
              <a:t>Что  такое  прибыль?</a:t>
            </a:r>
            <a:endParaRPr b="0" lang="en-US" sz="2400" spc="1" strike="noStrike">
              <a:ln w="324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52300" dir="4563564" blurRad="0" rotWithShape="0">
                  <a:srgbClr val="80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486400" y="4648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Фон  лучше  установить  сразу,  причем одинаковый  для  всех слайдов,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чтобы  фон  стал объединяющей  основой    для  всех  слайдов   презентации.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Иногда  для  некоторых  слайдов  по  необходимости  делают  исключение.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Фон  лучше  брать не  пёстрый  (не «рябой»),  нейтральных  тон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467480" y="2209680"/>
            <a:ext cx="1600200" cy="1371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467480" y="5105520"/>
            <a:ext cx="1600200" cy="1371600"/>
          </a:xfrm>
          <a:prstGeom prst="rect">
            <a:avLst/>
          </a:prstGeom>
          <a:gradFill rotWithShape="0">
            <a:gsLst>
              <a:gs pos="0">
                <a:srgbClr val="561d00"/>
              </a:gs>
              <a:gs pos="50000">
                <a:srgbClr val="993300"/>
              </a:gs>
              <a:gs pos="100000">
                <a:srgbClr val="561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467480" y="3657600"/>
            <a:ext cx="1600200" cy="137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52280" y="5165640"/>
            <a:ext cx="160020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52280" y="2422440"/>
            <a:ext cx="16002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52280" y="3809880"/>
            <a:ext cx="160020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828800" y="5165640"/>
            <a:ext cx="1600200" cy="121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828800" y="3809880"/>
            <a:ext cx="1600200" cy="129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828800" y="2422440"/>
            <a:ext cx="1600200" cy="129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9"/>
          <p:cNvGrpSpPr/>
          <p:nvPr/>
        </p:nvGrpSpPr>
        <p:grpSpPr>
          <a:xfrm>
            <a:off x="3580920" y="3108240"/>
            <a:ext cx="5563080" cy="1265760"/>
            <a:chOff x="3580920" y="3108240"/>
            <a:chExt cx="5563080" cy="1265760"/>
          </a:xfrm>
        </p:grpSpPr>
        <p:sp>
          <p:nvSpPr>
            <p:cNvPr id="184" name="Text Box 15"/>
            <p:cNvSpPr/>
            <p:nvPr/>
          </p:nvSpPr>
          <p:spPr>
            <a:xfrm>
              <a:off x="3962520" y="3108240"/>
              <a:ext cx="518148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Так, нажав  меню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«</a:t>
              </a:r>
              <a:r>
                <a:rPr b="1" i="1" lang="ru-RU" sz="1400" spc="-1" strike="noStrike">
                  <a:solidFill>
                    <a:srgbClr val="660033"/>
                  </a:solidFill>
                  <a:latin typeface="Arial"/>
                </a:rPr>
                <a:t>Формат--Фон--Способы заливки»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можно  выбрать 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660033"/>
                  </a:solidFill>
                  <a:latin typeface="Arial"/>
                </a:rPr>
                <a:t>текстуру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для  фона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или  </a:t>
              </a:r>
              <a:r>
                <a:rPr b="1" lang="ru-RU" sz="1400" spc="-1" strike="noStrike">
                  <a:solidFill>
                    <a:srgbClr val="660033"/>
                  </a:solidFill>
                  <a:latin typeface="Arial"/>
                </a:rPr>
                <a:t>градиентную  заливк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 flipH="1">
              <a:off x="3580920" y="4022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705720" y="4251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8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умайте, каким  будет  </a:t>
            </a:r>
            <a:r>
              <a:rPr b="1" lang="ru-RU" sz="2400" spc="-1" strike="noStrike">
                <a:solidFill>
                  <a:srgbClr val="993300"/>
                </a:solidFill>
                <a:latin typeface="Arial Black"/>
              </a:rPr>
              <a:t>фон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итабельность    тек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320" y="609480"/>
            <a:ext cx="9067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- при подборе  стилей  для текста  слайда  нужно  руководствоваться  основным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ребованием  к тексту - читабельностью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о есть текст должен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четко, ясно  выделятьс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на  фоне  слайд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C:\WINDOWS\Рабочий стол\Преподавание\1-ые слайды презентации\Рис для презентации\стили.jpg"/>
          <p:cNvPicPr/>
          <p:nvPr/>
        </p:nvPicPr>
        <p:blipFill>
          <a:blip r:embed="rId1"/>
          <a:stretch/>
        </p:blipFill>
        <p:spPr>
          <a:xfrm>
            <a:off x="4572000" y="2266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5334120" y="2895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Что  такое  прибы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181480" y="33685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Определяется  как  разница  между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ыручкой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 и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здержками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52280" y="1508040"/>
            <a:ext cx="899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не допускаетс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применять  такие  цвета  для  шрифтов,  при  которых текст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итается  лишь  при  пристальном  разглядывании, почти сливается с фоном, выглядит  тускло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57200" y="3048120"/>
            <a:ext cx="358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авильно  ли  оформлен  данный слайд?   Почему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3809880" y="3200400"/>
            <a:ext cx="15242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Ш Р И Ф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320" y="609480"/>
            <a:ext cx="906768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ТИП  ШРИФТА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Для заголовков  лучше использовать  шрифт  Arial - рубленный, без засечек - четкий ясный в небольших текстовых блока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По умолчанию текст печатается шрифто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Times New Roman </a:t>
            </a:r>
            <a:r>
              <a:rPr b="0" lang="en-US" sz="1600" spc="-1" strike="noStrike">
                <a:solidFill>
                  <a:srgbClr val="660033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шрифт с засечками, его используют в больших текстовых блоках, так как засечки как бы цепляют буква за буквой и помогают бегло читать текс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РАЗМЕР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- в блоках поясняющего текста применяйте размер 16-24  пт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спользуйте шрифт одной гарнитуры-семейства. Например, Arial выбрали, значит разнообразия достигайте за счет  применения его нормального начертания, курсива, жирного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стати, курсив  воспринимается  сложнее.  Не следует его применять для выделения самых важных мыслей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541840" y="4651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Что  такое  прибы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89560" y="51246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Определяется  как  разница  между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ыручкой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 и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здержками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52280" y="76320"/>
            <a:ext cx="899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адание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:  </a:t>
            </a:r>
            <a:r>
              <a:rPr b="1" lang="ru-RU" sz="2500" spc="-1" strike="noStrike">
                <a:solidFill>
                  <a:srgbClr val="993300"/>
                </a:solidFill>
                <a:latin typeface="Arial"/>
              </a:rPr>
              <a:t>оформление  заголовка  и  основного  текс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52280" y="685800"/>
            <a:ext cx="8839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1. Наберите  текст  для  одного  слайда  своей  презентации  (не  титульного)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разместив  текст  заголовка  и основного текста  в  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отдельных  текстовых  блоках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1500"/>
            </a:b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(то есть применяя  инструмент «Надпись» отдельно  для заголовка и для основного текс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315200" y="5867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ля титульного листа применяют особое оформление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см. далее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743200" y="1523880"/>
            <a:ext cx="6400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2. Затем  подберите  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стил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для  заголовка  и  основного  текста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то есть выберите желаемый размер, цвет, начертание и пр.)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ля этого  выделите текст и нажмите меню  «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Формат - Шриф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1828800" y="2438280"/>
            <a:ext cx="5410080" cy="4572000"/>
            <a:chOff x="1828800" y="2438280"/>
            <a:chExt cx="5410080" cy="4572000"/>
          </a:xfrm>
        </p:grpSpPr>
        <p:pic>
          <p:nvPicPr>
            <p:cNvPr id="205" name="Picture 18" descr="C:\WINDOWS\Рабочий стол\Преподавание\1-ые слайды презентации\Рис для презентации\стили._экран.jpg"/>
            <p:cNvPicPr/>
            <p:nvPr/>
          </p:nvPicPr>
          <p:blipFill>
            <a:blip r:embed="rId1"/>
            <a:stretch/>
          </p:blipFill>
          <p:spPr>
            <a:xfrm>
              <a:off x="1828800" y="2438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19"/>
            <p:cNvGrpSpPr/>
            <p:nvPr/>
          </p:nvGrpSpPr>
          <p:grpSpPr>
            <a:xfrm>
              <a:off x="2333160" y="3187440"/>
              <a:ext cx="4473360" cy="3372840"/>
              <a:chOff x="2333160" y="3187440"/>
              <a:chExt cx="4473360" cy="337284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2333160" y="3187440"/>
                <a:ext cx="4399920" cy="3372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cc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>
                <a:off x="2477520" y="4161600"/>
                <a:ext cx="43290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тиль  основного  текста.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В  нём  могут выделяться  особым образом ключевые  «</a:t>
                </a:r>
                <a:r>
                  <a:rPr b="1" i="1" lang="ru-RU" sz="1500" spc="-1" strike="noStrike">
                    <a:solidFill>
                      <a:srgbClr val="333399"/>
                    </a:solidFill>
                    <a:latin typeface="Arial"/>
                  </a:rPr>
                  <a:t>важные»  </a:t>
                </a: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лов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WordArt 17"/>
              <p:cNvSpPr txBox="1"/>
              <p:nvPr/>
            </p:nvSpPr>
            <p:spPr>
              <a:xfrm>
                <a:off x="2621520" y="3487320"/>
                <a:ext cx="3822840" cy="29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23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3240">
                      <a:solidFill>
                        <a:srgbClr val="333399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800000"/>
                      </a:outerShdw>
                    </a:effectLst>
                    <a:latin typeface="Impact"/>
                  </a:rPr>
                  <a:t>Стиль  заголовка</a:t>
                </a:r>
                <a:endParaRPr b="0" lang="en-US" sz="2400" spc="1" strike="noStrike">
                  <a:ln w="3240">
                    <a:solidFill>
                      <a:srgbClr val="333399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grpSp>
        <p:nvGrpSpPr>
          <p:cNvPr id="210" name="Group 22"/>
          <p:cNvGrpSpPr/>
          <p:nvPr/>
        </p:nvGrpSpPr>
        <p:grpSpPr>
          <a:xfrm>
            <a:off x="6552720" y="3429000"/>
            <a:ext cx="2591280" cy="778680"/>
            <a:chOff x="6552720" y="3429000"/>
            <a:chExt cx="2591280" cy="778680"/>
          </a:xfrm>
        </p:grpSpPr>
        <p:sp>
          <p:nvSpPr>
            <p:cNvPr id="211" name="Rectangle 10"/>
            <p:cNvSpPr/>
            <p:nvPr/>
          </p:nvSpPr>
          <p:spPr>
            <a:xfrm>
              <a:off x="7315200" y="3429000"/>
              <a:ext cx="18288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  конце  заголовка  точка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е  ставится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21"/>
            <p:cNvSpPr/>
            <p:nvPr/>
          </p:nvSpPr>
          <p:spPr>
            <a:xfrm flipH="1">
              <a:off x="6552720" y="3657600"/>
              <a:ext cx="762120" cy="152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914400" y="152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легчите  свою  работ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280" y="685800"/>
            <a:ext cx="883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так, Вы  на одном  слайде  «настроили»  свои  стили  для  текста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бы   получить  такое же  оформление  текста  на других слайдах, не обязательно опять  повторять  все  операции  (вызывая  меню «Формат - Шрифт»  и  далее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3276720" y="2286000"/>
            <a:ext cx="5410080" cy="4572000"/>
            <a:chOff x="3276720" y="2286000"/>
            <a:chExt cx="5410080" cy="4572000"/>
          </a:xfrm>
        </p:grpSpPr>
        <p:pic>
          <p:nvPicPr>
            <p:cNvPr id="216" name="Picture 25" descr="C:\WINDOWS\Рабочий стол\Преподавание\1-ые слайды презентации\Рис для презентации\стили._экран.jpg"/>
            <p:cNvPicPr/>
            <p:nvPr/>
          </p:nvPicPr>
          <p:blipFill>
            <a:blip r:embed="rId1"/>
            <a:stretch/>
          </p:blipFill>
          <p:spPr>
            <a:xfrm>
              <a:off x="3276720" y="228600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oup 26"/>
            <p:cNvGrpSpPr/>
            <p:nvPr/>
          </p:nvGrpSpPr>
          <p:grpSpPr>
            <a:xfrm>
              <a:off x="3781080" y="3035160"/>
              <a:ext cx="4473360" cy="3372840"/>
              <a:chOff x="3781080" y="3035160"/>
              <a:chExt cx="4473360" cy="3372840"/>
            </a:xfrm>
          </p:grpSpPr>
          <p:sp>
            <p:nvSpPr>
              <p:cNvPr id="218" name="Rectangle 27"/>
              <p:cNvSpPr/>
              <p:nvPr/>
            </p:nvSpPr>
            <p:spPr>
              <a:xfrm>
                <a:off x="3781080" y="3035160"/>
                <a:ext cx="4399920" cy="3372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cc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28"/>
              <p:cNvSpPr/>
              <p:nvPr/>
            </p:nvSpPr>
            <p:spPr>
              <a:xfrm>
                <a:off x="3925440" y="4009320"/>
                <a:ext cx="43290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тиль  основного  текста.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В  нём  могут выделяться  особым образом ключевые  «</a:t>
                </a:r>
                <a:r>
                  <a:rPr b="1" i="1" lang="ru-RU" sz="1500" spc="-1" strike="noStrike">
                    <a:solidFill>
                      <a:srgbClr val="333399"/>
                    </a:solidFill>
                    <a:latin typeface="Arial"/>
                  </a:rPr>
                  <a:t>важные»  </a:t>
                </a: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лов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WordArt 29"/>
              <p:cNvSpPr txBox="1"/>
              <p:nvPr/>
            </p:nvSpPr>
            <p:spPr>
              <a:xfrm>
                <a:off x="4069440" y="3335040"/>
                <a:ext cx="3822840" cy="29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23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3240">
                      <a:solidFill>
                        <a:srgbClr val="333399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800000"/>
                      </a:outerShdw>
                    </a:effectLst>
                    <a:latin typeface="Impact"/>
                  </a:rPr>
                  <a:t>Стиль  заголовка</a:t>
                </a:r>
                <a:endParaRPr b="0" lang="en-US" sz="2400" spc="1" strike="noStrike">
                  <a:ln w="3240">
                    <a:solidFill>
                      <a:srgbClr val="333399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pic>
        <p:nvPicPr>
          <p:cNvPr id="221" name="Picture 12" descr="C:\WINDOWS\Рабочий стол\Преподавание\1-ые слайды презентации\Рис для презентации\кнопка-метла.jpg"/>
          <p:cNvPicPr/>
          <p:nvPr/>
        </p:nvPicPr>
        <p:blipFill>
          <a:blip r:embed="rId3"/>
          <a:stretch/>
        </p:blipFill>
        <p:spPr>
          <a:xfrm>
            <a:off x="6400800" y="4127400"/>
            <a:ext cx="304920" cy="2923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grpSp>
        <p:nvGrpSpPr>
          <p:cNvPr id="222" name="Group 30"/>
          <p:cNvGrpSpPr/>
          <p:nvPr/>
        </p:nvGrpSpPr>
        <p:grpSpPr>
          <a:xfrm>
            <a:off x="76320" y="2362320"/>
            <a:ext cx="3657600" cy="2505600"/>
            <a:chOff x="76320" y="2362320"/>
            <a:chExt cx="3657600" cy="2505600"/>
          </a:xfrm>
        </p:grpSpPr>
        <p:sp>
          <p:nvSpPr>
            <p:cNvPr id="223" name="Text Box 11"/>
            <p:cNvSpPr/>
            <p:nvPr/>
          </p:nvSpPr>
          <p:spPr>
            <a:xfrm>
              <a:off x="76320" y="2362320"/>
              <a:ext cx="365760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остаточно  просто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) нажать  кнопку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 «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Формат  по  образцу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» 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) щелкнуть  в  образец  - в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оформленный по Вашему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вкусу текст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3) провести мышкой по другому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тексту, который нужно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оформить  в том  же стиле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Picture 10" descr="C:\WINDOWS\Рабочий стол\Преподавание\1-ые слайды презентации\Рис для презентации\кнопка-метла.jpg"/>
            <p:cNvPicPr/>
            <p:nvPr/>
          </p:nvPicPr>
          <p:blipFill>
            <a:blip r:embed="rId4"/>
            <a:stretch/>
          </p:blipFill>
          <p:spPr>
            <a:xfrm>
              <a:off x="2667240" y="2743200"/>
              <a:ext cx="380880" cy="32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1219320"/>
            <a:ext cx="35049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а  нём нужно поместить  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название  темы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вашего  проекта.</a:t>
            </a:r>
            <a:r>
              <a:rPr b="0" lang="ru-RU" sz="17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1"/>
          <p:cNvGrpSpPr/>
          <p:nvPr/>
        </p:nvGrpSpPr>
        <p:grpSpPr>
          <a:xfrm>
            <a:off x="152280" y="0"/>
            <a:ext cx="7162920" cy="1037880"/>
            <a:chOff x="152280" y="0"/>
            <a:chExt cx="7162920" cy="1037880"/>
          </a:xfrm>
        </p:grpSpPr>
        <p:sp>
          <p:nvSpPr>
            <p:cNvPr id="227" name="Text Box 4"/>
            <p:cNvSpPr/>
            <p:nvPr/>
          </p:nvSpPr>
          <p:spPr>
            <a:xfrm>
              <a:off x="1587600" y="0"/>
              <a:ext cx="57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Оформление  титульного  слайда  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-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"/>
            <p:cNvSpPr/>
            <p:nvPr/>
          </p:nvSpPr>
          <p:spPr>
            <a:xfrm>
              <a:off x="152280" y="457200"/>
              <a:ext cx="388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это  первый  лист, «лицо»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Вашей работы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6"/>
          <p:cNvGrpSpPr/>
          <p:nvPr/>
        </p:nvGrpSpPr>
        <p:grpSpPr>
          <a:xfrm>
            <a:off x="-76320" y="609480"/>
            <a:ext cx="9220320" cy="6096240"/>
            <a:chOff x="-76320" y="609480"/>
            <a:chExt cx="9220320" cy="6096240"/>
          </a:xfrm>
        </p:grpSpPr>
        <p:grpSp>
          <p:nvGrpSpPr>
            <p:cNvPr id="230" name="Group 7"/>
            <p:cNvGrpSpPr/>
            <p:nvPr/>
          </p:nvGrpSpPr>
          <p:grpSpPr>
            <a:xfrm>
              <a:off x="-76320" y="609480"/>
              <a:ext cx="9220320" cy="6096240"/>
              <a:chOff x="-76320" y="609480"/>
              <a:chExt cx="9220320" cy="6096240"/>
            </a:xfrm>
          </p:grpSpPr>
          <p:grpSp>
            <p:nvGrpSpPr>
              <p:cNvPr id="231" name="Group 8"/>
              <p:cNvGrpSpPr/>
              <p:nvPr/>
            </p:nvGrpSpPr>
            <p:grpSpPr>
              <a:xfrm>
                <a:off x="-76320" y="609480"/>
                <a:ext cx="9220320" cy="6096240"/>
                <a:chOff x="-76320" y="609480"/>
                <a:chExt cx="9220320" cy="6096240"/>
              </a:xfrm>
            </p:grpSpPr>
            <p:grpSp>
              <p:nvGrpSpPr>
                <p:cNvPr id="232" name="Group 9"/>
                <p:cNvGrpSpPr/>
                <p:nvPr/>
              </p:nvGrpSpPr>
              <p:grpSpPr>
                <a:xfrm>
                  <a:off x="-76320" y="4114800"/>
                  <a:ext cx="9144000" cy="2590920"/>
                  <a:chOff x="-76320" y="4114800"/>
                  <a:chExt cx="9144000" cy="2590920"/>
                </a:xfrm>
              </p:grpSpPr>
              <p:sp>
                <p:nvSpPr>
                  <p:cNvPr id="233" name="AutoShape 10"/>
                  <p:cNvSpPr/>
                  <p:nvPr/>
                </p:nvSpPr>
                <p:spPr>
                  <a:xfrm>
                    <a:off x="380880" y="4114800"/>
                    <a:ext cx="8686800" cy="2590920"/>
                  </a:xfrm>
                  <a:prstGeom prst="roundRect">
                    <a:avLst>
                      <a:gd name="adj" fmla="val 7056"/>
                    </a:avLst>
                  </a:prstGeom>
                  <a:gradFill rotWithShape="0">
                    <a:gsLst>
                      <a:gs pos="0">
                        <a:srgbClr val="765e2f"/>
                      </a:gs>
                      <a:gs pos="50000">
                        <a:srgbClr val="ffcc66"/>
                      </a:gs>
                      <a:gs pos="100000">
                        <a:srgbClr val="765e2f"/>
                      </a:gs>
                    </a:gsLst>
                    <a:lin ang="5400000"/>
                  </a:gradFill>
                  <a:ln w="9360">
                    <a:solidFill>
                      <a:srgbClr val="663300"/>
                    </a:solidFill>
                    <a:miter/>
                  </a:ln>
                  <a:effectLst>
                    <a:outerShdw dist="89604" dir="2700000" blurRad="0" rotWithShape="0">
                      <a:srgbClr val="66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WordArt 11"/>
                  <p:cNvSpPr txBox="1"/>
                  <p:nvPr/>
                </p:nvSpPr>
                <p:spPr>
                  <a:xfrm>
                    <a:off x="-76320" y="4419720"/>
                    <a:ext cx="8610480" cy="1904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CascadeUp">
                      <a:avLst>
                        <a:gd name="adj" fmla="val 44444"/>
                      </a:avLst>
                    </a:prstTxWarp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e701"/>
                            </a:gs>
                            <a:gs pos="100000">
                              <a:srgbClr val="fe3e02"/>
                            </a:gs>
                          </a:gsLst>
                          <a:lin ang="5400000"/>
                        </a:gradFill>
                        <a:latin typeface="Impact"/>
                      </a:rPr>
                      <a:t>История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e701"/>
                            </a:gs>
                            <a:gs pos="100000">
                              <a:srgbClr val="fe3e02"/>
                            </a:gs>
                          </a:gsLst>
                          <a:lin ang="5400000"/>
                        </a:gradFill>
                        <a:latin typeface="Impact"/>
                      </a:rPr>
                      <a:t>ИНФОРМАЦИОННЫХ ТЕХНОЛОГИЙ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Impact"/>
                      <a:ea typeface="Impact"/>
                    </a:endParaRPr>
                  </a:p>
                </p:txBody>
              </p:sp>
            </p:grpSp>
            <p:grpSp>
              <p:nvGrpSpPr>
                <p:cNvPr id="235" name="Group 12"/>
                <p:cNvGrpSpPr/>
                <p:nvPr/>
              </p:nvGrpSpPr>
              <p:grpSpPr>
                <a:xfrm>
                  <a:off x="3200400" y="609480"/>
                  <a:ext cx="5943600" cy="3276720"/>
                  <a:chOff x="3200400" y="609480"/>
                  <a:chExt cx="5943600" cy="3276720"/>
                </a:xfrm>
              </p:grpSpPr>
              <p:sp>
                <p:nvSpPr>
                  <p:cNvPr id="236" name="AutoShape 13"/>
                  <p:cNvSpPr/>
                  <p:nvPr/>
                </p:nvSpPr>
                <p:spPr>
                  <a:xfrm>
                    <a:off x="3657600" y="609480"/>
                    <a:ext cx="5486400" cy="3276720"/>
                  </a:xfrm>
                  <a:prstGeom prst="roundRect">
                    <a:avLst>
                      <a:gd name="adj" fmla="val 658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n w="9360">
                    <a:solidFill>
                      <a:srgbClr val="969696"/>
                    </a:solidFill>
                    <a:miter/>
                  </a:ln>
                  <a:effectLst>
                    <a:outerShdw dist="91658" dir="201765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WordArt 14"/>
                  <p:cNvSpPr txBox="1"/>
                  <p:nvPr/>
                </p:nvSpPr>
                <p:spPr>
                  <a:xfrm>
                    <a:off x="3200400" y="838080"/>
                    <a:ext cx="5790960" cy="2743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DeflateBottom">
                      <a:avLst>
                        <a:gd name="adj" fmla="val 73148"/>
                      </a:avLst>
                    </a:prstTxWarp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История  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ИНФОРМАЦИОННЫХ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ТЕХНОЛОГИЙ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</p:txBody>
              </p:sp>
            </p:grpSp>
          </p:grpSp>
          <p:grpSp>
            <p:nvGrpSpPr>
              <p:cNvPr id="238" name="Group 15"/>
              <p:cNvGrpSpPr/>
              <p:nvPr/>
            </p:nvGrpSpPr>
            <p:grpSpPr>
              <a:xfrm>
                <a:off x="2590560" y="2666880"/>
                <a:ext cx="914400" cy="1295640"/>
                <a:chOff x="2590560" y="2666880"/>
                <a:chExt cx="914400" cy="1295640"/>
              </a:xfrm>
            </p:grpSpPr>
            <p:sp>
              <p:nvSpPr>
                <p:cNvPr id="239" name="Line 16"/>
                <p:cNvSpPr/>
                <p:nvPr/>
              </p:nvSpPr>
              <p:spPr>
                <a:xfrm>
                  <a:off x="2590560" y="2666880"/>
                  <a:ext cx="914400" cy="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7"/>
                <p:cNvSpPr/>
                <p:nvPr/>
              </p:nvSpPr>
              <p:spPr>
                <a:xfrm>
                  <a:off x="2590560" y="2666880"/>
                  <a:ext cx="533520" cy="129564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Group 18"/>
            <p:cNvGrpSpPr/>
            <p:nvPr/>
          </p:nvGrpSpPr>
          <p:grpSpPr>
            <a:xfrm>
              <a:off x="152280" y="2514600"/>
              <a:ext cx="4038480" cy="1463400"/>
              <a:chOff x="152280" y="2514600"/>
              <a:chExt cx="4038480" cy="1463400"/>
            </a:xfrm>
          </p:grpSpPr>
          <p:sp>
            <p:nvSpPr>
              <p:cNvPr id="242" name="Text Box 19"/>
              <p:cNvSpPr/>
              <p:nvPr/>
            </p:nvSpPr>
            <p:spPr>
              <a:xfrm>
                <a:off x="152280" y="2514600"/>
                <a:ext cx="403848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Это  примеры  названий, 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оформленных  с 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помощью  «Word Art»  </a:t>
                </a:r>
                <a:br>
                  <a:rPr sz="16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(</a:t>
                </a: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для её вызова </a:t>
                </a:r>
                <a:br>
                  <a:rPr sz="1400"/>
                </a:b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нажмите кнопку  </a:t>
                </a:r>
                <a:br>
                  <a:rPr sz="1400"/>
                </a:b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на панели  «Рисование»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3" name="Picture 20" descr="C:\WINDOWS\Рабочий стол\Преподавание\1-ые слайды презентации\A.jpg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467160"/>
                <a:ext cx="295200" cy="266760"/>
              </a:xfrm>
              <a:prstGeom prst="rect">
                <a:avLst/>
              </a:prstGeom>
              <a:ln w="0">
                <a:noFill/>
              </a:ln>
              <a:effectLst>
                <a:outerShdw dist="50760" dir="0" blurRad="0" rotWithShape="0">
                  <a:srgbClr val="808080"/>
                </a:outerShdw>
              </a:effectLst>
            </p:spPr>
          </p:pic>
        </p:grpSp>
      </p:grpSp>
    </p:spTree>
  </p:cSld>
  <p:transition spd="med"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-380880" y="0"/>
            <a:ext cx="8610120" cy="810360"/>
            <a:chOff x="-380880" y="0"/>
            <a:chExt cx="8610120" cy="810360"/>
          </a:xfrm>
        </p:grpSpPr>
        <p:sp>
          <p:nvSpPr>
            <p:cNvPr id="245" name="Text Box 4"/>
            <p:cNvSpPr/>
            <p:nvPr/>
          </p:nvSpPr>
          <p:spPr>
            <a:xfrm>
              <a:off x="969480" y="0"/>
              <a:ext cx="725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Задание: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оформите  титульный  слай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5"/>
            <p:cNvSpPr/>
            <p:nvPr/>
          </p:nvSpPr>
          <p:spPr>
            <a:xfrm>
              <a:off x="-380880" y="457200"/>
              <a:ext cx="3798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22"/>
          <p:cNvSpPr/>
          <p:nvPr/>
        </p:nvSpPr>
        <p:spPr>
          <a:xfrm>
            <a:off x="2438280" y="1676520"/>
            <a:ext cx="65534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886200" y="1905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Разработка  урока 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6320" y="53352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1. Установите на  титульном  слайде  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он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(если  он  ещё  не установлен) 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Заливку  фона  выберите  текстурную  или  градиентну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172200" y="579132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Выполнила:</a:t>
            </a:r>
            <a:br>
              <a:rPr sz="1400"/>
            </a:b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студентка 2 гр. 4 курса ФТЭП</a:t>
            </a:r>
            <a:br>
              <a:rPr sz="1400"/>
            </a:b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Иванова Л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3124080" y="2895480"/>
            <a:ext cx="5334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сновные  понят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к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2" name="Group 36"/>
          <p:cNvGrpSpPr/>
          <p:nvPr/>
        </p:nvGrpSpPr>
        <p:grpSpPr>
          <a:xfrm>
            <a:off x="152280" y="4723920"/>
            <a:ext cx="3200400" cy="1251360"/>
            <a:chOff x="152280" y="4723920"/>
            <a:chExt cx="3200400" cy="1251360"/>
          </a:xfrm>
        </p:grpSpPr>
        <p:grpSp>
          <p:nvGrpSpPr>
            <p:cNvPr id="253" name="Group 31"/>
            <p:cNvGrpSpPr/>
            <p:nvPr/>
          </p:nvGrpSpPr>
          <p:grpSpPr>
            <a:xfrm>
              <a:off x="152280" y="4878360"/>
              <a:ext cx="2133720" cy="1096920"/>
              <a:chOff x="152280" y="4878360"/>
              <a:chExt cx="2133720" cy="1096920"/>
            </a:xfrm>
          </p:grpSpPr>
          <p:sp>
            <p:nvSpPr>
              <p:cNvPr id="254" name="Text Box 26"/>
              <p:cNvSpPr/>
              <p:nvPr/>
            </p:nvSpPr>
            <p:spPr>
              <a:xfrm>
                <a:off x="152280" y="4878360"/>
                <a:ext cx="213372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б)  2-ю надпись -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с  помощью  </a:t>
                </a:r>
                <a:br>
                  <a:rPr sz="14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«Word Art»  - </a:t>
                </a:r>
                <a:br>
                  <a:rPr sz="16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нажав кнопку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Picture 30" descr="C:\WINDOWS\Рабочий стол\Преподавание\1-ые слайды презентации\Рис для презентации\A.jpg"/>
              <p:cNvPicPr/>
              <p:nvPr/>
            </p:nvPicPr>
            <p:blipFill>
              <a:blip r:embed="rId3"/>
              <a:stretch/>
            </p:blipFill>
            <p:spPr>
              <a:xfrm>
                <a:off x="1457280" y="5638680"/>
                <a:ext cx="371520" cy="336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/>
                </a:outerShdw>
              </a:effectLst>
            </p:spPr>
          </p:pic>
        </p:grpSp>
        <p:sp>
          <p:nvSpPr>
            <p:cNvPr id="256" name="Line 34"/>
            <p:cNvSpPr/>
            <p:nvPr/>
          </p:nvSpPr>
          <p:spPr>
            <a:xfrm flipV="1">
              <a:off x="1828800" y="4723920"/>
              <a:ext cx="152388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37"/>
          <p:cNvGrpSpPr/>
          <p:nvPr/>
        </p:nvGrpSpPr>
        <p:grpSpPr>
          <a:xfrm>
            <a:off x="76320" y="1620720"/>
            <a:ext cx="3352680" cy="2428560"/>
            <a:chOff x="76320" y="1620720"/>
            <a:chExt cx="3352680" cy="2428560"/>
          </a:xfrm>
        </p:grpSpPr>
        <p:sp>
          <p:nvSpPr>
            <p:cNvPr id="258" name="Text Box 25"/>
            <p:cNvSpPr/>
            <p:nvPr/>
          </p:nvSpPr>
          <p:spPr>
            <a:xfrm>
              <a:off x="76320" y="1620720"/>
              <a:ext cx="25146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2. 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Оформите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a50021"/>
                  </a:solidFill>
                  <a:latin typeface="Arial"/>
                </a:rPr>
                <a:t>надписи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  на слайде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а)  1-ю надпись - «вручную», то есть наберите надпись, выделите её,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нажмите меню 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«</a:t>
              </a:r>
              <a:r>
                <a:rPr b="1" i="1" lang="ru-RU" sz="1400" spc="-1" strike="noStrike">
                  <a:solidFill>
                    <a:srgbClr val="660033"/>
                  </a:solidFill>
                  <a:latin typeface="Arial"/>
                </a:rPr>
                <a:t>Формат - Шрифт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» и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установите  желаемые параметры  надписи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35"/>
            <p:cNvSpPr/>
            <p:nvPr/>
          </p:nvSpPr>
          <p:spPr>
            <a:xfrm flipV="1">
              <a:off x="1905120" y="2209320"/>
              <a:ext cx="152388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066680" y="76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стройка  АНИМАЦИИ   -  движения объ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048120" y="2895480"/>
            <a:ext cx="1981080" cy="1371600"/>
          </a:xfrm>
          <a:prstGeom prst="wedgeRoundRectCallout">
            <a:avLst>
              <a:gd name="adj1" fmla="val 1680"/>
              <a:gd name="adj2" fmla="val -133101"/>
              <a:gd name="adj3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а смену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- тогда каждый слайд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озникает на экране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степенно, с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им-то   эффекто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2286000" y="990720"/>
            <a:ext cx="2514600" cy="549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91658" dir="338234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Анимацию  примен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4876920" y="1905120"/>
            <a:ext cx="4038480" cy="1006200"/>
          </a:xfrm>
          <a:prstGeom prst="wedgeRoundRectCallout">
            <a:avLst>
              <a:gd name="adj1" fmla="val -52592"/>
              <a:gd name="adj2" fmla="val -94004"/>
              <a:gd name="adj3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307803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тексты  и  рисунки </a:t>
            </a: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 на      слайде -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895480" y="3048120"/>
            <a:ext cx="6096240" cy="2759400"/>
            <a:chOff x="2895480" y="3048120"/>
            <a:chExt cx="6096240" cy="2759400"/>
          </a:xfrm>
        </p:grpSpPr>
        <p:sp>
          <p:nvSpPr>
            <p:cNvPr id="265" name="Text Box 7"/>
            <p:cNvSpPr/>
            <p:nvPr/>
          </p:nvSpPr>
          <p:spPr>
            <a:xfrm>
              <a:off x="6172200" y="3505320"/>
              <a:ext cx="2819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ля этого щелкают по объекту и выбирают  меню  «Показ слайдов -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астройка анимации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895480" y="4800600"/>
              <a:ext cx="2286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ля этого  нажимают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меню «Показ слайдов -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Смена слайдов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3429000" y="4419720"/>
              <a:ext cx="228600" cy="380880"/>
            </a:xfrm>
            <a:prstGeom prst="downArrow">
              <a:avLst>
                <a:gd name="adj1" fmla="val 34722"/>
                <a:gd name="adj2" fmla="val 41654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52300" dir="8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8381880" y="3048120"/>
              <a:ext cx="228600" cy="380880"/>
            </a:xfrm>
            <a:prstGeom prst="downArrow">
              <a:avLst>
                <a:gd name="adj1" fmla="val 34722"/>
                <a:gd name="adj2" fmla="val 41654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52300" dir="8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AutoShape 11">
            <a:hlinkClick r:id="" action="ppaction://hlinkshowjump?jump=nextslide"/>
          </p:cNvPr>
          <p:cNvSpPr/>
          <p:nvPr/>
        </p:nvSpPr>
        <p:spPr>
          <a:xfrm>
            <a:off x="8077320" y="63244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3" descr="C:\WINDOWS\Рабочий стол\Преподавание\1-ые слайды презентации\Рис для презентации\ворона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156440" y="838080"/>
            <a:ext cx="1225440" cy="12826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4"/>
          <p:cNvSpPr/>
          <p:nvPr/>
        </p:nvSpPr>
        <p:spPr>
          <a:xfrm>
            <a:off x="4800600" y="216540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тогда они появляться  на слайде с каким-то эффектом,  в определенном порядке, по щелчку мышки  или автоматичес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8" descr="C:\WINDOWS\Рабочий стол\Преподавание\1-ые слайды презентации\Рис для презентации\анимация.jpg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-76320" y="457200"/>
            <a:ext cx="3760920" cy="6400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1"/>
          <p:cNvSpPr/>
          <p:nvPr/>
        </p:nvSpPr>
        <p:spPr>
          <a:xfrm>
            <a:off x="6934320" y="6308640"/>
            <a:ext cx="114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Совет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1579680" y="-88920"/>
            <a:ext cx="6040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именение  анимации.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60280" y="1049400"/>
            <a:ext cx="9068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Если  Вы  делаете  обучающую  презентацию,  то  анимацию  на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мену  слайдов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лучше  установить  п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щелчку  мышк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(а  не  автоматически)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Тогда  каждый  сможет  изучить  презентацию  в  своём  темп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260280" y="1927080"/>
            <a:ext cx="9068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е  злоупотребляйте  анимацией   «появление  текста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о буква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 Частое  её применение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(или в  больших блоках  текста)   может  просто  раздражать,  надоедать  при  просмотр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60280" y="2687760"/>
            <a:ext cx="9068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арайтесь  в  анимации  тоже  соблюдат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тил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Например,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выработайте для  заголовков  слайдов  один  тип  анимации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Конечно,  можно  допускать   исключ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514440" y="4545000"/>
            <a:ext cx="68263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 установке очередности появления объектов слайда, часто устанавливают порядок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появляется пустой слайд, затем заголовок, поясняющий текст и в конце - иллюстрация (график), которую не успеваешь рассмотреть, т.к. следует следующий  слайд.  Лучше, чтобы появлялась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начала  иллюстраци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и  при  её восприятии шло  пояснени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1"/>
          <p:cNvSpPr/>
          <p:nvPr/>
        </p:nvSpPr>
        <p:spPr>
          <a:xfrm rot="16200000">
            <a:off x="145800" y="10663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2"/>
          <p:cNvSpPr/>
          <p:nvPr/>
        </p:nvSpPr>
        <p:spPr>
          <a:xfrm rot="16200000">
            <a:off x="146160" y="1944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3"/>
          <p:cNvSpPr/>
          <p:nvPr/>
        </p:nvSpPr>
        <p:spPr>
          <a:xfrm rot="16200000">
            <a:off x="145800" y="27046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4"/>
          <p:cNvSpPr/>
          <p:nvPr/>
        </p:nvSpPr>
        <p:spPr>
          <a:xfrm rot="16200000">
            <a:off x="149040" y="4600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5" descr="C:\WINDOWS\Рабочий стол\Преподавание\1-ые слайды презентации\Рис для презентации\мальчик-карик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48640" y="3079800"/>
            <a:ext cx="2273040" cy="373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6" descr="C:\WINDOWS\Рабочий стол\Risssssssss\Резерв_отнесла\Комп_технологии\Gif+чудики\глаза_7.gif"/>
          <p:cNvPicPr/>
          <p:nvPr/>
        </p:nvPicPr>
        <p:blipFill>
          <a:blip r:embed="rId2"/>
          <a:stretch/>
        </p:blipFill>
        <p:spPr>
          <a:xfrm>
            <a:off x="171360" y="62755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7" descr="C:\WINDOWS\Рабочий стол\Risssssssss\Резерв_отнесла\Комп_технологии\Gif+чудики\глаза_9.gif"/>
          <p:cNvPicPr/>
          <p:nvPr/>
        </p:nvPicPr>
        <p:blipFill>
          <a:blip r:embed="rId3"/>
          <a:stretch/>
        </p:blipFill>
        <p:spPr>
          <a:xfrm>
            <a:off x="141120" y="16344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9"/>
          <p:cNvSpPr/>
          <p:nvPr/>
        </p:nvSpPr>
        <p:spPr>
          <a:xfrm rot="16200000">
            <a:off x="160200" y="3600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36400" y="3583080"/>
            <a:ext cx="6364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Устанавливайте такой порядок  появления  объектов  на  слайде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оторый  «заставит»  зрителя  воспринять  порции  возникающей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нформации 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логической  последовательност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1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057" descr="C:\WINDOWS\Рабочий стол\Преподавание\1-ые слайды презентации\Рис для презентации\содержание.jpg"/>
          <p:cNvPicPr/>
          <p:nvPr/>
        </p:nvPicPr>
        <p:blipFill>
          <a:blip r:embed="rId1"/>
          <a:stretch/>
        </p:blipFill>
        <p:spPr>
          <a:xfrm>
            <a:off x="-76320" y="-228600"/>
            <a:ext cx="9372600" cy="73915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064"/>
          <p:cNvGrpSpPr/>
          <p:nvPr/>
        </p:nvGrpSpPr>
        <p:grpSpPr>
          <a:xfrm>
            <a:off x="2619360" y="380880"/>
            <a:ext cx="4733640" cy="4957560"/>
            <a:chOff x="2619360" y="380880"/>
            <a:chExt cx="4733640" cy="4957560"/>
          </a:xfrm>
        </p:grpSpPr>
        <p:sp>
          <p:nvSpPr>
            <p:cNvPr id="62" name="AutoShape 2061"/>
            <p:cNvSpPr/>
            <p:nvPr/>
          </p:nvSpPr>
          <p:spPr>
            <a:xfrm rot="21210000">
              <a:off x="3122640" y="4258800"/>
              <a:ext cx="4195800" cy="844560"/>
            </a:xfrm>
            <a:prstGeom prst="parallelogram">
              <a:avLst>
                <a:gd name="adj" fmla="val 129284"/>
              </a:avLst>
            </a:prstGeom>
            <a:solidFill>
              <a:srgbClr val="ffd4a9">
                <a:alpha val="50000"/>
              </a:srgbClr>
            </a:solidFill>
            <a:ln w="9360">
              <a:solidFill>
                <a:srgbClr val="ff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058" descr="C:\WINDOWS\Рабочий стол\Преподавание\1-ые слайды презентации\Рис для презентации\содержание3.jpg"/>
            <p:cNvPicPr/>
            <p:nvPr/>
          </p:nvPicPr>
          <p:blipFill>
            <a:blip r:embed="rId2"/>
            <a:stretch/>
          </p:blipFill>
          <p:spPr>
            <a:xfrm>
              <a:off x="2619360" y="380880"/>
              <a:ext cx="4238640" cy="495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2052"/>
          <p:cNvSpPr/>
          <p:nvPr/>
        </p:nvSpPr>
        <p:spPr>
          <a:xfrm rot="181800">
            <a:off x="2819160" y="76212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 algn="ctr">
              <a:lnSpc>
                <a:spcPct val="12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Arial"/>
              </a:rPr>
              <a:t>Содержани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063"/>
          <p:cNvGrpSpPr/>
          <p:nvPr/>
        </p:nvGrpSpPr>
        <p:grpSpPr>
          <a:xfrm>
            <a:off x="2711520" y="1396080"/>
            <a:ext cx="4330800" cy="3035520"/>
            <a:chOff x="2711520" y="1396080"/>
            <a:chExt cx="4330800" cy="3035520"/>
          </a:xfrm>
        </p:grpSpPr>
        <p:sp>
          <p:nvSpPr>
            <p:cNvPr id="66" name="Text Box 2053"/>
            <p:cNvSpPr/>
            <p:nvPr/>
          </p:nvSpPr>
          <p:spPr>
            <a:xfrm rot="21488400">
              <a:off x="2743200" y="2325600"/>
              <a:ext cx="4267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3.  Стиль  оформления презента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4.  Оформление  титульного  слайда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5.  Анимац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6.  Иллюстрации  для  слайдо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059"/>
            <p:cNvSpPr/>
            <p:nvPr/>
          </p:nvSpPr>
          <p:spPr>
            <a:xfrm rot="89400">
              <a:off x="2739600" y="1449360"/>
              <a:ext cx="4116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00000"/>
                  </a:solidFill>
                  <a:latin typeface="Arial"/>
                </a:rPr>
                <a:t>     </a:t>
              </a: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Ведение</a:t>
              </a:r>
              <a:br>
                <a:rPr sz="1800"/>
              </a:b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1.  С  чего  начать?  Создание  </a:t>
              </a:r>
              <a:br>
                <a:rPr sz="1800"/>
              </a:b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     сценар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060"/>
            <p:cNvSpPr/>
            <p:nvPr/>
          </p:nvSpPr>
          <p:spPr>
            <a:xfrm rot="21579600">
              <a:off x="2742840" y="23619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2.  Схема  презента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063"/>
          <p:cNvGrpSpPr/>
          <p:nvPr/>
        </p:nvGrpSpPr>
        <p:grpSpPr>
          <a:xfrm>
            <a:off x="685800" y="3886200"/>
            <a:ext cx="4114800" cy="1676520"/>
            <a:chOff x="685800" y="3886200"/>
            <a:chExt cx="4114800" cy="1676520"/>
          </a:xfrm>
        </p:grpSpPr>
        <p:sp>
          <p:nvSpPr>
            <p:cNvPr id="289" name="AutoShape 2060"/>
            <p:cNvSpPr/>
            <p:nvPr/>
          </p:nvSpPr>
          <p:spPr>
            <a:xfrm>
              <a:off x="685800" y="3886200"/>
              <a:ext cx="4114800" cy="1676520"/>
            </a:xfrm>
            <a:prstGeom prst="wedgeRoundRectCallout">
              <a:avLst>
                <a:gd name="adj1" fmla="val 67282"/>
                <a:gd name="adj2" fmla="val 7574"/>
                <a:gd name="adj3" fmla="val 16667"/>
              </a:avLst>
            </a:prstGeom>
            <a:gradFill rotWithShape="0">
              <a:gsLst>
                <a:gs pos="0">
                  <a:srgbClr val="ffd6ad"/>
                </a:gs>
                <a:gs pos="50000">
                  <a:srgbClr val="fff0e1"/>
                </a:gs>
                <a:gs pos="100000">
                  <a:srgbClr val="ffd6ad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  <a:effectLst>
              <a:outerShdw dist="52300" dir="4563564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052"/>
            <p:cNvSpPr/>
            <p:nvPr/>
          </p:nvSpPr>
          <p:spPr>
            <a:xfrm>
              <a:off x="914400" y="3962520"/>
              <a:ext cx="312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Главное  требование  к  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иллюстрации  слайда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2050"/>
          <p:cNvSpPr/>
          <p:nvPr/>
        </p:nvSpPr>
        <p:spPr>
          <a:xfrm>
            <a:off x="2895480" y="409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ЛЛЮСТРАЦИИ 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на  слайд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051"/>
          <p:cNvSpPr/>
          <p:nvPr/>
        </p:nvSpPr>
        <p:spPr>
          <a:xfrm>
            <a:off x="914400" y="466092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основное  место  в  слайде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должна  занимать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ИЛЛЮСТРАЦИЯ,  А   НЕ  ТЕКСТ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055" descr="C:\WINDOWS\Рабочий стол\Преподавание\1-ые слайды презентации\Рис для презентации\$.jpg"/>
          <p:cNvPicPr/>
          <p:nvPr/>
        </p:nvPicPr>
        <p:blipFill>
          <a:blip r:embed="rId1"/>
          <a:stretch/>
        </p:blipFill>
        <p:spPr>
          <a:xfrm>
            <a:off x="152280" y="20520"/>
            <a:ext cx="3505320" cy="2657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62" descr="C:\WINDOWS\Рабочий стол\Преподавание\1-ые слайды презентации\Рис для презентации\POPUGAY.jpg"/>
          <p:cNvPicPr/>
          <p:nvPr/>
        </p:nvPicPr>
        <p:blipFill>
          <a:blip r:embed="rId2"/>
          <a:stretch/>
        </p:blipFill>
        <p:spPr>
          <a:xfrm>
            <a:off x="5181480" y="2514600"/>
            <a:ext cx="31640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26"/>
          <p:cNvSpPr/>
          <p:nvPr/>
        </p:nvSpPr>
        <p:spPr>
          <a:xfrm>
            <a:off x="1011240" y="1824120"/>
            <a:ext cx="7737480" cy="3031920"/>
          </a:xfrm>
          <a:prstGeom prst="roundRect">
            <a:avLst>
              <a:gd name="adj" fmla="val 26306"/>
            </a:avLst>
          </a:prstGeom>
          <a:solidFill>
            <a:srgbClr val="fae5ce">
              <a:alpha val="50000"/>
            </a:srgbClr>
          </a:solidFill>
          <a:ln w="15840">
            <a:solidFill>
              <a:srgbClr val="f3deb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485640" y="68400"/>
            <a:ext cx="8618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00"/>
                </a:solidFill>
                <a:latin typeface="Arial"/>
              </a:rPr>
              <a:t>Виды   ИЛЛЮСТРАЦИИ  слайд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27"/>
          <p:cNvGrpSpPr/>
          <p:nvPr/>
        </p:nvGrpSpPr>
        <p:grpSpPr>
          <a:xfrm>
            <a:off x="1239840" y="828720"/>
            <a:ext cx="4578480" cy="668160"/>
            <a:chOff x="1239840" y="828720"/>
            <a:chExt cx="4578480" cy="668160"/>
          </a:xfrm>
        </p:grpSpPr>
        <p:sp>
          <p:nvSpPr>
            <p:cNvPr id="298" name="AutoShape 23"/>
            <p:cNvSpPr/>
            <p:nvPr/>
          </p:nvSpPr>
          <p:spPr>
            <a:xfrm>
              <a:off x="1239840" y="828720"/>
              <a:ext cx="4578480" cy="668160"/>
            </a:xfrm>
            <a:prstGeom prst="wedgeEllipseCallout">
              <a:avLst>
                <a:gd name="adj1" fmla="val -57004"/>
                <a:gd name="adj2" fmla="val 30523"/>
              </a:avLst>
            </a:prstGeom>
            <a:gradFill rotWithShape="0">
              <a:gsLst>
                <a:gs pos="0">
                  <a:srgbClr val="e7e5d3"/>
                </a:gs>
                <a:gs pos="100000">
                  <a:srgbClr val="fff1e3"/>
                </a:gs>
              </a:gsLst>
              <a:lin ang="18900000"/>
            </a:gradFill>
            <a:ln w="0">
              <a:noFill/>
            </a:ln>
            <a:effectLst>
              <a:outerShdw dist="153753" dir="2700000" blurRad="0" rotWithShape="0">
                <a:srgbClr val="999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"/>
            <p:cNvSpPr/>
            <p:nvPr/>
          </p:nvSpPr>
          <p:spPr>
            <a:xfrm>
              <a:off x="1692360" y="892080"/>
              <a:ext cx="3951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Под  иллюстрацией  слайда  подразуме-</a:t>
              </a:r>
              <a:br>
                <a:rPr sz="1500"/>
              </a:b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вают  не  только  рисунок,  но  и 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8"/>
          <p:cNvSpPr/>
          <p:nvPr/>
        </p:nvSpPr>
        <p:spPr>
          <a:xfrm>
            <a:off x="3760920" y="2165400"/>
            <a:ext cx="28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8"/>
          <p:cNvGrpSpPr/>
          <p:nvPr/>
        </p:nvGrpSpPr>
        <p:grpSpPr>
          <a:xfrm>
            <a:off x="1123920" y="2351160"/>
            <a:ext cx="2397240" cy="1126800"/>
            <a:chOff x="1123920" y="2351160"/>
            <a:chExt cx="2397240" cy="1126800"/>
          </a:xfrm>
        </p:grpSpPr>
        <p:sp>
          <p:nvSpPr>
            <p:cNvPr id="302" name="AutoShape 16"/>
            <p:cNvSpPr/>
            <p:nvPr/>
          </p:nvSpPr>
          <p:spPr>
            <a:xfrm rot="74400">
              <a:off x="3068280" y="2355840"/>
              <a:ext cx="442800" cy="909360"/>
            </a:xfrm>
            <a:custGeom>
              <a:avLst/>
              <a:gdLst>
                <a:gd name="textAreaLeft" fmla="*/ 59040 w 442800"/>
                <a:gd name="textAreaRight" fmla="*/ 383760 w 442800"/>
                <a:gd name="textAreaTop" fmla="*/ 159120 h 909360"/>
                <a:gd name="textAreaBottom" fmla="*/ 659520 h 90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utoShape 12"/>
            <p:cNvSpPr/>
            <p:nvPr/>
          </p:nvSpPr>
          <p:spPr>
            <a:xfrm>
              <a:off x="1123920" y="2705040"/>
              <a:ext cx="1803600" cy="77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Блок-сх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43"/>
          <p:cNvGrpSpPr/>
          <p:nvPr/>
        </p:nvGrpSpPr>
        <p:grpSpPr>
          <a:xfrm>
            <a:off x="4027320" y="2700360"/>
            <a:ext cx="1722600" cy="1243080"/>
            <a:chOff x="4027320" y="2700360"/>
            <a:chExt cx="1722600" cy="1243080"/>
          </a:xfrm>
        </p:grpSpPr>
        <p:sp>
          <p:nvSpPr>
            <p:cNvPr id="305" name="AutoShape 13"/>
            <p:cNvSpPr/>
            <p:nvPr/>
          </p:nvSpPr>
          <p:spPr>
            <a:xfrm>
              <a:off x="4027320" y="3170160"/>
              <a:ext cx="1722600" cy="77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Диаграм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14"/>
            <p:cNvSpPr/>
            <p:nvPr/>
          </p:nvSpPr>
          <p:spPr>
            <a:xfrm>
              <a:off x="4738680" y="2700360"/>
              <a:ext cx="311040" cy="426960"/>
            </a:xfrm>
            <a:prstGeom prst="downArrow">
              <a:avLst>
                <a:gd name="adj1" fmla="val 50000"/>
                <a:gd name="adj2" fmla="val 34317"/>
              </a:avLst>
            </a:prstGeom>
            <a:gradFill rotWithShape="0">
              <a:gsLst>
                <a:gs pos="0">
                  <a:srgbClr val="f4e1be"/>
                </a:gs>
                <a:gs pos="50000">
                  <a:srgbClr val="fae5ce"/>
                </a:gs>
                <a:gs pos="100000">
                  <a:srgbClr val="f4e1b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18"/>
          <p:cNvSpPr/>
          <p:nvPr/>
        </p:nvSpPr>
        <p:spPr>
          <a:xfrm>
            <a:off x="150840" y="5318280"/>
            <a:ext cx="8993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БЛОК-СХЕМЫ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ИАГРАММЫ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изображают  красочно, объёмно,   в  движении  (применив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анимацию  на  отдельные  их элементы). 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Такими  объектами  следует  сопровождать  текст, например, по 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экономической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тематике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(где  есть  примеры  с  числами, числовыми таблицами,  статистические  данные,   где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нужно  показать  динамику  процесс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2" descr="C:\WINDOWS\Рабочий стол\Risssssssss\Резерв_отнесла\Комп_технологии\Gif+чудики\мышонок_.gif"/>
          <p:cNvPicPr/>
          <p:nvPr/>
        </p:nvPicPr>
        <p:blipFill>
          <a:blip r:embed="rId3"/>
          <a:stretch/>
        </p:blipFill>
        <p:spPr>
          <a:xfrm>
            <a:off x="103320" y="763560"/>
            <a:ext cx="113508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32"/>
          <p:cNvGrpSpPr/>
          <p:nvPr/>
        </p:nvGrpSpPr>
        <p:grpSpPr>
          <a:xfrm>
            <a:off x="6144480" y="2284560"/>
            <a:ext cx="2309040" cy="1199880"/>
            <a:chOff x="6144480" y="2284560"/>
            <a:chExt cx="2309040" cy="1199880"/>
          </a:xfrm>
        </p:grpSpPr>
        <p:sp>
          <p:nvSpPr>
            <p:cNvPr id="310" name="AutoShape 24"/>
            <p:cNvSpPr/>
            <p:nvPr/>
          </p:nvSpPr>
          <p:spPr>
            <a:xfrm flipH="1" rot="21525600">
              <a:off x="6154200" y="2289240"/>
              <a:ext cx="443160" cy="909720"/>
            </a:xfrm>
            <a:custGeom>
              <a:avLst/>
              <a:gdLst>
                <a:gd name="textAreaLeft" fmla="*/ 59400 w 443160"/>
                <a:gd name="textAreaRight" fmla="*/ 383760 w 443160"/>
                <a:gd name="textAreaTop" fmla="*/ 159120 h 909720"/>
                <a:gd name="textAreaBottom" fmla="*/ 659520 h 90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858000" y="2711520"/>
              <a:ext cx="1595520" cy="77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Рисун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AutoShape 9"/>
          <p:cNvSpPr/>
          <p:nvPr/>
        </p:nvSpPr>
        <p:spPr>
          <a:xfrm>
            <a:off x="3022560" y="1944720"/>
            <a:ext cx="360360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5ce"/>
              </a:gs>
              <a:gs pos="100000">
                <a:srgbClr val="f4e1b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3300"/>
                </a:solidFill>
                <a:latin typeface="Arial"/>
              </a:rPr>
              <a:t>Виды  иллюстра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5"/>
          <p:cNvSpPr/>
          <p:nvPr/>
        </p:nvSpPr>
        <p:spPr>
          <a:xfrm>
            <a:off x="2332080" y="3521160"/>
            <a:ext cx="0" cy="7840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4894200" y="3971880"/>
            <a:ext cx="0" cy="3808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40"/>
          <p:cNvSpPr/>
          <p:nvPr/>
        </p:nvSpPr>
        <p:spPr>
          <a:xfrm>
            <a:off x="7445520" y="3533760"/>
            <a:ext cx="0" cy="7732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1"/>
          <p:cNvSpPr/>
          <p:nvPr/>
        </p:nvSpPr>
        <p:spPr>
          <a:xfrm>
            <a:off x="1676520" y="4410000"/>
            <a:ext cx="3405240" cy="370080"/>
          </a:xfrm>
          <a:prstGeom prst="rect">
            <a:avLst/>
          </a:prstGeom>
          <a:gradFill rotWithShape="0">
            <a:gsLst>
              <a:gs pos="0">
                <a:srgbClr val="f4e1be"/>
              </a:gs>
              <a:gs pos="100000">
                <a:srgbClr val="fae5c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Деловая   граф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2"/>
          <p:cNvSpPr/>
          <p:nvPr/>
        </p:nvSpPr>
        <p:spPr>
          <a:xfrm>
            <a:off x="5670720" y="4400640"/>
            <a:ext cx="2563560" cy="369720"/>
          </a:xfrm>
          <a:prstGeom prst="rect">
            <a:avLst/>
          </a:prstGeom>
          <a:gradFill rotWithShape="0">
            <a:gsLst>
              <a:gs pos="0">
                <a:srgbClr val="fae5ce"/>
              </a:gs>
              <a:gs pos="100000">
                <a:srgbClr val="f4e1b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Художественная граф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5"/>
          <p:cNvGrpSpPr/>
          <p:nvPr/>
        </p:nvGrpSpPr>
        <p:grpSpPr>
          <a:xfrm>
            <a:off x="3581280" y="1600200"/>
            <a:ext cx="5486400" cy="3657600"/>
            <a:chOff x="3581280" y="1600200"/>
            <a:chExt cx="5486400" cy="3657600"/>
          </a:xfrm>
        </p:grpSpPr>
        <p:sp>
          <p:nvSpPr>
            <p:cNvPr id="319" name="AutoShape 32"/>
            <p:cNvSpPr/>
            <p:nvPr/>
          </p:nvSpPr>
          <p:spPr>
            <a:xfrm>
              <a:off x="3581280" y="1600200"/>
              <a:ext cx="5486400" cy="3657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23"/>
            <p:cNvSpPr/>
            <p:nvPr/>
          </p:nvSpPr>
          <p:spPr>
            <a:xfrm>
              <a:off x="4114800" y="1905120"/>
              <a:ext cx="4572000" cy="1143000"/>
            </a:xfrm>
            <a:custGeom>
              <a:avLst/>
              <a:gdLst>
                <a:gd name="textAreaLeft" fmla="*/ 858600 w 4572000"/>
                <a:gd name="textAreaRight" fmla="*/ 3713400 w 4572000"/>
                <a:gd name="textAreaTop" fmla="*/ 285840 h 1143000"/>
                <a:gd name="textAreaBottom" fmla="*/ 10764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5281" stAng="6975392" swAng="-634455"/>
                  <a:lnTo>
                    <a:pt x="4057" y="20337"/>
                  </a:lnTo>
                  <a:arcTo wR="21600" hR="25281" stAng="6340936" swAng="-1881873"/>
                  <a:lnTo>
                    <a:pt x="17543" y="18324"/>
                  </a:lnTo>
                  <a:arcTo wR="21600" hR="25281" stAng="4459064" swAng="-634455"/>
                  <a:lnTo>
                    <a:pt x="18900" y="9642"/>
                  </a:lnTo>
                  <a:lnTo>
                    <a:pt x="21600" y="0"/>
                  </a:lnTo>
                  <a:lnTo>
                    <a:pt x="21600" y="0"/>
                  </a:lnTo>
                  <a:arcTo wR="21600" hR="25281" stAng="3824608" swAng="1020593"/>
                  <a:lnTo>
                    <a:pt x="14843" y="4953"/>
                  </a:lnTo>
                  <a:arcTo wR="21600" hR="25281" stAng="4845202" swAng="1109596"/>
                  <a:lnTo>
                    <a:pt x="6757" y="2940"/>
                  </a:lnTo>
                  <a:arcTo wR="21600" hR="25281" stAng="5954798" swAng="1020593"/>
                  <a:lnTo>
                    <a:pt x="2700" y="9642"/>
                  </a:lnTo>
                  <a:close/>
                </a:path>
                <a:path fill="none" w="21600" h="21600">
                  <a:moveTo>
                    <a:pt x="6757" y="4953"/>
                  </a:moveTo>
                  <a:arcTo wR="21600" hR="25281" stAng="5954798" swAng="386138"/>
                  <a:lnTo>
                    <a:pt x="6757" y="2940"/>
                  </a:lnTo>
                </a:path>
                <a:path fill="none" w="21600" h="21600">
                  <a:moveTo>
                    <a:pt x="14843" y="4953"/>
                  </a:moveTo>
                  <a:arcTo wR="21600" hR="25281" stAng="4845202" swAng="-386138"/>
                  <a:lnTo>
                    <a:pt x="14843" y="2940"/>
                  </a:lnTo>
                </a:path>
                <a:path fill="none" w="21600" h="21600">
                  <a:moveTo>
                    <a:pt x="4057" y="18324"/>
                  </a:moveTo>
                  <a:lnTo>
                    <a:pt x="4057" y="4137"/>
                  </a:lnTo>
                </a:path>
                <a:path fill="none" w="21600" h="21600">
                  <a:moveTo>
                    <a:pt x="17543" y="18324"/>
                  </a:moveTo>
                  <a:lnTo>
                    <a:pt x="17543" y="4137"/>
                  </a:lnTo>
                </a:path>
              </a:pathLst>
            </a:cu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ТРЕБОВАНИЯ  </a:t>
              </a:r>
              <a:br>
                <a:rPr sz="1800"/>
              </a:b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к  текст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Text Box 5"/>
          <p:cNvSpPr/>
          <p:nvPr/>
        </p:nvSpPr>
        <p:spPr>
          <a:xfrm>
            <a:off x="104760" y="954000"/>
            <a:ext cx="90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БЛОК-СХЕМЫ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создают с  помощью инструментов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панели «Рисование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152280" y="2133720"/>
            <a:ext cx="2514600" cy="2971800"/>
            <a:chOff x="152280" y="2133720"/>
            <a:chExt cx="2514600" cy="2971800"/>
          </a:xfrm>
        </p:grpSpPr>
        <p:sp>
          <p:nvSpPr>
            <p:cNvPr id="323" name="Rectangle 6"/>
            <p:cNvSpPr/>
            <p:nvPr/>
          </p:nvSpPr>
          <p:spPr>
            <a:xfrm>
              <a:off x="152280" y="2133720"/>
              <a:ext cx="25146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685800" y="3124080"/>
              <a:ext cx="1363680" cy="1119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8"/>
            <p:cNvSpPr/>
            <p:nvPr/>
          </p:nvSpPr>
          <p:spPr>
            <a:xfrm>
              <a:off x="685800" y="33526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Требования к текст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 flipV="1">
              <a:off x="1828800" y="2971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 flipV="1">
              <a:off x="685440" y="27432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16"/>
            <p:cNvGrpSpPr/>
            <p:nvPr/>
          </p:nvGrpSpPr>
          <p:grpSpPr>
            <a:xfrm>
              <a:off x="1143000" y="4038480"/>
              <a:ext cx="76320" cy="457200"/>
              <a:chOff x="1143000" y="4038480"/>
              <a:chExt cx="76320" cy="457200"/>
            </a:xfrm>
          </p:grpSpPr>
          <p:sp>
            <p:nvSpPr>
              <p:cNvPr id="329" name="Line 9"/>
              <p:cNvSpPr/>
              <p:nvPr/>
            </p:nvSpPr>
            <p:spPr>
              <a:xfrm>
                <a:off x="1209960" y="4454280"/>
                <a:ext cx="93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1143000" y="4038480"/>
                <a:ext cx="66960" cy="41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Text Box 18"/>
            <p:cNvSpPr/>
            <p:nvPr/>
          </p:nvSpPr>
          <p:spPr>
            <a:xfrm>
              <a:off x="152280" y="22096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Предельно крато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1523880" y="24382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Читабель-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20"/>
            <p:cNvSpPr/>
            <p:nvPr/>
          </p:nvSpPr>
          <p:spPr>
            <a:xfrm>
              <a:off x="304920" y="44197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Соблюдение стилей на всех слайд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3809880" y="3004200"/>
            <a:ext cx="1532160" cy="1491480"/>
            <a:chOff x="3809880" y="3004200"/>
            <a:chExt cx="1532160" cy="1491480"/>
          </a:xfrm>
        </p:grpSpPr>
        <p:sp>
          <p:nvSpPr>
            <p:cNvPr id="335" name="AutoShape 25"/>
            <p:cNvSpPr/>
            <p:nvPr/>
          </p:nvSpPr>
          <p:spPr>
            <a:xfrm>
              <a:off x="3809880" y="3733920"/>
              <a:ext cx="1371600" cy="76176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Предельно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крато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29"/>
            <p:cNvSpPr/>
            <p:nvPr/>
          </p:nvSpPr>
          <p:spPr>
            <a:xfrm rot="2871600">
              <a:off x="4762080" y="3085920"/>
              <a:ext cx="457200" cy="533520"/>
            </a:xfrm>
            <a:prstGeom prst="downArrow">
              <a:avLst>
                <a:gd name="adj1" fmla="val 34333"/>
                <a:gd name="adj2" fmla="val 2694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37"/>
          <p:cNvGrpSpPr/>
          <p:nvPr/>
        </p:nvGrpSpPr>
        <p:grpSpPr>
          <a:xfrm>
            <a:off x="5562720" y="3200400"/>
            <a:ext cx="1600200" cy="1600200"/>
            <a:chOff x="5562720" y="3200400"/>
            <a:chExt cx="1600200" cy="1600200"/>
          </a:xfrm>
        </p:grpSpPr>
        <p:sp>
          <p:nvSpPr>
            <p:cNvPr id="338" name="AutoShape 24"/>
            <p:cNvSpPr/>
            <p:nvPr/>
          </p:nvSpPr>
          <p:spPr>
            <a:xfrm>
              <a:off x="6172200" y="3200400"/>
              <a:ext cx="457200" cy="533520"/>
            </a:xfrm>
            <a:prstGeom prst="downArrow">
              <a:avLst>
                <a:gd name="adj1" fmla="val 39583"/>
                <a:gd name="adj2" fmla="val 26742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81185" dir="307803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30"/>
            <p:cNvSpPr/>
            <p:nvPr/>
          </p:nvSpPr>
          <p:spPr>
            <a:xfrm>
              <a:off x="5562720" y="3886200"/>
              <a:ext cx="1600200" cy="91440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Соблюдение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 стилей  на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всех слайдах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7459560" y="3008520"/>
            <a:ext cx="1379520" cy="1487160"/>
            <a:chOff x="7459560" y="3008520"/>
            <a:chExt cx="1379520" cy="1487160"/>
          </a:xfrm>
        </p:grpSpPr>
        <p:sp>
          <p:nvSpPr>
            <p:cNvPr id="341" name="AutoShape 27"/>
            <p:cNvSpPr/>
            <p:nvPr/>
          </p:nvSpPr>
          <p:spPr>
            <a:xfrm rot="18465600">
              <a:off x="7581600" y="3085560"/>
              <a:ext cx="457200" cy="533520"/>
            </a:xfrm>
            <a:prstGeom prst="downArrow">
              <a:avLst>
                <a:gd name="adj1" fmla="val 34333"/>
                <a:gd name="adj2" fmla="val 2694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73964" dir="35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31"/>
            <p:cNvSpPr/>
            <p:nvPr/>
          </p:nvSpPr>
          <p:spPr>
            <a:xfrm>
              <a:off x="7543800" y="3733920"/>
              <a:ext cx="1295280" cy="76176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Читабель-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42"/>
          <p:cNvGrpSpPr/>
          <p:nvPr/>
        </p:nvGrpSpPr>
        <p:grpSpPr>
          <a:xfrm>
            <a:off x="228600" y="5181480"/>
            <a:ext cx="8305920" cy="658800"/>
            <a:chOff x="228600" y="5181480"/>
            <a:chExt cx="8305920" cy="658800"/>
          </a:xfrm>
        </p:grpSpPr>
        <p:sp>
          <p:nvSpPr>
            <p:cNvPr id="344" name="Text Box 17"/>
            <p:cNvSpPr/>
            <p:nvPr/>
          </p:nvSpPr>
          <p:spPr>
            <a:xfrm>
              <a:off x="228600" y="551808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Её  можно  красочно  нарисовать  </a:t>
              </a:r>
              <a:r>
                <a:rPr b="1" lang="ru-RU" sz="1500" spc="-1" strike="noStrike">
                  <a:solidFill>
                    <a:srgbClr val="660033"/>
                  </a:solidFill>
                  <a:latin typeface="Arial"/>
                </a:rPr>
                <a:t>автофигурами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и  применить к  ней  анимацию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3"/>
            <p:cNvSpPr/>
            <p:nvPr/>
          </p:nvSpPr>
          <p:spPr>
            <a:xfrm flipV="1">
              <a:off x="6172200" y="5181480"/>
              <a:ext cx="0" cy="457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Text Box 41"/>
          <p:cNvSpPr/>
          <p:nvPr/>
        </p:nvSpPr>
        <p:spPr>
          <a:xfrm>
            <a:off x="152280" y="1371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Например, Вы  задумали  схе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7"/>
          <p:cNvSpPr/>
          <p:nvPr/>
        </p:nvSpPr>
        <p:spPr>
          <a:xfrm>
            <a:off x="241200" y="-9360"/>
            <a:ext cx="86187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БЛОК-СХЕМА</a:t>
            </a:r>
            <a:br>
              <a:rPr sz="30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для 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5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160"/>
          <p:cNvSpPr/>
          <p:nvPr/>
        </p:nvSpPr>
        <p:spPr>
          <a:xfrm>
            <a:off x="2303640" y="2479680"/>
            <a:ext cx="3902040" cy="4378320"/>
          </a:xfrm>
          <a:prstGeom prst="pie">
            <a:avLst/>
          </a:pr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3d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155"/>
          <p:cNvSpPr/>
          <p:nvPr/>
        </p:nvSpPr>
        <p:spPr>
          <a:xfrm rot="10872600">
            <a:off x="7165440" y="3058560"/>
            <a:ext cx="1068480" cy="18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53"/>
          <p:cNvSpPr/>
          <p:nvPr/>
        </p:nvSpPr>
        <p:spPr>
          <a:xfrm>
            <a:off x="322200" y="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озможности   инструментов   панели  «Рис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080"/>
          <p:cNvGrpSpPr/>
          <p:nvPr/>
        </p:nvGrpSpPr>
        <p:grpSpPr>
          <a:xfrm>
            <a:off x="0" y="1292400"/>
            <a:ext cx="2658600" cy="3323520"/>
            <a:chOff x="0" y="1292400"/>
            <a:chExt cx="2658600" cy="3323520"/>
          </a:xfrm>
        </p:grpSpPr>
        <p:sp>
          <p:nvSpPr>
            <p:cNvPr id="352" name="AutoShape 2081"/>
            <p:cNvSpPr/>
            <p:nvPr/>
          </p:nvSpPr>
          <p:spPr>
            <a:xfrm>
              <a:off x="0" y="1292400"/>
              <a:ext cx="2658600" cy="3323520"/>
            </a:xfrm>
            <a:prstGeom prst="irregularSeal2">
              <a:avLst/>
            </a:prstGeom>
            <a:solidFill>
              <a:srgbClr val="ffe0a3"/>
            </a:solidFill>
            <a:ln w="9360">
              <a:solidFill>
                <a:srgbClr val="ffe0a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082"/>
            <p:cNvSpPr/>
            <p:nvPr/>
          </p:nvSpPr>
          <p:spPr>
            <a:xfrm rot="8436600">
              <a:off x="1095840" y="2310120"/>
              <a:ext cx="714240" cy="66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549" y="1704"/>
                    <a:pt x="9498" y="5080"/>
                    <a:pt x="9498" y="10800"/>
                  </a:cubicBezTo>
                  <a:cubicBezTo>
                    <a:pt x="9498" y="16520"/>
                    <a:pt x="15549" y="198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0a3"/>
                </a:gs>
                <a:gs pos="100000">
                  <a:srgbClr val="f7ae55"/>
                </a:gs>
              </a:gsLst>
              <a:lin ang="0"/>
            </a:gradFill>
            <a:ln w="9360">
              <a:solidFill>
                <a:srgbClr val="f7ae55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083"/>
            <p:cNvSpPr/>
            <p:nvPr/>
          </p:nvSpPr>
          <p:spPr>
            <a:xfrm>
              <a:off x="738360" y="2310120"/>
              <a:ext cx="714600" cy="66168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cc740a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084"/>
            <p:cNvSpPr/>
            <p:nvPr/>
          </p:nvSpPr>
          <p:spPr>
            <a:xfrm rot="10800000">
              <a:off x="738360" y="3082680"/>
              <a:ext cx="803520" cy="661680"/>
            </a:xfrm>
            <a:prstGeom prst="pi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255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085"/>
            <p:cNvSpPr/>
            <p:nvPr/>
          </p:nvSpPr>
          <p:spPr>
            <a:xfrm>
              <a:off x="1095840" y="2972160"/>
              <a:ext cx="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086"/>
            <p:cNvSpPr/>
            <p:nvPr/>
          </p:nvSpPr>
          <p:spPr>
            <a:xfrm rot="15433800">
              <a:off x="1184400" y="2179080"/>
              <a:ext cx="422640" cy="2437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800000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087"/>
            <p:cNvSpPr/>
            <p:nvPr/>
          </p:nvSpPr>
          <p:spPr>
            <a:xfrm flipH="1">
              <a:off x="738360" y="3193200"/>
              <a:ext cx="267840" cy="10980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088"/>
            <p:cNvSpPr/>
            <p:nvPr/>
          </p:nvSpPr>
          <p:spPr>
            <a:xfrm>
              <a:off x="1185120" y="3082680"/>
              <a:ext cx="267840" cy="22032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089"/>
            <p:cNvSpPr/>
            <p:nvPr/>
          </p:nvSpPr>
          <p:spPr>
            <a:xfrm>
              <a:off x="1006200" y="2310120"/>
              <a:ext cx="178560" cy="1285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090"/>
            <p:cNvSpPr/>
            <p:nvPr/>
          </p:nvSpPr>
          <p:spPr>
            <a:xfrm>
              <a:off x="1452960" y="2979720"/>
              <a:ext cx="22320" cy="213480"/>
            </a:xfrm>
            <a:prstGeom prst="pie">
              <a:avLst/>
            </a:prstGeom>
            <a:noFill/>
            <a:ln w="12600">
              <a:solidFill>
                <a:srgbClr val="f7ae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091"/>
            <p:cNvSpPr/>
            <p:nvPr/>
          </p:nvSpPr>
          <p:spPr>
            <a:xfrm>
              <a:off x="1006200" y="2310120"/>
              <a:ext cx="178560" cy="1285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092"/>
            <p:cNvSpPr/>
            <p:nvPr/>
          </p:nvSpPr>
          <p:spPr>
            <a:xfrm>
              <a:off x="876240" y="2310120"/>
              <a:ext cx="219240" cy="367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093"/>
            <p:cNvSpPr/>
            <p:nvPr/>
          </p:nvSpPr>
          <p:spPr>
            <a:xfrm rot="7354200">
              <a:off x="1094040" y="2139840"/>
              <a:ext cx="330840" cy="243720"/>
            </a:xfrm>
            <a:prstGeom prst="triangle">
              <a:avLst>
                <a:gd name="adj" fmla="val 55125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094"/>
            <p:cNvSpPr/>
            <p:nvPr/>
          </p:nvSpPr>
          <p:spPr>
            <a:xfrm>
              <a:off x="917280" y="2765520"/>
              <a:ext cx="356760" cy="78120"/>
            </a:xfrm>
            <a:prstGeom prst="pie">
              <a:avLst/>
            </a:prstGeom>
            <a:noFill/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095"/>
            <p:cNvSpPr/>
            <p:nvPr/>
          </p:nvSpPr>
          <p:spPr>
            <a:xfrm>
              <a:off x="1423080" y="2995200"/>
              <a:ext cx="89280" cy="204840"/>
            </a:xfrm>
            <a:prstGeom prst="pie">
              <a:avLst/>
            </a:prstGeom>
            <a:noFill/>
            <a:ln w="12600">
              <a:solidFill>
                <a:srgbClr val="f7ae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096"/>
            <p:cNvSpPr/>
            <p:nvPr/>
          </p:nvSpPr>
          <p:spPr>
            <a:xfrm flipH="1">
              <a:off x="1024920" y="3758400"/>
              <a:ext cx="35280" cy="29448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097"/>
            <p:cNvSpPr/>
            <p:nvPr/>
          </p:nvSpPr>
          <p:spPr>
            <a:xfrm>
              <a:off x="1179360" y="3781800"/>
              <a:ext cx="11160" cy="25020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Rectangle 2103"/>
          <p:cNvSpPr/>
          <p:nvPr/>
        </p:nvSpPr>
        <p:spPr>
          <a:xfrm>
            <a:off x="3362400" y="4614840"/>
            <a:ext cx="2133360" cy="150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104"/>
          <p:cNvSpPr/>
          <p:nvPr/>
        </p:nvSpPr>
        <p:spPr>
          <a:xfrm rot="10794600">
            <a:off x="3330360" y="4195080"/>
            <a:ext cx="2173320" cy="43020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2131"/>
          <p:cNvGrpSpPr/>
          <p:nvPr/>
        </p:nvGrpSpPr>
        <p:grpSpPr>
          <a:xfrm>
            <a:off x="4615560" y="5333400"/>
            <a:ext cx="228240" cy="295920"/>
            <a:chOff x="4615560" y="5333400"/>
            <a:chExt cx="228240" cy="295920"/>
          </a:xfrm>
        </p:grpSpPr>
        <p:sp>
          <p:nvSpPr>
            <p:cNvPr id="372" name="AutoShape 2122"/>
            <p:cNvSpPr/>
            <p:nvPr/>
          </p:nvSpPr>
          <p:spPr>
            <a:xfrm rot="21541200">
              <a:off x="4617720" y="5335200"/>
              <a:ext cx="223560" cy="284400"/>
            </a:xfrm>
            <a:prstGeom prst="parallelogram">
              <a:avLst>
                <a:gd name="adj" fmla="val 2130"/>
              </a:avLst>
            </a:prstGeom>
            <a:solidFill>
              <a:srgbClr val="800000"/>
            </a:solidFill>
            <a:ln w="9360">
              <a:solidFill>
                <a:srgbClr val="6633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123"/>
            <p:cNvSpPr/>
            <p:nvPr/>
          </p:nvSpPr>
          <p:spPr>
            <a:xfrm>
              <a:off x="4730760" y="53658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124"/>
            <p:cNvSpPr/>
            <p:nvPr/>
          </p:nvSpPr>
          <p:spPr>
            <a:xfrm>
              <a:off x="4630680" y="5435640"/>
              <a:ext cx="203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2132"/>
          <p:cNvGrpSpPr/>
          <p:nvPr/>
        </p:nvGrpSpPr>
        <p:grpSpPr>
          <a:xfrm>
            <a:off x="5096520" y="4804920"/>
            <a:ext cx="228240" cy="295200"/>
            <a:chOff x="5096520" y="4804920"/>
            <a:chExt cx="228240" cy="295200"/>
          </a:xfrm>
        </p:grpSpPr>
        <p:sp>
          <p:nvSpPr>
            <p:cNvPr id="376" name="AutoShape 2133"/>
            <p:cNvSpPr/>
            <p:nvPr/>
          </p:nvSpPr>
          <p:spPr>
            <a:xfrm rot="21541200">
              <a:off x="5098680" y="480672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800000"/>
            </a:solidFill>
            <a:ln w="9360">
              <a:solidFill>
                <a:srgbClr val="6633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134"/>
            <p:cNvSpPr/>
            <p:nvPr/>
          </p:nvSpPr>
          <p:spPr>
            <a:xfrm>
              <a:off x="5211720" y="483696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135"/>
            <p:cNvSpPr/>
            <p:nvPr/>
          </p:nvSpPr>
          <p:spPr>
            <a:xfrm>
              <a:off x="5111640" y="4906800"/>
              <a:ext cx="20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AutoShape 2148"/>
          <p:cNvSpPr/>
          <p:nvPr/>
        </p:nvSpPr>
        <p:spPr>
          <a:xfrm>
            <a:off x="5207040" y="3040200"/>
            <a:ext cx="358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05" y="1114"/>
                  <a:pt x="6210" y="5080"/>
                  <a:pt x="6210" y="10800"/>
                </a:cubicBezTo>
                <a:cubicBezTo>
                  <a:pt x="6210" y="16520"/>
                  <a:pt x="13905" y="204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45929" dir="19571123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2183"/>
          <p:cNvGrpSpPr/>
          <p:nvPr/>
        </p:nvGrpSpPr>
        <p:grpSpPr>
          <a:xfrm>
            <a:off x="4867200" y="3875040"/>
            <a:ext cx="316080" cy="254160"/>
            <a:chOff x="4867200" y="3875040"/>
            <a:chExt cx="316080" cy="254160"/>
          </a:xfrm>
        </p:grpSpPr>
        <p:sp>
          <p:nvSpPr>
            <p:cNvPr id="381" name="Line 2149"/>
            <p:cNvSpPr/>
            <p:nvPr/>
          </p:nvSpPr>
          <p:spPr>
            <a:xfrm flipH="1" flipV="1">
              <a:off x="4959000" y="3875040"/>
              <a:ext cx="972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150"/>
            <p:cNvSpPr/>
            <p:nvPr/>
          </p:nvSpPr>
          <p:spPr>
            <a:xfrm flipV="1">
              <a:off x="4929120" y="3935160"/>
              <a:ext cx="9072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51"/>
            <p:cNvSpPr/>
            <p:nvPr/>
          </p:nvSpPr>
          <p:spPr>
            <a:xfrm flipV="1">
              <a:off x="4867200" y="3976920"/>
              <a:ext cx="31608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2152"/>
          <p:cNvSpPr/>
          <p:nvPr/>
        </p:nvSpPr>
        <p:spPr>
          <a:xfrm>
            <a:off x="6746760" y="1476360"/>
            <a:ext cx="1911600" cy="1614600"/>
          </a:xfrm>
          <a:prstGeom prst="roundRect">
            <a:avLst>
              <a:gd name="adj" fmla="val 1523"/>
            </a:avLst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154"/>
          <p:cNvSpPr/>
          <p:nvPr/>
        </p:nvSpPr>
        <p:spPr>
          <a:xfrm>
            <a:off x="6861240" y="1625760"/>
            <a:ext cx="1749240" cy="1325520"/>
          </a:xfrm>
          <a:prstGeom prst="roundRect">
            <a:avLst>
              <a:gd name="adj" fmla="val 7278"/>
            </a:avLst>
          </a:prstGeom>
          <a:gradFill rotWithShape="0">
            <a:gsLst>
              <a:gs pos="0">
                <a:srgbClr val="dddddd"/>
              </a:gs>
              <a:gs pos="100000">
                <a:srgbClr val="eff9ff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56"/>
          <p:cNvSpPr/>
          <p:nvPr/>
        </p:nvSpPr>
        <p:spPr>
          <a:xfrm>
            <a:off x="8443800" y="2963880"/>
            <a:ext cx="106560" cy="96840"/>
          </a:xfrm>
          <a:prstGeom prst="rect">
            <a:avLst/>
          </a:pr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2157"/>
          <p:cNvSpPr/>
          <p:nvPr/>
        </p:nvSpPr>
        <p:spPr>
          <a:xfrm rot="16200000">
            <a:off x="8111880" y="2133360"/>
            <a:ext cx="1379520" cy="135000"/>
          </a:xfrm>
          <a:prstGeom prst="pi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  <a:effectLst>
            <a:outerShdw dist="85328" dir="1779390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2161"/>
          <p:cNvSpPr/>
          <p:nvPr/>
        </p:nvSpPr>
        <p:spPr>
          <a:xfrm>
            <a:off x="4195800" y="3160800"/>
            <a:ext cx="230040" cy="102960"/>
          </a:xfrm>
          <a:custGeom>
            <a:avLst/>
            <a:gdLst>
              <a:gd name="textAreaLeft" fmla="*/ 94680 w 230040"/>
              <a:gd name="textAreaRight" fmla="*/ 135360 w 230040"/>
              <a:gd name="textAreaTop" fmla="*/ 42480 h 102960"/>
              <a:gd name="textAreaBottom" fmla="*/ 60480 h 10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68321" dir="20281825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162"/>
          <p:cNvSpPr/>
          <p:nvPr/>
        </p:nvSpPr>
        <p:spPr>
          <a:xfrm>
            <a:off x="5934240" y="3198960"/>
            <a:ext cx="74520" cy="104760"/>
          </a:xfrm>
          <a:prstGeom prst="pie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45929" dir="19571123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2164"/>
          <p:cNvSpPr/>
          <p:nvPr/>
        </p:nvSpPr>
        <p:spPr>
          <a:xfrm>
            <a:off x="4757760" y="3247920"/>
            <a:ext cx="103320" cy="195480"/>
          </a:xfrm>
          <a:custGeom>
            <a:avLst/>
            <a:gdLst>
              <a:gd name="textAreaLeft" fmla="*/ 42480 w 103320"/>
              <a:gd name="textAreaRight" fmla="*/ 60840 w 103320"/>
              <a:gd name="textAreaTop" fmla="*/ 80640 h 195480"/>
              <a:gd name="textAreaBottom" fmla="*/ 114840 h 1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68321" dir="20281825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WordArt 2165"/>
          <p:cNvSpPr txBox="1"/>
          <p:nvPr/>
        </p:nvSpPr>
        <p:spPr>
          <a:xfrm>
            <a:off x="6824520" y="2004840"/>
            <a:ext cx="1629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Window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92" name="WordArt 2168"/>
          <p:cNvSpPr txBox="1"/>
          <p:nvPr/>
        </p:nvSpPr>
        <p:spPr>
          <a:xfrm>
            <a:off x="4135320" y="4430880"/>
            <a:ext cx="655920" cy="1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6a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БАНК</a:t>
            </a:r>
            <a:endParaRPr b="0" lang="en-US" sz="2400" spc="1" strike="noStrike">
              <a:ln w="3240">
                <a:solidFill>
                  <a:srgbClr val="6a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3" name="AutoShape 2177"/>
          <p:cNvSpPr/>
          <p:nvPr/>
        </p:nvSpPr>
        <p:spPr>
          <a:xfrm rot="19872600">
            <a:off x="4079520" y="3747600"/>
            <a:ext cx="16344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85" y="1430"/>
                  <a:pt x="7970" y="5080"/>
                  <a:pt x="7970" y="10800"/>
                </a:cubicBezTo>
                <a:cubicBezTo>
                  <a:pt x="7970" y="16520"/>
                  <a:pt x="14785" y="201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808080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2178"/>
          <p:cNvSpPr/>
          <p:nvPr/>
        </p:nvSpPr>
        <p:spPr>
          <a:xfrm rot="20100000">
            <a:off x="4111560" y="3713040"/>
            <a:ext cx="185760" cy="35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179"/>
          <p:cNvSpPr/>
          <p:nvPr/>
        </p:nvSpPr>
        <p:spPr>
          <a:xfrm>
            <a:off x="4157640" y="3807000"/>
            <a:ext cx="214200" cy="15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180"/>
          <p:cNvSpPr/>
          <p:nvPr/>
        </p:nvSpPr>
        <p:spPr>
          <a:xfrm flipH="1">
            <a:off x="4274640" y="3824280"/>
            <a:ext cx="86040" cy="17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181"/>
          <p:cNvSpPr/>
          <p:nvPr/>
        </p:nvSpPr>
        <p:spPr>
          <a:xfrm flipV="1">
            <a:off x="4143240" y="3835440"/>
            <a:ext cx="208080" cy="856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184"/>
          <p:cNvSpPr/>
          <p:nvPr/>
        </p:nvSpPr>
        <p:spPr>
          <a:xfrm flipH="1">
            <a:off x="4066920" y="3949560"/>
            <a:ext cx="6120" cy="149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85"/>
          <p:cNvSpPr/>
          <p:nvPr/>
        </p:nvSpPr>
        <p:spPr>
          <a:xfrm flipH="1">
            <a:off x="3997440" y="3987720"/>
            <a:ext cx="87120" cy="1317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186"/>
          <p:cNvSpPr/>
          <p:nvPr/>
        </p:nvSpPr>
        <p:spPr>
          <a:xfrm>
            <a:off x="4078440" y="3995640"/>
            <a:ext cx="50760" cy="1033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2195"/>
          <p:cNvGrpSpPr/>
          <p:nvPr/>
        </p:nvGrpSpPr>
        <p:grpSpPr>
          <a:xfrm>
            <a:off x="3583800" y="4781520"/>
            <a:ext cx="228240" cy="301680"/>
            <a:chOff x="3583800" y="4781520"/>
            <a:chExt cx="228240" cy="301680"/>
          </a:xfrm>
        </p:grpSpPr>
        <p:sp>
          <p:nvSpPr>
            <p:cNvPr id="402" name="AutoShape 2109"/>
            <p:cNvSpPr/>
            <p:nvPr/>
          </p:nvSpPr>
          <p:spPr>
            <a:xfrm rot="21541200">
              <a:off x="3585960" y="478764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187"/>
            <p:cNvSpPr/>
            <p:nvPr/>
          </p:nvSpPr>
          <p:spPr>
            <a:xfrm>
              <a:off x="3651120" y="47926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189"/>
            <p:cNvSpPr/>
            <p:nvPr/>
          </p:nvSpPr>
          <p:spPr>
            <a:xfrm>
              <a:off x="3620880" y="47973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90"/>
            <p:cNvSpPr/>
            <p:nvPr/>
          </p:nvSpPr>
          <p:spPr>
            <a:xfrm>
              <a:off x="3595320" y="47973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192"/>
            <p:cNvSpPr/>
            <p:nvPr/>
          </p:nvSpPr>
          <p:spPr>
            <a:xfrm>
              <a:off x="3782880" y="4791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193"/>
            <p:cNvSpPr/>
            <p:nvPr/>
          </p:nvSpPr>
          <p:spPr>
            <a:xfrm>
              <a:off x="3752640" y="47815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194"/>
            <p:cNvSpPr/>
            <p:nvPr/>
          </p:nvSpPr>
          <p:spPr>
            <a:xfrm>
              <a:off x="3711240" y="4791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2196"/>
          <p:cNvGrpSpPr/>
          <p:nvPr/>
        </p:nvGrpSpPr>
        <p:grpSpPr>
          <a:xfrm>
            <a:off x="4148640" y="4805280"/>
            <a:ext cx="228600" cy="301680"/>
            <a:chOff x="4148640" y="4805280"/>
            <a:chExt cx="228600" cy="301680"/>
          </a:xfrm>
        </p:grpSpPr>
        <p:sp>
          <p:nvSpPr>
            <p:cNvPr id="410" name="AutoShape 2197"/>
            <p:cNvSpPr/>
            <p:nvPr/>
          </p:nvSpPr>
          <p:spPr>
            <a:xfrm rot="21541200">
              <a:off x="4150800" y="481140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198"/>
            <p:cNvSpPr/>
            <p:nvPr/>
          </p:nvSpPr>
          <p:spPr>
            <a:xfrm>
              <a:off x="4216320" y="48164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199"/>
            <p:cNvSpPr/>
            <p:nvPr/>
          </p:nvSpPr>
          <p:spPr>
            <a:xfrm>
              <a:off x="4186080" y="4821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200"/>
            <p:cNvSpPr/>
            <p:nvPr/>
          </p:nvSpPr>
          <p:spPr>
            <a:xfrm>
              <a:off x="4160520" y="4821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201"/>
            <p:cNvSpPr/>
            <p:nvPr/>
          </p:nvSpPr>
          <p:spPr>
            <a:xfrm>
              <a:off x="4348080" y="48150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202"/>
            <p:cNvSpPr/>
            <p:nvPr/>
          </p:nvSpPr>
          <p:spPr>
            <a:xfrm>
              <a:off x="4317840" y="48052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203"/>
            <p:cNvSpPr/>
            <p:nvPr/>
          </p:nvSpPr>
          <p:spPr>
            <a:xfrm>
              <a:off x="4276440" y="48150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2204"/>
          <p:cNvGrpSpPr/>
          <p:nvPr/>
        </p:nvGrpSpPr>
        <p:grpSpPr>
          <a:xfrm>
            <a:off x="4631400" y="4807080"/>
            <a:ext cx="228600" cy="300960"/>
            <a:chOff x="4631400" y="4807080"/>
            <a:chExt cx="228600" cy="300960"/>
          </a:xfrm>
        </p:grpSpPr>
        <p:sp>
          <p:nvSpPr>
            <p:cNvPr id="418" name="AutoShape 2205"/>
            <p:cNvSpPr/>
            <p:nvPr/>
          </p:nvSpPr>
          <p:spPr>
            <a:xfrm rot="21541200">
              <a:off x="4633560" y="4812840"/>
              <a:ext cx="223920" cy="28368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206"/>
            <p:cNvSpPr/>
            <p:nvPr/>
          </p:nvSpPr>
          <p:spPr>
            <a:xfrm>
              <a:off x="4699080" y="481788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07"/>
            <p:cNvSpPr/>
            <p:nvPr/>
          </p:nvSpPr>
          <p:spPr>
            <a:xfrm>
              <a:off x="4668840" y="482256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208"/>
            <p:cNvSpPr/>
            <p:nvPr/>
          </p:nvSpPr>
          <p:spPr>
            <a:xfrm>
              <a:off x="4643280" y="482256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209"/>
            <p:cNvSpPr/>
            <p:nvPr/>
          </p:nvSpPr>
          <p:spPr>
            <a:xfrm>
              <a:off x="4830840" y="481644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210"/>
            <p:cNvSpPr/>
            <p:nvPr/>
          </p:nvSpPr>
          <p:spPr>
            <a:xfrm>
              <a:off x="4800600" y="480708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211"/>
            <p:cNvSpPr/>
            <p:nvPr/>
          </p:nvSpPr>
          <p:spPr>
            <a:xfrm>
              <a:off x="4759200" y="481644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2212"/>
          <p:cNvGrpSpPr/>
          <p:nvPr/>
        </p:nvGrpSpPr>
        <p:grpSpPr>
          <a:xfrm>
            <a:off x="3610800" y="5329080"/>
            <a:ext cx="228240" cy="301680"/>
            <a:chOff x="3610800" y="5329080"/>
            <a:chExt cx="228240" cy="301680"/>
          </a:xfrm>
        </p:grpSpPr>
        <p:sp>
          <p:nvSpPr>
            <p:cNvPr id="426" name="AutoShape 2213"/>
            <p:cNvSpPr/>
            <p:nvPr/>
          </p:nvSpPr>
          <p:spPr>
            <a:xfrm rot="21541200">
              <a:off x="3612960" y="533520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214"/>
            <p:cNvSpPr/>
            <p:nvPr/>
          </p:nvSpPr>
          <p:spPr>
            <a:xfrm>
              <a:off x="3678120" y="5340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215"/>
            <p:cNvSpPr/>
            <p:nvPr/>
          </p:nvSpPr>
          <p:spPr>
            <a:xfrm>
              <a:off x="3647880" y="53449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216"/>
            <p:cNvSpPr/>
            <p:nvPr/>
          </p:nvSpPr>
          <p:spPr>
            <a:xfrm>
              <a:off x="3622320" y="53449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217"/>
            <p:cNvSpPr/>
            <p:nvPr/>
          </p:nvSpPr>
          <p:spPr>
            <a:xfrm>
              <a:off x="3809880" y="53388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218"/>
            <p:cNvSpPr/>
            <p:nvPr/>
          </p:nvSpPr>
          <p:spPr>
            <a:xfrm>
              <a:off x="3779640" y="5329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2219"/>
            <p:cNvSpPr/>
            <p:nvPr/>
          </p:nvSpPr>
          <p:spPr>
            <a:xfrm>
              <a:off x="3738240" y="53388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2220"/>
          <p:cNvGrpSpPr/>
          <p:nvPr/>
        </p:nvGrpSpPr>
        <p:grpSpPr>
          <a:xfrm>
            <a:off x="4185360" y="5334120"/>
            <a:ext cx="228600" cy="301680"/>
            <a:chOff x="4185360" y="5334120"/>
            <a:chExt cx="228600" cy="301680"/>
          </a:xfrm>
        </p:grpSpPr>
        <p:sp>
          <p:nvSpPr>
            <p:cNvPr id="434" name="AutoShape 2221"/>
            <p:cNvSpPr/>
            <p:nvPr/>
          </p:nvSpPr>
          <p:spPr>
            <a:xfrm rot="21541200">
              <a:off x="4187520" y="534024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222"/>
            <p:cNvSpPr/>
            <p:nvPr/>
          </p:nvSpPr>
          <p:spPr>
            <a:xfrm>
              <a:off x="4253040" y="53452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223"/>
            <p:cNvSpPr/>
            <p:nvPr/>
          </p:nvSpPr>
          <p:spPr>
            <a:xfrm>
              <a:off x="422280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224"/>
            <p:cNvSpPr/>
            <p:nvPr/>
          </p:nvSpPr>
          <p:spPr>
            <a:xfrm>
              <a:off x="419724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225"/>
            <p:cNvSpPr/>
            <p:nvPr/>
          </p:nvSpPr>
          <p:spPr>
            <a:xfrm>
              <a:off x="4384800" y="53438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226"/>
            <p:cNvSpPr/>
            <p:nvPr/>
          </p:nvSpPr>
          <p:spPr>
            <a:xfrm>
              <a:off x="4354560" y="5334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227"/>
            <p:cNvSpPr/>
            <p:nvPr/>
          </p:nvSpPr>
          <p:spPr>
            <a:xfrm>
              <a:off x="4313160" y="53438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2228"/>
          <p:cNvGrpSpPr/>
          <p:nvPr/>
        </p:nvGrpSpPr>
        <p:grpSpPr>
          <a:xfrm>
            <a:off x="5109120" y="5340240"/>
            <a:ext cx="228600" cy="301680"/>
            <a:chOff x="5109120" y="5340240"/>
            <a:chExt cx="228600" cy="301680"/>
          </a:xfrm>
        </p:grpSpPr>
        <p:sp>
          <p:nvSpPr>
            <p:cNvPr id="442" name="AutoShape 2229"/>
            <p:cNvSpPr/>
            <p:nvPr/>
          </p:nvSpPr>
          <p:spPr>
            <a:xfrm rot="21541200">
              <a:off x="5111280" y="534636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230"/>
            <p:cNvSpPr/>
            <p:nvPr/>
          </p:nvSpPr>
          <p:spPr>
            <a:xfrm>
              <a:off x="5176800" y="53514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231"/>
            <p:cNvSpPr/>
            <p:nvPr/>
          </p:nvSpPr>
          <p:spPr>
            <a:xfrm>
              <a:off x="5146560" y="5356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232"/>
            <p:cNvSpPr/>
            <p:nvPr/>
          </p:nvSpPr>
          <p:spPr>
            <a:xfrm>
              <a:off x="5121000" y="5356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233"/>
            <p:cNvSpPr/>
            <p:nvPr/>
          </p:nvSpPr>
          <p:spPr>
            <a:xfrm>
              <a:off x="530856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234"/>
            <p:cNvSpPr/>
            <p:nvPr/>
          </p:nvSpPr>
          <p:spPr>
            <a:xfrm>
              <a:off x="5278320" y="5340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235"/>
            <p:cNvSpPr/>
            <p:nvPr/>
          </p:nvSpPr>
          <p:spPr>
            <a:xfrm>
              <a:off x="523692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 Box 2236"/>
          <p:cNvSpPr/>
          <p:nvPr/>
        </p:nvSpPr>
        <p:spPr>
          <a:xfrm>
            <a:off x="74520" y="720720"/>
            <a:ext cx="9068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  помощью  панели  «Рисование»  можно  создавать  не  только  блок-схемы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 и  несложные  рисунки.   Например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238">
            <a:hlinkClick r:id="" action="ppaction://hlinkshowjump?jump=previousslide"/>
          </p:cNvPr>
          <p:cNvSpPr/>
          <p:nvPr/>
        </p:nvSpPr>
        <p:spPr>
          <a:xfrm>
            <a:off x="8288280" y="6338880"/>
            <a:ext cx="473040" cy="243000"/>
          </a:xfrm>
          <a:custGeom>
            <a:avLst/>
            <a:gdLst>
              <a:gd name="textAreaLeft" fmla="*/ 15480 w 473040"/>
              <a:gd name="textAreaRight" fmla="*/ 457560 w 473040"/>
              <a:gd name="textAreaTop" fmla="*/ 15480 h 243000"/>
              <a:gd name="textAreaBottom" fmla="*/ 227520 h 243000"/>
            </a:gdLst>
            <a:ahLst/>
            <a:rect l="textAreaLeft" t="textAreaTop" r="textAreaRight" b="textAreaBottom"/>
            <a:pathLst>
              <a:path w="42018" h="21600">
                <a:moveTo>
                  <a:pt x="0" y="0"/>
                </a:moveTo>
                <a:lnTo>
                  <a:pt x="42018" y="0"/>
                </a:lnTo>
                <a:lnTo>
                  <a:pt x="42018" y="21600"/>
                </a:lnTo>
                <a:lnTo>
                  <a:pt x="0" y="21600"/>
                </a:lnTo>
                <a:close/>
              </a:path>
              <a:path fill="lightenLess" w="42018" h="21600">
                <a:moveTo>
                  <a:pt x="0" y="0"/>
                </a:moveTo>
                <a:lnTo>
                  <a:pt x="42018" y="0"/>
                </a:lnTo>
                <a:lnTo>
                  <a:pt x="40618" y="1400"/>
                </a:lnTo>
                <a:lnTo>
                  <a:pt x="1400" y="1400"/>
                </a:lnTo>
                <a:close/>
              </a:path>
              <a:path fill="darken" w="42018" h="21600">
                <a:moveTo>
                  <a:pt x="42018" y="0"/>
                </a:moveTo>
                <a:lnTo>
                  <a:pt x="42018" y="21600"/>
                </a:lnTo>
                <a:lnTo>
                  <a:pt x="40618" y="20200"/>
                </a:lnTo>
                <a:lnTo>
                  <a:pt x="40618" y="1400"/>
                </a:lnTo>
                <a:close/>
              </a:path>
              <a:path fill="darkenLess" w="42018" h="21600">
                <a:moveTo>
                  <a:pt x="4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18" y="20200"/>
                </a:lnTo>
                <a:close/>
              </a:path>
              <a:path fill="lighten" w="4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18" h="21600">
                <a:moveTo>
                  <a:pt x="14002" y="10800"/>
                </a:moveTo>
                <a:lnTo>
                  <a:pt x="28015" y="3794"/>
                </a:lnTo>
                <a:lnTo>
                  <a:pt x="28015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1846440" y="1171440"/>
            <a:ext cx="4170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остейшие  графики  можно  создать 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на  глаз»   с  помощью  инструментов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анели  «Рисование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7" descr="C:\WINDOWS\Рабочий стол\Преподавание\1-ые слайды презентации\Рис для презентации\$.jpg"/>
          <p:cNvPicPr/>
          <p:nvPr/>
        </p:nvPicPr>
        <p:blipFill>
          <a:blip r:embed="rId1"/>
          <a:stretch/>
        </p:blipFill>
        <p:spPr>
          <a:xfrm>
            <a:off x="6262560" y="2311560"/>
            <a:ext cx="2752920" cy="208728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8">
            <a:hlinkClick r:id="rId2" action="ppaction://hlinksldjump"/>
          </p:cNvPr>
          <p:cNvSpPr/>
          <p:nvPr/>
        </p:nvSpPr>
        <p:spPr>
          <a:xfrm>
            <a:off x="8253360" y="6350040"/>
            <a:ext cx="531720" cy="312840"/>
          </a:xfrm>
          <a:custGeom>
            <a:avLst/>
            <a:gdLst>
              <a:gd name="textAreaLeft" fmla="*/ 20160 w 531720"/>
              <a:gd name="textAreaRight" fmla="*/ 511560 w 53172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36695" h="21600">
                <a:moveTo>
                  <a:pt x="0" y="0"/>
                </a:moveTo>
                <a:lnTo>
                  <a:pt x="36695" y="0"/>
                </a:lnTo>
                <a:lnTo>
                  <a:pt x="36695" y="21600"/>
                </a:lnTo>
                <a:lnTo>
                  <a:pt x="0" y="21600"/>
                </a:lnTo>
                <a:close/>
              </a:path>
              <a:path fill="lightenLess" w="36695" h="21600">
                <a:moveTo>
                  <a:pt x="0" y="0"/>
                </a:moveTo>
                <a:lnTo>
                  <a:pt x="36695" y="0"/>
                </a:lnTo>
                <a:lnTo>
                  <a:pt x="35295" y="1400"/>
                </a:lnTo>
                <a:lnTo>
                  <a:pt x="1400" y="1400"/>
                </a:lnTo>
                <a:close/>
              </a:path>
              <a:path fill="darken" w="36695" h="21600">
                <a:moveTo>
                  <a:pt x="36695" y="0"/>
                </a:moveTo>
                <a:lnTo>
                  <a:pt x="36695" y="21600"/>
                </a:lnTo>
                <a:lnTo>
                  <a:pt x="35295" y="20200"/>
                </a:lnTo>
                <a:lnTo>
                  <a:pt x="35295" y="1400"/>
                </a:lnTo>
                <a:close/>
              </a:path>
              <a:path fill="darkenLess" w="36695" h="21600">
                <a:moveTo>
                  <a:pt x="36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95" y="20200"/>
                </a:lnTo>
                <a:close/>
              </a:path>
              <a:path fill="lighten" w="36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95" h="21600">
                <a:moveTo>
                  <a:pt x="11341" y="10800"/>
                </a:moveTo>
                <a:lnTo>
                  <a:pt x="25354" y="3794"/>
                </a:lnTo>
                <a:lnTo>
                  <a:pt x="2535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541440" y="0"/>
            <a:ext cx="8318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ДИАГРАММА, ГРАФИК </a:t>
            </a:r>
            <a:br>
              <a:rPr sz="30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для 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577800" y="5668920"/>
            <a:ext cx="41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Графики, диаграммы  по числовым данным создаются предварительно   в  программе  </a:t>
            </a:r>
            <a:r>
              <a:rPr b="1" lang="en-US" sz="1500" spc="-1" strike="noStrike">
                <a:solidFill>
                  <a:srgbClr val="660033"/>
                </a:solidFill>
                <a:latin typeface="Arial"/>
              </a:rPr>
              <a:t>Excel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а затем вставляются в презентацию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6775560" y="4491000"/>
            <a:ext cx="2193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т  график представлен  в  виде  рисованных фигур.  Создание подобного - это  Ваше  творчество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 flipV="1">
            <a:off x="246240" y="912960"/>
            <a:ext cx="0" cy="179064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252360" y="2674800"/>
            <a:ext cx="179064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15"/>
          <p:cNvSpPr/>
          <p:nvPr/>
        </p:nvSpPr>
        <p:spPr>
          <a:xfrm>
            <a:off x="466560" y="1039680"/>
            <a:ext cx="1395720" cy="14655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Object 16"/>
          <p:cNvGraphicFramePr/>
          <p:nvPr/>
        </p:nvGraphicFramePr>
        <p:xfrm>
          <a:off x="546120" y="3192480"/>
          <a:ext cx="4300560" cy="2446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1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120" y="3192480"/>
                    <a:ext cx="43005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17"/>
          <p:cNvSpPr/>
          <p:nvPr/>
        </p:nvSpPr>
        <p:spPr>
          <a:xfrm>
            <a:off x="436680" y="703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8"/>
          <p:cNvSpPr/>
          <p:nvPr/>
        </p:nvSpPr>
        <p:spPr>
          <a:xfrm>
            <a:off x="1881360" y="22035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541440" y="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равильно  подбирайте  тип  диаграм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12840" y="681120"/>
            <a:ext cx="8831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ля построения диаграммы  в программе 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MS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ba0d00"/>
                </a:solidFill>
                <a:latin typeface="Arial"/>
              </a:rPr>
              <a:t>Excel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ам достаточно  только ввести числа в виде таблицы и щелкнуть по кнопке «Мастер диаграмм». Далее программа сама  будет строить нужную Вам диаграмму - Вы только будете отвечать на простые вопросы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50840" y="1698480"/>
            <a:ext cx="899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на первом шаге Вы должны правильно выбрать 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тип  диаграммы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(самые распространенные типы - гистограмма, график, круговая).  Ведь  для каждого случая следует выбирать  не любой  вид  диаграмм, а тот, который 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наглядно покажет  данные Вашей  таблицы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 Наприме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66"/>
          <p:cNvSpPr/>
          <p:nvPr/>
        </p:nvSpPr>
        <p:spPr>
          <a:xfrm>
            <a:off x="1903320" y="2747880"/>
            <a:ext cx="736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ИСТОГРАММА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наглядно  показывает  изменение  переменных за определенный период времени (как правило, ось Х – это ось времени); также иллюстрирует соотношение отдельных значений переменных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спользуется, например, в статистических задачах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8"/>
          <p:cNvSpPr/>
          <p:nvPr/>
        </p:nvSpPr>
        <p:spPr>
          <a:xfrm>
            <a:off x="277920" y="2608200"/>
            <a:ext cx="859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1"/>
          <p:cNvSpPr/>
          <p:nvPr/>
        </p:nvSpPr>
        <p:spPr>
          <a:xfrm>
            <a:off x="1878120" y="4078440"/>
            <a:ext cx="7089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РАФИК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используется для построения графиков функций и отображения процессов, непрерывных во времени (например, изменение температуры)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о есть  график показывает тенденции изменения данных за равные промежутки времен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72"/>
          <p:cNvSpPr/>
          <p:nvPr/>
        </p:nvSpPr>
        <p:spPr>
          <a:xfrm>
            <a:off x="1951200" y="5477040"/>
            <a:ext cx="704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КРУГОВА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- показывает, какую часть от целого занимают составляющие величины (например, какую долю в дневном рационе составляют жиры, белки, углеводы и т.д.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74"/>
          <p:cNvSpPr/>
          <p:nvPr/>
        </p:nvSpPr>
        <p:spPr>
          <a:xfrm>
            <a:off x="230040" y="2655720"/>
            <a:ext cx="15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Object 175"/>
          <p:cNvGraphicFramePr/>
          <p:nvPr/>
        </p:nvGraphicFramePr>
        <p:xfrm>
          <a:off x="262080" y="2546280"/>
          <a:ext cx="15699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2546280"/>
                    <a:ext cx="15699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76"/>
          <p:cNvGraphicFramePr/>
          <p:nvPr/>
        </p:nvGraphicFramePr>
        <p:xfrm>
          <a:off x="119160" y="3755880"/>
          <a:ext cx="191124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1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160" y="3755880"/>
                    <a:ext cx="191124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Line 178"/>
          <p:cNvSpPr/>
          <p:nvPr/>
        </p:nvSpPr>
        <p:spPr>
          <a:xfrm>
            <a:off x="277920" y="6326280"/>
            <a:ext cx="859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Object 179"/>
          <p:cNvGraphicFramePr/>
          <p:nvPr/>
        </p:nvGraphicFramePr>
        <p:xfrm>
          <a:off x="-171360" y="4957920"/>
          <a:ext cx="2103480" cy="117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17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71360" y="4957920"/>
                    <a:ext cx="21034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180"/>
          <p:cNvSpPr/>
          <p:nvPr/>
        </p:nvSpPr>
        <p:spPr>
          <a:xfrm>
            <a:off x="4259160" y="6308640"/>
            <a:ext cx="488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cc"/>
                </a:solidFill>
                <a:latin typeface="Arial"/>
              </a:rPr>
              <a:t>Ссылка  «</a:t>
            </a:r>
            <a:r>
              <a:rPr b="1" i="1" lang="ru-RU" sz="1500" spc="-1" strike="noStrike">
                <a:solidFill>
                  <a:srgbClr val="3333cc"/>
                </a:solidFill>
                <a:latin typeface="Arial"/>
              </a:rPr>
              <a:t>Подробнее</a:t>
            </a:r>
            <a:r>
              <a:rPr b="1" lang="ru-RU" sz="1500" spc="-1" strike="noStrike">
                <a:solidFill>
                  <a:srgbClr val="3333cc"/>
                </a:solidFill>
                <a:latin typeface="Arial"/>
              </a:rPr>
              <a:t>»  </a:t>
            </a:r>
            <a:r>
              <a:rPr b="0" lang="ru-RU" sz="1500" spc="-1" strike="noStrike">
                <a:solidFill>
                  <a:srgbClr val="3333cc"/>
                </a:solidFill>
                <a:latin typeface="Arial"/>
              </a:rPr>
              <a:t>на  мою методичку с. 36 - там больше примеров и объяснений. Доделать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541440" y="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равила   оформления  диаграм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19240" y="969840"/>
            <a:ext cx="848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Название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диаграммы  располагается  сверху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30040" y="2424240"/>
            <a:ext cx="8705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Если Вы выбрали для представления данных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рафик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то учтите, что он  не должен содержать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более 3-4 крив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254160" y="1616040"/>
            <a:ext cx="848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иаграммы  и схемы  желательно  дополнять  лаконичными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пояснениям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643120" y="4444920"/>
            <a:ext cx="5043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делать слайд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стить наглядные при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6" descr="C:\WINDOWS\Рабочий стол\Risssssssss\Резерв_отнесла\Комп_технологии\Gif+чудики\лошади43.gif"/>
          <p:cNvPicPr/>
          <p:nvPr/>
        </p:nvPicPr>
        <p:blipFill>
          <a:blip r:embed="rId1"/>
          <a:stretch/>
        </p:blipFill>
        <p:spPr>
          <a:xfrm>
            <a:off x="982800" y="5157720"/>
            <a:ext cx="1411200" cy="14112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5"/>
          <p:cNvSpPr/>
          <p:nvPr/>
        </p:nvSpPr>
        <p:spPr>
          <a:xfrm>
            <a:off x="241200" y="12600"/>
            <a:ext cx="86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Р И С У Н О К</a:t>
            </a:r>
            <a:br>
              <a:rPr sz="36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для иллюстрации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15" descr="C:\WINDOWS\Рабочий стол\Risssssssss\Резерв_отнесла\Комп_технологии\Gif+чудики\лошади5.gif"/>
          <p:cNvPicPr/>
          <p:nvPr/>
        </p:nvPicPr>
        <p:blipFill>
          <a:blip r:embed="rId2"/>
          <a:stretch/>
        </p:blipFill>
        <p:spPr>
          <a:xfrm>
            <a:off x="149400" y="4213080"/>
            <a:ext cx="1376280" cy="889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C:\WINDOWS\Рабочий стол\Risssssssss\Резерв_отнесла\Комп_технологии\Gif+чудики\лошадб бела.jpg"/>
          <p:cNvPicPr/>
          <p:nvPr/>
        </p:nvPicPr>
        <p:blipFill>
          <a:blip r:embed="rId3"/>
          <a:stretch/>
        </p:blipFill>
        <p:spPr>
          <a:xfrm>
            <a:off x="4478400" y="654120"/>
            <a:ext cx="4788000" cy="54417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8"/>
          <p:cNvSpPr/>
          <p:nvPr/>
        </p:nvSpPr>
        <p:spPr>
          <a:xfrm>
            <a:off x="157320" y="331632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) фотографи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2348280" y="63374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) аним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6750000" y="5915160"/>
            <a:ext cx="22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б) рис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600200" y="0"/>
            <a:ext cx="59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3300"/>
                </a:solidFill>
                <a:latin typeface="Arial"/>
              </a:rPr>
              <a:t>Вставка  рисунков  на  слайд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4191120" y="1295280"/>
            <a:ext cx="4800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амое простое, но не  всегда дизайнерски верное   решение  - вставить  рисунок  без  обработки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предварительной  или  последующей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4" descr="C:\WINDOWS\Рабочий стол\Преподавание\1-ые слайды презентации\Zagotovki\3D_проектир-руки.jpg"/>
          <p:cNvPicPr/>
          <p:nvPr/>
        </p:nvPicPr>
        <p:blipFill>
          <a:blip r:embed="rId1"/>
          <a:stretch/>
        </p:blipFill>
        <p:spPr>
          <a:xfrm>
            <a:off x="0" y="1173240"/>
            <a:ext cx="4038480" cy="2636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7"/>
          <p:cNvSpPr/>
          <p:nvPr/>
        </p:nvSpPr>
        <p:spPr>
          <a:xfrm>
            <a:off x="1371600" y="396252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т  рисунок  вставлен  таким  образом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он  смотрится  на  слайде  как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инородное тело», плохо  «вписывается»  в  фон слайд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057400" y="4572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меню   «Вставка - Рисунок - Из файла»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08080" y="5562720"/>
            <a:ext cx="893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  можно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оперативно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предпринять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если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  нашли рисунок,  который по содержанию  очень  подходит  к  тексту  слайда,  но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  не  собираетесь  его  предварительно обрабатывать  в  графической  программе под стиль, фон слайда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671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60020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рамление  рису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833400" y="5181120"/>
            <a:ext cx="7776720" cy="1541520"/>
            <a:chOff x="833400" y="5181120"/>
            <a:chExt cx="7776720" cy="1541520"/>
          </a:xfrm>
        </p:grpSpPr>
        <p:sp>
          <p:nvSpPr>
            <p:cNvPr id="500" name="Text Box 12"/>
            <p:cNvSpPr/>
            <p:nvPr/>
          </p:nvSpPr>
          <p:spPr>
            <a:xfrm>
              <a:off x="833400" y="5562720"/>
              <a:ext cx="36957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Чтобы  применить  </a:t>
              </a:r>
              <a:r>
                <a:rPr b="1" lang="ru-RU" sz="1300" spc="-1" strike="noStrike">
                  <a:solidFill>
                    <a:srgbClr val="a50021"/>
                  </a:solidFill>
                  <a:latin typeface="Arial"/>
                </a:rPr>
                <a:t>обрамление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,  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щелкните  по рисунку  правой  кнопкой мыши, выберите 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Формат  рисунка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</a:t>
              </a:r>
              <a:r>
                <a:rPr b="1" lang="ru-RU" sz="1300" spc="-1" strike="noStrike">
                  <a:solidFill>
                    <a:srgbClr val="660033"/>
                  </a:solidFill>
                  <a:latin typeface="Arial"/>
                </a:rPr>
                <a:t> -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Цвета  и  линии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.     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Хорошо смотрятся рамки под цвет шрифта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5992560" y="5638680"/>
              <a:ext cx="26175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Чтобы отбросить тень, нажмите  на  панели «Рисование» кнопку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Тень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.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В  «</a:t>
              </a:r>
              <a:r>
                <a:rPr b="0" i="1" lang="ru-RU" sz="1300" spc="-1" strike="noStrike">
                  <a:solidFill>
                    <a:srgbClr val="660033"/>
                  </a:solidFill>
                  <a:latin typeface="Arial"/>
                </a:rPr>
                <a:t>Настройка  тени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 установите  её  цвет, толщину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 flipV="1">
              <a:off x="3605400" y="5181120"/>
              <a:ext cx="0" cy="381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 flipV="1">
              <a:off x="7917120" y="5257800"/>
              <a:ext cx="0" cy="457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4" name="Picture 49" descr="C:\WINDOWS\Рабочий стол\Преподавание\1-ые слайды презентации\Рис для презентации\PK.jpg"/>
          <p:cNvPicPr/>
          <p:nvPr/>
        </p:nvPicPr>
        <p:blipFill>
          <a:blip r:embed="rId1"/>
          <a:stretch/>
        </p:blipFill>
        <p:spPr>
          <a:xfrm>
            <a:off x="152280" y="17524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0" descr="C:\WINDOWS\Рабочий стол\Преподавание\1-ые слайды презентации\Рис для презентации\ПК+малыши.jpg"/>
          <p:cNvPicPr/>
          <p:nvPr/>
        </p:nvPicPr>
        <p:blipFill>
          <a:blip r:embed="rId2"/>
          <a:stretch/>
        </p:blipFill>
        <p:spPr>
          <a:xfrm>
            <a:off x="152280" y="361944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6"/>
          <p:cNvSpPr/>
          <p:nvPr/>
        </p:nvSpPr>
        <p:spPr>
          <a:xfrm>
            <a:off x="380880" y="762120"/>
            <a:ext cx="7772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бы  такие  рисунки  объединить  общим  стилем,  органично  «вписать»  в  слайд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можно  их  обрамить 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амку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;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58"/>
          <p:cNvGrpSpPr/>
          <p:nvPr/>
        </p:nvGrpSpPr>
        <p:grpSpPr>
          <a:xfrm>
            <a:off x="2382840" y="1752480"/>
            <a:ext cx="2001960" cy="3368880"/>
            <a:chOff x="2382840" y="1752480"/>
            <a:chExt cx="2001960" cy="3368880"/>
          </a:xfrm>
        </p:grpSpPr>
        <p:pic>
          <p:nvPicPr>
            <p:cNvPr id="508" name="Picture 51" descr="C:\WINDOWS\Рабочий стол\Преподавание\1-ые слайды презентации\Рис для презентации\PK.jpg"/>
            <p:cNvPicPr/>
            <p:nvPr/>
          </p:nvPicPr>
          <p:blipFill>
            <a:blip r:embed="rId3"/>
            <a:stretch/>
          </p:blipFill>
          <p:spPr>
            <a:xfrm>
              <a:off x="2382840" y="1752480"/>
              <a:ext cx="1847880" cy="148428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pic>
          <p:nvPicPr>
            <p:cNvPr id="509" name="Picture 52" descr="C:\WINDOWS\Рабочий стол\Преподавание\1-ые слайды презентации\Рис для презентации\ПК+малыши.jpg"/>
            <p:cNvPicPr/>
            <p:nvPr/>
          </p:nvPicPr>
          <p:blipFill>
            <a:blip r:embed="rId4"/>
            <a:stretch/>
          </p:blipFill>
          <p:spPr>
            <a:xfrm>
              <a:off x="2382840" y="3635280"/>
              <a:ext cx="2001960" cy="148608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</p:grpSp>
      <p:grpSp>
        <p:nvGrpSpPr>
          <p:cNvPr id="510" name="Group 56"/>
          <p:cNvGrpSpPr/>
          <p:nvPr/>
        </p:nvGrpSpPr>
        <p:grpSpPr>
          <a:xfrm>
            <a:off x="4191120" y="1792440"/>
            <a:ext cx="4800600" cy="3389040"/>
            <a:chOff x="4191120" y="1792440"/>
            <a:chExt cx="4800600" cy="3389040"/>
          </a:xfrm>
        </p:grpSpPr>
        <p:sp>
          <p:nvSpPr>
            <p:cNvPr id="511" name="Text Box 30"/>
            <p:cNvSpPr/>
            <p:nvPr/>
          </p:nvSpPr>
          <p:spPr>
            <a:xfrm>
              <a:off x="4191120" y="1828800"/>
              <a:ext cx="2743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можно  отбросить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от  них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тень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Picture 54" descr="C:\WINDOWS\Рабочий стол\Преподавание\1-ые слайды презентации\Рис для презентации\PK.jpg"/>
            <p:cNvPicPr/>
            <p:nvPr/>
          </p:nvPicPr>
          <p:blipFill>
            <a:blip r:embed="rId5"/>
            <a:stretch/>
          </p:blipFill>
          <p:spPr>
            <a:xfrm>
              <a:off x="7162920" y="1792440"/>
              <a:ext cx="1828800" cy="148428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  <a:effectLst>
              <a:outerShdw dist="40186" dir="4303641" blurRad="0" rotWithShape="0">
                <a:srgbClr val="996600"/>
              </a:outerShdw>
            </a:effectLst>
          </p:spPr>
        </p:pic>
        <p:pic>
          <p:nvPicPr>
            <p:cNvPr id="513" name="Picture 55" descr="C:\WINDOWS\Рабочий стол\Преподавание\1-ые слайды презентации\Рис для презентации\ПК+малыши.jpg"/>
            <p:cNvPicPr/>
            <p:nvPr/>
          </p:nvPicPr>
          <p:blipFill>
            <a:blip r:embed="rId6"/>
            <a:stretch/>
          </p:blipFill>
          <p:spPr>
            <a:xfrm>
              <a:off x="7086600" y="3695760"/>
              <a:ext cx="1905120" cy="148572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500"/>
                            </p:stCondLst>
                            <p:childTnLst>
                              <p:par>
                                <p:cTn id="69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898560"/>
            <a:ext cx="8991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яд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которые  поочередно   появляются  на   экране  компьютера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 каждом  слайде  располагается  очередная  порция  материала  -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текс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с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иллюстрацие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чем  объекты  на  слайде  могут  появляться  в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движени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с  различными  эффектами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если  применить  к  ним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анимацию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57200" y="76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то такое  мультимедийная  презента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WINDOWS\Рабочий стол\Преподавание\1-ые слайды презентации\Рис для презентации\СЛАЙДЫ.jpg"/>
          <p:cNvPicPr/>
          <p:nvPr/>
        </p:nvPicPr>
        <p:blipFill>
          <a:blip r:embed="rId1"/>
          <a:stretch/>
        </p:blipFill>
        <p:spPr>
          <a:xfrm>
            <a:off x="152280" y="2178000"/>
            <a:ext cx="8763120" cy="33847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7893d">
                <a:alpha val="50000"/>
              </a:srgbClr>
            </a:outerShdw>
          </a:effectLst>
        </p:spPr>
      </p:pic>
      <p:grpSp>
        <p:nvGrpSpPr>
          <p:cNvPr id="72" name="Group 11"/>
          <p:cNvGrpSpPr/>
          <p:nvPr/>
        </p:nvGrpSpPr>
        <p:grpSpPr>
          <a:xfrm>
            <a:off x="4114800" y="5654520"/>
            <a:ext cx="4495680" cy="671400"/>
            <a:chOff x="4114800" y="5654520"/>
            <a:chExt cx="4495680" cy="671400"/>
          </a:xfrm>
        </p:grpSpPr>
        <p:sp>
          <p:nvSpPr>
            <p:cNvPr id="73" name="Text Box 7"/>
            <p:cNvSpPr/>
            <p:nvPr/>
          </p:nvSpPr>
          <p:spPr>
            <a:xfrm>
              <a:off x="4267080" y="5775480"/>
              <a:ext cx="4343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апример, это  8  слайдов  презентации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(если  представить  слайды  схематично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0"/>
            <p:cNvGrpSpPr/>
            <p:nvPr/>
          </p:nvGrpSpPr>
          <p:grpSpPr>
            <a:xfrm>
              <a:off x="4114800" y="5654520"/>
              <a:ext cx="152280" cy="517680"/>
              <a:chOff x="4114800" y="5654520"/>
              <a:chExt cx="152280" cy="517680"/>
            </a:xfrm>
          </p:grpSpPr>
          <p:sp>
            <p:nvSpPr>
              <p:cNvPr id="75" name="Line 8"/>
              <p:cNvSpPr/>
              <p:nvPr/>
            </p:nvSpPr>
            <p:spPr>
              <a:xfrm flipV="1">
                <a:off x="4114800" y="5654520"/>
                <a:ext cx="0" cy="517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9"/>
              <p:cNvSpPr/>
              <p:nvPr/>
            </p:nvSpPr>
            <p:spPr>
              <a:xfrm>
                <a:off x="4114800" y="617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2" descr="C:\WINDOWS\Рабочий стол\Преподавание\1-ые слайды презентации\Рис для презентации\3D_проектир-руки.jpg"/>
          <p:cNvPicPr/>
          <p:nvPr/>
        </p:nvPicPr>
        <p:blipFill>
          <a:blip r:embed="rId1"/>
          <a:stretch/>
        </p:blipFill>
        <p:spPr>
          <a:xfrm>
            <a:off x="4724280" y="3962520"/>
            <a:ext cx="4419720" cy="2835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2"/>
          <p:cNvSpPr/>
          <p:nvPr/>
        </p:nvSpPr>
        <p:spPr>
          <a:xfrm>
            <a:off x="11430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абота  с  однотонным  фоном  карти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4343400" y="838080"/>
            <a:ext cx="4800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Можно  рисунок  органично  вписать  в  слайд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убрав  его  фон  (сделать  фон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розрачны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343400" y="1508040"/>
            <a:ext cx="4648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чем если рисунок  имеет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однотонны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фон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660033"/>
                </a:solidFill>
                <a:latin typeface="Arial"/>
              </a:rPr>
              <a:t>в нашей картинке - черны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, его можно  убрать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одним  щелчком  мыш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8" descr="C:\WINDOWS\Рабочий стол\Преподавание\1-ые слайды презентации\Рис для презентации\3D_проектир-руки.jpg"/>
          <p:cNvPicPr/>
          <p:nvPr/>
        </p:nvPicPr>
        <p:blipFill>
          <a:blip r:embed="rId2"/>
          <a:stretch/>
        </p:blipFill>
        <p:spPr>
          <a:xfrm>
            <a:off x="0" y="609480"/>
            <a:ext cx="4038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23"/>
          <p:cNvGrpSpPr/>
          <p:nvPr/>
        </p:nvGrpSpPr>
        <p:grpSpPr>
          <a:xfrm>
            <a:off x="304920" y="3301920"/>
            <a:ext cx="5638320" cy="2946600"/>
            <a:chOff x="304920" y="3301920"/>
            <a:chExt cx="5638320" cy="2946600"/>
          </a:xfrm>
        </p:grpSpPr>
        <p:grpSp>
          <p:nvGrpSpPr>
            <p:cNvPr id="520" name="Group 14"/>
            <p:cNvGrpSpPr/>
            <p:nvPr/>
          </p:nvGrpSpPr>
          <p:grpSpPr>
            <a:xfrm>
              <a:off x="304920" y="3301920"/>
              <a:ext cx="5029200" cy="1348560"/>
              <a:chOff x="304920" y="3301920"/>
              <a:chExt cx="5029200" cy="1348560"/>
            </a:xfrm>
          </p:grpSpPr>
          <p:sp>
            <p:nvSpPr>
              <p:cNvPr id="521" name="Text Box 12"/>
              <p:cNvSpPr/>
              <p:nvPr/>
            </p:nvSpPr>
            <p:spPr>
              <a:xfrm>
                <a:off x="304920" y="3301920"/>
                <a:ext cx="50292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Для  этого на  панели «</a:t>
                </a:r>
                <a:r>
                  <a:rPr b="0" i="1" lang="ru-RU" sz="1500" spc="-1" strike="noStrike">
                    <a:solidFill>
                      <a:srgbClr val="660033"/>
                    </a:solidFill>
                    <a:latin typeface="Arial"/>
                  </a:rPr>
                  <a:t>Настройка изображения</a:t>
                </a: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» нажимают  кнопку          и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щелкают по тому цвету на  рисунке,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который нужно сделать  прозрачным 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(</a:t>
                </a:r>
                <a:r>
                  <a:rPr b="0" i="1" lang="ru-RU" sz="1500" spc="-1" strike="noStrike">
                    <a:solidFill>
                      <a:srgbClr val="660033"/>
                    </a:solidFill>
                    <a:latin typeface="Arial"/>
                  </a:rPr>
                  <a:t>в  нашем случае - по черному  фону</a:t>
                </a: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).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Picture 13" descr="C:\WINDOWS\Рабочий стол\Преподавание\1-ые слайды презентации\Прозрачн.jpg"/>
              <p:cNvPicPr/>
              <p:nvPr/>
            </p:nvPicPr>
            <p:blipFill>
              <a:blip r:embed="rId3"/>
              <a:stretch/>
            </p:blipFill>
            <p:spPr>
              <a:xfrm>
                <a:off x="2081160" y="3549600"/>
                <a:ext cx="281160" cy="304920"/>
              </a:xfrm>
              <a:prstGeom prst="rect">
                <a:avLst/>
              </a:prstGeom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</p:pic>
        </p:grpSp>
        <p:grpSp>
          <p:nvGrpSpPr>
            <p:cNvPr id="523" name="Group 21"/>
            <p:cNvGrpSpPr/>
            <p:nvPr/>
          </p:nvGrpSpPr>
          <p:grpSpPr>
            <a:xfrm>
              <a:off x="3048120" y="5334120"/>
              <a:ext cx="2895120" cy="914400"/>
              <a:chOff x="3048120" y="5334120"/>
              <a:chExt cx="2895120" cy="914400"/>
            </a:xfrm>
          </p:grpSpPr>
          <p:pic>
            <p:nvPicPr>
              <p:cNvPr id="524" name="Picture 16" descr="C:\WINDOWS\Рабочий стол\Преподавание\1-ые слайды презентации\Прозрачн.jpg"/>
              <p:cNvPicPr/>
              <p:nvPr/>
            </p:nvPicPr>
            <p:blipFill>
              <a:blip r:embed="rId4"/>
              <a:stretch/>
            </p:blipFill>
            <p:spPr>
              <a:xfrm>
                <a:off x="5343480" y="5918040"/>
                <a:ext cx="294840" cy="330480"/>
              </a:xfrm>
              <a:prstGeom prst="rect">
                <a:avLst/>
              </a:prstGeom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</p:pic>
          <p:sp>
            <p:nvSpPr>
              <p:cNvPr id="525" name="Line 17"/>
              <p:cNvSpPr/>
              <p:nvPr/>
            </p:nvSpPr>
            <p:spPr>
              <a:xfrm>
                <a:off x="5333760" y="5486400"/>
                <a:ext cx="6094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Text Box 15"/>
              <p:cNvSpPr/>
              <p:nvPr/>
            </p:nvSpPr>
            <p:spPr>
              <a:xfrm>
                <a:off x="3048120" y="5334120"/>
                <a:ext cx="236196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Результат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использования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инструмен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14300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 А Д А Н И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52280" y="685800"/>
            <a:ext cx="3353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33"/>
                </a:solidFill>
                <a:latin typeface="Arial"/>
              </a:rPr>
              <a:t>Сделайте  белый  фон  этих рисунков   прозрачны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C:\WINDOWS\Рабочий стол\Преподавание\1-ые слайды презентации\Заготовки\svitok.jpg"/>
          <p:cNvPicPr/>
          <p:nvPr/>
        </p:nvPicPr>
        <p:blipFill>
          <a:blip r:embed="rId1"/>
          <a:stretch/>
        </p:blipFill>
        <p:spPr>
          <a:xfrm>
            <a:off x="228600" y="1600200"/>
            <a:ext cx="2970360" cy="4362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C:\WINDOWS\Рабочий стол\Преподавание\1-ые слайды презентации\Рис для презентации\Образец1.jpg"/>
          <p:cNvPicPr/>
          <p:nvPr/>
        </p:nvPicPr>
        <p:blipFill>
          <a:blip r:embed="rId2"/>
          <a:stretch/>
        </p:blipFill>
        <p:spPr>
          <a:xfrm>
            <a:off x="5867280" y="3619440"/>
            <a:ext cx="3276720" cy="32385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3"/>
          <p:cNvSpPr/>
          <p:nvPr/>
        </p:nvSpPr>
        <p:spPr>
          <a:xfrm>
            <a:off x="1143000" y="632448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Примечание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: </a:t>
            </a:r>
            <a:br>
              <a:rPr sz="1200"/>
            </a:b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Эта возможность доступна только для  точечных  рису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5" descr="C:\WINDOWS\Рабочий стол\Преподавание\1-ые слайды презентации\Рис для презентации\E-mail.tif"/>
          <p:cNvPicPr/>
          <p:nvPr/>
        </p:nvPicPr>
        <p:blipFill>
          <a:blip r:embed="rId3"/>
          <a:stretch/>
        </p:blipFill>
        <p:spPr>
          <a:xfrm>
            <a:off x="5105520" y="762120"/>
            <a:ext cx="3689280" cy="22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5" descr="C:\WINDOWS\Рабочий стол\Преподавание\1-ые слайды презентации\Рис для презентации\древний-ПК.jpg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2752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152280" y="4343400"/>
            <a:ext cx="51818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Значит,  исходный  рисунок  нужно </a:t>
            </a:r>
            <a:br>
              <a:rPr sz="1600"/>
            </a:br>
            <a:r>
              <a:rPr b="0" i="1" lang="ru-RU" sz="1600" spc="-1" strike="noStrike">
                <a:solidFill>
                  <a:srgbClr val="a50021"/>
                </a:solidFill>
                <a:latin typeface="Arial"/>
              </a:rPr>
              <a:t>предварительно  обработать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в  спец. программе  - графическом  редакторе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(например, в  </a:t>
            </a:r>
            <a:r>
              <a:rPr b="0" lang="en-US" sz="1600" spc="-1" strike="noStrike">
                <a:solidFill>
                  <a:srgbClr val="660033"/>
                </a:solidFill>
                <a:latin typeface="Arial"/>
              </a:rPr>
              <a:t>Adobe Photoshop)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Цель обработки  - выделить неоднотонный фон рисунка  и залить его одним  цве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91440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  если  картинка  имеет  НЕОДНОТОННЫЙ   ф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3505320" y="1295280"/>
            <a:ext cx="4952880" cy="1067400"/>
            <a:chOff x="3505320" y="1295280"/>
            <a:chExt cx="4952880" cy="1067400"/>
          </a:xfrm>
        </p:grpSpPr>
        <p:sp>
          <p:nvSpPr>
            <p:cNvPr id="537" name="Text Box 9"/>
            <p:cNvSpPr/>
            <p:nvPr/>
          </p:nvSpPr>
          <p:spPr>
            <a:xfrm>
              <a:off x="4419720" y="1295280"/>
              <a:ext cx="4038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пример, у этого  рисунка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фон не однотонный.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А его требуется убрать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(сделать прозрачным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0"/>
            <p:cNvSpPr/>
            <p:nvPr/>
          </p:nvSpPr>
          <p:spPr>
            <a:xfrm flipH="1">
              <a:off x="3505320" y="1752480"/>
              <a:ext cx="914400" cy="381240"/>
            </a:xfrm>
            <a:prstGeom prst="line">
              <a:avLst/>
            </a:prstGeom>
            <a:ln w="9360">
              <a:solidFill>
                <a:srgbClr val="462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7"/>
          <p:cNvGrpSpPr/>
          <p:nvPr/>
        </p:nvGrpSpPr>
        <p:grpSpPr>
          <a:xfrm>
            <a:off x="4419720" y="3276720"/>
            <a:ext cx="4952880" cy="3581280"/>
            <a:chOff x="4419720" y="3276720"/>
            <a:chExt cx="4952880" cy="3581280"/>
          </a:xfrm>
        </p:grpSpPr>
        <p:grpSp>
          <p:nvGrpSpPr>
            <p:cNvPr id="540" name="Group 20"/>
            <p:cNvGrpSpPr/>
            <p:nvPr/>
          </p:nvGrpSpPr>
          <p:grpSpPr>
            <a:xfrm>
              <a:off x="4419720" y="3276720"/>
              <a:ext cx="4952880" cy="761760"/>
              <a:chOff x="4419720" y="3276720"/>
              <a:chExt cx="4952880" cy="761760"/>
            </a:xfrm>
          </p:grpSpPr>
          <p:sp>
            <p:nvSpPr>
              <p:cNvPr id="541" name="Line 11"/>
              <p:cNvSpPr/>
              <p:nvPr/>
            </p:nvSpPr>
            <p:spPr>
              <a:xfrm>
                <a:off x="6705720" y="3733920"/>
                <a:ext cx="0" cy="304560"/>
              </a:xfrm>
              <a:prstGeom prst="line">
                <a:avLst/>
              </a:prstGeom>
              <a:ln w="9360">
                <a:solidFill>
                  <a:srgbClr val="462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Picture 12" descr="C:\WINDOWS\Рабочий стол\Преподавание\1-ые слайды презентации\Прозрачн.jpg"/>
              <p:cNvPicPr/>
              <p:nvPr/>
            </p:nvPicPr>
            <p:blipFill>
              <a:blip r:embed="rId2"/>
              <a:stretch/>
            </p:blipFill>
            <p:spPr>
              <a:xfrm>
                <a:off x="7607160" y="3276720"/>
                <a:ext cx="317520" cy="3301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3" name="Rectangle 13"/>
              <p:cNvSpPr/>
              <p:nvPr/>
            </p:nvSpPr>
            <p:spPr>
              <a:xfrm>
                <a:off x="4419720" y="3301920"/>
                <a:ext cx="49528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660033"/>
                    </a:solidFill>
                    <a:latin typeface="Arial"/>
                  </a:rPr>
                  <a:t>После использования  кнопки        </a:t>
                </a:r>
                <a:br>
                  <a:rPr sz="1700"/>
                </a:br>
                <a:r>
                  <a:rPr b="0" lang="ru-RU" sz="1700" spc="-1" strike="noStrike">
                    <a:solidFill>
                      <a:srgbClr val="660033"/>
                    </a:solidFill>
                    <a:latin typeface="Arial"/>
                  </a:rPr>
                  <a:t>получится  так.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9"/>
              <p:cNvSpPr/>
              <p:nvPr/>
            </p:nvSpPr>
            <p:spPr>
              <a:xfrm flipH="1">
                <a:off x="6172200" y="3733920"/>
                <a:ext cx="533520" cy="0"/>
              </a:xfrm>
              <a:prstGeom prst="line">
                <a:avLst/>
              </a:prstGeom>
              <a:ln w="9360">
                <a:solidFill>
                  <a:srgbClr val="462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5" name="Picture 26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3"/>
            <a:stretch/>
          </p:blipFill>
          <p:spPr>
            <a:xfrm>
              <a:off x="5486400" y="4046400"/>
              <a:ext cx="3657600" cy="2811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Этапы  работы  с  картинк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55"/>
          <p:cNvGrpSpPr/>
          <p:nvPr/>
        </p:nvGrpSpPr>
        <p:grpSpPr>
          <a:xfrm>
            <a:off x="3352680" y="838080"/>
            <a:ext cx="5867640" cy="3208680"/>
            <a:chOff x="3352680" y="838080"/>
            <a:chExt cx="5867640" cy="3208680"/>
          </a:xfrm>
        </p:grpSpPr>
        <p:pic>
          <p:nvPicPr>
            <p:cNvPr id="548" name="Picture 17" descr="C:\WINDOWS\Рабочий стол\Преподавание\1-ые слайды презентации\древний-ПК1.jpg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3530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Line 26"/>
            <p:cNvSpPr/>
            <p:nvPr/>
          </p:nvSpPr>
          <p:spPr>
            <a:xfrm>
              <a:off x="5334120" y="1003320"/>
              <a:ext cx="4572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45"/>
            <p:cNvSpPr/>
            <p:nvPr/>
          </p:nvSpPr>
          <p:spPr>
            <a:xfrm>
              <a:off x="3352680" y="1079640"/>
              <a:ext cx="2514600" cy="29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00"/>
                  </a:solidFill>
                  <a:latin typeface="Arial"/>
                </a:rPr>
                <a:t>2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Рисунок  после  обработки  в   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Photoshop</a:t>
              </a:r>
              <a:r>
                <a:rPr b="1" lang="en-US" sz="1500" spc="-1" strike="noStrike">
                  <a:solidFill>
                    <a:srgbClr val="a50021"/>
                  </a:solidFill>
                  <a:latin typeface="Arial"/>
                </a:rPr>
                <a:t>: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  </a:t>
              </a:r>
              <a:br>
                <a:rPr sz="1500"/>
              </a:b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обработка  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заключалась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в   заполнении неоднотонного  фона одним  цветом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(</a:t>
              </a:r>
              <a:r>
                <a:rPr b="0" i="1" lang="ru-RU" sz="1500" spc="-1" strike="noStrike">
                  <a:solidFill>
                    <a:srgbClr val="a50021"/>
                  </a:solidFill>
                  <a:latin typeface="Arial"/>
                </a:rPr>
                <a:t>например,  желтым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)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Затем этот  рисунок 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в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тавили в презентацию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(нажав  меню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«</a:t>
              </a:r>
              <a:r>
                <a:rPr b="0" i="1" lang="ru-RU" sz="1500" spc="-1" strike="noStrike">
                  <a:solidFill>
                    <a:srgbClr val="a50021"/>
                  </a:solidFill>
                  <a:latin typeface="Arial"/>
                </a:rPr>
                <a:t>Вставка-Рисунок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»)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58"/>
          <p:cNvGrpSpPr/>
          <p:nvPr/>
        </p:nvGrpSpPr>
        <p:grpSpPr>
          <a:xfrm>
            <a:off x="2362320" y="3962520"/>
            <a:ext cx="6781680" cy="2895480"/>
            <a:chOff x="2362320" y="3962520"/>
            <a:chExt cx="6781680" cy="2895480"/>
          </a:xfrm>
        </p:grpSpPr>
        <p:pic>
          <p:nvPicPr>
            <p:cNvPr id="552" name="Picture 48" descr="C:\WINDOWS\Рабочий стол\Преподавание\1-ые слайды презентации\древний-ПК1.jpg"/>
            <p:cNvPicPr/>
            <p:nvPr/>
          </p:nvPicPr>
          <p:blipFill>
            <a:blip r:embed="rId2"/>
            <a:stretch/>
          </p:blipFill>
          <p:spPr>
            <a:xfrm>
              <a:off x="2362320" y="3962520"/>
              <a:ext cx="368604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Line 49"/>
            <p:cNvSpPr/>
            <p:nvPr/>
          </p:nvSpPr>
          <p:spPr>
            <a:xfrm flipH="1">
              <a:off x="5826240" y="4591080"/>
              <a:ext cx="4428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1"/>
            <p:cNvSpPr/>
            <p:nvPr/>
          </p:nvSpPr>
          <p:spPr>
            <a:xfrm>
              <a:off x="6121440" y="4576680"/>
              <a:ext cx="3022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993300"/>
                  </a:solidFill>
                  <a:latin typeface="Arial"/>
                </a:rPr>
                <a:t>3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В презентации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желтый  фон  рисунка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делали  прозрачным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  помощью  инструмент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Picture 52" descr="C:\WINDOWS\Рабочий стол\Преподавание\1-ые слайды презентации\Прозрачн.jpg"/>
            <p:cNvPicPr/>
            <p:nvPr/>
          </p:nvPicPr>
          <p:blipFill>
            <a:blip r:embed="rId3"/>
            <a:stretch/>
          </p:blipFill>
          <p:spPr>
            <a:xfrm>
              <a:off x="8763120" y="5257800"/>
              <a:ext cx="325440" cy="36504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808080"/>
              </a:outerShdw>
            </a:effectLst>
          </p:spPr>
        </p:pic>
      </p:grpSp>
      <p:sp>
        <p:nvSpPr>
          <p:cNvPr id="556" name="Text Box 53"/>
          <p:cNvSpPr/>
          <p:nvPr/>
        </p:nvSpPr>
        <p:spPr>
          <a:xfrm>
            <a:off x="3808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меющей  неоднотонный фон,  который  нужно  сделать  невидим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61"/>
          <p:cNvGrpSpPr/>
          <p:nvPr/>
        </p:nvGrpSpPr>
        <p:grpSpPr>
          <a:xfrm>
            <a:off x="0" y="968400"/>
            <a:ext cx="3200400" cy="3924000"/>
            <a:chOff x="0" y="968400"/>
            <a:chExt cx="3200400" cy="3924000"/>
          </a:xfrm>
        </p:grpSpPr>
        <p:sp>
          <p:nvSpPr>
            <p:cNvPr id="558" name="Line 23"/>
            <p:cNvSpPr/>
            <p:nvPr/>
          </p:nvSpPr>
          <p:spPr>
            <a:xfrm flipV="1">
              <a:off x="1219320" y="3505320"/>
              <a:ext cx="0" cy="4572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0" y="3870360"/>
              <a:ext cx="18288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00"/>
                  </a:solidFill>
                  <a:latin typeface="Arial"/>
                </a:rPr>
                <a:t>1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Исходный  рисунок  с  неоднотонным  фоно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Picture 60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4"/>
            <a:stretch/>
          </p:blipFill>
          <p:spPr>
            <a:xfrm>
              <a:off x="0" y="968400"/>
              <a:ext cx="3200400" cy="246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7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3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6629400" y="83808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ак  же  обработать  рисунок  в  программе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hotoshop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чтобы  заменить  неоднотонный  фон  на   однотонны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C:\WINDOWS\Рабочий стол\Преподавание\1-ые слайды презентации\Рис для презентации\Photoshop_.jpg"/>
          <p:cNvPicPr/>
          <p:nvPr/>
        </p:nvPicPr>
        <p:blipFill>
          <a:blip r:embed="rId1"/>
          <a:stretch/>
        </p:blipFill>
        <p:spPr>
          <a:xfrm>
            <a:off x="228600" y="304920"/>
            <a:ext cx="6553080" cy="569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8"/>
          <p:cNvGrpSpPr/>
          <p:nvPr/>
        </p:nvGrpSpPr>
        <p:grpSpPr>
          <a:xfrm>
            <a:off x="76320" y="914400"/>
            <a:ext cx="9067680" cy="5105520"/>
            <a:chOff x="76320" y="914400"/>
            <a:chExt cx="9067680" cy="5105520"/>
          </a:xfrm>
        </p:grpSpPr>
        <p:grpSp>
          <p:nvGrpSpPr>
            <p:cNvPr id="564" name="Group 61"/>
            <p:cNvGrpSpPr/>
            <p:nvPr/>
          </p:nvGrpSpPr>
          <p:grpSpPr>
            <a:xfrm>
              <a:off x="76320" y="914400"/>
              <a:ext cx="1981080" cy="5105520"/>
              <a:chOff x="76320" y="914400"/>
              <a:chExt cx="1981080" cy="5105520"/>
            </a:xfrm>
          </p:grpSpPr>
          <p:sp>
            <p:nvSpPr>
              <p:cNvPr id="565" name="Rectangle 3"/>
              <p:cNvSpPr/>
              <p:nvPr/>
            </p:nvSpPr>
            <p:spPr>
              <a:xfrm>
                <a:off x="76320" y="914400"/>
                <a:ext cx="1981080" cy="5105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11"/>
              <p:cNvSpPr/>
              <p:nvPr/>
            </p:nvSpPr>
            <p:spPr>
              <a:xfrm>
                <a:off x="76320" y="914400"/>
                <a:ext cx="198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a50021"/>
                    </a:solidFill>
                    <a:latin typeface="Arial"/>
                  </a:rPr>
                  <a:t>Панель инструментов Photosho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7" name="Picture 4" descr="C:\WINDOWS\Рабочий стол\Преподавание\1-ые слайды презентации\панельPhotoshop.jpg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447920"/>
                <a:ext cx="8384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8" name="Text Box 14"/>
            <p:cNvSpPr/>
            <p:nvPr/>
          </p:nvSpPr>
          <p:spPr>
            <a:xfrm>
              <a:off x="2209680" y="928800"/>
              <a:ext cx="4937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. Загрузить  программу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Adobe Photoshop  </a:t>
              </a:r>
              <a:br>
                <a:rPr sz="1500"/>
              </a:b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и 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открыть  нужный  рисунок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67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2"/>
            <a:stretch/>
          </p:blipFill>
          <p:spPr>
            <a:xfrm>
              <a:off x="6991200" y="990720"/>
              <a:ext cx="2152800" cy="165420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</p:grpSp>
      <p:sp>
        <p:nvSpPr>
          <p:cNvPr id="570" name="Text Box 12"/>
          <p:cNvSpPr/>
          <p:nvPr/>
        </p:nvSpPr>
        <p:spPr>
          <a:xfrm>
            <a:off x="13716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бработка  картинки  в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80880" y="4572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ль - выделить  неоднотонный  фон  картинки  и  залить его одним  цве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63"/>
          <p:cNvGrpSpPr/>
          <p:nvPr/>
        </p:nvGrpSpPr>
        <p:grpSpPr>
          <a:xfrm>
            <a:off x="228600" y="1600200"/>
            <a:ext cx="6705720" cy="938160"/>
            <a:chOff x="228600" y="1600200"/>
            <a:chExt cx="6705720" cy="938160"/>
          </a:xfrm>
        </p:grpSpPr>
        <p:sp>
          <p:nvSpPr>
            <p:cNvPr id="573" name="Text Box 8"/>
            <p:cNvSpPr/>
            <p:nvPr/>
          </p:nvSpPr>
          <p:spPr>
            <a:xfrm>
              <a:off x="914400" y="1828800"/>
              <a:ext cx="1219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«Лассо» и  </a:t>
              </a:r>
              <a:br>
                <a:rPr sz="1300"/>
              </a:b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«Волшебная</a:t>
              </a:r>
              <a:br>
                <a:rPr sz="1300"/>
              </a:b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 палочка»</a:t>
              </a: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5"/>
            <p:cNvSpPr/>
            <p:nvPr/>
          </p:nvSpPr>
          <p:spPr>
            <a:xfrm>
              <a:off x="228600" y="2286000"/>
              <a:ext cx="730080" cy="252360"/>
            </a:xfrm>
            <a:prstGeom prst="wedgeRectCallout">
              <a:avLst>
                <a:gd name="adj1" fmla="val 70652"/>
                <a:gd name="adj2" fmla="val -123583"/>
              </a:avLst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1"/>
            <p:cNvSpPr/>
            <p:nvPr/>
          </p:nvSpPr>
          <p:spPr>
            <a:xfrm>
              <a:off x="2209680" y="1600200"/>
              <a:ext cx="472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. С помощью  инструментов  «Лассо»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или  «Волшебная палочка»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ыделите  фон  рисунка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H="1">
              <a:off x="1980720" y="1904400"/>
              <a:ext cx="30492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66"/>
          <p:cNvGrpSpPr/>
          <p:nvPr/>
        </p:nvGrpSpPr>
        <p:grpSpPr>
          <a:xfrm>
            <a:off x="1904760" y="3581280"/>
            <a:ext cx="4876920" cy="2625120"/>
            <a:chOff x="1904760" y="3581280"/>
            <a:chExt cx="4876920" cy="2625120"/>
          </a:xfrm>
        </p:grpSpPr>
        <p:sp>
          <p:nvSpPr>
            <p:cNvPr id="578" name="Line 30"/>
            <p:cNvSpPr/>
            <p:nvPr/>
          </p:nvSpPr>
          <p:spPr>
            <a:xfrm>
              <a:off x="5562720" y="4724280"/>
              <a:ext cx="114300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5"/>
            <p:cNvSpPr/>
            <p:nvPr/>
          </p:nvSpPr>
          <p:spPr>
            <a:xfrm>
              <a:off x="2819520" y="3581280"/>
              <a:ext cx="3962160" cy="26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Если  текущий  цвет вас не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устраивает, то щелкнув 2 раза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по текущему  цвету,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ыберите другой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(</a:t>
              </a: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мы выбрали желтый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216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Для заливки фона  выбирайте цвет, которого нет на фигурах рисунка.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Иначе после установки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прозрачности  фона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фигуры  такого же  цвета, как и фон,  тоже  станут  прозрачными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 flipH="1">
              <a:off x="1904760" y="4343400"/>
              <a:ext cx="1066680" cy="685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Group 65"/>
          <p:cNvGrpSpPr/>
          <p:nvPr/>
        </p:nvGrpSpPr>
        <p:grpSpPr>
          <a:xfrm>
            <a:off x="260280" y="2438280"/>
            <a:ext cx="8883720" cy="3324240"/>
            <a:chOff x="260280" y="2438280"/>
            <a:chExt cx="8883720" cy="3324240"/>
          </a:xfrm>
        </p:grpSpPr>
        <p:sp>
          <p:nvSpPr>
            <p:cNvPr id="582" name="Text Box 10"/>
            <p:cNvSpPr/>
            <p:nvPr/>
          </p:nvSpPr>
          <p:spPr>
            <a:xfrm>
              <a:off x="990720" y="502920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a50021"/>
                  </a:solidFill>
                  <a:latin typeface="Arial"/>
                </a:rPr>
                <a:t>Текущий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a50021"/>
                  </a:solidFill>
                  <a:latin typeface="Arial"/>
                </a:rPr>
                <a:t>цве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AutoShape 7"/>
            <p:cNvSpPr/>
            <p:nvPr/>
          </p:nvSpPr>
          <p:spPr>
            <a:xfrm>
              <a:off x="260280" y="5257800"/>
              <a:ext cx="425520" cy="380880"/>
            </a:xfrm>
            <a:prstGeom prst="wedgeRectCallout">
              <a:avLst>
                <a:gd name="adj1" fmla="val 145148"/>
                <a:gd name="adj2" fmla="val -5875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64"/>
            <p:cNvGrpSpPr/>
            <p:nvPr/>
          </p:nvGrpSpPr>
          <p:grpSpPr>
            <a:xfrm>
              <a:off x="593640" y="2438280"/>
              <a:ext cx="8550360" cy="2595600"/>
              <a:chOff x="593640" y="2438280"/>
              <a:chExt cx="8550360" cy="2595600"/>
            </a:xfrm>
          </p:grpSpPr>
          <p:pic>
            <p:nvPicPr>
              <p:cNvPr id="585" name="Picture 38" descr="C:\WINDOWS\Рабочий стол\Преподавание\1-ые слайды презентации\древний-ПК1.jpg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3200400"/>
                <a:ext cx="2362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9"/>
              <p:cNvSpPr/>
              <p:nvPr/>
            </p:nvSpPr>
            <p:spPr>
              <a:xfrm>
                <a:off x="990720" y="312408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a50021"/>
                    </a:solidFill>
                    <a:latin typeface="Arial"/>
                  </a:rPr>
                  <a:t>«Заливка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AutoShape 6"/>
              <p:cNvSpPr/>
              <p:nvPr/>
            </p:nvSpPr>
            <p:spPr>
              <a:xfrm>
                <a:off x="593640" y="3429000"/>
                <a:ext cx="244440" cy="252360"/>
              </a:xfrm>
              <a:prstGeom prst="wedgeRectCallout">
                <a:avLst>
                  <a:gd name="adj1" fmla="val 175324"/>
                  <a:gd name="adj2" fmla="val -77671"/>
                </a:avLst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29"/>
              <p:cNvSpPr/>
              <p:nvPr/>
            </p:nvSpPr>
            <p:spPr>
              <a:xfrm flipH="1">
                <a:off x="1828440" y="2819520"/>
                <a:ext cx="609480" cy="304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55"/>
              <p:cNvSpPr/>
              <p:nvPr/>
            </p:nvSpPr>
            <p:spPr>
              <a:xfrm>
                <a:off x="2209680" y="2438280"/>
                <a:ext cx="38862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6920" indent="-1969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3. Инструментом  «Заливка»  залейте  выделенный фон  текущим  цветом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(текущий  отражается  внизу).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4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8" nodeType="after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838080" y="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здание  коллажа  для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533520" y="53352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а слайде можно  поместить  коллаж из рисунков,  наглядно  показывающих содержание  презент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18"/>
          <p:cNvGrpSpPr/>
          <p:nvPr/>
        </p:nvGrpSpPr>
        <p:grpSpPr>
          <a:xfrm>
            <a:off x="3435480" y="1676520"/>
            <a:ext cx="5708520" cy="5181480"/>
            <a:chOff x="3435480" y="1676520"/>
            <a:chExt cx="5708520" cy="5181480"/>
          </a:xfrm>
        </p:grpSpPr>
        <p:sp>
          <p:nvSpPr>
            <p:cNvPr id="593" name="Text Box 9"/>
            <p:cNvSpPr/>
            <p:nvPr/>
          </p:nvSpPr>
          <p:spPr>
            <a:xfrm>
              <a:off x="6629400" y="1676520"/>
              <a:ext cx="25146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700" spc="-1" strike="noStrike">
                  <a:solidFill>
                    <a:srgbClr val="a50021"/>
                  </a:solidFill>
                  <a:latin typeface="Arial"/>
                </a:rPr>
                <a:t>Результат</a:t>
              </a: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. </a:t>
              </a:r>
              <a:br>
                <a:rPr sz="17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Это  коллаж, созданный в </a:t>
              </a:r>
              <a:r>
                <a:rPr b="0" lang="en-US" sz="1600" spc="-1" strike="noStrike">
                  <a:solidFill>
                    <a:srgbClr val="660033"/>
                  </a:solidFill>
                  <a:latin typeface="Arial"/>
                </a:rPr>
                <a:t>Photoshop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"/>
            <p:cNvSpPr/>
            <p:nvPr/>
          </p:nvSpPr>
          <p:spPr>
            <a:xfrm>
              <a:off x="6629400" y="2133720"/>
              <a:ext cx="0" cy="761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Picture 14" descr="C:\WINDOWS\Рабочий стол\Преподавание\Kurs_Photoshop\___Praktik\2_itap_primeneniy\Обязательно выполнить\Коллаж\Коллаж-итог79.jpg"/>
            <p:cNvPicPr/>
            <p:nvPr/>
          </p:nvPicPr>
          <p:blipFill>
            <a:blip r:embed="rId1"/>
            <a:stretch/>
          </p:blipFill>
          <p:spPr>
            <a:xfrm>
              <a:off x="3435480" y="2666880"/>
              <a:ext cx="5708520" cy="41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Group 17"/>
          <p:cNvGrpSpPr/>
          <p:nvPr/>
        </p:nvGrpSpPr>
        <p:grpSpPr>
          <a:xfrm>
            <a:off x="152280" y="1177920"/>
            <a:ext cx="5334120" cy="4079880"/>
            <a:chOff x="152280" y="1177920"/>
            <a:chExt cx="5334120" cy="4079880"/>
          </a:xfrm>
        </p:grpSpPr>
        <p:pic>
          <p:nvPicPr>
            <p:cNvPr id="597" name="Picture 5" descr="C:\WINDOWS\Рабочий стол\Преподавание\Kurs_Photoshop\___Praktik\2_itap_primeneniy\Обязательно выполнить\Коллаж\Древ_человек1.jpg"/>
            <p:cNvPicPr/>
            <p:nvPr/>
          </p:nvPicPr>
          <p:blipFill>
            <a:blip r:embed="rId2"/>
            <a:stretch/>
          </p:blipFill>
          <p:spPr>
            <a:xfrm>
              <a:off x="228600" y="2971800"/>
              <a:ext cx="1771560" cy="228600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  <p:sp>
          <p:nvSpPr>
            <p:cNvPr id="598" name="Text Box 7"/>
            <p:cNvSpPr/>
            <p:nvPr/>
          </p:nvSpPr>
          <p:spPr>
            <a:xfrm>
              <a:off x="2209680" y="1676520"/>
              <a:ext cx="32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пример, эти 2 рисунка  мы хотим совместить  в  коллаж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Picture 15" descr="C:\WINDOWS\Рабочий стол\Преподавание\Kurs_Photoshop\___Praktik\2_itap_primeneniy\Обязательно выполнить\Коллаж\ПК_0.jpg"/>
            <p:cNvPicPr/>
            <p:nvPr/>
          </p:nvPicPr>
          <p:blipFill>
            <a:blip r:embed="rId3"/>
            <a:stretch/>
          </p:blipFill>
          <p:spPr>
            <a:xfrm>
              <a:off x="152280" y="1177920"/>
              <a:ext cx="1905120" cy="156528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500"/>
                            </p:stCondLst>
                            <p:childTnLst>
                              <p:par>
                                <p:cTn id="83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лгоритм  создания  коллажа  в  программ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2438280" y="10666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1.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Откроем  эти 2  рисунка  в программе  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Photoshop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1"/>
          <p:cNvGrpSpPr/>
          <p:nvPr/>
        </p:nvGrpSpPr>
        <p:grpSpPr>
          <a:xfrm>
            <a:off x="152280" y="720720"/>
            <a:ext cx="1905120" cy="4079880"/>
            <a:chOff x="152280" y="720720"/>
            <a:chExt cx="1905120" cy="4079880"/>
          </a:xfrm>
        </p:grpSpPr>
        <p:pic>
          <p:nvPicPr>
            <p:cNvPr id="603" name="Picture 18" descr="C:\WINDOWS\Рабочий стол\Преподавание\Kurs_Photoshop\___Praktik\2_itap_primeneniy\Обязательно выполнить\Коллаж\Древ_человек1.jpg"/>
            <p:cNvPicPr/>
            <p:nvPr/>
          </p:nvPicPr>
          <p:blipFill>
            <a:blip r:embed="rId1"/>
            <a:stretch/>
          </p:blipFill>
          <p:spPr>
            <a:xfrm>
              <a:off x="228600" y="2514600"/>
              <a:ext cx="1771560" cy="228600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  <p:pic>
          <p:nvPicPr>
            <p:cNvPr id="604" name="Picture 20" descr="C:\WINDOWS\Рабочий стол\Преподавание\Kurs_Photoshop\___Praktik\2_itap_primeneniy\Обязательно выполнить\Коллаж\ПК_0.jpg"/>
            <p:cNvPicPr/>
            <p:nvPr/>
          </p:nvPicPr>
          <p:blipFill>
            <a:blip r:embed="rId2"/>
            <a:stretch/>
          </p:blipFill>
          <p:spPr>
            <a:xfrm>
              <a:off x="152280" y="720720"/>
              <a:ext cx="1905120" cy="156528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</p:grpSp>
      <p:sp>
        <p:nvSpPr>
          <p:cNvPr id="605" name="Text Box 23"/>
          <p:cNvSpPr/>
          <p:nvPr/>
        </p:nvSpPr>
        <p:spPr>
          <a:xfrm>
            <a:off x="2438280" y="150804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 файле с изображением древнего человека выделим его конту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438280" y="198108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ыберем меню «Правка - Копировать» (человек скопируется в память  компьютера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2438280" y="274320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Перейдём  в рисунок  с  монитором  и  выберем  меню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Правка - Вставить»  (человек вставится  рядом  с  монитором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6"/>
          <p:cNvSpPr/>
          <p:nvPr/>
        </p:nvSpPr>
        <p:spPr>
          <a:xfrm>
            <a:off x="2438280" y="358128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Настроим  соответствующий  размер  человека относительно монитора  -  нажав в меню  «Трансформация - Масштаб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C:\WINDOWS\Рабочий стол\Risssssssss\смотрю\new\аист-гнезд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2"/>
          <p:cNvSpPr/>
          <p:nvPr/>
        </p:nvSpPr>
        <p:spPr>
          <a:xfrm>
            <a:off x="228600" y="1143000"/>
            <a:ext cx="3429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т  рисунок  вставили  и  растянули  на  весь  слай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т  приём  можно использовать, если  рисунок большого  размера  </a:t>
            </a:r>
            <a:br>
              <a:rPr sz="1600"/>
            </a:b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и  хорошего  каче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228600" y="76320"/>
            <a:ext cx="495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Заполнение  всего  слайда  </a:t>
            </a:r>
            <a:br>
              <a:rPr sz="2600"/>
            </a:b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рисунк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8"/>
          <p:cNvSpPr/>
          <p:nvPr/>
        </p:nvSpPr>
        <p:spPr>
          <a:xfrm>
            <a:off x="7621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азличные  варианты  иллюстрация  слай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2286000" y="903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так, мы  изуч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20"/>
          <p:cNvGrpSpPr/>
          <p:nvPr/>
        </p:nvGrpSpPr>
        <p:grpSpPr>
          <a:xfrm>
            <a:off x="304920" y="1143000"/>
            <a:ext cx="8839080" cy="2790720"/>
            <a:chOff x="304920" y="1143000"/>
            <a:chExt cx="8839080" cy="2790720"/>
          </a:xfrm>
        </p:grpSpPr>
        <p:sp>
          <p:nvSpPr>
            <p:cNvPr id="615" name="Text Box 9"/>
            <p:cNvSpPr/>
            <p:nvPr/>
          </p:nvSpPr>
          <p:spPr>
            <a:xfrm>
              <a:off x="304920" y="1660680"/>
              <a:ext cx="7999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. Вставка  рисунка  без  предварительной обработки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9" descr="C:\WINDOWS\Рабочий стол\Преподавание\1-ые слайды презентации\Рис для презентации\Вставка_в_монитор.jpg"/>
            <p:cNvPicPr/>
            <p:nvPr/>
          </p:nvPicPr>
          <p:blipFill>
            <a:blip r:embed="rId1"/>
            <a:stretch/>
          </p:blipFill>
          <p:spPr>
            <a:xfrm>
              <a:off x="5943600" y="1143000"/>
              <a:ext cx="3200400" cy="27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2"/>
          <p:cNvGrpSpPr/>
          <p:nvPr/>
        </p:nvGrpSpPr>
        <p:grpSpPr>
          <a:xfrm>
            <a:off x="304920" y="1295280"/>
            <a:ext cx="8580240" cy="1741680"/>
            <a:chOff x="304920" y="1295280"/>
            <a:chExt cx="8580240" cy="1741680"/>
          </a:xfrm>
        </p:grpSpPr>
        <p:sp>
          <p:nvSpPr>
            <p:cNvPr id="618" name="Text Box 11"/>
            <p:cNvSpPr/>
            <p:nvPr/>
          </p:nvSpPr>
          <p:spPr>
            <a:xfrm>
              <a:off x="304920" y="2117880"/>
              <a:ext cx="6553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. Как  сделать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прозрачным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</a:t>
              </a:r>
              <a:r>
                <a:rPr b="1" lang="ru-RU" sz="1500" spc="-1" strike="noStrike">
                  <a:solidFill>
                    <a:srgbClr val="660033"/>
                  </a:solidFill>
                  <a:latin typeface="Arial"/>
                </a:rPr>
                <a:t>однотонный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фон  рисунка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21" descr="C:\WINDOWS\Рабочий стол\Преподавание\1-ые слайды презентации\Рис для презентации\Вставка_в_монит2.jpg"/>
            <p:cNvPicPr/>
            <p:nvPr/>
          </p:nvPicPr>
          <p:blipFill>
            <a:blip r:embed="rId2"/>
            <a:stretch/>
          </p:blipFill>
          <p:spPr>
            <a:xfrm>
              <a:off x="7143840" y="1295280"/>
              <a:ext cx="1741320" cy="174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25"/>
          <p:cNvGrpSpPr/>
          <p:nvPr/>
        </p:nvGrpSpPr>
        <p:grpSpPr>
          <a:xfrm>
            <a:off x="304920" y="1295280"/>
            <a:ext cx="8597880" cy="2287080"/>
            <a:chOff x="304920" y="1295280"/>
            <a:chExt cx="8597880" cy="2287080"/>
          </a:xfrm>
        </p:grpSpPr>
        <p:sp>
          <p:nvSpPr>
            <p:cNvPr id="621" name="Text Box 12"/>
            <p:cNvSpPr/>
            <p:nvPr/>
          </p:nvSpPr>
          <p:spPr>
            <a:xfrm>
              <a:off x="304920" y="2803680"/>
              <a:ext cx="59436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3. Вставка  рисунка  с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неоднотонным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фоном.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Чтобы  фон  сделать  прозрачным, рисунок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предварительно  обрабатывают  в  программе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Photoshop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Picture 23" descr="C:\WINDOWS\Рабочий стол\Преподавание\1-ые слайды презентации\Рис для презентации\Вставка_в_монит3.jpg"/>
            <p:cNvPicPr/>
            <p:nvPr/>
          </p:nvPicPr>
          <p:blipFill>
            <a:blip r:embed="rId3"/>
            <a:stretch/>
          </p:blipFill>
          <p:spPr>
            <a:xfrm>
              <a:off x="7147080" y="1295280"/>
              <a:ext cx="1755720" cy="17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33"/>
          <p:cNvGrpSpPr/>
          <p:nvPr/>
        </p:nvGrpSpPr>
        <p:grpSpPr>
          <a:xfrm>
            <a:off x="304920" y="1066680"/>
            <a:ext cx="8839080" cy="3202200"/>
            <a:chOff x="304920" y="1066680"/>
            <a:chExt cx="8839080" cy="3202200"/>
          </a:xfrm>
        </p:grpSpPr>
        <p:sp>
          <p:nvSpPr>
            <p:cNvPr id="624" name="Text Box 13"/>
            <p:cNvSpPr/>
            <p:nvPr/>
          </p:nvSpPr>
          <p:spPr>
            <a:xfrm>
              <a:off x="304920" y="3946680"/>
              <a:ext cx="7619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4. Вставка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коллажа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из нескольких рисунков.  Коллаж создаётся  в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Photoshop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32" descr="C:\WINDOWS\Рабочий стол\Преподавание\1-ые слайды презентации\Рис для презентации\Вставка_в_монит4.jpg"/>
            <p:cNvPicPr/>
            <p:nvPr/>
          </p:nvPicPr>
          <p:blipFill>
            <a:blip r:embed="rId4"/>
            <a:stretch/>
          </p:blipFill>
          <p:spPr>
            <a:xfrm>
              <a:off x="5867280" y="1066680"/>
              <a:ext cx="3276720" cy="28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Group 34"/>
          <p:cNvGrpSpPr/>
          <p:nvPr/>
        </p:nvGrpSpPr>
        <p:grpSpPr>
          <a:xfrm>
            <a:off x="304920" y="990720"/>
            <a:ext cx="8839080" cy="3735000"/>
            <a:chOff x="304920" y="990720"/>
            <a:chExt cx="8839080" cy="3735000"/>
          </a:xfrm>
        </p:grpSpPr>
        <p:sp>
          <p:nvSpPr>
            <p:cNvPr id="627" name="Text Box 15"/>
            <p:cNvSpPr/>
            <p:nvPr/>
          </p:nvSpPr>
          <p:spPr>
            <a:xfrm>
              <a:off x="304920" y="4403520"/>
              <a:ext cx="883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5. Вставка  рисунка, который  растягивают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на  весь  слайд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Picture 30" descr="C:\WINDOWS\Рабочий стол\Преподавание\1-ые слайды презентации\Рис для презентации\Вставка_в_монит5.jpg"/>
            <p:cNvPicPr/>
            <p:nvPr/>
          </p:nvPicPr>
          <p:blipFill>
            <a:blip r:embed="rId5"/>
            <a:stretch/>
          </p:blipFill>
          <p:spPr>
            <a:xfrm>
              <a:off x="5867280" y="990720"/>
              <a:ext cx="3276720" cy="297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500"/>
                            </p:stCondLst>
                            <p:childTnLst>
                              <p:par>
                                <p:cTn id="8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44280" y="3024360"/>
            <a:ext cx="380844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 именно -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 сделат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интересную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полезную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презентацию?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 изложить свою тему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слайдах, соблюдая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br>
              <a:rPr sz="1600"/>
            </a:b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ормы  представления  информации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 экране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цель - 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создать  презентацию   для  ур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52280" y="1370160"/>
            <a:ext cx="87631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ограмма  для создания  презентаций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663300"/>
                </a:solidFill>
                <a:latin typeface="Arial"/>
              </a:rPr>
              <a:t>PowerPoin</a:t>
            </a:r>
            <a:r>
              <a:rPr b="0" lang="en-US" sz="1500" spc="-1" strike="noStrike">
                <a:solidFill>
                  <a:srgbClr val="663300"/>
                </a:solidFill>
                <a:latin typeface="Arial"/>
              </a:rPr>
              <a:t>t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очен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роста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в  использовании.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Трудность  при  создании  презентации  в  другом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3618000" y="5029200"/>
            <a:ext cx="533376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 слайдах нельзя  размещать  много текста !!!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максимум -- 5-7 строк  +  заголово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6208560" y="4419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3"/>
          <p:cNvGrpSpPr/>
          <p:nvPr/>
        </p:nvGrpSpPr>
        <p:grpSpPr>
          <a:xfrm>
            <a:off x="3954600" y="2114640"/>
            <a:ext cx="4495320" cy="2457360"/>
            <a:chOff x="3954600" y="2114640"/>
            <a:chExt cx="4495320" cy="2457360"/>
          </a:xfrm>
        </p:grpSpPr>
        <p:sp>
          <p:nvSpPr>
            <p:cNvPr id="83" name="AutoShape 10"/>
            <p:cNvSpPr/>
            <p:nvPr/>
          </p:nvSpPr>
          <p:spPr>
            <a:xfrm>
              <a:off x="4564080" y="3581280"/>
              <a:ext cx="3885840" cy="838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00"/>
                  </a:solidFill>
                  <a:latin typeface="Arial"/>
                </a:rPr>
                <a:t>               </a:t>
              </a:r>
              <a:r>
                <a:rPr b="0" lang="ru-RU" sz="2000" spc="-1" strike="noStrike">
                  <a:solidFill>
                    <a:srgbClr val="990000"/>
                  </a:solidFill>
                  <a:latin typeface="Arial"/>
                </a:rPr>
                <a:t>1-е   ТРЕБОВАНИЕ </a:t>
              </a:r>
              <a:r>
                <a:rPr b="0" lang="ru-RU" sz="16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12" descr="C:\WINDOWS\Рабочий стол\Преподавание\1-ые слайды презентации\Рис для презентации\негр.jpg"/>
            <p:cNvPicPr/>
            <p:nvPr/>
          </p:nvPicPr>
          <p:blipFill>
            <a:blip r:embed="rId1"/>
            <a:stretch/>
          </p:blipFill>
          <p:spPr>
            <a:xfrm>
              <a:off x="3954600" y="2114640"/>
              <a:ext cx="259056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11"/>
          <p:cNvSpPr/>
          <p:nvPr/>
        </p:nvSpPr>
        <p:spPr>
          <a:xfrm>
            <a:off x="4500720" y="1600200"/>
            <a:ext cx="4267080" cy="3516480"/>
          </a:xfrm>
          <a:prstGeom prst="wedgeRoundRectCallout">
            <a:avLst>
              <a:gd name="adj1" fmla="val -77902"/>
              <a:gd name="adj2" fmla="val -33791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5cb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d0002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28600" y="152280"/>
            <a:ext cx="437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 algn="ctr">
              <a:lnSpc>
                <a:spcPct val="12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Arial"/>
              </a:rPr>
              <a:t>Задание  на  до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4653000" y="2025720"/>
            <a:ext cx="42670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1. Переработайте  текст  своего  урока  для  создания  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ценария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презен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 Начертите  по  сценарию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труктуру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презентации </a:t>
            </a:r>
            <a:br>
              <a:rPr sz="2000"/>
            </a:b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(схему  последовательности </a:t>
            </a:r>
            <a:br>
              <a:rPr sz="1600"/>
            </a:b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слайдов   и  связи между  ним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Приобретите  диске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9" descr="C:\WINDOWS\Рабочий стол\Risssssssss\Резерв_отнесла\Рамки\Рамки\негр-указывает.jpg"/>
          <p:cNvPicPr/>
          <p:nvPr/>
        </p:nvPicPr>
        <p:blipFill>
          <a:blip r:embed="rId1"/>
          <a:stretch/>
        </p:blipFill>
        <p:spPr>
          <a:xfrm>
            <a:off x="0" y="1371600"/>
            <a:ext cx="3914640" cy="50925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2" descr="C:\WINDOWS\Рабочий стол\Преподавание\1-ые слайды презентации\Рис для презентации\рожицы_1cлайд.jpg"/>
          <p:cNvPicPr/>
          <p:nvPr/>
        </p:nvPicPr>
        <p:blipFill>
          <a:blip r:embed="rId2"/>
          <a:stretch/>
        </p:blipFill>
        <p:spPr>
          <a:xfrm>
            <a:off x="5076720" y="192240"/>
            <a:ext cx="33069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C:\WINDOWS\Рабочий стол\Преподавание\1-ые слайды презентации\Рис для презентации\порции-текста.jpg"/>
          <p:cNvPicPr/>
          <p:nvPr/>
        </p:nvPicPr>
        <p:blipFill>
          <a:blip r:embed="rId1"/>
          <a:stretch/>
        </p:blipFill>
        <p:spPr>
          <a:xfrm>
            <a:off x="5105520" y="3613320"/>
            <a:ext cx="4114800" cy="3244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адача  № 1 -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одготовка   сценар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986120"/>
            <a:ext cx="66294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Сначала задумайте свой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южет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развития  событи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Опираясь на сюжет,  переработать текст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ценарий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1500"/>
            </a:br>
            <a:r>
              <a:rPr b="0" i="1" lang="ru-RU" sz="1500" spc="-1" strike="noStrike">
                <a:solidFill>
                  <a:srgbClr val="663300"/>
                </a:solidFill>
                <a:latin typeface="Arial"/>
              </a:rPr>
              <a:t>лаконично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изложите текст темы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Лаконично - означает, что краткость и ясность текста (дополнительную информацию вы отразите в иллюстрациях к тексту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280" y="1066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Что  получится,  если  полностью  1:1  напечатать  текст   урока   в   презентации?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52280" y="1349280"/>
            <a:ext cx="77835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Такой  текст  можно  прочесть  в  книге.  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Текст  нужно  переработать. Как? 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28600" y="1752480"/>
            <a:ext cx="8305920" cy="3677760"/>
            <a:chOff x="228600" y="1752480"/>
            <a:chExt cx="8305920" cy="3677760"/>
          </a:xfrm>
        </p:grpSpPr>
        <p:sp>
          <p:nvSpPr>
            <p:cNvPr id="91" name="AutoShape 12"/>
            <p:cNvSpPr/>
            <p:nvPr/>
          </p:nvSpPr>
          <p:spPr>
            <a:xfrm>
              <a:off x="6172200" y="1752480"/>
              <a:ext cx="2362320" cy="1600200"/>
            </a:xfrm>
            <a:prstGeom prst="cloudCallout">
              <a:avLst>
                <a:gd name="adj1" fmla="val 21171"/>
                <a:gd name="adj2" fmla="val 83333"/>
              </a:avLst>
            </a:prstGeom>
            <a:solidFill>
              <a:srgbClr val="ffcc66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663300"/>
                  </a:solidFill>
                  <a:latin typeface="Times New Roman"/>
                </a:rPr>
                <a:t>Главная </a:t>
              </a:r>
              <a:br>
                <a:rPr sz="2400"/>
              </a:br>
              <a:r>
                <a:rPr b="0" i="1" lang="ru-RU" sz="2400" spc="-1" strike="noStrike">
                  <a:solidFill>
                    <a:srgbClr val="663300"/>
                  </a:solidFill>
                  <a:latin typeface="Times New Roman"/>
                </a:rPr>
                <a:t>мысль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228600" y="3711600"/>
              <a:ext cx="5867280" cy="171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Так как на слайде нельзя размещать много текста, то текст сценария разбейте на порции для слайдов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Каждую  порцию  сократить  -  выделить  главную  мысль:  </a:t>
              </a:r>
              <a:br>
                <a:rPr sz="1500"/>
              </a:b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то есть  сформулировать  </a:t>
              </a:r>
              <a:br>
                <a:rPr sz="1500"/>
              </a:b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словосочетание  для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заголовка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слайда   и </a:t>
              </a:r>
              <a:br>
                <a:rPr sz="1500"/>
              </a:b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4-5  строк  основного  текста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,  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поясняющего  заголовок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адача № 2 -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составить  схему  презентаци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1066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Если  слайды  по  смыслу будут следовать один за другим - это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линейная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презентация.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523880"/>
            <a:ext cx="9144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Если  Вы  задумали, что  по сценарию  презентации  от  некоторых  слайдов  будут  отходить  «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ветви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»  из  дополнительных  слайдов  (для  конкретизации), то  эт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елинейная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презентация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Для  неё  нужно  начертить  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схему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(последовательность слайдов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и связи  между ними). 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Например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6320" y="5638680"/>
            <a:ext cx="6858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В  презентации  такие  «ветви»  от  основных  слайдов  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реализуются  с  помощью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гиперссылок.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А  технология  такого  нелинейного  текста  называется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1500"/>
            </a:b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гипертекстом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228600" y="2438280"/>
            <a:ext cx="6095880" cy="2590920"/>
            <a:chOff x="228600" y="2438280"/>
            <a:chExt cx="6095880" cy="2590920"/>
          </a:xfrm>
        </p:grpSpPr>
        <p:sp>
          <p:nvSpPr>
            <p:cNvPr id="98" name="AutoShape 12"/>
            <p:cNvSpPr/>
            <p:nvPr/>
          </p:nvSpPr>
          <p:spPr>
            <a:xfrm>
              <a:off x="228600" y="2438280"/>
              <a:ext cx="6095880" cy="2590920"/>
            </a:xfrm>
            <a:prstGeom prst="foldedCorner">
              <a:avLst>
                <a:gd name="adj" fmla="val 947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04920" y="3200400"/>
              <a:ext cx="60948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1066680" y="3200400"/>
              <a:ext cx="6098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1828800" y="3200400"/>
              <a:ext cx="60948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2590920" y="3200400"/>
              <a:ext cx="60948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3352680" y="3200400"/>
              <a:ext cx="609840" cy="45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4114800" y="3200400"/>
              <a:ext cx="609480" cy="45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4876920" y="3200400"/>
              <a:ext cx="609480" cy="457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5638680" y="3200400"/>
              <a:ext cx="60984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1"/>
            <p:cNvSpPr/>
            <p:nvPr/>
          </p:nvSpPr>
          <p:spPr>
            <a:xfrm>
              <a:off x="1828800" y="2590560"/>
              <a:ext cx="60948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4876920" y="3809880"/>
              <a:ext cx="609480" cy="457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3"/>
            <p:cNvSpPr/>
            <p:nvPr/>
          </p:nvSpPr>
          <p:spPr>
            <a:xfrm>
              <a:off x="4876920" y="4419360"/>
              <a:ext cx="60948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5181480" y="3657600"/>
              <a:ext cx="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5181480" y="4267080"/>
              <a:ext cx="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>
              <a:off x="54864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V="1">
              <a:off x="5638680" y="38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 flipH="1" flipV="1">
              <a:off x="5486040" y="3657240"/>
              <a:ext cx="15228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>
              <a:off x="914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167652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2438280" y="3429000"/>
              <a:ext cx="1526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3200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396252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4724280" y="3429000"/>
              <a:ext cx="1526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5486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 flipV="1">
              <a:off x="2133720" y="3047760"/>
              <a:ext cx="0" cy="152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304920" y="4343400"/>
              <a:ext cx="4343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  структуре  этой  нелинейной  презентации 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а_3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отходит «ветвь» -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_3а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а_7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отходит «ветвь» -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_7а,   Слайд_7б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304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итульны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0"/>
            <p:cNvSpPr/>
            <p:nvPr/>
          </p:nvSpPr>
          <p:spPr>
            <a:xfrm>
              <a:off x="1066680" y="3352680"/>
              <a:ext cx="60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1"/>
            <p:cNvSpPr/>
            <p:nvPr/>
          </p:nvSpPr>
          <p:spPr>
            <a:xfrm>
              <a:off x="182880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2590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43"/>
            <p:cNvSpPr/>
            <p:nvPr/>
          </p:nvSpPr>
          <p:spPr>
            <a:xfrm>
              <a:off x="3352680" y="3352680"/>
              <a:ext cx="60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411480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5"/>
            <p:cNvSpPr/>
            <p:nvPr/>
          </p:nvSpPr>
          <p:spPr>
            <a:xfrm>
              <a:off x="4876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6"/>
            <p:cNvSpPr/>
            <p:nvPr/>
          </p:nvSpPr>
          <p:spPr>
            <a:xfrm>
              <a:off x="5638680" y="327636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аключе-ни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7"/>
            <p:cNvSpPr/>
            <p:nvPr/>
          </p:nvSpPr>
          <p:spPr>
            <a:xfrm>
              <a:off x="1828800" y="274320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3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8"/>
            <p:cNvSpPr/>
            <p:nvPr/>
          </p:nvSpPr>
          <p:spPr>
            <a:xfrm>
              <a:off x="4876920" y="396216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7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4876920" y="457200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7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50"/>
          <p:cNvSpPr/>
          <p:nvPr/>
        </p:nvSpPr>
        <p:spPr>
          <a:xfrm flipH="1">
            <a:off x="6171840" y="2438280"/>
            <a:ext cx="1143000" cy="457200"/>
          </a:xfrm>
          <a:prstGeom prst="line">
            <a:avLst/>
          </a:prstGeom>
          <a:ln w="9360">
            <a:solidFill>
              <a:srgbClr val="4a00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5" descr="C:\WINDOWS\Рабочий стол\Преподавание\1-ые слайды презентации\Рис для презентации\чертит_m.jpg"/>
          <p:cNvPicPr/>
          <p:nvPr/>
        </p:nvPicPr>
        <p:blipFill>
          <a:blip r:embed="rId12"/>
          <a:stretch/>
        </p:blipFill>
        <p:spPr>
          <a:xfrm>
            <a:off x="5975280" y="4135320"/>
            <a:ext cx="3321000" cy="272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8380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Откройте  программу  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</a:rPr>
              <a:t>PowerPoint  и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жмите  меню  «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</a:rPr>
              <a:t>Файл--Создать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».  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ак  Вы создадите  новую  презентацию.  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еред  вами  появится  пустой   первый  слай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1981080" y="2438280"/>
            <a:ext cx="6853320" cy="2590920"/>
            <a:chOff x="1981080" y="2438280"/>
            <a:chExt cx="6853320" cy="2590920"/>
          </a:xfrm>
        </p:grpSpPr>
        <p:sp>
          <p:nvSpPr>
            <p:cNvPr id="139" name="Text Box 3"/>
            <p:cNvSpPr/>
            <p:nvPr/>
          </p:nvSpPr>
          <p:spPr>
            <a:xfrm>
              <a:off x="1981080" y="24382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Что  делать  дальше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5" descr="C:\WINDOWS\Рабочий стол\Преподавание\1-ые слайды презентации\Рис для презентации\думает_карикатур.jpg"/>
            <p:cNvPicPr/>
            <p:nvPr/>
          </p:nvPicPr>
          <p:blipFill>
            <a:blip r:embed="rId1"/>
            <a:stretch/>
          </p:blipFill>
          <p:spPr>
            <a:xfrm>
              <a:off x="6705720" y="2666880"/>
              <a:ext cx="212868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ишло  время  сесть  за  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5" descr="C:\WINDOWS\Рабочий стол\Преподавание\1-ые слайды презентации\Рис для презентации\стили._экран.jpg"/>
          <p:cNvPicPr/>
          <p:nvPr/>
        </p:nvPicPr>
        <p:blipFill>
          <a:blip r:embed="rId1"/>
          <a:stretch/>
        </p:blipFill>
        <p:spPr>
          <a:xfrm>
            <a:off x="4648320" y="2133720"/>
            <a:ext cx="4419360" cy="3504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пределите   ДИЗАЙН  своей 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" y="974880"/>
            <a:ext cx="7696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се слайды  одной презентации  должен  объединять  общий  дизайн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 определите, какими  будут на  всех слайдах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105520" y="2698920"/>
            <a:ext cx="3581280" cy="255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920" y="1905120"/>
            <a:ext cx="761760" cy="533160"/>
          </a:xfrm>
          <a:prstGeom prst="rightArrow">
            <a:avLst>
              <a:gd name="adj1" fmla="val 51194"/>
              <a:gd name="adj2" fmla="val 24706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фо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35268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Определяется  как  разница  между  выручкой    и  издержками</a:t>
            </a:r>
            <a:r>
              <a:rPr b="0" lang="ru-RU" sz="12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04920" y="3379680"/>
            <a:ext cx="2514600" cy="533520"/>
          </a:xfrm>
          <a:prstGeom prst="rightArrow">
            <a:avLst>
              <a:gd name="adj1" fmla="val 59028"/>
              <a:gd name="adj2" fmla="val 58697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ил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основного текст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04920" y="2617920"/>
            <a:ext cx="1904760" cy="533160"/>
          </a:xfrm>
          <a:prstGeom prst="rightArrow">
            <a:avLst>
              <a:gd name="adj1" fmla="val 59028"/>
              <a:gd name="adj2" fmla="val 44492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иль</a:t>
            </a:r>
            <a:r>
              <a:rPr b="1" lang="ru-RU" sz="1500" spc="-1" strike="noStrike">
                <a:solidFill>
                  <a:srgbClr val="64001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заголовк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3"/>
          <p:cNvGrpSpPr/>
          <p:nvPr/>
        </p:nvGrpSpPr>
        <p:grpSpPr>
          <a:xfrm>
            <a:off x="304920" y="4141800"/>
            <a:ext cx="3429000" cy="736200"/>
            <a:chOff x="304920" y="4141800"/>
            <a:chExt cx="3429000" cy="736200"/>
          </a:xfrm>
        </p:grpSpPr>
        <p:sp>
          <p:nvSpPr>
            <p:cNvPr id="151" name="Text Box 5"/>
            <p:cNvSpPr/>
            <p:nvPr/>
          </p:nvSpPr>
          <p:spPr>
            <a:xfrm>
              <a:off x="304920" y="4555800"/>
              <a:ext cx="3124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3040" indent="-47304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   основном тексте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9"/>
            <p:cNvSpPr/>
            <p:nvPr/>
          </p:nvSpPr>
          <p:spPr>
            <a:xfrm>
              <a:off x="304920" y="4141800"/>
              <a:ext cx="3429000" cy="496800"/>
            </a:xfrm>
            <a:prstGeom prst="rightArrow">
              <a:avLst>
                <a:gd name="adj1" fmla="val 54167"/>
                <a:gd name="adj2" fmla="val 58157"/>
              </a:avLst>
            </a:prstGeom>
            <a:solidFill>
              <a:srgbClr val="ffe5cb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стиль выделения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«важных слов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4"/>
          <p:cNvGrpSpPr/>
          <p:nvPr/>
        </p:nvGrpSpPr>
        <p:grpSpPr>
          <a:xfrm>
            <a:off x="5334120" y="3710160"/>
            <a:ext cx="3352320" cy="432720"/>
            <a:chOff x="5334120" y="3710160"/>
            <a:chExt cx="3352320" cy="432720"/>
          </a:xfrm>
        </p:grpSpPr>
        <p:sp>
          <p:nvSpPr>
            <p:cNvPr id="154" name="Text Box 23"/>
            <p:cNvSpPr/>
            <p:nvPr/>
          </p:nvSpPr>
          <p:spPr>
            <a:xfrm>
              <a:off x="7673040" y="3710160"/>
              <a:ext cx="101340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ыручко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4"/>
            <p:cNvSpPr/>
            <p:nvPr/>
          </p:nvSpPr>
          <p:spPr>
            <a:xfrm>
              <a:off x="5334120" y="3938400"/>
              <a:ext cx="1013400" cy="204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здержкам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Picture 28" descr="C:\WINDOWS\Рабочий стол\Преподавание\1-ые слайды презентации\Рис для презентации\стили._чувак.jpg"/>
          <p:cNvPicPr/>
          <p:nvPr/>
        </p:nvPicPr>
        <p:blipFill>
          <a:blip r:embed="rId5"/>
          <a:stretch/>
        </p:blipFill>
        <p:spPr>
          <a:xfrm>
            <a:off x="4724280" y="4522680"/>
            <a:ext cx="4343400" cy="233532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7"/>
          <p:cNvSpPr txBox="1"/>
          <p:nvPr/>
        </p:nvSpPr>
        <p:spPr>
          <a:xfrm>
            <a:off x="5257800" y="2838600"/>
            <a:ext cx="33321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52300" dir="4563564" blurRad="0" rotWithShape="0">
                    <a:srgbClr val="800080"/>
                  </a:outerShdw>
                </a:effectLst>
                <a:latin typeface="Impact"/>
              </a:rPr>
              <a:t>Что  такое  прибыль?</a:t>
            </a:r>
            <a:endParaRPr b="0" lang="en-US" sz="2400" spc="1" strike="noStrike">
              <a:ln w="324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52300" dir="4563564" blurRad="0" rotWithShape="0">
                  <a:srgbClr val="80008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34" descr="C:\WINDOWS\Рабочий стол\Преподавание\1-ые слайды презентации\Рис для презентации\ералаш2.jpg"/>
          <p:cNvPicPr/>
          <p:nvPr/>
        </p:nvPicPr>
        <p:blipFill>
          <a:blip r:embed="rId1"/>
          <a:stretch/>
        </p:blipFill>
        <p:spPr>
          <a:xfrm>
            <a:off x="2438280" y="1698480"/>
            <a:ext cx="6705720" cy="5072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27"/>
          <p:cNvSpPr/>
          <p:nvPr/>
        </p:nvSpPr>
        <p:spPr>
          <a:xfrm>
            <a:off x="685800" y="763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«Зачем  нужны  эти  стили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28"/>
          <p:cNvSpPr/>
          <p:nvPr/>
        </p:nvSpPr>
        <p:spPr>
          <a:xfrm>
            <a:off x="152280" y="2422440"/>
            <a:ext cx="16765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 вся  презентация   будет смотреться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разрозненный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яд  пёстрых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 не  как  единая  цельная  работа,  раскрывающая  определенную тему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9"/>
          <p:cNvSpPr/>
          <p:nvPr/>
        </p:nvSpPr>
        <p:spPr>
          <a:xfrm>
            <a:off x="152280" y="746280"/>
            <a:ext cx="8763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что получится, если Вы  для  каждого  слайда  будете  применять  свой фон,  разные  стили для  текста?      Тогда  каждый   отдельный  слайд,  может,  и  будет  по-своему  красив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30">
            <a:hlinkClick r:id="" action="ppaction://hlinkshowjump?jump=nextslide"/>
          </p:cNvPr>
          <p:cNvSpPr/>
          <p:nvPr/>
        </p:nvSpPr>
        <p:spPr>
          <a:xfrm>
            <a:off x="60948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1031"/>
          <p:cNvSpPr txBox="1"/>
          <p:nvPr/>
        </p:nvSpPr>
        <p:spPr>
          <a:xfrm>
            <a:off x="4694400" y="2895480"/>
            <a:ext cx="201132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ЕРАЛАШ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37:39Z</dcterms:created>
  <dc:creator>Михальченко</dc:creator>
  <dc:description/>
  <dc:language>en-US</dc:language>
  <cp:lastModifiedBy>Оля</cp:lastModifiedBy>
  <dcterms:modified xsi:type="dcterms:W3CDTF">2008-10-12T11:41:15Z</dcterms:modified>
  <cp:revision>242</cp:revision>
  <dc:subject/>
  <dc:title>Заголовок слайда отсутствует</dc:title>
</cp:coreProperties>
</file>