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6661-DBA4-4EFF-90EE-10BA32AFC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3FE-98A5-453B-A299-4832D5E9A4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7DC6-DF97-40A8-81FF-5B9374515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9D6-4F22-45D4-87E1-D43018FFE0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7AAA-01D3-42E2-8AD5-C40FB38E50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7755-9625-48C4-82DF-39CEEDDAE6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63FE-0B35-4E80-B3F9-08963A65F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96D-BBE0-4C54-9BD9-0EC9BE70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480-B567-4C36-8643-84E1A1CF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4B5-7BE2-4D41-86F2-835D715C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DF7-496C-41B6-AA13-BB03CD7D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CCF-8523-4B12-8134-26F986CA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903-AC55-4FAD-9B3F-0745852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411-4977-4669-9A59-997F0578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16A-52F2-46DB-9D57-1DE35193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29B-0602-401D-9F9C-0943BF4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366-7B97-437B-96EC-A3D6EC30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50C-C0CA-4A5A-AD81-4D301EE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E74-9FED-445F-9D1B-DA4CD0BF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45C3-C753-494A-A739-D7B944A945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rdenrf.ru/" TargetMode="External"/><Relationship Id="rId3" Type="http://schemas.openxmlformats.org/officeDocument/2006/relationships/hyperlink" Target="http://ordenrf.ru/" TargetMode="External"/><Relationship Id="rId4" Type="http://schemas.openxmlformats.org/officeDocument/2006/relationships/hyperlink" Target="http://ordenrf.ru/" TargetMode="External"/><Relationship Id="rId5" Type="http://schemas.openxmlformats.org/officeDocument/2006/relationships/hyperlink" Target="http://ordenrf.ru/geroi-rossii/goroda-voinskoy-slavy/" TargetMode="External"/><Relationship Id="rId6" Type="http://schemas.openxmlformats.org/officeDocument/2006/relationships/hyperlink" Target="http://ordenrf.ru/geroi-rossii/goroda-voinskoy-slavy/" TargetMode="External"/><Relationship Id="rId7" Type="http://schemas.openxmlformats.org/officeDocument/2006/relationships/hyperlink" Target="http://ordenrf.ru/geroi-rossii/goroda-voinskoy-slavy/" TargetMode="External"/><Relationship Id="rId8" Type="http://schemas.openxmlformats.org/officeDocument/2006/relationships/hyperlink" Target="http://ordenrf.ru/geroi-rossii/goroda-voinskoy-slavy/" TargetMode="External"/><Relationship Id="rId9" Type="http://schemas.openxmlformats.org/officeDocument/2006/relationships/hyperlink" Target="http://ordenrf.ru/geroi-rossii/goroda-voinskoy-slavy/" TargetMode="External"/><Relationship Id="rId10" Type="http://schemas.openxmlformats.org/officeDocument/2006/relationships/hyperlink" Target="http://ordenrf.ru/geroi-rossii/goroda-voinskoy-slavy/" TargetMode="External"/><Relationship Id="rId11" Type="http://schemas.openxmlformats.org/officeDocument/2006/relationships/hyperlink" Target="http://ordenrf.ru/geroi-rossii/goroda-voinskoy-slavy/" TargetMode="External"/><Relationship Id="rId12" Type="http://schemas.openxmlformats.org/officeDocument/2006/relationships/hyperlink" Target="http://ordenrf.ru/geroi-rossii/goroda-voinskoy-slavy/" TargetMode="External"/><Relationship Id="rId13" Type="http://schemas.openxmlformats.org/officeDocument/2006/relationships/hyperlink" Target="http://ordenrf.ru/geroi-rossii/goroda-voinskoy-slavy/" TargetMode="External"/><Relationship Id="rId14" Type="http://schemas.openxmlformats.org/officeDocument/2006/relationships/hyperlink" Target="http://ordenrf.ru/geroi-rossii/goroda-voinskoy-slavy/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57120" y="-3571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Содержимое 5"/>
          <p:cNvSpPr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убление знаний о государственном празднике День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историей праздника День Поб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городами-героями и городами воинской сла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полнить творческий проект «Города-герои и города воинской слав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узнать, как люди чтят защитников Отечества, как мы можем поучаствовать в праздновании Дня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14328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Тема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аздники в жизни общества. День Побед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4"/>
          <p:cNvSpPr/>
          <p:nvPr/>
        </p:nvSpPr>
        <p:spPr>
          <a:xfrm>
            <a:off x="428760" y="1857240"/>
            <a:ext cx="8229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еч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страна, где человек родился и к гражданам которой он принадлежит.</a:t>
            </a:r>
            <a:br>
              <a:rPr sz="20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.Ожегов. «Толковый словарь русского языка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_1399563399.jpg"/>
          <p:cNvPicPr/>
          <p:nvPr/>
        </p:nvPicPr>
        <p:blipFill>
          <a:blip r:embed="rId2"/>
          <a:stretch/>
        </p:blipFill>
        <p:spPr>
          <a:xfrm>
            <a:off x="1500120" y="1285920"/>
            <a:ext cx="638352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ечный огонь у Кремлёвской ст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mocart - nostal'giya.mp3" descr=""/>
          <p:cNvPicPr/>
          <p:nvPr/>
        </p:nvPicPr>
        <p:blipFill>
          <a:blip r:embed="rId3"/>
          <a:stretch/>
        </p:blipFill>
        <p:spPr>
          <a:xfrm>
            <a:off x="257184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082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57120" y="-285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ело Мир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User\Pictures\MP Navigator EX\2015_04_12\IMG_0001.jpg"/>
          <p:cNvPicPr/>
          <p:nvPr/>
        </p:nvPicPr>
        <p:blipFill>
          <a:blip r:embed="rId2"/>
          <a:srcRect l="8450" t="63780" r="8450" b="8673"/>
          <a:stretch/>
        </p:blipFill>
        <p:spPr>
          <a:xfrm>
            <a:off x="571680" y="1285920"/>
            <a:ext cx="81723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57120" y="-285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ород Губк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3286080" y="714240"/>
            <a:ext cx="2143080" cy="329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20 &amp;scy;&amp;iecy;&amp;ncy;&amp;tcy;&amp;yacy;&amp;bcy;&amp;rcy;&amp;yacy; &amp;rcy;&amp;ocy;&amp;dcy;&amp;icy;&amp;lcy;&amp;icy;&amp;scy;&amp;softcy;... .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rcRect l="0" t="0" r="32032" b="26567"/>
          <a:stretch/>
        </p:blipFill>
        <p:spPr>
          <a:xfrm>
            <a:off x="142920" y="1143000"/>
            <a:ext cx="2928960" cy="2373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SCN0194"/>
          <p:cNvPicPr/>
          <p:nvPr/>
        </p:nvPicPr>
        <p:blipFill>
          <a:blip r:embed="rId4"/>
          <a:stretch/>
        </p:blipFill>
        <p:spPr>
          <a:xfrm>
            <a:off x="4786200" y="4197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SCN0247"/>
          <p:cNvPicPr/>
          <p:nvPr/>
        </p:nvPicPr>
        <p:blipFill>
          <a:blip r:embed="rId5"/>
          <a:srcRect l="0" t="5624" r="13549" b="0"/>
          <a:stretch/>
        </p:blipFill>
        <p:spPr>
          <a:xfrm>
            <a:off x="1389240" y="4214880"/>
            <a:ext cx="2979720" cy="2324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&amp;Scy;&amp;tcy;&amp;iecy;&amp;lcy;&amp;acy; &amp;tcy;&amp;rcy;&amp;ucy;&amp;zhcy;&amp;iecy;&amp;ncy;&amp;icy;&amp;kcy;&amp;acy;&amp;mcy; &amp;tcy;&amp;ycy;&amp;lcy;&amp;acy;"/>
          <p:cNvPicPr/>
          <p:nvPr/>
        </p:nvPicPr>
        <p:blipFill>
          <a:blip r:embed="rId6"/>
          <a:srcRect l="12963" t="0" r="5478" b="14518"/>
          <a:stretch/>
        </p:blipFill>
        <p:spPr>
          <a:xfrm>
            <a:off x="5786280" y="1143000"/>
            <a:ext cx="32911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5"/>
          <p:cNvSpPr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историей праздника День Поб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знакомиться с городами-героями и городами воинской сла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полнить творческий проект «Города-герои и города воинской слав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узнать, как люди чтят защитников Отечества, как мы можем поучаствовать в праздновании Дня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Desktop\den_pobedy_str_3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 Окружающий мир [Текст]: 2 кл. : Учебник: В 2 ч./ О.Н. Федотова, Г.В. Трафимова, С.А. Трафимов. – 3-е изд. -  М.:Академкнига/Учебник, 2013. – 80 с. –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8-5-49400-167-2  (общ.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8-5-49400-169-6 (ч. 2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 и др. Окружающий мир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класс: Методическое пособие/ О.Н. Федотова, Г.В. Трафимова, С.А. Трафимов. – М.: Академкнига/Учебник, 2012. – 200 с. –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8-5-49400-107-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-герои Великой Отечественной войны. Города воинской славы  [Электронный ресурс] – Режим доступа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ordenrf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gero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rossi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goroda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voinskoy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lavy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ободный. Загл. с экрана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[Электронный ресурс] – Режим  доступа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mag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yandex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/, свобод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агл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ра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оцарт. Ностальгия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жим доступа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zofon.com›search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царт ностальгия , свободный. Загл. с экр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6:51:19Z</dcterms:created>
  <dc:creator>User</dc:creator>
  <dc:description/>
  <dc:language>en-US</dc:language>
  <cp:lastModifiedBy>User</cp:lastModifiedBy>
  <dcterms:modified xsi:type="dcterms:W3CDTF">2015-05-04T05:38:00Z</dcterms:modified>
  <cp:revision>28</cp:revision>
  <dc:subject/>
  <dc:title>Слайд 1</dc:title>
</cp:coreProperties>
</file>