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1A71-3BE1-4DF2-ACD9-AFB3E36BE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176-CF10-46C3-8A51-B89DF2231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DFC-9245-4FBE-B328-0BF38DB626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EB4-54B4-4007-9334-885931775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27FB-C227-405C-ABBD-E914ED6FCB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880C-58DC-49D2-9DE1-D378DF7C1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490-D77C-4430-A6F4-5F2BD623D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6B1-2056-4303-8AD9-1CCEEEA1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3CB-AB0D-4A95-B7AA-133EB20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8A2-3796-462D-8CBB-A7800F83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6EB-D80B-4427-8722-11EC4E09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C6A-44AE-46F4-B6D0-6CFA4D0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D2C-C076-4006-9210-83235F4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407-CAFF-4DFC-9D77-763B8AC0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8DB-155E-4892-8CF3-296C4CF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05C-2B93-48CF-B9B2-2D7AD1C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4FF-B466-4E39-8BB2-FC57810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C88-F273-4286-A171-2A378CCC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BFA-7C25-4CE7-86D2-BEFBCE5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597-DB89-4938-A716-85E3DF4DA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denrf.ru/" TargetMode="External"/><Relationship Id="rId3" Type="http://schemas.openxmlformats.org/officeDocument/2006/relationships/hyperlink" Target="http://ordenrf.ru/" TargetMode="External"/><Relationship Id="rId4" Type="http://schemas.openxmlformats.org/officeDocument/2006/relationships/hyperlink" Target="http://ordenrf.ru/" TargetMode="External"/><Relationship Id="rId5" Type="http://schemas.openxmlformats.org/officeDocument/2006/relationships/hyperlink" Target="http://ordenrf.ru/geroi-rossii/goroda-voinskoy-slavy/" TargetMode="External"/><Relationship Id="rId6" Type="http://schemas.openxmlformats.org/officeDocument/2006/relationships/hyperlink" Target="http://ordenrf.ru/geroi-rossii/goroda-voinskoy-slavy/" TargetMode="External"/><Relationship Id="rId7" Type="http://schemas.openxmlformats.org/officeDocument/2006/relationships/hyperlink" Target="http://ordenrf.ru/geroi-rossii/goroda-voinskoy-slavy/" TargetMode="External"/><Relationship Id="rId8" Type="http://schemas.openxmlformats.org/officeDocument/2006/relationships/hyperlink" Target="http://ordenrf.ru/geroi-rossii/goroda-voinskoy-slavy/" TargetMode="External"/><Relationship Id="rId9" Type="http://schemas.openxmlformats.org/officeDocument/2006/relationships/hyperlink" Target="http://ordenrf.ru/geroi-rossii/goroda-voinskoy-slavy/" TargetMode="External"/><Relationship Id="rId10" Type="http://schemas.openxmlformats.org/officeDocument/2006/relationships/hyperlink" Target="http://ordenrf.ru/geroi-rossii/goroda-voinskoy-slavy/" TargetMode="External"/><Relationship Id="rId11" Type="http://schemas.openxmlformats.org/officeDocument/2006/relationships/hyperlink" Target="http://ordenrf.ru/geroi-rossii/goroda-voinskoy-slavy/" TargetMode="External"/><Relationship Id="rId12" Type="http://schemas.openxmlformats.org/officeDocument/2006/relationships/hyperlink" Target="http://ordenrf.ru/geroi-rossii/goroda-voinskoy-slavy/" TargetMode="External"/><Relationship Id="rId13" Type="http://schemas.openxmlformats.org/officeDocument/2006/relationships/hyperlink" Target="http://ordenrf.ru/geroi-rossii/goroda-voinskoy-slavy/" TargetMode="External"/><Relationship Id="rId14" Type="http://schemas.openxmlformats.org/officeDocument/2006/relationships/hyperlink" Target="http://ordenrf.ru/geroi-rossii/goroda-voinskoy-slavy/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3571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Содержимое 5"/>
          <p:cNvSpPr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убление знаний о государственном празднике День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историей праздника День Поб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городами-героями и городами воинской сла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полнить творческий проект «Города-герои и города воинской слав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знать, как люди чтят защитников Отечества, как мы можем поучаствовать в праздновании Дня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14328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Тема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здники в жизни общества. День Побед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4"/>
          <p:cNvSpPr/>
          <p:nvPr/>
        </p:nvSpPr>
        <p:spPr>
          <a:xfrm>
            <a:off x="428760" y="185724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еч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страна, где человек родился и к гражданам которой он принадлежит.</a:t>
            </a:r>
            <a:br>
              <a:rPr sz="2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.Ожегов. «Толковый словарь русского языка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_1399563399.jpg"/>
          <p:cNvPicPr/>
          <p:nvPr/>
        </p:nvPicPr>
        <p:blipFill>
          <a:blip r:embed="rId2"/>
          <a:stretch/>
        </p:blipFill>
        <p:spPr>
          <a:xfrm>
            <a:off x="1500120" y="1285920"/>
            <a:ext cx="63835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ечный огонь у Кремлёвской ст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mocart - nostal'giya.mp3" descr=""/>
          <p:cNvPicPr/>
          <p:nvPr/>
        </p:nvPicPr>
        <p:blipFill>
          <a:blip r:embed="rId3"/>
          <a:stretch/>
        </p:blipFill>
        <p:spPr>
          <a:xfrm>
            <a:off x="2571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82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ло Мир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User\Pictures\MP Navigator EX\2015_04_12\IMG_0001.jpg"/>
          <p:cNvPicPr/>
          <p:nvPr/>
        </p:nvPicPr>
        <p:blipFill>
          <a:blip r:embed="rId2"/>
          <a:srcRect l="8450" t="63780" r="8450" b="8673"/>
          <a:stretch/>
        </p:blipFill>
        <p:spPr>
          <a:xfrm>
            <a:off x="571680" y="1285920"/>
            <a:ext cx="81723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ород Губ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3286080" y="714240"/>
            <a:ext cx="2143080" cy="329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20 &amp;scy;&amp;iecy;&amp;ncy;&amp;tcy;&amp;yacy;&amp;bcy;&amp;rcy;&amp;yacy; &amp;rcy;&amp;ocy;&amp;dcy;&amp;icy;&amp;lcy;&amp;icy;&amp;scy;&amp;softcy;... .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rcRect l="0" t="0" r="32032" b="26567"/>
          <a:stretch/>
        </p:blipFill>
        <p:spPr>
          <a:xfrm>
            <a:off x="142920" y="1143000"/>
            <a:ext cx="2928960" cy="237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SCN0194"/>
          <p:cNvPicPr/>
          <p:nvPr/>
        </p:nvPicPr>
        <p:blipFill>
          <a:blip r:embed="rId4"/>
          <a:stretch/>
        </p:blipFill>
        <p:spPr>
          <a:xfrm>
            <a:off x="4786200" y="4197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N0247"/>
          <p:cNvPicPr/>
          <p:nvPr/>
        </p:nvPicPr>
        <p:blipFill>
          <a:blip r:embed="rId5"/>
          <a:srcRect l="0" t="5624" r="13549" b="0"/>
          <a:stretch/>
        </p:blipFill>
        <p:spPr>
          <a:xfrm>
            <a:off x="1389240" y="4214880"/>
            <a:ext cx="2979720" cy="232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&amp;Scy;&amp;tcy;&amp;iecy;&amp;lcy;&amp;acy; &amp;tcy;&amp;rcy;&amp;ucy;&amp;zhcy;&amp;iecy;&amp;ncy;&amp;icy;&amp;kcy;&amp;acy;&amp;mcy; &amp;tcy;&amp;ycy;&amp;lcy;&amp;acy;"/>
          <p:cNvPicPr/>
          <p:nvPr/>
        </p:nvPicPr>
        <p:blipFill>
          <a:blip r:embed="rId6"/>
          <a:srcRect l="12963" t="0" r="5478" b="14518"/>
          <a:stretch/>
        </p:blipFill>
        <p:spPr>
          <a:xfrm>
            <a:off x="5786280" y="1143000"/>
            <a:ext cx="32911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5"/>
          <p:cNvSpPr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историей праздника День Поб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городами-героями и городами воинской сла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полнить творческий проект «Города-герои и города воинской слав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знать, как люди чтят защитников Отечества, как мы можем поучаствовать в праздновании Дня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 Окружающий мир [Текст]: 2 кл. : Учебник: В 2 ч./ О.Н. Федотова, Г.В. Трафимова, С.А. Трафимов. – 3-е изд. -  М.:Академкнига/Учебник, 2013. – 80 с. –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67-2  (общ.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69-6 (ч. 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 и др. Окружающий мир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класс: Методическое пособие/ О.Н. Федотова, Г.В. Трафимова, С.А. Трафимов. – М.: Академкнига/Учебник, 2012. – 200 с. –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07-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-герои Великой Отечественной войны. Города воинской славы  [Электронный ресурс] – Режим доступа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rdenrf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gero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ross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goroda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voinsko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lav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ободный. Загл. с экрана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[Электронный ресурс] – Режим  доступа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mag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yandex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/, свобод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агл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ра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оцарт. Ностальгия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жим доступа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zofon.com›search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царт ностальгия , свободный. Загл. с экр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6:51:19Z</dcterms:created>
  <dc:creator>User</dc:creator>
  <dc:description/>
  <dc:language>en-US</dc:language>
  <cp:lastModifiedBy>User</cp:lastModifiedBy>
  <dcterms:modified xsi:type="dcterms:W3CDTF">2015-05-04T05:38:00Z</dcterms:modified>
  <cp:revision>28</cp:revision>
  <dc:subject/>
  <dc:title>Слайд 1</dc:title>
</cp:coreProperties>
</file>