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EB1-E505-4CA9-AAB4-84A03730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5AC-18E1-4F70-8BC1-7839C16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8E0-1040-435E-BF31-EA964D6C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48A-75E8-48A0-8CFE-C4773B82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357-F285-4B3C-B321-377606D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817-AD83-4B72-91D6-A160703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F2F-B1F1-438D-BBF5-6240C21A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7E63-3DB9-463F-89BB-0A1F81AB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673A-2610-47B6-890E-61F2A58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8D1-851E-4F8B-9556-EECBCD9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C0A9-0294-48DC-B6D1-D334328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4A0-B00F-467B-B53C-702FBDA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CAF9-7ADC-43F8-8846-754A7A6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DAE5-8226-45E7-9D73-9E1806F9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EB2-39C1-4D4F-8FBB-2D31D60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9EA1-74C1-46E7-A7B5-C48A015F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535-9F64-4AB2-9933-94CF37EC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100-CBAA-4E33-A610-1876DDFD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E43-CDF4-4558-A3F9-FDA1A548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C5B-D437-4476-A4F7-31CF7C70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EDD-1EA7-4C7D-875B-B310BDC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E4F-A9AF-4821-BD43-1A88814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CC2-15EB-47B9-AF59-2646B50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CAD-D297-4CF2-A46C-4E0C824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BCAC-3F76-400D-B1A8-EE205C019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A0C6-7635-4005-8E21-D42952863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нимание –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ервы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23236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Расшифруйте экономические понятия и дайте им объясн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83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УКПРО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А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ЛУСУА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ЫСЕУР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ИЯСФЕРП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Только сегодня и только сейчас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Не где-то в стране, а прямо у нас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Смотрите, какие есть фирмы прекрасные –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Большие и малые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с товарами разными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Мы их приглашаем себя показат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И что предложить могу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нам рассказать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2637000"/>
            <a:ext cx="2016000" cy="115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442880" cy="15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215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тели страны Экотония очень любят свои чудесные дом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бывают разные: маленькие и больш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енные и деревянные, очень красивые и совсем просты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ъясните, почему дома жителей отличаются друг от друг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акие дома будут у Мастера Отличного дворника и Мастера Управляющего банк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1729080" cy="98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1714680" cy="156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810560" y="2276640"/>
            <a:ext cx="1333440" cy="1771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627280" y="2421000"/>
            <a:ext cx="1727280" cy="162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500720" y="2924280"/>
            <a:ext cx="112392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Идём дальше –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торо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213696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ускники Экономического лицея Экотонии выбирают для себя ДЕЛО. Они знают, чем любят заниматься и каких успехов хотят достичь в жизни. Но не знают, какую профессию им выбр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могите им определиться, используя задания на карточк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4036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076720" y="3357720"/>
            <a:ext cx="790560" cy="81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012000" y="3357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95672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948360" y="3357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ишла пора задать третий вопрос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087640" cy="15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айте определения следующим понятия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5256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едприним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зовите, какие виды предприятий вы знаете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24360" y="1915920"/>
            <a:ext cx="31212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ловек, который начинает какое-то новое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упное промышленное предпри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ы недалеки от финал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659640" y="2924280"/>
            <a:ext cx="156672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тели Экотонии одинаково любят трудиться.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днако, результаты их труда неизменно различаются.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ff33"/>
                </a:solidFill>
                <a:latin typeface="Arial Black"/>
              </a:rPr>
              <a:t>Объясните, как такое возможно? </a:t>
            </a:r>
            <a:br>
              <a:rPr sz="3600"/>
            </a:br>
            <a:r>
              <a:rPr b="1" lang="ru-RU" sz="3600" spc="-1" strike="noStrike">
                <a:solidFill>
                  <a:srgbClr val="66ff33"/>
                </a:solidFill>
                <a:latin typeface="Arial Black"/>
              </a:rPr>
              <a:t>Приведите примеры, используя задания на карточках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ам придется немного пораскинуть мозгами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32440" y="3429000"/>
            <a:ext cx="22464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7:42:47Z</dcterms:created>
  <dc:creator>Ирина</dc:creator>
  <dc:description/>
  <dc:language>en-US</dc:language>
  <cp:lastModifiedBy>Ирина</cp:lastModifiedBy>
  <dcterms:modified xsi:type="dcterms:W3CDTF">2011-11-01T20:23:56Z</dcterms:modified>
  <cp:revision>3</cp:revision>
  <dc:subject/>
  <dc:title>Слайд 1</dc:title>
</cp:coreProperties>
</file>