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FDC-DAB5-43B9-9A11-DA63E8DA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FB2-B52B-4D63-B876-637A0B2B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F26-351D-49F9-AA7D-FEC83523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0D0-260C-44CC-A4F8-57DD08A2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AFD-7628-48A8-8305-8B2B5070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3F06-DA36-4BF3-A856-30CDEB3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A333-565E-49C5-848C-28E17AD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E1AC-FF83-431D-A53C-E88485C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D63-8191-4423-B1A2-124C799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C9A0-0405-4D00-B2D8-FC3C5E0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FF9-D429-4FFD-8FF2-BEF3B6A3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FB5-A864-4574-B72D-20DC2695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941A-EE56-4BF7-B2BB-CED88A1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06B-A8E8-44FF-AD24-A36248B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644-5850-4920-96D3-1D097CC9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4B7-40E3-4175-AEA4-D23A2E24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F99-DA78-4FF7-856E-E1FEE49F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E70-06F9-4023-89DC-28763F7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0D8-970B-4411-BF92-659A2D1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F0F-55F2-45ED-8E52-0B38E39A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EA8-5D9E-4807-9ADC-642A6B46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FDC-6574-418A-A0C1-7197E711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6E5-CFB8-4B20-B780-CC8B49A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3F3-9B31-44D7-A208-AB7AFAC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0940-412D-43D5-821E-86DAC8DAA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B73-F85F-4B43-AED9-0DB1A0811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нимание –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ервы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23236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Расшифруйте экономические понятия и дайте им объясн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83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УКПРО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А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ЛУСУА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ЫСЕУР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ЯСФЕРП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Только сегодня и только сейчас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Не где-то в стране, а прямо у нас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Смотрите, какие есть фирмы прекрасные –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Большие и малые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с товарами разными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Мы их приглашаем себя показат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И что предложить могу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нам рассказать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2637000"/>
            <a:ext cx="2016000" cy="115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442880" cy="15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215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тели страны Экотония очень любят свои чудесные до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бывают разные: маленькие и больш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енные и деревянные, очень красивые и совсем просты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ъясните, почему дома жителей отличаются друг от друг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акие дома будут у Мастера Отличного дворника и Мастера Управляющего банк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1729080" cy="98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1714680" cy="156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10560" y="2276640"/>
            <a:ext cx="1333440" cy="1771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627280" y="2421000"/>
            <a:ext cx="1727280" cy="162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500720" y="2924280"/>
            <a:ext cx="112392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Идём дальше –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торо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213696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ускники Экономического лицея Экотонии выбирают для себя ДЕЛО. Они знают, чем любят заниматься и каких успехов хотят достичь в жизни. Но не знают, какую профессию им выбр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могите им определиться, используя задания на карточк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4036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076720" y="3357720"/>
            <a:ext cx="790560" cy="81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12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95672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948360" y="3357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ишла пора задать трети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087640" cy="15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айте определения следующим понятия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5256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едприним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зовите, какие виды предприятий вы знаете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24360" y="1915920"/>
            <a:ext cx="31212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ловек, который начинает какое-то новое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упное промышленное пред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ы недалеки от финал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2924280"/>
            <a:ext cx="156672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тели Экотонии одинаково любят трудиться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днако, результаты их труда неизменно различаются.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ff33"/>
                </a:solidFill>
                <a:latin typeface="Arial Black"/>
              </a:rPr>
              <a:t>Объясните, как такое возможно? </a:t>
            </a:r>
            <a:br>
              <a:rPr sz="3600"/>
            </a:br>
            <a:r>
              <a:rPr b="1" lang="ru-RU" sz="3600" spc="-1" strike="noStrike">
                <a:solidFill>
                  <a:srgbClr val="66ff33"/>
                </a:solidFill>
                <a:latin typeface="Arial Black"/>
              </a:rPr>
              <a:t>Приведите примеры, используя задания на карточка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ам придется немного пораскинуть мозгами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32440" y="3429000"/>
            <a:ext cx="22464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7:42:47Z</dcterms:created>
  <dc:creator>Ирина</dc:creator>
  <dc:description/>
  <dc:language>en-US</dc:language>
  <cp:lastModifiedBy>Ирина</cp:lastModifiedBy>
  <dcterms:modified xsi:type="dcterms:W3CDTF">2011-11-01T20:23:56Z</dcterms:modified>
  <cp:revision>3</cp:revision>
  <dc:subject/>
  <dc:title>Слайд 1</dc:title>
</cp:coreProperties>
</file>