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7AF-49B9-4F7E-BBBA-1B1918FD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DA4-20A4-489C-9816-BB83D005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EAC-E4BA-4ED7-9BC2-8BF14AA6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86F-A059-49F4-888C-35E08A12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4D3-0BC6-451E-9AC4-53357D96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1A6-8DC7-42F5-A66A-3D7D544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10C-CCB8-4882-86F7-B47D5676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8CA-1C2F-460B-B878-DD848C0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7E8-5FDF-4B9E-A1A6-ED71351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6E4-D03F-45FA-9518-FEC079A1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788-A7A2-45AE-9E07-3C3F35A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67E-87BE-4E35-9F62-0303158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998-3D37-494C-957E-83D4D65E3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Geburtstag! Geburtstag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Ольга\Desktop\Кристине)немецкий\2756_big.jpg"/>
          <p:cNvPicPr/>
          <p:nvPr/>
        </p:nvPicPr>
        <p:blipFill>
          <a:blip r:embed="rId1"/>
          <a:stretch/>
        </p:blipFill>
        <p:spPr>
          <a:xfrm>
            <a:off x="762120" y="1371600"/>
            <a:ext cx="77803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написать приглашение, нам нужно повторить дни нед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дни недели.jpg"/>
          <p:cNvPicPr/>
          <p:nvPr/>
        </p:nvPicPr>
        <p:blipFill>
          <a:blip r:embed="rId1"/>
          <a:stretch/>
        </p:blipFill>
        <p:spPr>
          <a:xfrm>
            <a:off x="1828800" y="111924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Hausaufgabe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09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стр. 55 упр. 2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исать приглаш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ое задание для желающих: стр. 57 упр.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Ольга\Desktop\Кристине)немецкий\скачанные файлы.jpg"/>
          <p:cNvPicPr/>
          <p:nvPr/>
        </p:nvPicPr>
        <p:blipFill>
          <a:blip r:embed="rId1"/>
          <a:stretch/>
        </p:blipFill>
        <p:spPr>
          <a:xfrm>
            <a:off x="2895480" y="3881520"/>
            <a:ext cx="41148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Comic Sans MS"/>
              </a:rPr>
              <a:t>Them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: Sabine schreib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inladung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(приглашения)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zum Geburtstag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ослушайте стихотворе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(нажмите ниже на значок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12_-_Urok_6-1_-_Upr._1.mp3" descr=""/>
          <p:cNvPicPr/>
          <p:nvPr/>
        </p:nvPicPr>
        <p:blipFill>
          <a:blip r:embed="rId1"/>
          <a:stretch/>
        </p:blipFill>
        <p:spPr>
          <a:xfrm>
            <a:off x="4114800" y="5181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анимация\смайлики\an229.gif"/>
          <p:cNvPicPr/>
          <p:nvPr/>
        </p:nvPicPr>
        <p:blipFill>
          <a:blip r:embed="rId2"/>
          <a:stretch/>
        </p:blipFill>
        <p:spPr>
          <a:xfrm>
            <a:off x="5257800" y="5029200"/>
            <a:ext cx="2571840" cy="59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E:\анимация\смайлики\an229.gif"/>
          <p:cNvPicPr/>
          <p:nvPr/>
        </p:nvPicPr>
        <p:blipFill>
          <a:blip r:embed="rId3"/>
          <a:stretch/>
        </p:blipFill>
        <p:spPr>
          <a:xfrm>
            <a:off x="0" y="5181480"/>
            <a:ext cx="2571840" cy="59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Ольга\Desktop\Кристине)немецкий\nem29092.JPG"/>
          <p:cNvPicPr/>
          <p:nvPr/>
        </p:nvPicPr>
        <p:blipFill>
          <a:blip r:embed="rId4"/>
          <a:stretch/>
        </p:blipFill>
        <p:spPr>
          <a:xfrm>
            <a:off x="70102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562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Hör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zu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nd lest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слушайте и прочитайт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(нажмите на значок звук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urtstag, Geburtsta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ist ein schöner Tag!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удесный ден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feiern wir und sing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nzen wir und spring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pielen wir und lach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 essen tolle Sach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181480" y="4495680"/>
            <a:ext cx="1656000" cy="2013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 rot="15156000">
            <a:off x="6299640" y="2814480"/>
            <a:ext cx="2824200" cy="2117880"/>
          </a:xfrm>
          <a:prstGeom prst="rect">
            <a:avLst/>
          </a:prstGeom>
          <a:ln w="0">
            <a:noFill/>
          </a:ln>
        </p:spPr>
      </p:pic>
      <p:pic>
        <p:nvPicPr>
          <p:cNvPr id="52" name="12_-_Urok_6-1_-_Upr._1.mp3" descr=""/>
          <p:cNvPicPr/>
          <p:nvPr/>
        </p:nvPicPr>
        <p:blipFill>
          <a:blip r:embed="rId3"/>
          <a:stretch/>
        </p:blipFill>
        <p:spPr>
          <a:xfrm>
            <a:off x="6781680" y="1371600"/>
            <a:ext cx="8226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628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2200" y="274320"/>
            <a:ext cx="27432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Wiederholen die Monat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вторим названия месяцев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Нажми и прослушай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месяц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не прозвуч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Ольга\Desktop\Кристине)немецкий\0414876++.jpg"/>
          <p:cNvPicPr/>
          <p:nvPr/>
        </p:nvPicPr>
        <p:blipFill>
          <a:blip r:embed="rId1"/>
          <a:stretch/>
        </p:blipFill>
        <p:spPr>
          <a:xfrm>
            <a:off x="533520" y="0"/>
            <a:ext cx="5562360" cy="6662880"/>
          </a:xfrm>
          <a:prstGeom prst="rect">
            <a:avLst/>
          </a:prstGeom>
          <a:ln w="0">
            <a:noFill/>
          </a:ln>
        </p:spPr>
      </p:pic>
      <p:pic>
        <p:nvPicPr>
          <p:cNvPr id="55" name="15_-_Urok_6-1_-_Leksika.mp3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27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мотрите на времена года (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ah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te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ите время года и соответствующие месяц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Ольга\Desktop\Кристине)немецкий\vremena года.jpg"/>
          <p:cNvPicPr/>
          <p:nvPr/>
        </p:nvPicPr>
        <p:blipFill>
          <a:blip r:embed="rId1"/>
          <a:stretch/>
        </p:blipFill>
        <p:spPr>
          <a:xfrm>
            <a:off x="0" y="1752480"/>
            <a:ext cx="419904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809880" y="1905120"/>
          <a:ext cx="5181840" cy="3470040"/>
        </p:xfrm>
        <a:graphic>
          <a:graphicData uri="http://schemas.openxmlformats.org/drawingml/2006/table">
            <a:tbl>
              <a:tblPr/>
              <a:tblGrid>
                <a:gridCol w="1447920"/>
                <a:gridCol w="914400"/>
                <a:gridCol w="1255680"/>
                <a:gridCol w="1563840"/>
              </a:tblGrid>
              <a:tr h="1087560"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z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k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pt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Прямоугольник 11"/>
          <p:cNvSpPr/>
          <p:nvPr/>
        </p:nvSpPr>
        <p:spPr>
          <a:xfrm flipV="1" rot="10800000">
            <a:off x="5181480" y="504072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ражнение в Рабочей тетради: стр. 56 упр.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мся говорить когда у кого день рожд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115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 Jun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urtsta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6"/>
          <p:cNvSpPr/>
          <p:nvPr/>
        </p:nvSpPr>
        <p:spPr>
          <a:xfrm>
            <a:off x="762120" y="3244680"/>
            <a:ext cx="8001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есть: У Сабины в июне день ро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ли наприм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ven hat </a:t>
            </a: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im Oktober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Gebursta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Meine Mutter hat </a:t>
            </a: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 Mai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Geburtsta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ann -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ог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опрос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гда твой день рожд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Wann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hast du Geburtsta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ch habe im April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m Mai…) Geburtsta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Einladungen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глашени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aden ei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глашать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Lieber/Liebe…!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орогой (-ая) …! (Обращение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начале)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пись (кто пишет) 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Deine Sabine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воя Саби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слушайте и прочитайте приглашения Сабины Беа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Lieb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Be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Ich lade dich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lich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(сердечно)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zu meinem  Geburstag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e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Komme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приходи )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am Mittwochum 12 Uh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пись (кто пишет)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Deine Sab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воя Са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17_-_Urok_6-2_-_Upr._6.mp3" descr=""/>
          <p:cNvPicPr/>
          <p:nvPr/>
        </p:nvPicPr>
        <p:blipFill>
          <a:blip r:embed="rId1"/>
          <a:stretch/>
        </p:blipFill>
        <p:spPr>
          <a:xfrm>
            <a:off x="7848720" y="625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83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16:48:01Z</dcterms:created>
  <dc:creator>Ольга</dc:creator>
  <dc:description/>
  <dc:language>en-US</dc:language>
  <cp:lastModifiedBy>Ольга</cp:lastModifiedBy>
  <dcterms:modified xsi:type="dcterms:W3CDTF">2015-05-05T19:05:44Z</dcterms:modified>
  <cp:revision>30</cp:revision>
  <dc:subject/>
  <dc:title>Thema: Geburtstag! День рождения!</dc:title>
</cp:coreProperties>
</file>