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B92-E89A-4AB3-BC33-6046BED0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C78-7D9B-4099-B0DB-C2C10C0E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0FF-877C-4620-8E27-DD6699EB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B2C-617E-417C-AD4E-2F18C1F0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18C-88B7-4ABC-9509-342A8663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496-F113-4CD3-99FB-32B8208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A9A-C57B-44B0-B7B0-B3467E02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D96-3D19-4218-A899-69D109F9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208-C2C3-44CE-A974-52343D35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DB1-E7E4-4189-B754-92EF269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002-4830-4EB2-9B32-BE7E2BF8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780C-A79E-4635-A76A-7AF0C78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6398-672C-416E-90D7-6FDA71412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Geburtstag! Geburtstag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Ольга\Desktop\Кристине)немецкий\2756_big.jpg"/>
          <p:cNvPicPr/>
          <p:nvPr/>
        </p:nvPicPr>
        <p:blipFill>
          <a:blip r:embed="rId1"/>
          <a:stretch/>
        </p:blipFill>
        <p:spPr>
          <a:xfrm>
            <a:off x="762120" y="1371600"/>
            <a:ext cx="77803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бы написать приглашение, нам нужно повторить дни недел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дни недели.jpg"/>
          <p:cNvPicPr/>
          <p:nvPr/>
        </p:nvPicPr>
        <p:blipFill>
          <a:blip r:embed="rId1"/>
          <a:stretch/>
        </p:blipFill>
        <p:spPr>
          <a:xfrm>
            <a:off x="1828800" y="111924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Hausaufgabe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093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стр. 55 упр. 2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исать приглаш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ое задание для желающих: стр. 57 упр.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Ольга\Desktop\Кристине)немецкий\скачанные файлы.jpg"/>
          <p:cNvPicPr/>
          <p:nvPr/>
        </p:nvPicPr>
        <p:blipFill>
          <a:blip r:embed="rId1"/>
          <a:stretch/>
        </p:blipFill>
        <p:spPr>
          <a:xfrm>
            <a:off x="2895480" y="3881520"/>
            <a:ext cx="41148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Comic Sans MS"/>
              </a:rPr>
              <a:t>Them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: Sabine schreib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inladung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(приглашения)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zum Geburtstag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ослушайте стихотворен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(нажмите ниже на значок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12_-_Urok_6-1_-_Upr._1.mp3" descr=""/>
          <p:cNvPicPr/>
          <p:nvPr/>
        </p:nvPicPr>
        <p:blipFill>
          <a:blip r:embed="rId1"/>
          <a:stretch/>
        </p:blipFill>
        <p:spPr>
          <a:xfrm>
            <a:off x="4114800" y="5181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:\анимация\смайлики\an229.gif"/>
          <p:cNvPicPr/>
          <p:nvPr/>
        </p:nvPicPr>
        <p:blipFill>
          <a:blip r:embed="rId2"/>
          <a:stretch/>
        </p:blipFill>
        <p:spPr>
          <a:xfrm>
            <a:off x="5257800" y="5029200"/>
            <a:ext cx="2571840" cy="59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E:\анимация\смайлики\an229.gif"/>
          <p:cNvPicPr/>
          <p:nvPr/>
        </p:nvPicPr>
        <p:blipFill>
          <a:blip r:embed="rId3"/>
          <a:stretch/>
        </p:blipFill>
        <p:spPr>
          <a:xfrm>
            <a:off x="0" y="5181480"/>
            <a:ext cx="2571840" cy="59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Ольга\Desktop\Кристине)немецкий\nem29092.JPG"/>
          <p:cNvPicPr/>
          <p:nvPr/>
        </p:nvPicPr>
        <p:blipFill>
          <a:blip r:embed="rId4"/>
          <a:stretch/>
        </p:blipFill>
        <p:spPr>
          <a:xfrm>
            <a:off x="70102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562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mic Sans MS"/>
              </a:rPr>
              <a:t>Hör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zu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nd lest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слушайте и прочитайт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(нажмите на значок звук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urtstag, Geburtsta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ist ein schöner Tag!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чудесный ден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feiern wir und sing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tanzen wir und spring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pielen wir und lach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 essen tolle Sache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5181480" y="4495680"/>
            <a:ext cx="1656000" cy="2013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 rot="15156000">
            <a:off x="6299640" y="2814480"/>
            <a:ext cx="2824200" cy="2117880"/>
          </a:xfrm>
          <a:prstGeom prst="rect">
            <a:avLst/>
          </a:prstGeom>
          <a:ln w="0">
            <a:noFill/>
          </a:ln>
        </p:spPr>
      </p:pic>
      <p:pic>
        <p:nvPicPr>
          <p:cNvPr id="52" name="12_-_Urok_6-1_-_Upr._1.mp3" descr=""/>
          <p:cNvPicPr/>
          <p:nvPr/>
        </p:nvPicPr>
        <p:blipFill>
          <a:blip r:embed="rId3"/>
          <a:stretch/>
        </p:blipFill>
        <p:spPr>
          <a:xfrm>
            <a:off x="6781680" y="1371600"/>
            <a:ext cx="8226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628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72200" y="274320"/>
            <a:ext cx="27432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Wiederholen die Monate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вторим названия месяцев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Нажми и прослушай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месяц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не прозвуч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Ольга\Desktop\Кристине)немецкий\0414876++.jpg"/>
          <p:cNvPicPr/>
          <p:nvPr/>
        </p:nvPicPr>
        <p:blipFill>
          <a:blip r:embed="rId1"/>
          <a:stretch/>
        </p:blipFill>
        <p:spPr>
          <a:xfrm>
            <a:off x="533520" y="0"/>
            <a:ext cx="5562360" cy="6662880"/>
          </a:xfrm>
          <a:prstGeom prst="rect">
            <a:avLst/>
          </a:prstGeom>
          <a:ln w="0">
            <a:noFill/>
          </a:ln>
        </p:spPr>
      </p:pic>
      <p:pic>
        <p:nvPicPr>
          <p:cNvPr id="55" name="15_-_Urok_6-1_-_Leksika.mp3" descr=""/>
          <p:cNvPicPr/>
          <p:nvPr/>
        </p:nvPicPr>
        <p:blipFill>
          <a:blip r:embed="rId2"/>
          <a:stretch/>
        </p:blipFill>
        <p:spPr>
          <a:xfrm>
            <a:off x="7162920" y="4114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274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мотрите на времена года (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ah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te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еделите время года и соответствующие месяц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Ольга\Desktop\Кристине)немецкий\vremena года.jpg"/>
          <p:cNvPicPr/>
          <p:nvPr/>
        </p:nvPicPr>
        <p:blipFill>
          <a:blip r:embed="rId1"/>
          <a:stretch/>
        </p:blipFill>
        <p:spPr>
          <a:xfrm>
            <a:off x="0" y="1752480"/>
            <a:ext cx="419904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809880" y="1905120"/>
          <a:ext cx="5181840" cy="3470040"/>
        </p:xfrm>
        <a:graphic>
          <a:graphicData uri="http://schemas.openxmlformats.org/drawingml/2006/table">
            <a:tbl>
              <a:tblPr/>
              <a:tblGrid>
                <a:gridCol w="1447920"/>
                <a:gridCol w="914400"/>
                <a:gridCol w="1255680"/>
                <a:gridCol w="1563840"/>
              </a:tblGrid>
              <a:tr h="1087560">
                <a:tc>
                  <a:txBody>
                    <a:bodyPr lIns="30600" rIns="76320" tIns="30600" bIns="306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z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0600" rIns="76320" tIns="30600" bIns="306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0600" rIns="76320" tIns="30600" bIns="306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k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0600" rIns="76320" tIns="30600" bIns="306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pt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0600" marR="76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Прямоугольник 11"/>
          <p:cNvSpPr/>
          <p:nvPr/>
        </p:nvSpPr>
        <p:spPr>
          <a:xfrm flipV="1" rot="10800000">
            <a:off x="5181480" y="504072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ражнение в Рабочей тетради: стр. 56 упр.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имся говорить когда у кого день рожд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115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 Jun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burtsta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" name="Прямоугольник 6"/>
          <p:cNvSpPr/>
          <p:nvPr/>
        </p:nvSpPr>
        <p:spPr>
          <a:xfrm>
            <a:off x="762120" y="3244680"/>
            <a:ext cx="80010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есть: У Сабины в июне день ро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ли наприм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ven hat </a:t>
            </a: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im Oktober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Gebursta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Meine Mutter hat </a:t>
            </a: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 Mai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Geburtsta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ann -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ог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опрос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гда твой день рожд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Wann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hast du Geburtsta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ch habe im April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im Mai…) Geburtsta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Einladungen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глашени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aden ei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глашать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Lieber/Liebe…!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орогой (-ая) …! (Обращение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начале)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пись (кто пишет) 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Deine Sabine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воя Саби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слушайте и прочитайте приглашения Сабины Беат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Lieb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Bea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Ich lade dich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lich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(сердечно)</a:t>
            </a: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zu meinem  Geburstag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e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Komme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приходи )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am Mittwochum 12 Uh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пись (кто пишет)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Deine Sab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воя Са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17_-_Urok_6-2_-_Upr._6.mp3" descr=""/>
          <p:cNvPicPr/>
          <p:nvPr/>
        </p:nvPicPr>
        <p:blipFill>
          <a:blip r:embed="rId1"/>
          <a:stretch/>
        </p:blipFill>
        <p:spPr>
          <a:xfrm>
            <a:off x="7848720" y="625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834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16:48:01Z</dcterms:created>
  <dc:creator>Ольга</dc:creator>
  <dc:description/>
  <dc:language>en-US</dc:language>
  <cp:lastModifiedBy>Ольга</cp:lastModifiedBy>
  <dcterms:modified xsi:type="dcterms:W3CDTF">2015-05-05T19:05:44Z</dcterms:modified>
  <cp:revision>30</cp:revision>
  <dc:subject/>
  <dc:title>Thema: Geburtstag! День рождения!</dc:title>
</cp:coreProperties>
</file>