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applaus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ELPHRG01.wav" ContentType="audio/x-wav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laser.wav" ContentType="audio/x-wav"/>
  <Override PartName="/ppt/media/image15.png" ContentType="image/png"/>
  <Override PartName="/ppt/media/image14.jpeg" ContentType="image/jpeg"/>
  <Override PartName="/ppt/media/image2.wmf" ContentType="image/x-wmf"/>
  <Override PartName="/ppt/media/arrow.wav" ContentType="audio/x-wav"/>
  <Override PartName="/ppt/media/image13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76D-1E71-4D33-87BD-D2EA6C09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D9B-852E-4DF1-842F-9D52D843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728-A42B-451E-9448-79F29BC0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537-0BBC-455B-A4CD-C6984723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485-8BFD-4ABC-A7D6-66D2F65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29F-C77B-4BDB-90F5-2C3EDFB8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ADD-5373-4DB5-AFD0-E41D2F79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591-1E03-4528-8BCF-95B8EEE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64E-9D1E-4847-82BE-201CD888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B26-86D0-4B55-BACB-6B247267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0C1-42BD-4918-A763-70B5ECFF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1CD-9EC9-49CB-9BA8-EE6DB886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2D5-57A1-4327-95D6-0568E4C13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laser.wav"/><Relationship Id="rId3" Type="http://schemas.openxmlformats.org/officeDocument/2006/relationships/audio" Target="../media/ELPHRG01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file:///usr/lib/libreoffice/share/gallery/sounds/laser.wav" TargetMode="External"/><Relationship Id="rId8" Type="http://schemas.microsoft.com/office/2007/relationships/media" Target="file:///usr/lib/libreoffice/share/gallery/sounds/laser.wav" TargetMode="External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.jpeg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applause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Интерактивная дидактическая игра по теме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Один дом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одготовила воспитатель МБДОУ№74 Сальникова В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                                   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32385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73440" cy="248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0000" y="284040"/>
            <a:ext cx="352764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 пожаре зво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635280" y="5516640"/>
          <a:ext cx="1871640" cy="9126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300720" y="5516640"/>
          <a:ext cx="1871640" cy="9126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16000" y="5516640"/>
          <a:ext cx="1800360" cy="9302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бесплатные прикольные картинки по пожарной безопасности для детей"/>
          <p:cNvPicPr/>
          <p:nvPr/>
        </p:nvPicPr>
        <p:blipFill>
          <a:blip r:embed="rId1"/>
          <a:stretch/>
        </p:blipFill>
        <p:spPr>
          <a:xfrm>
            <a:off x="2556000" y="476280"/>
            <a:ext cx="440028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198600">
            <a:off x="3492360" y="5445000"/>
            <a:ext cx="2086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озраст дет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Дети средней группы (4 - 5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бучение безопасному поведению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закреплять представления о предметах быта, с которыми можно / нельзя иг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формировать желание быть всегда осторожными с ог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В деревянном домике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оживают гномики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Уж такие добряки -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здают всем огонь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Помни. Спички детям не игрушка Если обращаться с огнем неосторожно, то он станет диким и опасным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3132000" y="3645000"/>
            <a:ext cx="2664000" cy="241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327816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ар пустил дракон хвостатый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И разгладил шарфик мят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41585" b="0"/>
          <a:stretch/>
        </p:blipFill>
        <p:spPr>
          <a:xfrm>
            <a:off x="2916360" y="2708280"/>
            <a:ext cx="338436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етыре синих солнца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 бабушки на кухне,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етыре синих солнца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орели и потухли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спели щи, шипят блины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о завтра солнца не нужн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Зеленоград Новости Зеленограда - Зеленоград24"/>
          <p:cNvPicPr/>
          <p:nvPr/>
        </p:nvPicPr>
        <p:blipFill>
          <a:blip r:embed="rId1"/>
          <a:stretch/>
        </p:blipFill>
        <p:spPr>
          <a:xfrm>
            <a:off x="2050920" y="3457440"/>
            <a:ext cx="4608720" cy="319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Для ноутбука картинки-Двухстороннее солнце настроения скачать бесплатно"/>
          <p:cNvPicPr/>
          <p:nvPr/>
        </p:nvPicPr>
        <p:blipFill>
          <a:blip r:embed="rId2"/>
          <a:stretch/>
        </p:blipFill>
        <p:spPr>
          <a:xfrm>
            <a:off x="2050920" y="3068640"/>
            <a:ext cx="4751640" cy="356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а кольца, два конца,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ередине гвозди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384360" cy="28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3384360" cy="28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омпьютерные илюзии = Картинки и фото на Ануб.Ру"/>
          <p:cNvPicPr/>
          <p:nvPr/>
        </p:nvPicPr>
        <p:blipFill>
          <a:blip r:embed="rId3"/>
          <a:stretch/>
        </p:blipFill>
        <p:spPr>
          <a:xfrm>
            <a:off x="2195640" y="2924280"/>
            <a:ext cx="511308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Дневник ЯННА_КОТ : LiveInternet - Российский Сервис Онлайн-Дневников"/>
          <p:cNvPicPr/>
          <p:nvPr/>
        </p:nvPicPr>
        <p:blipFill>
          <a:blip r:embed="rId1"/>
          <a:srcRect l="22047" t="0" r="25197" b="0"/>
          <a:stretch/>
        </p:blipFill>
        <p:spPr>
          <a:xfrm>
            <a:off x="2987640" y="1413000"/>
            <a:ext cx="301464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моги Танюшке найти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изкультурное занятие родителей и детей 2 младшей группы В мире мячей шаров и пузырей"/>
          <p:cNvPicPr/>
          <p:nvPr/>
        </p:nvPicPr>
        <p:blipFill>
          <a:blip r:embed="rId2"/>
          <a:stretch/>
        </p:blipFill>
        <p:spPr>
          <a:xfrm>
            <a:off x="395280" y="27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Интерактивные куклы"/>
          <p:cNvPicPr/>
          <p:nvPr/>
        </p:nvPicPr>
        <p:blipFill>
          <a:blip r:embed="rId3"/>
          <a:stretch/>
        </p:blipFill>
        <p:spPr>
          <a:xfrm>
            <a:off x="7236000" y="119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упить Bosch TDA 2433. Утюг с пароувлажнением colour edition Sensixx Cosmo"/>
          <p:cNvPicPr/>
          <p:nvPr/>
        </p:nvPicPr>
        <p:blipFill>
          <a:blip r:embed="rId4"/>
          <a:stretch/>
        </p:blipFill>
        <p:spPr>
          <a:xfrm>
            <a:off x="6443640" y="3068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Чайник - Еда и напитки - Аватарки на Колючке"/>
          <p:cNvPicPr/>
          <p:nvPr/>
        </p:nvPicPr>
        <p:blipFill>
          <a:blip r:embed="rId5"/>
          <a:stretch/>
        </p:blipFill>
        <p:spPr>
          <a:xfrm>
            <a:off x="468360" y="4941720"/>
            <a:ext cx="1800000" cy="119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ля детей 3-6 лет Изучаем геометрические фигуры: Для детей 3…"/>
          <p:cNvPicPr/>
          <p:nvPr/>
        </p:nvPicPr>
        <p:blipFill>
          <a:blip r:embed="rId6"/>
          <a:stretch/>
        </p:blipFill>
        <p:spPr>
          <a:xfrm>
            <a:off x="7812000" y="4797360"/>
            <a:ext cx="97020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2987640" y="5157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Graphic Scissors"/>
          <p:cNvPicPr/>
          <p:nvPr/>
        </p:nvPicPr>
        <p:blipFill>
          <a:blip r:embed="rId10"/>
          <a:stretch/>
        </p:blipFill>
        <p:spPr>
          <a:xfrm>
            <a:off x="1763640" y="3429000"/>
            <a:ext cx="95400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Помни. Спички детям не игрушка Если обращаться с огнем неосторожно, то он станет диким и опасным"/>
          <p:cNvPicPr/>
          <p:nvPr/>
        </p:nvPicPr>
        <p:blipFill>
          <a:blip r:embed="rId11"/>
          <a:stretch/>
        </p:blipFill>
        <p:spPr>
          <a:xfrm>
            <a:off x="611280" y="1125360"/>
            <a:ext cx="1584360" cy="11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-0.004 0.02616 L 0.06753 0.07986 C 0.08264 0.09236 0.10382 0.09699 0.12448 0.09259 C 0.14826 0.08727 0.16632 0.07431 0.1776 0.05625 L 0.23316 -0.025 E">
                                      <p:cBhvr>
                                        <p:cTn id="5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2326 -0.00139 L -0.02327 -0.00278 C -0.03316 -0.00324 -0.04757 -0.00232 -0.06268 -0.00023 C -0.07986 0.00208 -0.0934 0.00486 -0.10313 0.00787 L -0.14879 0.02176 E">
                                      <p:cBhvr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animMotion origin="layout" path="M 0.02604 -0.08102 C 0.02691 -0.09143 0.01945 -0.11065 0.01563 -0.11435 C -0.01007 -0.13889 -0.10087 -0.04537 -0.16528 0.07361 C -0.13281 0.01343 -0.11406 -0.05833 -0.12656 -0.06991 C -0.13958 -0.08287 -0.18455 -0.03449 -0.21684 0.02407 C -0.20069 -0.00556 -0.19045 -0.04213 -0.19722 -0.04861 C -0.20399 -0.05509 -0.22639 -0.03194 -0.24305 -0.00139 C -0.23472 -0.01667 -0.23038 -0.03426 -0.23351 -0.0375 C -0.2368 -0.04051 -0.24844 -0.02847 -0.25625 -0.01412 C -0.25208 -0.02176 -0.24913 -0.03056 -0.25121 -0.03264 C -0.25191 -0.03333 -0.25833 -0.02778 -0.26267 -0.02014 C -0.26024 -0.02407 -0.25937 -0.02893 -0.26007 -0.02963 C -0.25955 -0.03056 -0.26389 -0.02731 -0.26614 -0.02361 C -0.26493 -0.02593 -0.26389 -0.02731 -0.26476 -0.02824 C -0.26545 -0.02731 -0.26684 -0.02708 -0.26788 -0.02546 C -0.26736 -0.02639 -0.26684 -0.02708 -0.26649 -0.02824 C -0.26719 -0.02893 -0.26753 -0.02778 -0.26805 -0.02685 C -0.2691 -0.02801 -0.26857 -0.02893 -0.26805 -0.02986 C -0.26875 -0.03056 -0.26927 -0.02963 -0.26979 -0.0287 E">
                                      <p:cBhvr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745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  <p:seq>
              <p:cTn id="8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Что сначала, а что по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143160" cy="2171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143520" cy="21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21873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8:21:50Z</dcterms:created>
  <dc:creator>Пользователь</dc:creator>
  <dc:description/>
  <dc:language>en-US</dc:language>
  <cp:lastModifiedBy>Пользователь</cp:lastModifiedBy>
  <dcterms:modified xsi:type="dcterms:W3CDTF">2015-04-26T13:45:19Z</dcterms:modified>
  <cp:revision>8</cp:revision>
  <dc:subject/>
  <dc:title>Слайд 1</dc:title>
</cp:coreProperties>
</file>