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applause.wav" ContentType="audio/x-wav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ELPHRG01.wav" ContentType="audio/x-wav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laser.wav" ContentType="audio/x-wav"/>
  <Override PartName="/ppt/media/image15.png" ContentType="image/png"/>
  <Override PartName="/ppt/media/image14.jpeg" ContentType="image/jpeg"/>
  <Override PartName="/ppt/media/image2.wmf" ContentType="image/x-wmf"/>
  <Override PartName="/ppt/media/arrow.wav" ContentType="audio/x-wav"/>
  <Override PartName="/ppt/media/image13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710-0E60-4499-8ACC-8552A680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FE3-B085-4CFC-9EB4-D2F6FE5B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55C-E766-4D5C-95D6-47AD6482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1FF7-CDE5-4677-B113-A9A9817C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D749-1AD2-4DCC-A3AA-C6730CEF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3B43-1547-4BCD-B634-821C9A30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70D-3BAE-4D47-B142-CA0964A8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7732-5830-4372-927E-BF76F86F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F50-CF9D-42FC-9F04-51E5AFB6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6EC5-6642-4E7A-99D7-9EFBE5A8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B71C-CC26-4DE4-9AF9-FC6286A3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80BC-C11C-4B00-B683-6E91C8A0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0B2B-2345-4A1B-AFE0-774923AD6F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laser.wav"/><Relationship Id="rId3" Type="http://schemas.openxmlformats.org/officeDocument/2006/relationships/audio" Target="../media/ELPHRG01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audio" Target="file:///usr/lib/libreoffice/share/gallery/sounds/laser.wav" TargetMode="External"/><Relationship Id="rId8" Type="http://schemas.microsoft.com/office/2007/relationships/media" Target="file:///usr/lib/libreoffice/share/gallery/sounds/laser.wav" TargetMode="External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.jpeg"/><Relationship Id="rId12" Type="http://schemas.openxmlformats.org/officeDocument/2006/relationships/audio" Target="../media/applause.wav"/><Relationship Id="rId13" Type="http://schemas.openxmlformats.org/officeDocument/2006/relationships/audio" Target="../media/applause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applause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Интерактивная дидактическая игра по теме 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«Один дома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400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Подготовила воспитатель МБДОУ№74 Сальникова В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                                    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48000" y="323856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859280" y="260280"/>
            <a:ext cx="3673440" cy="2482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00000" y="284040"/>
            <a:ext cx="3527640" cy="2436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16720" cy="6237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ри пожаре звони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635280" y="5516640"/>
          <a:ext cx="1871640" cy="912600"/>
        </p:xfrm>
        <a:graphic>
          <a:graphicData uri="http://schemas.openxmlformats.org/drawingml/2006/table">
            <a:tbl>
              <a:tblPr/>
              <a:tblGrid>
                <a:gridCol w="18716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300720" y="5516640"/>
          <a:ext cx="1871640" cy="912600"/>
        </p:xfrm>
        <a:graphic>
          <a:graphicData uri="http://schemas.openxmlformats.org/drawingml/2006/table">
            <a:tbl>
              <a:tblPr/>
              <a:tblGrid>
                <a:gridCol w="18716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116000" y="5516640"/>
          <a:ext cx="1800360" cy="930240"/>
        </p:xfrm>
        <a:graphic>
          <a:graphicData uri="http://schemas.openxmlformats.org/drawingml/2006/table">
            <a:tbl>
              <a:tblPr/>
              <a:tblGrid>
                <a:gridCol w="180036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efe9"/>
                    </a:solidFill>
                  </a:tcPr>
                </a:tc>
              </a:tr>
            </a:tbl>
          </a:graphicData>
        </a:graphic>
      </p:graphicFrame>
    </p:spTree>
  </p:cSld>
  <p:transition spd="slow">
    <p:pull dir="ru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LPHRG01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бесплатные прикольные картинки по пожарной безопасности для детей"/>
          <p:cNvPicPr/>
          <p:nvPr/>
        </p:nvPicPr>
        <p:blipFill>
          <a:blip r:embed="rId1"/>
          <a:stretch/>
        </p:blipFill>
        <p:spPr>
          <a:xfrm>
            <a:off x="2556000" y="476280"/>
            <a:ext cx="4400280" cy="6048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 rot="198600">
            <a:off x="3492360" y="5445000"/>
            <a:ext cx="20862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pull dir="r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Возраст дете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Дети средней группы (4 - 5 л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Обучение безопасному поведению в бы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Задач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закреплять представления о предметах быта, с которыми можно / нельзя иг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формировать желание быть всегда осторожными с ог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В деревянном домике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Проживают гномики.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Уж такие добряки -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Раздают всем огоньк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Помни. Спички детям не игрушка Если обращаться с огнем неосторожно, то он станет диким и опасным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3132000" y="3645000"/>
            <a:ext cx="2664000" cy="2414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916360" y="3213000"/>
            <a:ext cx="3278160" cy="3284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6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ар пустил дракон хвостатый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И разгладил шарфик мяты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881080" cy="2808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0" t="0" r="41585" b="0"/>
          <a:stretch/>
        </p:blipFill>
        <p:spPr>
          <a:xfrm>
            <a:off x="2916360" y="2708280"/>
            <a:ext cx="3384360" cy="3270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Четыре синих солнца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У бабушки на кухне,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Четыре синих солнца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Горели и потухли.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оспели щи, шипят блины.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До завтра солнца не нужн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Зеленоград Новости Зеленограда - Зеленоград24"/>
          <p:cNvPicPr/>
          <p:nvPr/>
        </p:nvPicPr>
        <p:blipFill>
          <a:blip r:embed="rId1"/>
          <a:stretch/>
        </p:blipFill>
        <p:spPr>
          <a:xfrm>
            <a:off x="2050920" y="3457440"/>
            <a:ext cx="4608720" cy="3191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Для ноутбука картинки-Двухстороннее солнце настроения скачать бесплатно"/>
          <p:cNvPicPr/>
          <p:nvPr/>
        </p:nvPicPr>
        <p:blipFill>
          <a:blip r:embed="rId2"/>
          <a:stretch/>
        </p:blipFill>
        <p:spPr>
          <a:xfrm>
            <a:off x="2050920" y="3068640"/>
            <a:ext cx="4751640" cy="3562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4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ва кольца, два конца,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середине гвоздик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43280" y="3068640"/>
            <a:ext cx="3384360" cy="2841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43280" y="3068640"/>
            <a:ext cx="3384360" cy="2841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Компьютерные илюзии = Картинки и фото на Ануб.Ру"/>
          <p:cNvPicPr/>
          <p:nvPr/>
        </p:nvPicPr>
        <p:blipFill>
          <a:blip r:embed="rId3"/>
          <a:stretch/>
        </p:blipFill>
        <p:spPr>
          <a:xfrm>
            <a:off x="2195640" y="2924280"/>
            <a:ext cx="511308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Дневник ЯННА_КОТ : LiveInternet - Российский Сервис Онлайн-Дневников"/>
          <p:cNvPicPr/>
          <p:nvPr/>
        </p:nvPicPr>
        <p:blipFill>
          <a:blip r:embed="rId1"/>
          <a:srcRect l="22047" t="0" r="25197" b="0"/>
          <a:stretch/>
        </p:blipFill>
        <p:spPr>
          <a:xfrm>
            <a:off x="2987640" y="1413000"/>
            <a:ext cx="3014640" cy="42861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омоги Танюшке найти игр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Физкультурное занятие родителей и детей 2 младшей группы В мире мячей шаров и пузырей"/>
          <p:cNvPicPr/>
          <p:nvPr/>
        </p:nvPicPr>
        <p:blipFill>
          <a:blip r:embed="rId2"/>
          <a:stretch/>
        </p:blipFill>
        <p:spPr>
          <a:xfrm>
            <a:off x="395280" y="27082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Интерактивные куклы"/>
          <p:cNvPicPr/>
          <p:nvPr/>
        </p:nvPicPr>
        <p:blipFill>
          <a:blip r:embed="rId3"/>
          <a:stretch/>
        </p:blipFill>
        <p:spPr>
          <a:xfrm>
            <a:off x="7236000" y="119700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Купить Bosch TDA 2433. Утюг с пароувлажнением colour edition Sensixx Cosmo"/>
          <p:cNvPicPr/>
          <p:nvPr/>
        </p:nvPicPr>
        <p:blipFill>
          <a:blip r:embed="rId4"/>
          <a:stretch/>
        </p:blipFill>
        <p:spPr>
          <a:xfrm>
            <a:off x="6443640" y="3068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Чайник - Еда и напитки - Аватарки на Колючке"/>
          <p:cNvPicPr/>
          <p:nvPr/>
        </p:nvPicPr>
        <p:blipFill>
          <a:blip r:embed="rId5"/>
          <a:stretch/>
        </p:blipFill>
        <p:spPr>
          <a:xfrm>
            <a:off x="468360" y="4941720"/>
            <a:ext cx="1800000" cy="119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Для детей 3-6 лет Изучаем геометрические фигуры: Для детей 3…"/>
          <p:cNvPicPr/>
          <p:nvPr/>
        </p:nvPicPr>
        <p:blipFill>
          <a:blip r:embed="rId6"/>
          <a:stretch/>
        </p:blipFill>
        <p:spPr>
          <a:xfrm>
            <a:off x="7812000" y="4797360"/>
            <a:ext cx="970200" cy="157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2987640" y="5157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Graphic Scissors"/>
          <p:cNvPicPr/>
          <p:nvPr/>
        </p:nvPicPr>
        <p:blipFill>
          <a:blip r:embed="rId10"/>
          <a:stretch/>
        </p:blipFill>
        <p:spPr>
          <a:xfrm>
            <a:off x="1763640" y="3429000"/>
            <a:ext cx="954000" cy="1166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Помни. Спички детям не игрушка Если обращаться с огнем неосторожно, то он станет диким и опасным"/>
          <p:cNvPicPr/>
          <p:nvPr/>
        </p:nvPicPr>
        <p:blipFill>
          <a:blip r:embed="rId11"/>
          <a:stretch/>
        </p:blipFill>
        <p:spPr>
          <a:xfrm>
            <a:off x="611280" y="1125360"/>
            <a:ext cx="1584360" cy="114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animMotion origin="layout" path="M -0.004 0.02616 L 0.06753 0.07986 C 0.08264 0.09236 0.10382 0.09699 0.12448 0.09259 C 0.14826 0.08727 0.16632 0.07431 0.1776 0.05625 L 0.23316 -0.025 E">
                                      <p:cBhvr>
                                        <p:cTn id="5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.02326 -0.00139 L -0.02327 -0.00278 C -0.03316 -0.00324 -0.04757 -0.00232 -0.06268 -0.00023 C -0.07986 0.00208 -0.0934 0.00486 -0.10313 0.00787 L -0.14879 0.02176 E">
                                      <p:cBhvr>
                                        <p:cTn id="59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animMotion origin="layout" path="M 0.02604 -0.08102 C 0.02691 -0.09143 0.01945 -0.11065 0.01563 -0.11435 C -0.01007 -0.13889 -0.10087 -0.04537 -0.16528 0.07361 C -0.13281 0.01343 -0.11406 -0.05833 -0.12656 -0.06991 C -0.13958 -0.08287 -0.18455 -0.03449 -0.21684 0.02407 C -0.20069 -0.00556 -0.19045 -0.04213 -0.19722 -0.04861 C -0.20399 -0.05509 -0.22639 -0.03194 -0.24305 -0.00139 C -0.23472 -0.01667 -0.23038 -0.03426 -0.23351 -0.0375 C -0.2368 -0.04051 -0.24844 -0.02847 -0.25625 -0.01412 C -0.25208 -0.02176 -0.24913 -0.03056 -0.25121 -0.03264 C -0.25191 -0.03333 -0.25833 -0.02778 -0.26267 -0.02014 C -0.26024 -0.02407 -0.25937 -0.02893 -0.26007 -0.02963 C -0.25955 -0.03056 -0.26389 -0.02731 -0.26614 -0.02361 C -0.26493 -0.02593 -0.26389 -0.02731 -0.26476 -0.02824 C -0.26545 -0.02731 -0.26684 -0.02708 -0.26788 -0.02546 C -0.26736 -0.02639 -0.26684 -0.02708 -0.26649 -0.02824 C -0.26719 -0.02893 -0.26753 -0.02778 -0.26805 -0.02685 C -0.2691 -0.02801 -0.26857 -0.02893 -0.26805 -0.02986 C -0.26875 -0.03056 -0.26927 -0.02963 -0.26979 -0.0287 E">
                                      <p:cBhvr>
                                        <p:cTn id="7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745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7"/>
                </p:tgtEl>
              </p:cMediaNode>
            </p:audio>
            <p:seq>
              <p:cTn id="8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Что сначала, а что пот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143160" cy="2171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00000" y="1628640"/>
            <a:ext cx="3143520" cy="2124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651640" y="1628640"/>
            <a:ext cx="2187360" cy="2187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3T18:21:50Z</dcterms:created>
  <dc:creator>Пользователь</dc:creator>
  <dc:description/>
  <dc:language>en-US</dc:language>
  <cp:lastModifiedBy>Пользователь</cp:lastModifiedBy>
  <dcterms:modified xsi:type="dcterms:W3CDTF">2015-04-26T13:45:19Z</dcterms:modified>
  <cp:revision>8</cp:revision>
  <dc:subject/>
  <dc:title>Слайд 1</dc:title>
</cp:coreProperties>
</file>