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1603-AF6B-40CD-B29E-BD4AF4A99D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0AEC-28F2-4226-9EE5-ED306209F6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E148-C272-4A77-A31F-E96BDE3709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A04F-0565-4A68-8959-2FE913CF41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2286-9603-4159-A101-17C2D73405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4E0B-0744-43EA-B735-4FF547C4AC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52D2-DA61-4025-86F1-8971BC6FCA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167D-F522-4D02-8562-BFCA56A5C9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8E1F-37CA-4A3E-9963-5DFDF5F08B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704E-50D9-4D11-916F-A378FDDD5E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9D9A-0073-4127-9806-C1DDB02DF6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516F-F339-42E7-81CC-7FF5C02C2A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7C1F-49CA-48C9-869C-350565D9D7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5A56-2619-4B91-B2B6-08739841B4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3581-8C79-4A9C-A65C-CB561D94ED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9E0B-603B-448F-80AF-EFB2595D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BD84-5034-4F6D-B165-BAEFE761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56F7B-B9B3-48D2-A890-93853749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7766F-606C-4F33-B9BC-3FBD7A5C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F117C-3D37-404A-89A7-287A9E81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60447-C126-4F8E-ADC8-10C65E3E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63722-EF18-442C-BB9C-4D5439F0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FB48A-6210-4584-BEAB-4292220E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9B8F0-2F87-4B1D-A146-38E31B70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32B86-D50D-47B5-8473-D461CA12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1D0F1-7CC8-4EDE-BB2A-8DDFEAEC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E3D8E-088A-4640-87E3-A9F845C9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4E60-B44A-4CBC-A489-BE2C880E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F48C2-60CC-48EA-8D6A-61439BF9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061F3-8D06-4C2F-8D74-3738E697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BE9D0-5AFD-494D-9790-256C2011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833CD-D256-4436-94D8-EC3063E4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E70B6-7750-402F-835E-7B1B8A37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7ECCA-5262-48AD-A8B6-5EA9C48B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1B6F4-52C9-42A0-A18A-F957A48A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4E153-53F2-4B69-A74E-336B9F87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C859F-1AC5-444A-AD68-61241711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29415-CE7D-42D9-8FA4-9CDDAFF0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6B09-BD54-4156-97FF-84933523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4F4DE-A374-4CCB-A872-75C45B2B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52B09-2D31-40B3-9A68-D91FEAEB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08D14-51DE-4740-BCAF-24799810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C4C79-1328-4A50-9ED2-67A009AA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9B6BE-972C-4701-92AA-C76A11E1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E2CAB-DF0C-4073-97F5-428DCDF7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D6B25-6195-4B25-AC61-16695917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2776B-E520-4014-9892-6F33CCEF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3B9AE-F64E-40A6-8B80-A2406156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F5D69-72E6-43BA-98ED-9DF8C9F2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4C26-7CB1-4EAC-B7FD-B9F60F10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852C7-8E86-44DF-A9D4-700E5791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E7F22-B53E-42DA-A882-16E1D6EF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D9C88-B9F1-43C9-B629-8FBC7234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61C1B-F78A-40C6-B637-59B59594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F9298-A0C7-4C41-994B-99A562A3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C7EE1-AB80-446B-861E-1E83F009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23F7F-CC31-41C7-AF1C-606D4248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F5554-8A38-4718-8F8E-9308524E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A0E01-A37A-44A2-80D0-C87EA052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43474-859F-4025-9149-E8DE1A3A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D765-97B3-4267-A30F-A6AFDEBA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5448E-0B47-4504-8BFF-A3BC4328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2E2BA-C016-4AF0-93B5-583EBE88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DD24F-997C-45F2-BF64-A4EF88AC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965FA-9B09-4A32-9154-2DC34BF4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CB88A-3F5B-4641-B8EE-83F6E79B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F421-AC1B-4377-8B35-16256481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CB11-FFC9-4C5F-82F3-5BF8B41A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581D-C6B2-4D34-B49B-5F2A095D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A401-3801-41EA-B88C-44164B21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F2B2-443D-430C-B5FE-9EE5BB23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7E7E-6BEE-46E9-93E1-0C1078CE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6418-3346-4F33-8A35-D278FACB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819D-19CD-4024-8EB5-D676C8C0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7344-B8B5-469D-BC0D-3FA2BA8D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8548-6957-4143-8CBD-EE5E6720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3013-B9DD-42F5-8752-C884B56F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0742D-E600-4B8D-86FA-AEEF69CC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66495-7AAD-412B-ACD9-1A825716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9C414-44FD-4B81-8319-A7A4E592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A669A-CC8D-4EA3-A8C6-CDDE22C2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12737-5AB0-452C-8FDF-7EB2DD8D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44AC-ECF4-4B7E-9E60-C08DF326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5A6A1-52D4-4995-957C-AC4C5935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EE830-BA55-43AF-8338-935010D3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D3AC0-870F-4D3D-8DEB-5EBEFFA1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5A77E-00E5-470B-99E0-F3A2A1E8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7ADA7-7651-41D9-B945-A0A8D371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EA61A-5A32-492E-9255-FDDBB54B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F4BDD-FEB0-4158-94F8-4F349310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84764-07DF-42A2-AA82-BDD37CFD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9166F-6949-48AE-BB67-12A7E6A9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10716-051F-4F4C-BD2E-BF5ED7FC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E38D-BF9F-4646-9760-09BAB436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875ED-8EE8-499C-A62F-0E73E8FC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EC3AC-9A25-47DC-A78B-016A6EA2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B55DE-3F11-4E48-BB42-71387342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5B99B-EDCE-4DB0-95F1-1A7B8800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F2883-2B4C-4776-99D6-CECE800F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34342-637B-4E25-AD1F-654F68CD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187DD-50F3-4189-B279-02E87279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73165-77E7-4BA3-8EE4-12D6D493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61450-EFB6-4D40-92B9-EF4210F0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50D6B-7311-4621-ABFE-E15E147B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B399-89B7-41D5-894D-4B694C91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26BF4-AFA0-4F33-BA4F-D3A24925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20FC2-61C0-4AD0-8974-1AE6C337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B8895-F1B6-4589-A01D-A260ADBE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CDB6A-6822-4938-93CA-9B047DC6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E8099-5718-4051-9D9D-76E0F590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14CE9-19C7-4CEF-9DA1-B2C641F2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75D8C-8094-4641-846C-890DB0C0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7B8EF-D7D1-4850-A845-B1C4D416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A6D3E-BE81-4E76-BC5D-529A653F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D3B93-7802-4B1F-AAA0-74BABDDA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7DD8-ACCF-4158-BCB5-039EEE41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00B8B-1B9C-45B6-9CE9-83B65830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9816D-AB8D-44F4-A25F-7EAFF8C2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17D51-758D-4A06-97D6-96FDDF6C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AAB68-DA7F-4401-A461-D501267C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E7A6D-63BA-4BA1-A567-0E994A71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8644C-5729-4D85-A028-9BF1E161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3334E-9C8A-4C0A-952E-B63EFFF1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42704-AED5-4348-BB15-550CBC1E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61A81-A2B7-469A-B015-29CF189E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F9555-CBA0-4857-98B5-F3ACF675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3D1C-E158-41F1-B1F2-8A3B132A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2FF4A-C99B-465A-B2D1-C8E30A26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07100-9B02-4E33-A678-11DC2A2E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93BFC-1483-4DDD-B871-0E9AFBA1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35254-F985-4908-9C00-B401C688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2FB8E-9397-49FB-A8E0-A4461ABD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69588-89C4-43FE-885E-7476CE25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0F519-5BA3-4A97-8BA4-D411F58E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FC843-7C24-4F70-8AEA-77EA86C5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1529B-3870-4902-828D-043BB0C6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5465A-E479-4600-A2FB-46500B0A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69F6-724F-4C0C-B9FC-E4AF4F0A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49CE8-501E-4248-955F-F810D107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CB339-7EDF-4CA8-98F8-3C947BB8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B5906-D224-4685-8857-920B47B6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8FD69-A1FB-4C51-BCC3-44810C13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7FEC8-AD98-407E-BBDF-7812B0E3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935C2-90EE-40FB-B788-D82F8013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E245A-052F-4499-9293-488A4030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7426B-AD86-41F9-AD3A-684E34F8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D6183-9E4F-4571-A096-0CB39576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B2D5C-3B15-465B-B90E-EB1920C8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3A88-DF77-4D40-BDED-E1E2ADAD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47266-D937-46D2-B6A4-D2136CB1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4F71D-E6F9-4ED2-AE92-FEE79D1D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03AA3-F33F-4C01-9418-9E07CF8F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A7F2C-7438-4F3A-B5DC-0B8C6AFC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7F512-C18C-48FB-94C7-0F3C4C3D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3F990-2BF6-4DDF-9BFE-5D0D3700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FF6F3-6628-4E83-95F2-58FBF3EC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F6F18-2A7A-4672-B1AD-9501393E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39525-F609-4A89-BB5A-179D5F34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15982-5CCF-4A7E-A63D-BA77B112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06FA-BFEA-4E55-8A4A-5A4A8D6F04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F422-85FE-464A-84C9-2AB4B6E0C8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227F-E2D1-4C46-A842-6C4FABE934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D650-871A-442C-9D2D-67D7D9AA994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188D-7974-48EA-A39F-D1AEA5C471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DCB4-B39E-47B1-9C42-B96A183E24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4512-D224-452C-B3ED-335E2FB496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D770-CBBD-4819-AA72-52E71EE2F9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540E-18C2-497F-A1D7-8E28A97DE6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A96C-50F3-46CD-9B60-1FD7D1BCD8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4F7F-8BEB-4F89-AFCA-FA4F80F586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0063-E6B8-43A6-BDB9-B2D9E21F2B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b7e7ff"/>
                </a:solidFill>
                <a:latin typeface="Book Antiqua"/>
              </a:rPr>
              <a:t>День Матери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09480" y="34290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ok Antiqua"/>
              </a:rPr>
              <a:t>Любимы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ok Antiqua"/>
              </a:rPr>
              <a:t>единственным, неповторимым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f.shubert_-_ave_mariya.mp3" descr=""/>
          <p:cNvPicPr/>
          <p:nvPr/>
        </p:nvPicPr>
        <p:blipFill>
          <a:blip r:embed="rId1"/>
          <a:stretch/>
        </p:blipFill>
        <p:spPr>
          <a:xfrm>
            <a:off x="1522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8862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ицо материнское будет красивым всегда,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юбовь материнская будет полна бескорыстья,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ак будет прохладной далеких вершин высота,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ак будут весною зелеными травы и листья.</a:t>
            </a:r>
            <a:br>
              <a:rPr sz="28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4" descr="7dbdf55c71f0[1]"/>
          <p:cNvPicPr/>
          <p:nvPr/>
        </p:nvPicPr>
        <p:blipFill>
          <a:blip r:embed="rId1"/>
          <a:stretch/>
        </p:blipFill>
        <p:spPr>
          <a:xfrm>
            <a:off x="3886200" y="228600"/>
            <a:ext cx="4705200" cy="609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4" descr="Motherandchild[1]"/>
          <p:cNvPicPr/>
          <p:nvPr/>
        </p:nvPicPr>
        <p:blipFill>
          <a:blip r:embed="rId1"/>
          <a:stretch/>
        </p:blipFill>
        <p:spPr>
          <a:xfrm>
            <a:off x="533520" y="351000"/>
            <a:ext cx="8229600" cy="604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28600" y="1535040"/>
            <a:ext cx="4268880" cy="49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Book Antiqua"/>
              </a:rPr>
              <a:t>Мама!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Book Antiqua"/>
              </a:rPr>
              <a:t>Самое прекрасное слово на земле – мама.   Это первое слово, которое произносит человек, и оно звучит на всех языках мира одинаково нежн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2" descr="I:\Ел Вас\Mother_Africa_by_BenHeine[1].jpg"/>
          <p:cNvPicPr/>
          <p:nvPr/>
        </p:nvPicPr>
        <p:blipFill>
          <a:blip r:embed="rId1"/>
          <a:stretch/>
        </p:blipFill>
        <p:spPr>
          <a:xfrm>
            <a:off x="4495680" y="380880"/>
            <a:ext cx="4419720" cy="601992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 txBox="1"/>
          <p:nvPr/>
        </p:nvSpPr>
        <p:spPr>
          <a:xfrm>
            <a:off x="4644720" y="2174400"/>
            <a:ext cx="404172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47" name="Picture 3" descr="006[1]"/>
          <p:cNvPicPr/>
          <p:nvPr/>
        </p:nvPicPr>
        <p:blipFill>
          <a:blip r:embed="rId1"/>
          <a:stretch/>
        </p:blipFill>
        <p:spPr>
          <a:xfrm>
            <a:off x="304920" y="0"/>
            <a:ext cx="2814480" cy="39625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6" descr="100102[1]"/>
          <p:cNvPicPr/>
          <p:nvPr/>
        </p:nvPicPr>
        <p:blipFill>
          <a:blip r:embed="rId2"/>
          <a:stretch/>
        </p:blipFill>
        <p:spPr>
          <a:xfrm>
            <a:off x="3124080" y="228600"/>
            <a:ext cx="2887920" cy="39625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" descr="I:\Ел Вас\0_1a32_9d5ea83_XL[1].jpg"/>
          <p:cNvPicPr/>
          <p:nvPr/>
        </p:nvPicPr>
        <p:blipFill>
          <a:blip r:embed="rId3"/>
          <a:stretch/>
        </p:blipFill>
        <p:spPr>
          <a:xfrm>
            <a:off x="533520" y="3352680"/>
            <a:ext cx="3429000" cy="35053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7" descr="b4f6e5173f88[1]"/>
          <p:cNvPicPr/>
          <p:nvPr/>
        </p:nvPicPr>
        <p:blipFill>
          <a:blip r:embed="rId4"/>
          <a:stretch/>
        </p:blipFill>
        <p:spPr>
          <a:xfrm>
            <a:off x="5862600" y="457200"/>
            <a:ext cx="3281400" cy="53341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9" descr="mother[1]"/>
          <p:cNvPicPr/>
          <p:nvPr/>
        </p:nvPicPr>
        <p:blipFill>
          <a:blip r:embed="rId5"/>
          <a:stretch/>
        </p:blipFill>
        <p:spPr>
          <a:xfrm>
            <a:off x="4114800" y="3882960"/>
            <a:ext cx="4441680" cy="297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53" name="Picture 5" descr="19-mother-and-child[1]"/>
          <p:cNvPicPr/>
          <p:nvPr/>
        </p:nvPicPr>
        <p:blipFill>
          <a:blip r:embed="rId1"/>
          <a:stretch/>
        </p:blipFill>
        <p:spPr>
          <a:xfrm>
            <a:off x="457200" y="457200"/>
            <a:ext cx="4800600" cy="32097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72218_main"/>
          <p:cNvPicPr/>
          <p:nvPr/>
        </p:nvPicPr>
        <p:blipFill>
          <a:blip r:embed="rId2"/>
          <a:stretch/>
        </p:blipFill>
        <p:spPr>
          <a:xfrm>
            <a:off x="609480" y="2666880"/>
            <a:ext cx="3276720" cy="38862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" descr="mother-and-child[1]"/>
          <p:cNvPicPr/>
          <p:nvPr/>
        </p:nvPicPr>
        <p:blipFill>
          <a:blip r:embed="rId3"/>
          <a:stretch/>
        </p:blipFill>
        <p:spPr>
          <a:xfrm>
            <a:off x="5410080" y="0"/>
            <a:ext cx="3098880" cy="39625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0" descr="I:\Ел Вас\x_f944fbbe[1].jpg"/>
          <p:cNvPicPr/>
          <p:nvPr/>
        </p:nvPicPr>
        <p:blipFill>
          <a:blip r:embed="rId4"/>
          <a:stretch/>
        </p:blipFill>
        <p:spPr>
          <a:xfrm>
            <a:off x="4114800" y="3886200"/>
            <a:ext cx="4657680" cy="26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Picture 4" descr="fr0166_01_big[1]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2" name="Picture 4" descr="0_25cb2_43b954f4_XL[1]"/>
          <p:cNvPicPr/>
          <p:nvPr/>
        </p:nvPicPr>
        <p:blipFill>
          <a:blip r:embed="rId1"/>
          <a:stretch/>
        </p:blipFill>
        <p:spPr>
          <a:xfrm>
            <a:off x="228600" y="304920"/>
            <a:ext cx="4038480" cy="58672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" descr="3ba22e19af6e[1]"/>
          <p:cNvPicPr/>
          <p:nvPr/>
        </p:nvPicPr>
        <p:blipFill>
          <a:blip r:embed="rId2"/>
          <a:stretch/>
        </p:blipFill>
        <p:spPr>
          <a:xfrm>
            <a:off x="4267080" y="304920"/>
            <a:ext cx="4595760" cy="58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I:\Ел Вас\Изображения\31709821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5" name="Содержимое 2" descr=""/>
          <p:cNvPicPr/>
          <p:nvPr/>
        </p:nvPicPr>
        <p:blipFill>
          <a:blip r:embed="rId2"/>
          <a:stretch/>
        </p:blipFill>
        <p:spPr>
          <a:xfrm>
            <a:off x="3425760" y="146160"/>
            <a:ext cx="5724720" cy="59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Picture 4" descr="mother-child1[1]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06" name="Picture 4" descr="pic_2005711_23mn25s24mls812[1]"/>
          <p:cNvPicPr/>
          <p:nvPr/>
        </p:nvPicPr>
        <p:blipFill>
          <a:blip r:embed="rId1"/>
          <a:stretch/>
        </p:blipFill>
        <p:spPr>
          <a:xfrm>
            <a:off x="1676520" y="0"/>
            <a:ext cx="6172200" cy="52578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040" y="525744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Мать - единственное на земле божество, не знающее атеистов. 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              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Э. Легу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0_3d31_7b177965_XL[1]"/>
          <p:cNvPicPr/>
          <p:nvPr/>
        </p:nvPicPr>
        <p:blipFill>
          <a:blip r:embed="rId1"/>
          <a:stretch/>
        </p:blipFill>
        <p:spPr>
          <a:xfrm>
            <a:off x="533520" y="228600"/>
            <a:ext cx="4667040" cy="6019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7664f3ebabe3[1]"/>
          <p:cNvPicPr/>
          <p:nvPr/>
        </p:nvPicPr>
        <p:blipFill>
          <a:blip r:embed="rId2"/>
          <a:stretch/>
        </p:blipFill>
        <p:spPr>
          <a:xfrm>
            <a:off x="5181480" y="1676520"/>
            <a:ext cx="32860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2" descr="I:\Ел Вас\28567[1].jpg"/>
          <p:cNvPicPr/>
          <p:nvPr/>
        </p:nvPicPr>
        <p:blipFill>
          <a:blip r:embed="rId1"/>
          <a:stretch/>
        </p:blipFill>
        <p:spPr>
          <a:xfrm>
            <a:off x="380880" y="79200"/>
            <a:ext cx="5848560" cy="64738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I:\Ел Вас\post-81-1217665641[1].jpg"/>
          <p:cNvPicPr/>
          <p:nvPr/>
        </p:nvPicPr>
        <p:blipFill>
          <a:blip r:embed="rId2"/>
          <a:stretch/>
        </p:blipFill>
        <p:spPr>
          <a:xfrm>
            <a:off x="5222880" y="1219320"/>
            <a:ext cx="3616200" cy="517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3203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Book Antiqua"/>
              </a:rPr>
              <a:t>Мать.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1" i="1" lang="ru-RU" sz="2400" spc="-1" strike="noStrike">
                <a:solidFill>
                  <a:srgbClr val="ffffff"/>
                </a:solidFill>
                <a:latin typeface="Book Antiqua"/>
              </a:rPr>
              <a:t>Это иероглиф материнской любви,  заботы, ласки и неж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4" descr="c421fba8cd23[1]"/>
          <p:cNvPicPr/>
          <p:nvPr/>
        </p:nvPicPr>
        <p:blipFill>
          <a:blip r:embed="rId1"/>
          <a:stretch/>
        </p:blipFill>
        <p:spPr>
          <a:xfrm>
            <a:off x="3581280" y="228600"/>
            <a:ext cx="5224680" cy="60199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8" descr="I:\Ел Вас\187_MATI[1].jpg"/>
          <p:cNvPicPr/>
          <p:nvPr/>
        </p:nvPicPr>
        <p:blipFill>
          <a:blip r:embed="rId2"/>
          <a:stretch/>
        </p:blipFill>
        <p:spPr>
          <a:xfrm>
            <a:off x="228600" y="228600"/>
            <a:ext cx="31147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25" name="Picture 4" descr="seward-mother-and-child[1]"/>
          <p:cNvPicPr/>
          <p:nvPr/>
        </p:nvPicPr>
        <p:blipFill>
          <a:blip r:embed="rId1"/>
          <a:stretch/>
        </p:blipFill>
        <p:spPr>
          <a:xfrm>
            <a:off x="609480" y="762120"/>
            <a:ext cx="4311720" cy="541008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105520" y="83772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Сердце матери - это бездна, в глубине которой всегда найдется прощ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О. Бальз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380520"/>
            <a:ext cx="3352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Сердце матери - неиссякаемый источник чуде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П. Беранж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8" descr="bluemar[1]"/>
          <p:cNvPicPr/>
          <p:nvPr/>
        </p:nvPicPr>
        <p:blipFill>
          <a:blip r:embed="rId1"/>
          <a:stretch/>
        </p:blipFill>
        <p:spPr>
          <a:xfrm>
            <a:off x="4038480" y="380880"/>
            <a:ext cx="4648320" cy="586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410080" y="456840"/>
            <a:ext cx="3733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Дайте нам лучших матерей, и мы будем лучшими людь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Ж.-П. Рихт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4" descr="Mother-and-Child-PostersClement_Micarelli[1]"/>
          <p:cNvPicPr/>
          <p:nvPr/>
        </p:nvPicPr>
        <p:blipFill>
          <a:blip r:embed="rId1"/>
          <a:stretch/>
        </p:blipFill>
        <p:spPr>
          <a:xfrm>
            <a:off x="457200" y="380880"/>
            <a:ext cx="484812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7:58:12Z</dcterms:created>
  <dc:creator>Dell-1525</dc:creator>
  <dc:description/>
  <dc:language>en-US</dc:language>
  <cp:lastModifiedBy>BRC</cp:lastModifiedBy>
  <dcterms:modified xsi:type="dcterms:W3CDTF">2009-11-23T11:37:2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