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F1C4-BAC9-4CEF-8297-E384FE0A01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EE55-F5B0-4106-97FF-2B0090DB8E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5840-0B3F-431F-8E60-14F89DCDBB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1409-D592-4D2E-8D51-DB0377D8A3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C34B-25E5-4595-9162-105AA5243B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9685-DC9E-402F-A636-8F17957DA6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CAFB-BC65-4F5E-8663-01D842FD3B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65BD-5319-47D8-9319-6D57FBCDB0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9144-7E14-4DBC-9854-9BE1ADB52A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3064-9355-4B68-A205-0B9BE72C9E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524D-5AE6-40B3-8457-159F4F1262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D1A8-39D6-40A3-8289-EB6F3FA903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BB6D-5F91-4C0F-91AF-9EC345B047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15A8-7F40-4F4A-A255-F91C69A8AA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2EDA-A309-41A9-9BDD-F66F1DC72D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0C36-68F0-4F46-A180-C555FDD5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3234-C20A-43CC-95B7-4B5F24E8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8C978-E9C6-443A-9635-10D93450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B92D9-EBCE-4941-95D5-63A8B5E0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3DE65-9801-45D8-8814-DF0133CB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86821-D07B-43B7-872C-802731F1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B01E8-27BF-4A6F-9EB7-C74EEAE4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A3BFC-75CE-4D23-B1D5-A0447AB5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45973-42F2-4E44-BAB8-952DF384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0576B-2674-4DB9-B9B9-67D66A33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06B47-869A-41DA-A265-0789C9F3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50DD5-500B-4DDC-AC43-1B4FE5AF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2FFF-C21D-4EFF-A466-09F90807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69E89-54D9-44A9-A5F1-7F540D53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86C56-5738-4B13-A874-3C07E3AD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A4228-2DC0-43EE-BF7A-B681BF5C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BA6E4-0730-4C44-A352-D57EECC6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6503E-07F7-4F39-9CC3-FFBF6AF6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BDE8B-013A-4F8D-9AA4-1799F1C3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45006-D5AF-41BF-A6A7-BC73306D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10221-B239-4FEF-AC2E-ACE81D8E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92CF8-082C-4AE2-A364-7F2DF72B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8D440-8439-4A97-9627-41998AEDB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BC35-CCB3-46D8-8D70-BB8E488B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040EF-DA76-4AD8-8CBE-C0B022F4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00257-F147-40F8-835B-B73DED3E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57028-5CE7-40E8-BA2C-B743A2EA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F53E6-9FB9-4B37-B167-885027EB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FF146-AB66-40E0-B6A0-C27D3569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A0C5A-FB84-41C6-9BAE-81427733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2AE76-E95B-45DB-9476-E0B68A93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0A8F3-309A-4976-8F18-F1F97B2F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510FF-337E-4E0F-847E-C8DEBB76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5878D-193B-45B0-8F07-DB548426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BEB6-D271-4B07-B253-104C2B5B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2BF02-CC9E-42E8-9888-3CE9AEB9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C37B9-4628-40C2-B072-2EDFBDE4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9EF7D-07AE-48BD-9E6E-689B43CC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B79A9-61B2-4FD9-B8B6-E76B3019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E243F-2E75-4A24-BFF1-C518CC5E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EFB9D-9337-4882-9447-C156BB5B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6996CB-E476-4736-803F-7E8750D7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14AC3-9F93-4538-88BD-DB8AB0DF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C5D89-2E60-48FE-A8EF-6BFCBC93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286EC-1269-4B2B-9FBF-2A130C3C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6D9C-A0B7-47E5-AEB8-3C485857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41105-4664-4D90-ABB5-2FCB5D13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99724-4143-465E-AE4D-BE2FDDC7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E55D6-ED6B-4188-973A-9DB35BEE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6E32D-F383-4D13-BBCB-389524AA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F4386-0F49-4D52-9830-2D642E28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BA5D-DC86-4CD3-B7E7-64A28AC0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FD25-E907-4648-B8C4-704B4960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6B85-9BB0-44EF-B347-1688A3AC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19AC-521F-491A-9063-A30AFD8D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3D63-D076-4A03-9613-ADFBEF06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DD49-5DA0-491A-94E6-5FAD2EE4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A602-B6E5-4BB5-91EB-9DA20192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2970-0383-4538-B7C8-144437FC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1036-E4D6-4772-A5D4-922782FE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9A02-7C6C-4275-B68B-3D8BEEBD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4DC6-32DE-4393-B888-DEDB646E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AEBC5-CA0C-4DCB-BF19-D1C22344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BF727-063F-4AA9-9B19-561ACAA8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B0AAC-0553-4E49-94C3-556BBF74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984B3-223A-4CAC-8542-888B4659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EE925-7104-4C52-9313-68BAC861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1066-89FC-400C-AA3D-28A44784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F7619-4781-4323-B7AB-3D49CB9E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1D579-DD3B-446E-BE15-799DF725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2BD09-8EBD-4E37-9D80-2889D781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FC220-B5AB-43AD-AEB8-E5BC7C0B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EE3F3-55A1-43D5-99EF-BB140796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3A02D-F03C-41E9-987C-D1194F3F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7C357-5634-44D0-9F3D-88C97A3A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F0FBC-65EF-40EE-B6EF-DECA0894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214D5-F9CD-4CD9-B1AE-D94CE03E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E57DD-EED8-4CEE-B782-4EEE808C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4C95-8375-4E2B-94DA-62D8617E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49C58-E8F8-4D8D-9664-0130ECCC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5E9CE-488F-457A-98F9-CE20AA8C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DE7C2-C06B-4E9C-8350-F01BC037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5CE93-BAE6-4E15-971C-A2478D6E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E0717-9B1F-456B-B9C8-353FBD80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52E91-0051-4FA0-864D-A115A51F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3F344-6E86-432C-AF21-3C559F30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090AF-4456-4EED-90D9-7F1668D92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82FC8-BC5A-4924-A46A-28FA75DD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AE746-C83D-4394-8AD0-188371A6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A6FF-8A80-4E72-B12F-96514208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516CA-4CC3-4C5E-B853-6776ECE0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F07DC-145F-4CDB-A75F-FE72A135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14BB4-2D0E-4455-B821-F1BD17A1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4AE38-441B-4B61-B705-04B84EEA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784E2-02CC-4692-8B83-A5FBDA62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A93EE-F9FE-40B0-A6EC-BC16CC6C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0724B-6A45-44AA-A88C-9F02A996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1820E-198D-486C-BA29-468BB978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65A08-D8A4-4AF8-90E5-8060A925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C44ED-CB39-405F-A048-92C844D9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EBE5-E002-49C3-BECC-9BF77F8F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6C644-63EF-4542-9A9B-B78000C3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146D2-FC06-4D1D-872B-8301BA75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03A39-7018-4A70-9443-F5A0F527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0EB80-1DB4-4874-B440-E80D332D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D6762-0A61-41C9-8DEB-A0BD07E2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048C9-C1C0-4FBA-A79E-2AA1F8E3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3ADFE-4C49-462E-95EA-6CBD79BD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8DA93-0026-478F-B51B-05A51CF6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6E0D9-5434-44B4-BBE5-8E2A6767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8F397-0017-4F33-ABCE-9187BC05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5F34-45AA-47E9-B783-B91A4112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079EC-92D3-4557-8661-45F68576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638CA-4BEF-45A9-8317-0DE74DC5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D1D70-E572-4A51-9E9A-F3BE6474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ED4FA-B6B2-44DC-BF58-7946EDA7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F2B56-A089-43B1-84A6-1DBAFA4E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ADB12-58D5-4138-973D-E3E5B81C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707B8-7497-48B7-A864-830E99DA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BAB18-022B-4266-9DFE-D4AF8805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F0BA6-35B8-4C77-9EBA-2988F5B6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D10ED-5346-443F-AB26-551F3FB5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067A-BA51-4BE8-89BE-C085CB49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77472-91C3-43B0-918C-762CF65B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E1F08-AFCF-40C1-92BC-944BAA23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374F7-5897-4EFC-9EEB-0372606A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6D8D5-7AA0-406C-A002-878AD6F0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7EE9F-6C08-4A82-8417-99C65B267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96215-5070-48E9-8703-0D28A15F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56C5F-15F3-4D81-B994-CA15543B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3E90D-F8C4-4708-A16D-262A5FCD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E9175-CA5C-4BF0-9683-65A6F3F8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35CC7-718B-4750-9C81-16EE6FA6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C044-2C48-4001-AC7C-98008358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A59BE-D33F-4973-84C0-4C6A42F0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1825C-EC73-4F08-8EC5-C1B70DE1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1F298-5135-4C01-B465-E3F184E3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A11FF-8E1E-4448-8C73-06AB2C33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92B26-C568-49C3-B48F-65C5D5DA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04F0B-3CB7-41CA-B63B-13F814EC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6BF26-CE2D-4E16-BD55-6D84A0F2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540D0-189E-445F-8741-CC23C167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FD77D-047A-490C-A11C-6C2990F5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67577-F2C1-48B9-A5FF-85F4F5E7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E597-594F-439B-95EC-6B89D9AEB4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3A1C-C9E0-493A-B909-0E958C47B1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C5B9-3D4E-45A7-B91E-374839B1A2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C5F2-AC31-48EE-947C-F3106887D62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FB82-0525-462D-A94D-CBBD0E72D4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A3B5-A16D-4C3E-8B07-1AA0031972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D1FF-20C3-4BBD-BB9E-0255D9BF99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ACE8-2401-4347-AA59-F1E3783C94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6564-35D7-4427-A21E-78F85F43C0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5355-F266-4B34-B12E-885798575A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7080-7553-4569-8DDE-9860ACD26D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EFBD-4A4F-4767-8FD8-2036ABE0FE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b7e7ff"/>
                </a:solidFill>
                <a:latin typeface="Book Antiqua"/>
              </a:rPr>
              <a:t>День Матери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09480" y="3429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ok Antiqua"/>
              </a:rPr>
              <a:t>Любимы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ok Antiqua"/>
              </a:rPr>
              <a:t>единственным, неповторимым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f.shubert_-_ave_mariya.mp3" descr=""/>
          <p:cNvPicPr/>
          <p:nvPr/>
        </p:nvPicPr>
        <p:blipFill>
          <a:blip r:embed="rId1"/>
          <a:stretch/>
        </p:blipFill>
        <p:spPr>
          <a:xfrm>
            <a:off x="1522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8862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ицо материнское будет красивым всегда,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юбовь материнская будет полна бескорыстья,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ак будет прохладной далеких вершин высота,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ак будут весною зелеными травы и листья.</a:t>
            </a:r>
            <a:br>
              <a:rPr sz="28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4" descr="7dbdf55c71f0[1]"/>
          <p:cNvPicPr/>
          <p:nvPr/>
        </p:nvPicPr>
        <p:blipFill>
          <a:blip r:embed="rId1"/>
          <a:stretch/>
        </p:blipFill>
        <p:spPr>
          <a:xfrm>
            <a:off x="3886200" y="228600"/>
            <a:ext cx="4705200" cy="609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4" descr="Motherandchild[1]"/>
          <p:cNvPicPr/>
          <p:nvPr/>
        </p:nvPicPr>
        <p:blipFill>
          <a:blip r:embed="rId1"/>
          <a:stretch/>
        </p:blipFill>
        <p:spPr>
          <a:xfrm>
            <a:off x="533520" y="351000"/>
            <a:ext cx="8229600" cy="604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28600" y="1535040"/>
            <a:ext cx="4268880" cy="49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Book Antiqua"/>
              </a:rPr>
              <a:t>Мама!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Book Antiqua"/>
              </a:rPr>
              <a:t>Самое прекрасное слово на земле – мама.   Это первое слово, которое произносит человек, и оно звучит на всех языках мира одинаково нежн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2" descr="I:\Ел Вас\Mother_Africa_by_BenHeine[1].jpg"/>
          <p:cNvPicPr/>
          <p:nvPr/>
        </p:nvPicPr>
        <p:blipFill>
          <a:blip r:embed="rId1"/>
          <a:stretch/>
        </p:blipFill>
        <p:spPr>
          <a:xfrm>
            <a:off x="4495680" y="380880"/>
            <a:ext cx="4419720" cy="601992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 txBox="1"/>
          <p:nvPr/>
        </p:nvSpPr>
        <p:spPr>
          <a:xfrm>
            <a:off x="4644720" y="2174400"/>
            <a:ext cx="404172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47" name="Picture 3" descr="006[1]"/>
          <p:cNvPicPr/>
          <p:nvPr/>
        </p:nvPicPr>
        <p:blipFill>
          <a:blip r:embed="rId1"/>
          <a:stretch/>
        </p:blipFill>
        <p:spPr>
          <a:xfrm>
            <a:off x="304920" y="0"/>
            <a:ext cx="2814480" cy="39625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6" descr="100102[1]"/>
          <p:cNvPicPr/>
          <p:nvPr/>
        </p:nvPicPr>
        <p:blipFill>
          <a:blip r:embed="rId2"/>
          <a:stretch/>
        </p:blipFill>
        <p:spPr>
          <a:xfrm>
            <a:off x="3124080" y="228600"/>
            <a:ext cx="2887920" cy="39625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" descr="I:\Ел Вас\0_1a32_9d5ea83_XL[1].jpg"/>
          <p:cNvPicPr/>
          <p:nvPr/>
        </p:nvPicPr>
        <p:blipFill>
          <a:blip r:embed="rId3"/>
          <a:stretch/>
        </p:blipFill>
        <p:spPr>
          <a:xfrm>
            <a:off x="533520" y="3352680"/>
            <a:ext cx="3429000" cy="35053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7" descr="b4f6e5173f88[1]"/>
          <p:cNvPicPr/>
          <p:nvPr/>
        </p:nvPicPr>
        <p:blipFill>
          <a:blip r:embed="rId4"/>
          <a:stretch/>
        </p:blipFill>
        <p:spPr>
          <a:xfrm>
            <a:off x="5862600" y="457200"/>
            <a:ext cx="3281400" cy="53341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9" descr="mother[1]"/>
          <p:cNvPicPr/>
          <p:nvPr/>
        </p:nvPicPr>
        <p:blipFill>
          <a:blip r:embed="rId5"/>
          <a:stretch/>
        </p:blipFill>
        <p:spPr>
          <a:xfrm>
            <a:off x="4114800" y="3882960"/>
            <a:ext cx="4441680" cy="297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53" name="Picture 5" descr="19-mother-and-child[1]"/>
          <p:cNvPicPr/>
          <p:nvPr/>
        </p:nvPicPr>
        <p:blipFill>
          <a:blip r:embed="rId1"/>
          <a:stretch/>
        </p:blipFill>
        <p:spPr>
          <a:xfrm>
            <a:off x="457200" y="457200"/>
            <a:ext cx="4800600" cy="32097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72218_main"/>
          <p:cNvPicPr/>
          <p:nvPr/>
        </p:nvPicPr>
        <p:blipFill>
          <a:blip r:embed="rId2"/>
          <a:stretch/>
        </p:blipFill>
        <p:spPr>
          <a:xfrm>
            <a:off x="609480" y="2666880"/>
            <a:ext cx="3276720" cy="38862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" descr="mother-and-child[1]"/>
          <p:cNvPicPr/>
          <p:nvPr/>
        </p:nvPicPr>
        <p:blipFill>
          <a:blip r:embed="rId3"/>
          <a:stretch/>
        </p:blipFill>
        <p:spPr>
          <a:xfrm>
            <a:off x="5410080" y="0"/>
            <a:ext cx="3098880" cy="39625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0" descr="I:\Ел Вас\x_f944fbbe[1].jpg"/>
          <p:cNvPicPr/>
          <p:nvPr/>
        </p:nvPicPr>
        <p:blipFill>
          <a:blip r:embed="rId4"/>
          <a:stretch/>
        </p:blipFill>
        <p:spPr>
          <a:xfrm>
            <a:off x="4114800" y="3886200"/>
            <a:ext cx="4657680" cy="26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Picture 4" descr="fr0166_01_big[1]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2" name="Picture 4" descr="0_25cb2_43b954f4_XL[1]"/>
          <p:cNvPicPr/>
          <p:nvPr/>
        </p:nvPicPr>
        <p:blipFill>
          <a:blip r:embed="rId1"/>
          <a:stretch/>
        </p:blipFill>
        <p:spPr>
          <a:xfrm>
            <a:off x="228600" y="304920"/>
            <a:ext cx="4038480" cy="58672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" descr="3ba22e19af6e[1]"/>
          <p:cNvPicPr/>
          <p:nvPr/>
        </p:nvPicPr>
        <p:blipFill>
          <a:blip r:embed="rId2"/>
          <a:stretch/>
        </p:blipFill>
        <p:spPr>
          <a:xfrm>
            <a:off x="4267080" y="304920"/>
            <a:ext cx="4595760" cy="58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I:\Ел Вас\Изображения\31709821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5" name="Содержимое 2" descr=""/>
          <p:cNvPicPr/>
          <p:nvPr/>
        </p:nvPicPr>
        <p:blipFill>
          <a:blip r:embed="rId2"/>
          <a:stretch/>
        </p:blipFill>
        <p:spPr>
          <a:xfrm>
            <a:off x="3425760" y="146160"/>
            <a:ext cx="5724720" cy="59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Picture 4" descr="mother-child1[1]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06" name="Picture 4" descr="pic_2005711_23mn25s24mls812[1]"/>
          <p:cNvPicPr/>
          <p:nvPr/>
        </p:nvPicPr>
        <p:blipFill>
          <a:blip r:embed="rId1"/>
          <a:stretch/>
        </p:blipFill>
        <p:spPr>
          <a:xfrm>
            <a:off x="1676520" y="0"/>
            <a:ext cx="6172200" cy="52578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040" y="525744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Мать - единственное на земле божество, не знающее атеистов. 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              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Э. Легу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0_3d31_7b177965_XL[1]"/>
          <p:cNvPicPr/>
          <p:nvPr/>
        </p:nvPicPr>
        <p:blipFill>
          <a:blip r:embed="rId1"/>
          <a:stretch/>
        </p:blipFill>
        <p:spPr>
          <a:xfrm>
            <a:off x="533520" y="228600"/>
            <a:ext cx="4667040" cy="6019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7664f3ebabe3[1]"/>
          <p:cNvPicPr/>
          <p:nvPr/>
        </p:nvPicPr>
        <p:blipFill>
          <a:blip r:embed="rId2"/>
          <a:stretch/>
        </p:blipFill>
        <p:spPr>
          <a:xfrm>
            <a:off x="5181480" y="1676520"/>
            <a:ext cx="32860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2" descr="I:\Ел Вас\28567[1].jpg"/>
          <p:cNvPicPr/>
          <p:nvPr/>
        </p:nvPicPr>
        <p:blipFill>
          <a:blip r:embed="rId1"/>
          <a:stretch/>
        </p:blipFill>
        <p:spPr>
          <a:xfrm>
            <a:off x="380880" y="79200"/>
            <a:ext cx="5848560" cy="64738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:\Ел Вас\post-81-1217665641[1].jpg"/>
          <p:cNvPicPr/>
          <p:nvPr/>
        </p:nvPicPr>
        <p:blipFill>
          <a:blip r:embed="rId2"/>
          <a:stretch/>
        </p:blipFill>
        <p:spPr>
          <a:xfrm>
            <a:off x="5222880" y="1219320"/>
            <a:ext cx="3616200" cy="517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3203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Book Antiqua"/>
              </a:rPr>
              <a:t>Мать.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1" i="1" lang="ru-RU" sz="2400" spc="-1" strike="noStrike">
                <a:solidFill>
                  <a:srgbClr val="ffffff"/>
                </a:solidFill>
                <a:latin typeface="Book Antiqua"/>
              </a:rPr>
              <a:t>Это иероглиф материнской любви,  заботы, ласки и неж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4" descr="c421fba8cd23[1]"/>
          <p:cNvPicPr/>
          <p:nvPr/>
        </p:nvPicPr>
        <p:blipFill>
          <a:blip r:embed="rId1"/>
          <a:stretch/>
        </p:blipFill>
        <p:spPr>
          <a:xfrm>
            <a:off x="3581280" y="228600"/>
            <a:ext cx="5224680" cy="60199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8" descr="I:\Ел Вас\187_MATI[1].jpg"/>
          <p:cNvPicPr/>
          <p:nvPr/>
        </p:nvPicPr>
        <p:blipFill>
          <a:blip r:embed="rId2"/>
          <a:stretch/>
        </p:blipFill>
        <p:spPr>
          <a:xfrm>
            <a:off x="228600" y="228600"/>
            <a:ext cx="31147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25" name="Picture 4" descr="seward-mother-and-child[1]"/>
          <p:cNvPicPr/>
          <p:nvPr/>
        </p:nvPicPr>
        <p:blipFill>
          <a:blip r:embed="rId1"/>
          <a:stretch/>
        </p:blipFill>
        <p:spPr>
          <a:xfrm>
            <a:off x="609480" y="762120"/>
            <a:ext cx="4311720" cy="541008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105520" y="83772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Сердце матери - это бездна, в глубине которой всегда найдется прощ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О. Бальз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380520"/>
            <a:ext cx="3352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Сердце матери - неиссякаемый источник чуде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П. Беранж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8" descr="bluemar[1]"/>
          <p:cNvPicPr/>
          <p:nvPr/>
        </p:nvPicPr>
        <p:blipFill>
          <a:blip r:embed="rId1"/>
          <a:stretch/>
        </p:blipFill>
        <p:spPr>
          <a:xfrm>
            <a:off x="4038480" y="380880"/>
            <a:ext cx="4648320" cy="586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410080" y="456840"/>
            <a:ext cx="3733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Дайте нам лучших матерей, и мы будем лучшими людь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Ж.-П. Рихт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4" descr="Mother-and-Child-PostersClement_Micarelli[1]"/>
          <p:cNvPicPr/>
          <p:nvPr/>
        </p:nvPicPr>
        <p:blipFill>
          <a:blip r:embed="rId1"/>
          <a:stretch/>
        </p:blipFill>
        <p:spPr>
          <a:xfrm>
            <a:off x="457200" y="380880"/>
            <a:ext cx="484812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7:58:12Z</dcterms:created>
  <dc:creator>Dell-1525</dc:creator>
  <dc:description/>
  <dc:language>en-US</dc:language>
  <cp:lastModifiedBy>BRC</cp:lastModifiedBy>
  <dcterms:modified xsi:type="dcterms:W3CDTF">2009-11-23T11:37:2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