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C7E-4541-4507-8300-C1D3C57D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A1E-1311-4E28-93E5-70E77862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4D3-BACA-4401-A818-FEDA14B0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F12-3ED0-4624-B3B5-D85952AB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A93-C3F3-411C-8EC9-CFCE3EB6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39C-3347-47F6-BB5C-22A53A65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063-CDB9-4D01-8999-126A46D8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869-4FB2-4F9F-9D14-9A32C849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26A-D45B-4274-B5E7-EC4E82CE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0B3-853A-47BD-8C2A-88DDEEF3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E41-AD70-44D0-BA96-3958D07A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610-7A6F-49A4-895D-FD759C02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7CA5-3965-462B-A174-C888F8CB2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раеведе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краеве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занимается краеве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начались краеведческие исслед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исследуют краеве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гда начались краеведческие исследов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800244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знан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- в далеком прошлом. У всех народов сведения о природе, истории передавались из поколения в поко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544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гда начались краеведческие исследов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о краевед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чало развиваться с середины XVIII 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я комплексного изучения своего края принадлежала М.В. Ломонос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2658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 середины XVIII в. организуются академические экспедиции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3360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середине 30-х гг. были ликвидированы оставшиеся краеведческие организации, закрыты многие музеи. Многие краеведы были репрессиров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20-е годы – «золотое десятилетие» крае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краеведче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родоведческое крае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елье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ли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Гидро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Растительный и животный м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07760" y="1628640"/>
            <a:ext cx="84358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ономическое краеведени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Ø   хозяйство края в целом, отдельные отрасли, пред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Ø   население к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Ø   населенные пун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кусствоведческое крае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линные произведения искусства, имеющие самостоятельную ц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Ø 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оизведения архите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Ø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оизведения народного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Ø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итературные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оизведения изобразительного искусства, музыка, та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ые места, связанные с жизнью и творчеством деятелей искусства или отраженные в их произвед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такое краеведение?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еведение 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комплекс дисциплин, ведущих по к научному и всестороннему познанию кра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71294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, которые ставит перед собой современное крае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и охрана природы к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истории и культуры к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ление и охрана местных памятников культуры и стар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паганда знаний о кра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выставок, музеев, лекториев, экскурс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жная особенность краевед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это не только наука, но и деятель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зидательная деятельность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ение природных и культурно-исторических богатств кра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2643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пуляризаторская деятельност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вает что-то совершенно новое, ценное широкой публ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205092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 краеведческого исследования: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ай в ц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1719360"/>
            <a:ext cx="54039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дельные райо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0688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селенные пунк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амятные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482840"/>
            <a:ext cx="799308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дельные зд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04:25:18Z</dcterms:created>
  <dc:creator>Администратор</dc:creator>
  <dc:description/>
  <dc:language>en-US</dc:language>
  <cp:lastModifiedBy>Администратор</cp:lastModifiedBy>
  <dcterms:modified xsi:type="dcterms:W3CDTF">2010-10-09T05:26:58Z</dcterms:modified>
  <cp:revision>2</cp:revision>
  <dc:subject/>
  <dc:title>Краеведение </dc:title>
</cp:coreProperties>
</file>