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DEC-0875-448B-9212-8F9DCC3F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ABE-9D4D-4190-96F7-509377DA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0CD-C8A6-4920-A622-1407D99B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A01-768F-4C0E-8A17-49350B95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F9D-F6BD-4B2C-91FE-15F8D68A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83A-2185-484C-AC3C-F7D27BFC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AC4-5F8B-4CF1-8A10-51F648F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FB7-42DD-4C53-B2BB-17ADF7B8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75B-0495-4E89-B478-24AF918C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C44-CD31-45DF-AC8C-B8F949A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E1E-B41B-4A41-BF34-31FF63F4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530-97ED-4AB5-9376-759515BE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21C9-A00E-4180-ADCD-E94535CC7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раевед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краеве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занимается краеве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начались краеведческие исслед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исследуют краеве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гда начались краеведческие исследов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80024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зна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- в далеком прошлом. У всех народов сведения о природе, истории передавались из поколения в поко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544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гда начались краеведческие исследов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о краевед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чало развиваться с середины XVIII 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я комплексного изучения своего края принадлежала М.В. Ломонос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2658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 середины XVIII в. организуются академические экспедиции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336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середине 30-х гг. были ликвидированы оставшиеся краеведческие организации, закрыты многие музеи. Многие краеведы были репрессиров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20-е годы – «золотое десятилетие» крае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краевед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родоведческое крае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елье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Гидро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Растительный и животный м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07760" y="162864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ономическое краеведени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Ø   хозяйство края в целом, отдельные отрасли, пред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Ø   население к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Ø   населенные пун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кусствоведческое крае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линные произведения искусства, имеющие самостоятельную ц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Ø 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оизведения архите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Ø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оизведения народн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Ø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тературные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оизведения изобразительного искусства, музыка, 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ые места, связанные с жизнью и творчеством деятелей искусства или отраженные в их произвед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такое краеведение?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еведение 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комплекс дисциплин, ведущих по к научному и всестороннему познанию кра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71294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, которые ставит перед собой современное крае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и охрана природы к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истории и культуры к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и охрана местных памятников культуры и стар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паганда знаний о кра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выставок, музеев, лекториев, экскурс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жная особенность краевед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это не только наука, но и деятель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идательная деятельность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ение природных и культурно-исторических богатств кра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2643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пуляризаторская деятельност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вает что-то совершенно новое, ценное широкой публ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205092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 краеведческого исследования: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ай в ц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1719360"/>
            <a:ext cx="54039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дельные райо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068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селенные пунк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амятные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482840"/>
            <a:ext cx="799308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дельные зд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04:25:18Z</dcterms:created>
  <dc:creator>Администратор</dc:creator>
  <dc:description/>
  <dc:language>en-US</dc:language>
  <cp:lastModifiedBy>Администратор</cp:lastModifiedBy>
  <dcterms:modified xsi:type="dcterms:W3CDTF">2010-10-09T05:26:58Z</dcterms:modified>
  <cp:revision>2</cp:revision>
  <dc:subject/>
  <dc:title>Краеведение </dc:title>
</cp:coreProperties>
</file>