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13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4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media/image12.gif" ContentType="image/gif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322-2E3A-44DD-9CF4-388149D7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653-8203-4965-BA68-BA83EFA3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0E7-DBE8-4B7B-93D1-169EC7CB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4D5-A7E9-409B-8615-A6F4ED79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665-C73E-4149-A7E5-68D9D7AD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C1D-6375-4C7D-98A2-D00F6091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6A2-DCA7-4DA4-AF89-84FE3EB5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1F0-D95E-4C0C-AAAA-FEEE1A5C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91E-00C0-4FAE-8FD1-731A5901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F82-3F38-44F9-A90F-E7DF65F6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14F-6829-4F4D-99A8-0F98F6D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C52-51AC-49B6-B587-8F8219BA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7B7D-4664-4E3D-BB55-08C54CC2A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676520" y="3886200"/>
            <a:ext cx="487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Букина Ларис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152280"/>
            <a:ext cx="723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МДОУ детский сад  №47 «Рябинушка» комбинированного вида</a:t>
            </a:r>
            <a:br>
              <a:rPr sz="2000"/>
            </a:b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г.Краснотурьинск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на тему «Гриб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ю в лесу наступает грибная пора. В траве, под деревьями и кустами, на старых пнях растут самые разные гри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ъедобные: белые, рыжики, подосиновики, подберезовики, грузди, опята, сыроежки, лиси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ядовитые: мухоморы, поганки, ложные опя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животные, например белочки, сушат грибы на зиму. Лоси едят мухомо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и собирают съедобные грибы, чтобы засушить, засолить или замариновать их. Собирать грибы нужно очень аккуратно, стараясь не повредить грибницу, и тогда на следующий год на этом месте в лесу появятся новые грибные семе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Лес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Ле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Белый гриб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Съедобные гриб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Мухомор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есъедобные гриб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Ежи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рибы для животных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Корзин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рибы для человек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то можно приготовить из грибов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HWScan00_0"/>
          <p:cNvPicPr/>
          <p:nvPr/>
        </p:nvPicPr>
        <p:blipFill>
          <a:blip r:embed="rId1"/>
          <a:stretch/>
        </p:blipFill>
        <p:spPr>
          <a:xfrm>
            <a:off x="5129280" y="4419720"/>
            <a:ext cx="35575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Составление рассказа «Осень» </a:t>
            </a:r>
            <a:br>
              <a:rPr sz="2800"/>
            </a:b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по  графическому план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осень. Солнышко светит ярко, но слабо согревает землю. Становится холодно. Часто идут дожди. Листья на деревьях меняют свой цвет на желтый, красный, оранжевый и багряный, поэтому осень и называют «золото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вотные готовятся к зиме: некоторые, как ежи и медведи, впадают в спячку. А другие, как белки и мышки, запасают на зиму корм. Все животные осенью линяют — меняют летний мех на теплый зим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собираются в стаи и улетают в теплые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и на полях и в садах собирают урожай овощей и фру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7960" y="1371240"/>
            <a:ext cx="426708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Солнце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Солнце свети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Дождь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асто идут дожд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Листья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Листья на деревьях меняют цве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Ежи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Животные готовятся к зиме.)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Птицы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Птицы улетают в теплые края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Морковь, яблоко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Люди собирают урожай овощей и фруктов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5133960" y="4495680"/>
            <a:ext cx="34005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ч — птица черного цвета с белым клювом. У грача есть голова, туловище, крылья, хвост, лапы. Все тело птицы покрыто перьями. Весной грачи прилетают из теплых стран, строят гнезда и выводят птенцов — грачат. Грачи питаются насекомыми, червями и семенами растений. Осенью, когда становится холодно, грачи собираются в стаи и улетают в жаркие страны до следующей весны. Грачи помогают человеку — они уничтожают насекомых и гусениц — вредителей полей и ого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3716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Цвет оперенья птиц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асти тел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ее те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Гнездо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птенцов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Осень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огда птицы улетают в теплые кра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Насекомые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ем птицы питаютс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елове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ую пользу приносят птицы человеку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HWScan00_0"/>
          <p:cNvPicPr/>
          <p:nvPr/>
        </p:nvPicPr>
        <p:blipFill>
          <a:blip r:embed="rId1"/>
          <a:stretch/>
        </p:blipFill>
        <p:spPr>
          <a:xfrm>
            <a:off x="4648320" y="4114800"/>
            <a:ext cx="403848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90520" y="439920"/>
            <a:ext cx="85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 тему «Перелетн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0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8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«Зимующие птицы»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ирь — очень красивая птица. У него серое туловище, черная головка и крылья, а грудка розово-красная. Когда птицы сидят на ветках деревьев, то они похожи на зимние яблоки. У снегиря есть туловище, головка, крылья, хвостик, лап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живут в лесу, а зимой, когда становится голодно, прилетают в город. В лесу они могут клевать семена растений. Я видела, как снегири клевали семечки из коробочек на кустах сирени. Птенцы у них называются снегиря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люди делают кормушки и насыпают в них семечки и хлебные крошки, чтобы помочь птицам пережить голодное вре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перенье птицы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аст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ее те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Дупло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де она обитает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Ягоды, семен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ем птица питаетс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Птенец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птенц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еловек, кормуш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люди помогают птицам зимой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HWScan00_0"/>
          <p:cNvPicPr/>
          <p:nvPr/>
        </p:nvPicPr>
        <p:blipFill>
          <a:blip r:embed="rId1"/>
          <a:stretch/>
        </p:blipFill>
        <p:spPr>
          <a:xfrm>
            <a:off x="4952880" y="4191120"/>
            <a:ext cx="33530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8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оставление рассказа-описания по теме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«Мой любимый овощ»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 последующим рисованием плана-графи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ид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овощ. Он растет в огороде на грядке. Он кисло-сладкий, круглый, красный, мягкий. Из него можно приготовить салат, суп, сок, кетчуп. Помидоры можно законсервировать на зиму в собственном соку.  Помидор полезный, потому что в нем много витаминов, он очищает орган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Название овоща. Что э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Где этот овощ раст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формы овощ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го цве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на вку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он на ощуп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то можно из этого овоща приготов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рядка, рот или рожица, круг, цветок, вата и кубик, кастрюля, бутылочк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7238880" y="48006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8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6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о рассказу-описанию по теме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«Мой любимый фрукт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бло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фрукты. Они растут на яблонях. Яблоки бывают красными, румяными, бордовыми, жёлтыми, зелёными. Фруктовые деревья растут в са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е ябло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асное, круглое, сладкое, сочное. Оно гладкое и тверд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го едят сырым, из него варят варенье, делают джем, готовят вкусный 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яблоках много витаминов. Все фрукты полезны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33cc"/>
                </a:solidFill>
                <a:latin typeface="Arial"/>
              </a:rPr>
              <a:t>План рассказ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азвание фру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Где растет этот фру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формы фру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го цв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на вкус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он на ощуп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Что можно из этого фрукта приготови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ую пользу приносит человек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419112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о с плодами (сад), рот или рожица, круг, цветок или нос (запах), вата и кубик (мягкий твердый, гладкий), кастрюля, банка, пакет)- что готов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7924680" y="5257800"/>
            <a:ext cx="838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1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ассказа на тему «Щук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работы над составлением графического плана связного рассказа ребёнку даётся чистый бланк с шестью «окошками» для составления мнемо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  на доске поочередно заполняет «пустые» клетки мнемотаблицы. Ребёнок же рисует соответствующие изображения на собственном бланке. Таким образом, каждый ребенок в ходе занятия заполняет свою мнемотаблицу, с помощью которой он имеет возможность самостоятельно составить по аналогии рассказ-описание о любом другом предмете по данной лексической теме. Наглядная схема выступает в качестве плана речевого высказы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«Перед нами щу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Это речная ры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Она хищная. Щука питается мелкими рыбеш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У нее есть голова, жабры, туловище, плавники, хвост, острые зу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Туловище щуки покрыто чешу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Из щуки можно сварить уху и приготовить котлет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7315200" y="5029200"/>
            <a:ext cx="129528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Arial"/>
              </a:rPr>
              <a:t>Составить рассказ о своей  семь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ня зовут Полина. Моя мама — Анастасия Викторовна, а папа — Николай Анатоль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меня есть старший брат Арс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ма и папа у меня инженеры, они работают на заводе — делают автомоб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я бабушка Светлана Ивановна умеет печь вкусные пироги и плести ажурные салфе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ушка Виктор Васильевич подстригает деревья и косит траву в са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ушка и бабушка проводят со мной много времени – мы играем в мяч, катаемся на велосипедах, ходим в парк и лес. Они помогают мне выполнять домашние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очен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юблю мою сем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Твое имя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Три человеч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мена родителей и членов семь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Молот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Профессия пап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Фарту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Профессия мам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лубок нит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Бабушка и дедушк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то помогает теб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2" descr="SWScan00_0"/>
          <p:cNvPicPr/>
          <p:nvPr/>
        </p:nvPicPr>
        <p:blipFill>
          <a:blip r:embed="rId1"/>
          <a:stretch/>
        </p:blipFill>
        <p:spPr>
          <a:xfrm>
            <a:off x="5105520" y="4038480"/>
            <a:ext cx="307008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Загадки для рисования мнемодор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Голубой пла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Красный колоб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По платку катае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Людям улыб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(Небо и солн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В густом лесу под ёл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Осыпанный лист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Лежит клубок с игол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Колючий и живой. 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(Ёж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Стоят два д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дубах – боч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бочке – к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кочке – лес. (Челов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8"/>
          <p:cNvGrpSpPr/>
          <p:nvPr/>
        </p:nvGrpSpPr>
        <p:grpSpPr>
          <a:xfrm>
            <a:off x="6019920" y="4343400"/>
            <a:ext cx="1143000" cy="685440"/>
            <a:chOff x="6019920" y="4343400"/>
            <a:chExt cx="1143000" cy="685440"/>
          </a:xfrm>
        </p:grpSpPr>
        <p:graphicFrame>
          <p:nvGraphicFramePr>
            <p:cNvPr id="114" name="Object 9"/>
            <p:cNvGraphicFramePr/>
            <p:nvPr/>
          </p:nvGraphicFramePr>
          <p:xfrm>
            <a:off x="6019920" y="4389480"/>
            <a:ext cx="1143000" cy="63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4389480"/>
                      <a:ext cx="1143000" cy="63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Object 10"/>
            <p:cNvGraphicFramePr/>
            <p:nvPr/>
          </p:nvGraphicFramePr>
          <p:xfrm>
            <a:off x="6019920" y="4343400"/>
            <a:ext cx="781200" cy="34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4343400"/>
                      <a:ext cx="781200" cy="34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8" name="Рисунок 9" descr="C:\Documents and Settings\Admin\Рабочий стол\папин апрель\469.gif"/>
          <p:cNvPicPr/>
          <p:nvPr/>
        </p:nvPicPr>
        <p:blipFill>
          <a:blip r:embed="rId5"/>
          <a:stretch/>
        </p:blipFill>
        <p:spPr>
          <a:xfrm>
            <a:off x="5638680" y="4114800"/>
            <a:ext cx="2838600" cy="216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Mobile_SCRS (366)"/>
          <p:cNvPicPr/>
          <p:nvPr/>
        </p:nvPicPr>
        <p:blipFill>
          <a:blip r:embed="rId6"/>
          <a:stretch/>
        </p:blipFill>
        <p:spPr>
          <a:xfrm>
            <a:off x="5829480" y="1644480"/>
            <a:ext cx="167616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4104E-006 L 1.03663 -0.00833 E">
                                      <p:cBhvr>
                                        <p:cTn id="895" dur="7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Библи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[wallcoo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228600" y="96228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''Дошкольное воспитание'' №12 за 2000 г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10,12 за 2001г.; №4,12 за 2002г; № 9 за19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ьина М.В. «Воображение и творческое мышл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ия «Психологическая служба». Книголюб. М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ьянова. Р.А. Комплексная диагностика дошкольников.Спб.Каро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одяжная Т.П «Управление современным ДОУ» Ростов-н/Д, Учитель.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лядно-дидактическое пособие  Ткаченко Т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оставление описательных рассказов по опорным схем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. руководство, картинный комплект. М.: Книголюб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лядно-дидактическое пособие  «Открой для себя мир». Августин. 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хомирова Л.Ф. ''Познавательные способности детей 5-7 лет''. М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збекова Е.Ю. «Ступеньки творчества» Место игры в интеллектуальном развитии дошкольника. М. Линка-пресс. 200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6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4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2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6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4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2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6" dur="2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Методические рекомен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990720" y="2971800"/>
            <a:ext cx="74674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«Обучение дошк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составлению описательных рассказов при помощи опорных схем-рисун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для воспитателей и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Перечень тем, методик и вопросов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57200" y="685800"/>
            <a:ext cx="8001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Что такое мнемотех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при помощи опорных граф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хем-рису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исование детьми графических схем (планов) по описательному рассказу (перекодиров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исование мнемодорожки (графический план, схема) по загадкам,пословицам, сказ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Глоссарий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спользуемая литера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7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676520" y="38862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54320" y="366840"/>
            <a:ext cx="8235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«Даже мгновен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озар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может стать той первой искр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из которой рано или позд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озгорится пла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творческого поис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. Шата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Мнемотехника- это технология развития памяти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ff"/>
                </a:solidFill>
                <a:latin typeface="Arial"/>
              </a:rPr>
              <a:t>Мнемотехника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</a:rPr>
              <a:t>- это система методов и приёмов, обеспечивающих эффективное запоминание, сохранение и воспроизведение информ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</a:rPr>
              <a:t>Использование мнемотехники для дошкольников в настоящее время становится всё более актуаль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</a:rPr>
              <a:t>Особое место в работе с детьми занимает использование в качестве дидактического материала </a:t>
            </a: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немо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Мнемотаблица –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 это схема, в которую заложена определённая информация. Овладение приёмами работы с мнемотаблицами значительно сокращает время обучения и одновременно решает следующи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развитие основных психических процессов – памяти, внимания, восприятия, мышления, особенно, образн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кодирование информации, то есть, преобразование предметов, образов в абстрактные знаки, симв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перекодирование информации, то есть, преобразование из абстрактных символов в образ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развитие мелкой моторики рук при частичном или полном графическом воспроизведени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Методы и приёмы мнемо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Во-первых, надо обратить внимание на совершенствование восприятия: зрения, слуха, тактильных ощущений, обоняния, вкусовых ощущений. На занятиях должно быть использовано множество разнообразных средств для тренинга названных чувств.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Во-вторых, необходимо сформировать у детей навыки запоминания любой информации. Эффективны следующие мето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«крокирования» (от франц.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croquis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–  чертеж, схема, набросок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, использующий образное мышление (эйдетиз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ассоциативных цепочек (или метод «чепухи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трансформации (превращ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В-третьих, наша задача - научить детей управлять своим вниманием, сделать его посл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роме того, есть еще целый ряд оригинальных упражнений, стимулирующих интеллектуальное развитие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Когда начинать заниматься мнемотехни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Мнемотехникой можно начинать заниматься с раннего возра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но рациональнее вво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ее в занятия с 4-5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огда у них накоплен основной словарный за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рассказов-описаний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по теме « Игруш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укла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Это —кукла Маша. Ее купили в магазине. Она сделана из рез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куклы есть головка, шейка, ручки, туловище, ножки. Кукла нарядная. На ней красное платьице и белые туфельки. Кукла Маша — игрушка. С ней играют. С куклой нужно обращаться аккуратн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я самая любимая игрушка - это маши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ярко-красного цвета, прямо­угольной формы. Мой грузовик небольшого размера. У него есть кузов, кабина, колеса, фары. В кабине имеются руль и сиденья. Кабина у грузовика - металли­ческая, колеса резиновые, окна стеклянные, а кресла - кожа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очень люблю представлять себя шофером, водить свой грузовик, мыть его, ремонтировать, если он слом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76160"/>
            <a:ext cx="403848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Форм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й она формы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Мяч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размер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Детали машины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детал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онтур с вопросом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сделан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с этой игрушкой можно играт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SWScan00_0"/>
          <p:cNvPicPr/>
          <p:nvPr/>
        </p:nvPicPr>
        <p:blipFill>
          <a:blip r:embed="rId1"/>
          <a:stretch/>
        </p:blipFill>
        <p:spPr>
          <a:xfrm>
            <a:off x="5105520" y="449568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 по графической схеме</a:t>
            </a:r>
            <a:br>
              <a:rPr sz="2000"/>
            </a:b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«Одеж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лат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еня есть любимое платье. Оно голубого цвета с мелкими белыми цветочками. У платья есть кокетка, юбка, рукава, манжеты, воротник, застежка-молния, карманы и поясок с пряжкой. Платье сшито из тонкого шелка, оно шелковое. Это нарядное летнее детское платье. Платье можно постирать, погладить, его можно носить, а если оно порвется, то я его заш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ба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то мужская одежда. Она сшита из ткани. У рубашки есть воротник, рукава, манжеты, карман, пуговицы и петельки. Она полосата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495680" y="10666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Детал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их деталей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Контур, знак вопрос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она сшит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Погод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Для какого времени года эта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Мужчина, женщина, 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Это одежда мужская, женская или детска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то можно сделать с одеждой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2" descr="SWScan00_0"/>
          <p:cNvPicPr/>
          <p:nvPr/>
        </p:nvPicPr>
        <p:blipFill>
          <a:blip r:embed="rId1"/>
          <a:stretch/>
        </p:blipFill>
        <p:spPr>
          <a:xfrm>
            <a:off x="5410080" y="4495680"/>
            <a:ext cx="350532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об обуви</a:t>
            </a:r>
            <a:br>
              <a:rPr sz="2000"/>
            </a:b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по графическому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ап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то обувь. Они сделаны из кожи, они кожаные. У сапог есть голенища, молнии, носки, подошвы, каблуки. Сапоги носят зимой, весной и осенью». У меня есть сапоги. Они зеленого цвета с белыми полосками. Это резиновые сапоги. У сапог длинные голенища, подошва, каблуки, а внутри — специальные теплые стельки. Они маленького размера, детские. Резиновые сапоги носят в дождливую погоду, а еще их можно обуть на рыбалку или когда идешь в лес за грибами. Резиновую обувь нужно хорошо просушить после но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219320"/>
            <a:ext cx="403848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Контур, знак вопрос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она сделан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Детали предмет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обув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Мужчина, женщина, 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то носит эту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Солнышко, дождь, снег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Для какой погоды эта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 ухаживать за обувью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SWScan00_0"/>
          <p:cNvPicPr/>
          <p:nvPr/>
        </p:nvPicPr>
        <p:blipFill>
          <a:blip r:embed="rId1"/>
          <a:stretch/>
        </p:blipFill>
        <p:spPr>
          <a:xfrm>
            <a:off x="4952880" y="4267080"/>
            <a:ext cx="381024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53R</cp:lastModifiedBy>
  <dcterms:modified xsi:type="dcterms:W3CDTF">2015-05-05T16:41:0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