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13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4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media/image12.gif" ContentType="image/gif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D153-DD32-44E0-8EA4-956CBB1D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232B-A965-467C-B73B-05F14CB8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A50-7DE1-4C87-A707-23247C60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6430-A9B3-4FDB-9F9F-D3B67207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D8B-6726-487B-B0C6-ED2B8685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1E9F-4409-499B-8062-6CC79D1F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69EB-724C-4C2A-BE93-426F15E1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093F-5DD4-40AA-A67F-95C0B134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D95-E1CA-40C9-9166-275E4F8D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FF8-693E-4272-B0F8-36694F84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6800-A8DA-4079-9F80-CFCD2185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57A3-15D3-4E5F-AD11-361CB032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D95B-244E-4FCD-907A-FC8001F945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hildren_Day_vector_wallpaper_167973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676520" y="3886200"/>
            <a:ext cx="4876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Авто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Букина Ларис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152280"/>
            <a:ext cx="723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МДОУ детский сад  №47 «Рябинушка» комбинированного вида</a:t>
            </a:r>
            <a:br>
              <a:rPr sz="2000"/>
            </a:b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г.Краснотурьинск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графического плана рассказа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на тему «Гриб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енью в лесу наступает грибная пора. В траве, под деревьями и кустами, на старых пнях растут самые разные гриб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ъедобные: белые, рыжики, подосиновики, подберезовики, грузди, опята, сыроежки, лиси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ядовитые: мухоморы, поганки, ложные опя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ие животные, например белочки, сушат грибы на зиму. Лоси едят мухомор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юди собирают съедобные грибы, чтобы засушить, засолить или замариновать их. Собирать грибы нужно очень аккуратно, стараясь не повредить грибницу, и тогда на следующий год на этом месте в лесу появятся новые грибные семей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1. Лес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Лес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2. Белый гриб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Съедобные грибы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3. Мухомор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есъедобные гриб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Ежи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Грибы для животных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5. Корзин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Грибы для человека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6. Ру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Что можно приготовить из грибов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1" descr="HWScan00_0"/>
          <p:cNvPicPr/>
          <p:nvPr/>
        </p:nvPicPr>
        <p:blipFill>
          <a:blip r:embed="rId1"/>
          <a:stretch/>
        </p:blipFill>
        <p:spPr>
          <a:xfrm>
            <a:off x="5129280" y="4419720"/>
            <a:ext cx="35575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2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Составление рассказа «Осень» </a:t>
            </a:r>
            <a:br>
              <a:rPr sz="2800"/>
            </a:b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по  графическому план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ступила осень. Солнышко светит ярко, но слабо согревает землю. Становится холодно. Часто идут дожди. Листья на деревьях меняют свой цвет на желтый, красный, оранжевый и багряный, поэтому осень и называют «золотой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вотные готовятся к зиме: некоторые, как ежи и медведи, впадают в спячку. А другие, как белки и мышки, запасают на зиму корм. Все животные осенью линяют — меняют летний мех на теплый зим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тицы собираются в стаи и улетают в теплые кр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юди на полях и в садах собирают урожай овощей и фру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7960" y="1371240"/>
            <a:ext cx="4267080" cy="24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Солнце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Солнце светит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Дождь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Часто идут дожди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Листья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Листья на деревьях меняют цвет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Ежи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Животные готовятся к зиме.)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Птицы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Птицы улетают в теплые края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Морковь, яблоко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Люди собирают урожай овощей и фруктов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5133960" y="4495680"/>
            <a:ext cx="340056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6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5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ч — птица черного цвета с белым клювом. У грача есть голова, туловище, крылья, хвост, лапы. Все тело птицы покрыто перьями. Весной грачи прилетают из теплых стран, строят гнезда и выводят птенцов — грачат. Грачи питаются насекомыми, червями и семенами растений. Осенью, когда становится холодно, грачи собираются в стаи и улетают в жаркие страны до следующей весны. Грачи помогают человеку — они уничтожают насекомых и гусениц — вредителей полей и ого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8320" y="13716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1. Цвет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Цвет оперенья птицы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Части тел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азови части ее тела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3. Гнездо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азови ее птенцов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Осень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огда птицы улетают в теплые края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5. Насекомые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Чем птицы питаются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Челове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ую пользу приносят птицы человеку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2" descr="HWScan00_0"/>
          <p:cNvPicPr/>
          <p:nvPr/>
        </p:nvPicPr>
        <p:blipFill>
          <a:blip r:embed="rId1"/>
          <a:stretch/>
        </p:blipFill>
        <p:spPr>
          <a:xfrm>
            <a:off x="4648320" y="4114800"/>
            <a:ext cx="4038480" cy="2286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290520" y="439920"/>
            <a:ext cx="856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графического плана расс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на тему «Перелетные пт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0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8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0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4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8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графического плана рассказа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 «Зимующие птицы»</a:t>
            </a:r>
            <a:br>
              <a:rPr sz="2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негирь — очень красивая птица. У него серое туловище, черная головка и крылья, а грудка розово-красная. Когда птицы сидят на ветках деревьев, то они похожи на зимние яблоки. У снегиря есть туловище, головка, крылья, хвостик, лап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тицы живут в лесу, а зимой, когда становится голодно, прилетают в город. В лесу они могут клевать семена растений. Я видела, как снегири клевали семечки из коробочек на кустах сирени. Птенцы у них называются снегиря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имой люди делают кормушки и насыпают в них семечки и хлебные крошки, чтобы помочь птицам пережить голодное врем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1. Цвет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ого цвета оперенье птицы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Части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азови части ее тела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3. Дупло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Где она обитает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Ягоды, семен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Чем птица питается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5. Птенец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азови ее птенца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Человек, кормуш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 люди помогают птицам зимой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1" descr="HWScan00_0"/>
          <p:cNvPicPr/>
          <p:nvPr/>
        </p:nvPicPr>
        <p:blipFill>
          <a:blip r:embed="rId1"/>
          <a:stretch/>
        </p:blipFill>
        <p:spPr>
          <a:xfrm>
            <a:off x="4952880" y="4191120"/>
            <a:ext cx="335304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8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2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0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4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8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2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6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Составление рассказа-описания по теме</a:t>
            </a:r>
            <a:br>
              <a:rPr sz="2400"/>
            </a:b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«Мой любимый овощ» </a:t>
            </a:r>
            <a:br>
              <a:rPr sz="2400"/>
            </a:b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с последующим рисованием плана-графи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идо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овощ. Он растет в огороде на грядке. Он кисло-сладкий, круглый, красный, мягкий. Из него можно приготовить салат, суп, сок, кетчуп. Помидоры можно законсервировать на зиму в собственном соку.  Помидор полезный, потому что в нем много витаминов, он очищает организ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Название овоща. Что эт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Где этот овощ расте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Какой формы овощ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Какого цвет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Какой на вкус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Какой он на ощуп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Что можно из этого овоща приготови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рядка, рот или рожица, круг, цветок, вата и кубик, кастрюля, бутылочка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7238880" y="48006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t-Metropol"/>
              </a:rPr>
              <a:t>?</a:t>
            </a:r>
            <a:endParaRPr b="0" lang="en-US" sz="1600" spc="1" strike="noStrike">
              <a:ln w="255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t-Metropol"/>
              <a:ea typeface="Art-Metropol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0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4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8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2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6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графического плана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по рассказу-описанию по теме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«Мой любимый фрукт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блок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о фрукты. Они растут на яблонях. Яблоки бывают красными, румяными, бордовыми, жёлтыми, зелёными. Фруктовые деревья растут в са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е яблок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асное, круглое, сладкое, сочное. Оно гладкое и тверд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го едят сырым, из него варят варенье, делают джем, готовят вкусный с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яблоках много витаминов. Все фрукты полезны челове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ff33cc"/>
                </a:solidFill>
                <a:latin typeface="Arial"/>
              </a:rPr>
              <a:t>План рассказ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 algn="just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Название фрук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 algn="just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Где растет этот фрук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 algn="just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Какой формы фрук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 algn="just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Какого цвет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 algn="just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Какой на вкус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 algn="just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Какой он на ощуп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 algn="just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Что можно из этого фрукта приготовит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 algn="just">
              <a:spcBef>
                <a:spcPts val="34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Какую пользу приносит человек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 algn="just">
              <a:spcBef>
                <a:spcPts val="34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4191120"/>
            <a:ext cx="4038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рево с плодами (сад), рот или рожица, круг, цветок или нос (запах), вата и кубик (мягкий твердый, гладкий), кастрюля, банка, пакет)- что готов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8"/>
          <p:cNvSpPr txBox="1"/>
          <p:nvPr/>
        </p:nvSpPr>
        <p:spPr>
          <a:xfrm>
            <a:off x="7924680" y="5257800"/>
            <a:ext cx="838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t-Metropol"/>
              </a:rPr>
              <a:t>?</a:t>
            </a:r>
            <a:endParaRPr b="0" lang="en-US" sz="1600" spc="1" strike="noStrike">
              <a:ln w="255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t-Metropol"/>
              <a:ea typeface="Art-Metropo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4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3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7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1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5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графического плана 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рассказа на тему «Щука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работы над составлением графического плана связного рассказа ребёнку даётся чистый бланк с шестью «окошками» для составления мнемотабл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питатель  на доске поочередно заполняет «пустые» клетки мнемотаблицы. Ребёнок же рисует соответствующие изображения на собственном бланке. Таким образом, каждый ребенок в ходе занятия заполняет свою мнемотаблицу, с помощью которой он имеет возможность самостоятельно составить по аналогии рассказ-описание о любом другом предмете по данной лексической теме. Наглядная схема выступает в качестве плана речевого высказы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«Перед нами щу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Это речная рыб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Она хищная. Щука питается мелкими рыбеш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У нее есть голова, жабры, туловище, плавники, хвост, острые зуб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Туловище щуки покрыто чешу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Из щуки можно сварить уху и приготовить котлет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9"/>
          <p:cNvSpPr txBox="1"/>
          <p:nvPr/>
        </p:nvSpPr>
        <p:spPr>
          <a:xfrm>
            <a:off x="7315200" y="5029200"/>
            <a:ext cx="1295280" cy="14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t-Metropol"/>
              </a:rPr>
              <a:t>?</a:t>
            </a:r>
            <a:endParaRPr b="0" lang="en-US" sz="1600" spc="1" strike="noStrike">
              <a:ln w="255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t-Metropol"/>
              <a:ea typeface="Art-Metropol"/>
            </a:endParaRPr>
          </a:p>
        </p:txBody>
      </p:sp>
    </p:spTree>
  </p:cSld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Arial"/>
              </a:rPr>
              <a:t>Составить рассказ о своей  семь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ня зовут Полина. Моя мама — Анастасия Викторовна, а папа — Николай Анатольеви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меня есть старший брат Арс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ма и папа у меня инженеры, они работают на заводе — делают автомоби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я бабушка Светлана Ивановна умеет печь вкусные пироги и плести ажурные салфет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душка Виктор Васильевич подстригает деревья и косит траву в са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душка и бабушка проводят со мной много времени – мы играем в мяч, катаемся на велосипедах, ходим в парк и лес. Они помогают мне выполнять домашние зад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 очень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юблю мою сем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Ребено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Твое имя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Три человеч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Имена родителей и членов семьи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3. Молото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Профессия пап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Фарту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Профессия мамы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5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Клубок нито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Бабушка и дедушка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6. Ру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то помогает тебе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2" descr="SWScan00_0"/>
          <p:cNvPicPr/>
          <p:nvPr/>
        </p:nvPicPr>
        <p:blipFill>
          <a:blip r:embed="rId1"/>
          <a:stretch/>
        </p:blipFill>
        <p:spPr>
          <a:xfrm>
            <a:off x="5105520" y="4038480"/>
            <a:ext cx="3070080" cy="21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1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5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7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1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5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9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00ff"/>
                </a:solidFill>
                <a:uFillTx/>
                <a:latin typeface="Arial"/>
              </a:rPr>
              <a:t>Загадки для рисования мнемодоро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Голубой плат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Красный колоб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По платку катает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Людям улыб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(Небо и солнц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В густом лесу под ёлк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Осыпанный листв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Лежит клубок с иголк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Колючий и живой. 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(Ёж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Стоят два д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На дубах – боч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На бочке – коч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На кочке – лес. (Челове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8"/>
          <p:cNvGrpSpPr/>
          <p:nvPr/>
        </p:nvGrpSpPr>
        <p:grpSpPr>
          <a:xfrm>
            <a:off x="6019920" y="4343400"/>
            <a:ext cx="1143000" cy="685440"/>
            <a:chOff x="6019920" y="4343400"/>
            <a:chExt cx="1143000" cy="685440"/>
          </a:xfrm>
        </p:grpSpPr>
        <p:graphicFrame>
          <p:nvGraphicFramePr>
            <p:cNvPr id="114" name="Object 9"/>
            <p:cNvGraphicFramePr/>
            <p:nvPr/>
          </p:nvGraphicFramePr>
          <p:xfrm>
            <a:off x="6019920" y="4389480"/>
            <a:ext cx="1143000" cy="63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5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9920" y="4389480"/>
                      <a:ext cx="1143000" cy="63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Object 10"/>
            <p:cNvGraphicFramePr/>
            <p:nvPr/>
          </p:nvGraphicFramePr>
          <p:xfrm>
            <a:off x="6019920" y="4343400"/>
            <a:ext cx="781200" cy="34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19920" y="4343400"/>
                      <a:ext cx="781200" cy="34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8" name="Рисунок 9" descr="C:\Documents and Settings\Admin\Рабочий стол\папин апрель\469.gif"/>
          <p:cNvPicPr/>
          <p:nvPr/>
        </p:nvPicPr>
        <p:blipFill>
          <a:blip r:embed="rId5"/>
          <a:stretch/>
        </p:blipFill>
        <p:spPr>
          <a:xfrm>
            <a:off x="5638680" y="4114800"/>
            <a:ext cx="2838600" cy="216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Mobile_SCRS (366)"/>
          <p:cNvPicPr/>
          <p:nvPr/>
        </p:nvPicPr>
        <p:blipFill>
          <a:blip r:embed="rId6"/>
          <a:stretch/>
        </p:blipFill>
        <p:spPr>
          <a:xfrm>
            <a:off x="5829480" y="1644480"/>
            <a:ext cx="167616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0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4104E-006 L 1.03663 -0.00833 E">
                                      <p:cBhvr>
                                        <p:cTn id="895" dur="7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9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9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9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9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9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9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Библиогра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[wallcoo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228600" y="962280"/>
            <a:ext cx="8534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''Дошкольное воспитание'' №12 за 2000 г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,10,12 за 2001г.; №4,12 за 2002г; № 9 за199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ьина М.В. «Воображение и творческое мышлени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ия «Психологическая служба». Книголюб. М.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рьянова. Р.А. Комплексная диагностика дошкольников.Спб.Каро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одяжная Т.П «Управление современным ДОУ» Ростов-н/Д, Учитель.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лядно-дидактическое пособие  Ткаченко Т.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оставление описательных рассказов по опорным схема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. руководство, картинный комплект. М.: Книголюб,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лядно-дидактическое пособие  «Открой для себя мир». Августин. Герм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хомирова Л.Ф. ''Познавательные способности детей 5-7 лет''. М.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збекова Е.Ю. «Ступеньки творчества» Место игры в интеллектуальном развитии дошкольника. М. Линка-пресс. 200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6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0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4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8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2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6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0" dur="2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4" dur="2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8" dur="2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2" dur="20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6" dur="20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Методические рекоменд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hildren_Day_vector_wallpaper_167973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990720" y="2971800"/>
            <a:ext cx="74674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«Обучение дошколь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составлению описательных рассказов при помощи опорных схем-рисунк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для воспитателей и 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Перечень тем, методик и вопросов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hildren_Day_vector_wallpaper_167973"/>
          <p:cNvPicPr/>
          <p:nvPr/>
        </p:nvPicPr>
        <p:blipFill>
          <a:blip r:embed="rId1"/>
          <a:stretch/>
        </p:blipFill>
        <p:spPr>
          <a:xfrm>
            <a:off x="380880" y="1676520"/>
            <a:ext cx="8382240" cy="4495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457200" y="685800"/>
            <a:ext cx="80010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Что такое мнемотех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описательных рассказов при помощи опорных граф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хем-рисун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Рисование детьми графических схем (планов) по описательному рассказу (перекодиров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Рисование мнемодорожки (графический план, схема) по загадкам,пословицам, сказ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Глоссарий по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Используемая литерат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27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hildren_Day_vector_wallpaper_167973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1676520" y="38862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54320" y="366840"/>
            <a:ext cx="8235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«Даже мгновен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озар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может стать той первой искро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из которой рано или позд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возгорится пла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творческого поиска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                                      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В. Шата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400" spc="-1" strike="noStrike" u="sng">
                <a:solidFill>
                  <a:srgbClr val="6600ff"/>
                </a:solidFill>
                <a:uFillTx/>
                <a:latin typeface="Arial"/>
              </a:rPr>
              <a:t>Мнемотехника- это технология развития памяти</a:t>
            </a: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ff"/>
                </a:solidFill>
                <a:latin typeface="Arial"/>
              </a:rPr>
              <a:t>Мнемотехника</a:t>
            </a:r>
            <a:r>
              <a:rPr b="1" i="1" lang="ru-RU" sz="1400" spc="-1" strike="noStrike">
                <a:solidFill>
                  <a:srgbClr val="6600ff"/>
                </a:solidFill>
                <a:latin typeface="Arial"/>
              </a:rPr>
              <a:t>- это система методов и приёмов, обеспечивающих эффективное запоминание, сохранение и воспроизведение информ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Arial"/>
              </a:rPr>
              <a:t>Использование мнемотехники для дошкольников в настоящее время становится всё более актуальны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Arial"/>
              </a:rPr>
              <a:t>Особое место в работе с детьми занимает использование в качестве дидактического материала </a:t>
            </a:r>
            <a:r>
              <a:rPr b="1" i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мнемотаб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Мнемотаблица –</a:t>
            </a: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 это схема, в которую заложена определённая информация. Овладение приёмами работы с мнемотаблицами значительно сокращает время обучения и одновременно решает следующие 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развитие основных психических процессов – памяти, внимания, восприятия, мышления, особенно, образног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кодирование информации, то есть, преобразование предметов, образов в абстрактные знаки, символ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перекодирование информации, то есть, преобразование из абстрактных символов в образ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развитие мелкой моторики рук при частичном или полном графическом воспроизведении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Методы и приёмы мнемо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Во-первых, надо обратить внимание на совершенствование восприятия: зрения, слуха, тактильных ощущений, обоняния, вкусовых ощущений. На занятиях должно быть использовано множество разнообразных средств для тренинга названных чувств.</a:t>
            </a:r>
            <a:br>
              <a:rPr sz="1600"/>
            </a:b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Во-вторых, необходимо сформировать у детей навыки запоминания любой информации. Эффективны следующие метод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метод «крокирования» (от франц.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croquis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–  чертеж, схема, набросок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метод, использующий образное мышление (эйдетизм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метод ассоциативных цепочек (или метод «чепухи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метод трансформации (превращ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В-третьих, наша задача - научить детей управлять своим вниманием, сделать его послуш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Кроме того, есть еще целый ряд оригинальных упражнений, стимулирующих интеллектуальное развитие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Когда начинать заниматься мнемотехни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Мнемотехникой можно начинать заниматься с раннего возрас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но рациональнее ввод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ее в занятия с 4-5 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когда у них накоплен основной словарный зап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оставление рассказов-описаний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по теме « Игруш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Кукла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Это —кукла Маша. Ее купили в магазине. Она сделана из рез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куклы есть головка, шейка, ручки, туловище, ножки. Кукла нарядная. На ней красное платьице и белые туфельки. Кукла Маша — игрушка. С ней играют. С куклой нужно обращаться аккуратн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я самая любимая игрушка - это маши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а ярко-красного цвета, прямо­угольной формы. Мой грузовик небольшого размера. У него есть кузов, кабина, колеса, фары. В кабине имеются руль и сиденья. Кабина у грузовика - металли­ческая, колеса резиновые, окна стеклянные, а кресла - кожа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 очень люблю представлять себя шофером, водить свой грузовик, мыть его, ремонтировать, если он слом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76160"/>
            <a:ext cx="4038480" cy="24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1. Цвет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ого цвета игрушк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2. Форм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ой она формы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3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Мячи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ого размера игрушк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Детали машины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азови ее детали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5. 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Контур с вопросом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Из какого материала сделана игрушк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6.  Ру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 с этой игрушкой можно играть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SWScan00_0"/>
          <p:cNvPicPr/>
          <p:nvPr/>
        </p:nvPicPr>
        <p:blipFill>
          <a:blip r:embed="rId1"/>
          <a:stretch/>
        </p:blipFill>
        <p:spPr>
          <a:xfrm>
            <a:off x="5105520" y="449568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Составление описательных рассказов  по графической схеме</a:t>
            </a:r>
            <a:br>
              <a:rPr sz="2000"/>
            </a:b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«Одеж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лать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меня есть любимое платье. Оно голубого цвета с мелкими белыми цветочками. У платья есть кокетка, юбка, рукава, манжеты, воротник, застежка-молния, карманы и поясок с пряжкой. Платье сшито из тонкого шелка, оно шелковое. Это нарядное летнее детское платье. Платье можно постирать, погладить, его можно носить, а если оно порвется, то я его заш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ба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это мужская одежда. Она сшита из ткани. У рубашки есть воротник, рукава, манжеты, карман, пуговицы и петельки. Она полосата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495680" y="1066680"/>
            <a:ext cx="41911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Цвет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ого цвета одежд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Детали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Из каких деталей одежд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3. Контур, знак вопрос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Из какого материала она сшит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Погод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Для какого времени года эта одежд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5. Мужчина, женщина, ребено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Это одежда мужская, женская или детская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Ру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Что можно сделать с одеждой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2" descr="SWScan00_0"/>
          <p:cNvPicPr/>
          <p:nvPr/>
        </p:nvPicPr>
        <p:blipFill>
          <a:blip r:embed="rId1"/>
          <a:stretch/>
        </p:blipFill>
        <p:spPr>
          <a:xfrm>
            <a:off x="5410080" y="4495680"/>
            <a:ext cx="3505320" cy="21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Составление описательных рассказов об обуви</a:t>
            </a:r>
            <a:br>
              <a:rPr sz="2000"/>
            </a:b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по графическому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ап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это обувь. Они сделаны из кожи, они кожаные. У сапог есть голенища, молнии, носки, подошвы, каблуки. Сапоги носят зимой, весной и осенью». У меня есть сапоги. Они зеленого цвета с белыми полосками. Это резиновые сапоги. У сапог длинные голенища, подошва, каблуки, а внутри — специальные теплые стельки. Они маленького размера, детские. Резиновые сапоги носят в дождливую погоду, а еще их можно обуть на рыбалку или когда идешь в лес за грибами. Резиновую обувь нужно хорошо просушить после но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219320"/>
            <a:ext cx="403848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Цвет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ого цвета обувь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2. Контур, знак вопрос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Из какого материала она сделана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3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Детали предмет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Назови части обуви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4. Мужчина, женщина, ребенок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то носит эту обувь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5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Солнышко, дождь, снег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Для какой погоды эта обувь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Рука. </a:t>
            </a:r>
            <a:r>
              <a:rPr b="1" i="1" lang="ru-RU" sz="1600" spc="-1" strike="noStrike">
                <a:solidFill>
                  <a:srgbClr val="ff33cc"/>
                </a:solidFill>
                <a:latin typeface="Arial"/>
              </a:rPr>
              <a:t>(Как  ухаживать за обувью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2" descr="SWScan00_0"/>
          <p:cNvPicPr/>
          <p:nvPr/>
        </p:nvPicPr>
        <p:blipFill>
          <a:blip r:embed="rId1"/>
          <a:stretch/>
        </p:blipFill>
        <p:spPr>
          <a:xfrm>
            <a:off x="4952880" y="4267080"/>
            <a:ext cx="3810240" cy="21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53R</cp:lastModifiedBy>
  <dcterms:modified xsi:type="dcterms:W3CDTF">2015-05-05T16:41:0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