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7091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7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85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360"/>
            <a:ext cx="2971800" cy="485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001880" y="728640"/>
            <a:ext cx="4854240" cy="364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613040"/>
            <a:ext cx="5486400" cy="4368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223200"/>
            <a:ext cx="2971800" cy="4860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9223200"/>
            <a:ext cx="2971800" cy="4860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A5D84-557F-426B-8E49-FA26050F444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ru.wikipedia.org/wiki/&#1054;&#1090;&#1077;&#1095;&#1077;&#1089;&#1090;&#1074;&#1077;&#1085;&#1085;&#1072;&#1103;_&#1074;&#1086;&#1081;&#1085;&#1072;_1812_&#1075;&#1086;&#1076;&#1072;" TargetMode="External"/><Relationship Id="rId2" Type="http://schemas.openxmlformats.org/officeDocument/2006/relationships/hyperlink" Target="http://ru.wikipedia.org/wiki/&#1040;&#1083;&#1077;&#1082;&#1089;&#1072;&#1085;&#1076;&#1088;_I" TargetMode="External"/><Relationship Id="rId3" Type="http://schemas.openxmlformats.org/officeDocument/2006/relationships/hyperlink" Target="http://ru.wikipedia.org/wiki/&#1042;&#1080;&#1082;&#1080;&#1087;&#1077;&#1076;&#1080;&#1103;:&#1057;&#1089;&#1099;&#1083;&#1082;&#1080;_&#1085;&#1072;_&#1080;&#1089;&#1090;&#1086;&#1095;&#1085;&#1080;&#1082;&#1080;" TargetMode="External"/><Relationship Id="rId4" Type="http://schemas.openxmlformats.org/officeDocument/2006/relationships/hyperlink" Target="http://ru.wikipedia.org/wiki/&#1055;&#1091;&#1096;&#1082;&#1080;&#1085;,_&#1040;&#1083;&#1077;&#1082;&#1089;&#1072;&#1085;&#1076;&#1088;_&#1057;&#1077;&#1088;&#1075;&#1077;&#1077;&#1074;&#1080;&#1095;" TargetMode="External"/><Relationship Id="rId5" Type="http://schemas.openxmlformats.org/officeDocument/2006/relationships/hyperlink" Target="http://ru.wikipedia.org/wiki/&#1052;&#1077;&#1076;&#1085;&#1099;&#1081;_&#1074;&#1089;&#1072;&#1076;&#1085;&#1080;&#1082;_(&#1087;&#1086;&#1101;&#1084;&#1072;)" TargetMode="External"/><Relationship Id="rId6" Type="http://schemas.openxmlformats.org/officeDocument/2006/relationships/hyperlink" Target="http://ru.wikipedia.org/wiki/&#1042;&#1077;&#1083;&#1080;&#1082;&#1072;&#1103;_&#1054;&#1090;&#1077;&#1095;&#1077;&#1089;&#1090;&#1074;&#1077;&#1085;&#1085;&#1072;&#1103;_&#1074;&#1086;&#1081;&#1085;&#1072;" TargetMode="External"/><Relationship Id="rId7" Type="http://schemas.openxmlformats.org/officeDocument/2006/relationships/slide" Target="../slides/slide12.xml"/><Relationship Id="rId8"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001880" y="728640"/>
            <a:ext cx="4854240" cy="3641760"/>
          </a:xfrm>
          <a:prstGeom prst="rect">
            <a:avLst/>
          </a:prstGeom>
          <a:ln w="0">
            <a:noFill/>
          </a:ln>
        </p:spPr>
      </p:sp>
      <p:sp>
        <p:nvSpPr>
          <p:cNvPr id="80" name="PlaceHolder 2"/>
          <p:cNvSpPr>
            <a:spLocks noGrp="1"/>
          </p:cNvSpPr>
          <p:nvPr>
            <p:ph type="body"/>
          </p:nvPr>
        </p:nvSpPr>
        <p:spPr>
          <a:xfrm>
            <a:off x="685800" y="4613040"/>
            <a:ext cx="5486400" cy="43686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Здравствуйте. Сегодня мы продолжим наш разговор об архитектурном ансамбле  Сенатской площади</a:t>
            </a:r>
            <a:endParaRPr b="0" lang="en-US" sz="14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001880" y="728640"/>
            <a:ext cx="4854240" cy="3641760"/>
          </a:xfrm>
          <a:prstGeom prst="rect">
            <a:avLst/>
          </a:prstGeom>
          <a:ln w="0">
            <a:noFill/>
          </a:ln>
        </p:spPr>
      </p:sp>
      <p:sp>
        <p:nvSpPr>
          <p:cNvPr id="98" name="PlaceHolder 2"/>
          <p:cNvSpPr>
            <a:spLocks noGrp="1"/>
          </p:cNvSpPr>
          <p:nvPr>
            <p:ph type="body"/>
          </p:nvPr>
        </p:nvSpPr>
        <p:spPr>
          <a:xfrm>
            <a:off x="685800" y="4613040"/>
            <a:ext cx="5486400" cy="4368600"/>
          </a:xfrm>
          <a:prstGeom prst="rect">
            <a:avLst/>
          </a:prstGeom>
          <a:noFill/>
          <a:ln w="0">
            <a:noFill/>
          </a:ln>
        </p:spPr>
        <p:txBody>
          <a:bodyPr lIns="90000" rIns="90000" tIns="46800" bIns="4680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т места нахождения камня до берега залива прорубили просеку, укрепили грунт. Скалу освободили от лишних наслоений, она сразу полегчала на 600 тонн. Гром-камень рычагами водрузили на деревянную платформу, опиравшуюся на медные шары. Эти шары передвигались по деревянным желобчатым рельсам, обитым медью. Просека была извилистой. Работы по перевозке скалы продолжались и в мороз и в жару. Работали сотни людей. На это действо приезжали смотреть многие петербуржцы. Некоторые из наблюдателей собирали осколки камня и заказывали себе из них набалдашники на трость или запонки .</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 суше скалу перетаскивали почти год. Далее по Финскому заливу её везли на барже. Во время перевозки десятки каменотёсов придавали ей необходимую форму. Скала прибыла к Сенатской площади 23 сентября 1770 года.</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В честь необыкновенной транспортной операции</a:t>
            </a:r>
            <a:r>
              <a:rPr b="0" lang="ru-RU" sz="1400" spc="-1" strike="noStrike">
                <a:solidFill>
                  <a:srgbClr val="000000"/>
                </a:solidFill>
                <a:latin typeface="Arial"/>
              </a:rPr>
              <a:t> </a:t>
            </a:r>
            <a:r>
              <a:rPr b="1" lang="ru-RU" sz="1400" spc="-1" strike="noStrike">
                <a:solidFill>
                  <a:srgbClr val="000000"/>
                </a:solidFill>
                <a:latin typeface="Arial"/>
              </a:rPr>
              <a:t>Екатерина II повелела отчеканить медаль, на которой написано "Дерзновению подобно. Генваря, 20. 1770".</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ru-RU" sz="1400" spc="-1" strike="noStrike">
                <a:solidFill>
                  <a:srgbClr val="000000"/>
                </a:solidFill>
                <a:latin typeface="Arial"/>
              </a:rPr>
              <a:t>Легенды и мифы Гром-камня:  верите ли вы?</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 преданию, царь Петр взбирался на этот гранитный валун, осматривая окрестности строящегося Петербурга, наблюдал морские баталии.</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а берегу Финском залива Гром-камень оказался рядом с сосной, которую оберегали и украшали иконами местные жители в честь подвиг Петра Великого, который 1-2 ноября 1724 г., рискуя жизнью, спасал утопающих во время бури у лахтинского берега. Позднее рядышком была построена церковь во имя Святого Апостола Петра.</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Гром-камень, по донесению капитана Ласкари, был сыскан «на Выборгской стороне в даче его Сиятельства графа Якова Александровича Брюса близ деревни Конной....». Я.А.Брюс - внучатый племянник знаменитого Якова Брюса, ближайшего сподвижника Петра I, Значит, имя Брюса и в каменном изваянии рядом с императором - в самом центре Петербурга…</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Фальконе, из-за испортившегося отношения императрицы, не закончив сооружение памятника, покинул Россию. Он взял с собой обломки Гром-камня. Легенда гласит, что по возвращении в Париж он начал дарить эти осколки друзьям и знакомым, и якобы здесь им тоже вскоре нашлось применение: камешки стали оправлять драгоценными металлами, и модницы щеголяли друг перед другом, демонстрируя новые украшения.</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Читаем «Чудеснвй город»на стр 157 3 и 4 абзацы</a:t>
            </a:r>
            <a:endParaRPr b="0" lang="en-US" sz="1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001880" y="728640"/>
            <a:ext cx="4854240" cy="3641760"/>
          </a:xfrm>
          <a:prstGeom prst="rect">
            <a:avLst/>
          </a:prstGeom>
          <a:ln w="0">
            <a:noFill/>
          </a:ln>
        </p:spPr>
      </p:sp>
      <p:sp>
        <p:nvSpPr>
          <p:cNvPr id="100" name="PlaceHolder 2"/>
          <p:cNvSpPr>
            <a:spLocks noGrp="1"/>
          </p:cNvSpPr>
          <p:nvPr>
            <p:ph type="body"/>
          </p:nvPr>
        </p:nvSpPr>
        <p:spPr>
          <a:xfrm>
            <a:off x="685800" y="4613040"/>
            <a:ext cx="5486400" cy="43686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амятник открыли 7 августа 1782 года – в столетний юбилей воцарения Петра. Выбитая на пьедестале лаконичная надпись «Petro primo Catharina secunda» («Петру Первому Екатерина Вторая») сделана по предложению Фальконе.</a:t>
            </a:r>
            <a:br>
              <a:rPr sz="1400"/>
            </a:br>
            <a:r>
              <a:rPr b="0" lang="ru-RU" sz="1400" spc="-1" strike="noStrike">
                <a:solidFill>
                  <a:srgbClr val="000000"/>
                </a:solidFill>
                <a:latin typeface="Arial"/>
              </a:rPr>
              <a:t>Фальконе работал над памятником двенадцать лет. К концу работ у него окончательно испортились отношения с властью. Виной тому был все более усугублявшийся конфликт с И.И.Бецким, Президентом Академии Художеств. Причиной его стало расхождение в творческих взглядах, которое перешло в нараставшую и неприкрытую личную вражду. В итоге Фальконе, не закончив сооружение памятника, покинул Россию.</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 Фальконе не суждено было присутствовать при этом долгожданном событии – в сентябре 1778 года он покинул Санкт-Петербург. После открытия памятника Екатерина послала ему две медали – золотую и серебряную, отчеканенные по случаю этого события.  Когда в 1782 по случаю открытия монумента Фальконе получил золотую и серебряную медали, то одну из них – серебряную – отдал Колло.</a:t>
            </a:r>
            <a:endParaRPr b="0" lang="en-US" sz="14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001880" y="728640"/>
            <a:ext cx="4854240" cy="3641760"/>
          </a:xfrm>
          <a:prstGeom prst="rect">
            <a:avLst/>
          </a:prstGeom>
          <a:ln w="0">
            <a:noFill/>
          </a:ln>
        </p:spPr>
      </p:sp>
      <p:sp>
        <p:nvSpPr>
          <p:cNvPr id="102" name="PlaceHolder 2"/>
          <p:cNvSpPr>
            <a:spLocks noGrp="1"/>
          </p:cNvSpPr>
          <p:nvPr>
            <p:ph type="body"/>
          </p:nvPr>
        </p:nvSpPr>
        <p:spPr>
          <a:xfrm>
            <a:off x="685800" y="4613040"/>
            <a:ext cx="5486400" cy="4368600"/>
          </a:xfrm>
          <a:prstGeom prst="rect">
            <a:avLst/>
          </a:prstGeom>
          <a:noFill/>
          <a:ln w="0">
            <a:noFill/>
          </a:ln>
        </p:spPr>
        <p:txBody>
          <a:bodyPr lIns="90000" rIns="90000" tIns="46800" bIns="46800" anchor="t">
            <a:no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б этом памятнике ходит много легенд. Вот одна из них.</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Легенда о майоре Батурине</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о время </a:t>
            </a:r>
            <a:r>
              <a:rPr b="0" lang="ru-RU" sz="1400" spc="-1" strike="noStrike" u="sng">
                <a:solidFill>
                  <a:srgbClr val="009999"/>
                </a:solidFill>
                <a:uFillTx/>
                <a:latin typeface="Arial"/>
                <a:hlinkClick r:id="rId1"/>
              </a:rPr>
              <a:t>Отечественной войны 1812 года</a:t>
            </a:r>
            <a:r>
              <a:rPr b="0" lang="ru-RU" sz="1400" spc="-1" strike="noStrike">
                <a:solidFill>
                  <a:srgbClr val="000000"/>
                </a:solidFill>
                <a:latin typeface="Arial"/>
              </a:rPr>
              <a:t> в результате отступления русских войск возникла угроза захвата Санкт-Петербурга французскими войсками. Обеспокоенный такой перспективой, </a:t>
            </a:r>
            <a:r>
              <a:rPr b="0" lang="ru-RU" sz="1400" spc="-1" strike="noStrike" u="sng">
                <a:solidFill>
                  <a:srgbClr val="009999"/>
                </a:solidFill>
                <a:uFillTx/>
                <a:latin typeface="Arial"/>
                <a:hlinkClick r:id="rId2"/>
              </a:rPr>
              <a:t>Александр I</a:t>
            </a:r>
            <a:r>
              <a:rPr b="0" lang="ru-RU" sz="1400" spc="-1" strike="noStrike">
                <a:solidFill>
                  <a:srgbClr val="000000"/>
                </a:solidFill>
                <a:latin typeface="Arial"/>
              </a:rPr>
              <a:t> приказал вывезти из города особо ценные произведения искусства. В частности, статс-секретарю Молчанову было поручено вывезти в Вологодскую губернию памятник Петру I, и на это было отпущено несколько тысяч рублей. В это время некий майор Батурин (по другой версии, почт-директор Булгаков [</a:t>
            </a:r>
            <a:r>
              <a:rPr b="0" lang="ru-RU" sz="1400" spc="-1" strike="noStrike" u="sng">
                <a:solidFill>
                  <a:srgbClr val="009999"/>
                </a:solidFill>
                <a:uFillTx/>
                <a:latin typeface="Arial"/>
                <a:hlinkClick r:id="rId3"/>
              </a:rPr>
              <a:t>источник?</a:t>
            </a:r>
            <a:r>
              <a:rPr b="0" lang="ru-RU" sz="1400" spc="-1" strike="noStrike">
                <a:solidFill>
                  <a:srgbClr val="000000"/>
                </a:solidFill>
                <a:latin typeface="Arial"/>
              </a:rPr>
              <a:t>]) добился свидания с личным другом царя князем Голицыным и передал ему, что его, Батурина преследует один и тот же сон. Он видит себя на Сенатской площади. Лик Петра поворачивается. Всадник съезжает со скалы своей и направляется по петербургским улицам к Каменному острову, где жил тогда Александр I. Всадник въезжает во двор Каменоостровского дворца, из которого выходит к нему навстречу государь. «Молодой человек, до чего ты довел мою Россию, — говорит ему Петр Великий, — но покуда я на месте, моему городу нечего опасаться!» Затем всадник поворачивает назад, и снова раздается «тяжело-звонкое скаканье». Пораженный рассказом Батурина, князь Голицын передал сновидение государю. В результате Александр I отменил свое решение об эвакуации памятника. Памятник остался на месте.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Есть предположение, что легенда о майоре Батурине легла в основу сюжета поэмы </a:t>
            </a:r>
            <a:r>
              <a:rPr b="0" lang="ru-RU" sz="1400" spc="-1" strike="noStrike" u="sng">
                <a:solidFill>
                  <a:srgbClr val="009999"/>
                </a:solidFill>
                <a:uFillTx/>
                <a:latin typeface="Arial"/>
                <a:hlinkClick r:id="rId4"/>
              </a:rPr>
              <a:t>А. С. Пушкина</a:t>
            </a:r>
            <a:r>
              <a:rPr b="0" lang="ru-RU" sz="1400" spc="-1" strike="noStrike">
                <a:solidFill>
                  <a:srgbClr val="000000"/>
                </a:solidFill>
                <a:latin typeface="Arial"/>
              </a:rPr>
              <a:t> </a:t>
            </a:r>
            <a:r>
              <a:rPr b="0" lang="ru-RU" sz="1400" spc="-1" strike="noStrike" u="sng">
                <a:solidFill>
                  <a:srgbClr val="009999"/>
                </a:solidFill>
                <a:uFillTx/>
                <a:latin typeface="Arial"/>
                <a:hlinkClick r:id="rId5"/>
              </a:rPr>
              <a:t>«Медный всадник»</a:t>
            </a:r>
            <a:r>
              <a:rPr b="0" lang="ru-RU" sz="1400" spc="-1" strike="noStrike">
                <a:solidFill>
                  <a:srgbClr val="000000"/>
                </a:solidFill>
                <a:latin typeface="Arial"/>
              </a:rPr>
              <a:t>. Есть также предположение, что легенда о майоре Батурине стала причиной того, что в годы </a:t>
            </a:r>
            <a:r>
              <a:rPr b="0" lang="ru-RU" sz="1400" spc="-1" strike="noStrike" u="sng">
                <a:solidFill>
                  <a:srgbClr val="009999"/>
                </a:solidFill>
                <a:uFillTx/>
                <a:latin typeface="Arial"/>
                <a:hlinkClick r:id="rId6"/>
              </a:rPr>
              <a:t>Великой Отечественной войны</a:t>
            </a:r>
            <a:r>
              <a:rPr b="0" lang="ru-RU" sz="1400" spc="-1" strike="noStrike">
                <a:solidFill>
                  <a:srgbClr val="000000"/>
                </a:solidFill>
                <a:latin typeface="Arial"/>
              </a:rPr>
              <a:t> памятник остался на месте и не был, подобно другим скульптурам, спрятан.</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нтересные факты</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ётр Великий рукой указывает в сторону Швеции, а в центре Стокгольма установлен похожий памятник-всадник Карлу XII, главному противнику Петра в Северной войне, взор которого обращён по направлению к России.</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Реставрации памятника</a:t>
            </a:r>
            <a:r>
              <a:rPr b="0" lang="ru-RU" sz="1400" spc="-1" strike="noStrike">
                <a:solidFill>
                  <a:srgbClr val="000000"/>
                </a:solidFill>
                <a:latin typeface="Arial"/>
              </a:rPr>
              <a:t> проходили в 1909 и в 1976 годах. При последней из них проводили исследование скульптуры при помощи гамма-лучей. Для этого пространство вокруг памятника оградили мешками с песком и бетонными блоками. Управление кобальтовой пушкой осуществляли из находящегося рядом автобуса. Благодаря этому исследованию оказалось, что каркас памятника может служить ещё долгие годы. Внутрь фигуры была заложена капсула с запиской о реставрации и о её участниках, газету от 3 сентября 1976 года.</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настоящее время "Медный всадник" является популярным местом для молодожёнов.</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Этьен-Морис Фальконе задумывал "Медный всадник" без ограды. Но она всё же была создана, затем была утрачена. "Благодаря" вандалам, оставлявшим на гром-камне и самой скульптуре свои автографы, ограда восстановлена.</a:t>
            </a:r>
            <a:endParaRPr b="0" lang="en-US" sz="1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001880" y="728640"/>
            <a:ext cx="4854240" cy="3641760"/>
          </a:xfrm>
          <a:prstGeom prst="rect">
            <a:avLst/>
          </a:prstGeom>
          <a:ln w="0">
            <a:noFill/>
          </a:ln>
        </p:spPr>
      </p:sp>
      <p:sp>
        <p:nvSpPr>
          <p:cNvPr id="82" name="PlaceHolder 2"/>
          <p:cNvSpPr>
            <a:spLocks noGrp="1"/>
          </p:cNvSpPr>
          <p:nvPr>
            <p:ph type="body"/>
          </p:nvPr>
        </p:nvSpPr>
        <p:spPr>
          <a:xfrm>
            <a:off x="685800" y="4613040"/>
            <a:ext cx="5486400" cy="43686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Давайте посмотрим на карту и найдем на ней местоположение Сенатской площади.  Пройдем вдоль Невы сверху – вниз по ее левому берегу.  Первой нам встретится Дворцовая (главная) площадь нашего города, за ней пройдем мимо здания  Адмиралтейства  увидим сквер и Адмиралтейский проспект на бывшей Адмиралтейской площади и  подойдем к Сенатской площади.</a:t>
            </a:r>
            <a:endParaRPr b="0"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001880" y="728640"/>
            <a:ext cx="4854240" cy="3641760"/>
          </a:xfrm>
          <a:prstGeom prst="rect">
            <a:avLst/>
          </a:prstGeom>
          <a:ln w="0">
            <a:noFill/>
          </a:ln>
        </p:spPr>
      </p:sp>
      <p:sp>
        <p:nvSpPr>
          <p:cNvPr id="84" name="PlaceHolder 2"/>
          <p:cNvSpPr>
            <a:spLocks noGrp="1"/>
          </p:cNvSpPr>
          <p:nvPr>
            <p:ph type="body"/>
          </p:nvPr>
        </p:nvSpPr>
        <p:spPr>
          <a:xfrm>
            <a:off x="685800" y="4613040"/>
            <a:ext cx="5486400" cy="43686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А сейчас  вспомним: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какие здания находятся на ней (здания Сената и Синода).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Какие учреждения располагались в этих зданиях?</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Сенат – высший орган государственной власти, Синод – высший орган духовной власти)</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Какое из этих зданий дало название этой площади (Здание Сената)</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Назовите архитектора этих зданий и архитектурный стиль  (Карл Иванович Росси, классицизм)</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Какой элемент архитектуры этих зданий встречается на Дворцовой площади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арка Главного штаба)</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Что раньше было на месте Галерной улицы между зданиями Сената и Синода (канал)</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Что общего в ансамбле всех площадей Дворцовой, Михайловской, Сенатской</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в центре – памятники;  здания, построенные одним архитектором – К.И.Росси в      одном архитектурном стиле)</a:t>
            </a:r>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001880" y="728640"/>
            <a:ext cx="4854240" cy="3641760"/>
          </a:xfrm>
          <a:prstGeom prst="rect">
            <a:avLst/>
          </a:prstGeom>
          <a:ln w="0">
            <a:noFill/>
          </a:ln>
        </p:spPr>
      </p:sp>
      <p:sp>
        <p:nvSpPr>
          <p:cNvPr id="86" name="PlaceHolder 2"/>
          <p:cNvSpPr>
            <a:spLocks noGrp="1"/>
          </p:cNvSpPr>
          <p:nvPr>
            <p:ph type="body"/>
          </p:nvPr>
        </p:nvSpPr>
        <p:spPr>
          <a:xfrm>
            <a:off x="685800" y="4613040"/>
            <a:ext cx="5486400" cy="4368600"/>
          </a:xfrm>
          <a:prstGeom prst="rect">
            <a:avLst/>
          </a:prstGeom>
          <a:noFill/>
          <a:ln w="0">
            <a:noFill/>
          </a:ln>
        </p:spPr>
        <p:txBody>
          <a:bodyPr lIns="90000" rIns="90000" tIns="46800" bIns="4680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400" spc="-1" strike="noStrike">
                <a:solidFill>
                  <a:srgbClr val="000000"/>
                </a:solidFill>
                <a:latin typeface="Arial"/>
              </a:rPr>
              <a:t>Сегодня мы с вами  будем говорить об истории  памятника Петру1., который является одним из самых запоминающихся символов Петербурга. </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т ничего удивительного в том, что петербургские сенаторы однажды постановили: «Сенат за рабскую должность признавает в бессмертную Ея Императорского Величества славу сделать монумент» (Сборник Императорского русского исторического общества. Т. XVII, СПб., 1876. С. 303).</a:t>
            </a:r>
            <a:br>
              <a:rPr sz="1200"/>
            </a:br>
            <a:r>
              <a:rPr b="0" lang="ru-RU" sz="1200" spc="-1" strike="noStrike">
                <a:solidFill>
                  <a:srgbClr val="000000"/>
                </a:solidFill>
                <a:latin typeface="Arial"/>
              </a:rPr>
              <a:t>Удивительным, дальновидным, и, как сейчас бы сказали, блестящим пиар-ходом стало решение самой Екатерины и «в бессмертную Ея Императорского Величества славу сделать монумент» не себе, а основателю российской империи и его новой столицы- Петру I. Однако, чтобы слава Петра послужила императрице и заставила говорить именно о Екатерине, памятник должен был быть не только великолепным по своим художественному замыслу и исполнительскому мастерству, но и уникальным, дерзким и неповторимым. Автором этого дерзновенного проекта, выполненного на грани возможного, заставившего говорить о нем всю Россию и Европу, стал Этьен Фальконе. </a:t>
            </a:r>
            <a:r>
              <a:rPr b="0" lang="ru-RU" sz="1400" spc="-1" strike="noStrike">
                <a:solidFill>
                  <a:srgbClr val="000000"/>
                </a:solidFill>
                <a:latin typeface="Arial"/>
              </a:rPr>
              <a:t>Памятник Петру I ("</a:t>
            </a:r>
            <a:r>
              <a:rPr b="1" lang="ru-RU" sz="1400" spc="-1" strike="noStrike">
                <a:solidFill>
                  <a:srgbClr val="000000"/>
                </a:solidFill>
                <a:latin typeface="Arial"/>
              </a:rPr>
              <a:t>Медный всадник</a:t>
            </a:r>
            <a:r>
              <a:rPr b="0" lang="ru-RU" sz="1400" spc="-1" strike="noStrike">
                <a:solidFill>
                  <a:srgbClr val="000000"/>
                </a:solidFill>
                <a:latin typeface="Arial"/>
              </a:rPr>
              <a:t>") расположен в центре Сенатской площади. Автор скульптуры - французский скульптор Этьен-Морис Фальконе. </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001880" y="728640"/>
            <a:ext cx="4854240" cy="3641760"/>
          </a:xfrm>
          <a:prstGeom prst="rect">
            <a:avLst/>
          </a:prstGeom>
          <a:ln w="0">
            <a:noFill/>
          </a:ln>
        </p:spPr>
      </p:sp>
      <p:sp>
        <p:nvSpPr>
          <p:cNvPr id="88" name="PlaceHolder 2"/>
          <p:cNvSpPr>
            <a:spLocks noGrp="1"/>
          </p:cNvSpPr>
          <p:nvPr>
            <p:ph type="body"/>
          </p:nvPr>
        </p:nvSpPr>
        <p:spPr>
          <a:xfrm>
            <a:off x="685800" y="4613040"/>
            <a:ext cx="5486400" cy="43686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прочитать первый абзац на стр. 157</a:t>
            </a:r>
            <a:r>
              <a:rPr b="1" lang="en-US" sz="1400" spc="-1" strike="noStrike">
                <a:solidFill>
                  <a:srgbClr val="000000"/>
                </a:solidFill>
                <a:latin typeface="Arial"/>
              </a:rPr>
              <a:t>   «Чудесный город»</a:t>
            </a: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001880" y="728640"/>
            <a:ext cx="4854240" cy="3641760"/>
          </a:xfrm>
          <a:prstGeom prst="rect">
            <a:avLst/>
          </a:prstGeom>
          <a:ln w="0">
            <a:noFill/>
          </a:ln>
        </p:spPr>
      </p:sp>
      <p:sp>
        <p:nvSpPr>
          <p:cNvPr id="90" name="PlaceHolder 2"/>
          <p:cNvSpPr>
            <a:spLocks noGrp="1"/>
          </p:cNvSpPr>
          <p:nvPr>
            <p:ph type="body"/>
          </p:nvPr>
        </p:nvSpPr>
        <p:spPr>
          <a:xfrm>
            <a:off x="685800" y="4613040"/>
            <a:ext cx="5486400" cy="43686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Перед скульптором стояла трудная задача: надо было в первую очередь решить, каким следует изобразить Петра Великого. Мастер не хотел подражать ни классическим древнеримским конным статуям, ни европейским монументам начала 18 века. Он изучил все известные скульптурные, графические и живописные изображения Петра, это дало скульптору возможность добиться портретного сходства с оригиналом. Фальконе много думал и о том, в каком одеянии следует изобразить русского царя. Скульптор рассуждал так: "Если это старый московский кафтан, то он мало подходит к тому, кто объявил войну бородам и кафтанам. Если же одеть Петра в ту одежду, которую он носил, то она не даст возможности передать движение и легкость в большой скульптуре, особенно в конном памятнике. Поэтому костюм Петра - одежда все народов, всех людей, всех времен - одним словом, костюм героический".</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Фальконе тщательно обдумывал и композицию памятника. Скульптор решил изобразить, как он сам писал, "лошадь в галопе и на подъеме". Для этого ему пришлось много работать в придворной конюшне, где он сделал множество набросков фигур движущихся и поднимающихся на дыбы лошадей. </a:t>
            </a: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001880" y="728640"/>
            <a:ext cx="4854240" cy="3641760"/>
          </a:xfrm>
          <a:prstGeom prst="rect">
            <a:avLst/>
          </a:prstGeom>
          <a:ln w="0">
            <a:noFill/>
          </a:ln>
        </p:spPr>
      </p:sp>
      <p:sp>
        <p:nvSpPr>
          <p:cNvPr id="92" name="PlaceHolder 2"/>
          <p:cNvSpPr>
            <a:spLocks noGrp="1"/>
          </p:cNvSpPr>
          <p:nvPr>
            <p:ph type="body"/>
          </p:nvPr>
        </p:nvSpPr>
        <p:spPr>
          <a:xfrm>
            <a:off x="685800" y="4613040"/>
            <a:ext cx="5486400" cy="43686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Фальконе никак не удавалось сделать голову Петра такой, какой бы ему самому хотелось ее видеть: лицо сильного, вдохновленного человека, при этом обязательно имеющее портретное сходство. Екатерина три раза осматривала модели, которые предлагал ей скульптор, но то же ни одну не одобрила. Нужного результата смогла добиться ученица Фальконе Мари Коло.  Выполненная ею модель произвела впечатление на всех. За свою работу Колло была удостоена пожизненной пенсии и избрана членом Российской академии художеств. Самой художнице в это время не было и двадцати лет, и она стала самым молодым академиком.</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001880" y="728640"/>
            <a:ext cx="4854240" cy="3641760"/>
          </a:xfrm>
          <a:prstGeom prst="rect">
            <a:avLst/>
          </a:prstGeom>
          <a:ln w="0">
            <a:noFill/>
          </a:ln>
        </p:spPr>
      </p:sp>
      <p:sp>
        <p:nvSpPr>
          <p:cNvPr id="94" name="PlaceHolder 2"/>
          <p:cNvSpPr>
            <a:spLocks noGrp="1"/>
          </p:cNvSpPr>
          <p:nvPr>
            <p:ph type="body"/>
          </p:nvPr>
        </p:nvSpPr>
        <p:spPr>
          <a:xfrm>
            <a:off x="685800" y="4613040"/>
            <a:ext cx="5486400" cy="43686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Памятник должен был стать лаконичным и в то же время выразительным, поэтому большое внимание уделялось деталям. Пожалуй, самая выразительная из них - змея, символ скрытого зла. В окончательном варианте памятника всадник топчет змею, это символизировало победу царя над противниками реформ. Кроме того, эта деталь стала необходимым конструктивным элементом памятника - третьей точкой опоры конной статуи. Змею по замыслу Фальконе вылепил Фёдор Гордеев</a:t>
            </a:r>
            <a:endParaRPr b="0"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001880" y="728640"/>
            <a:ext cx="4854240" cy="3641760"/>
          </a:xfrm>
          <a:prstGeom prst="rect">
            <a:avLst/>
          </a:prstGeom>
          <a:ln w="0">
            <a:noFill/>
          </a:ln>
        </p:spPr>
      </p:sp>
      <p:sp>
        <p:nvSpPr>
          <p:cNvPr id="96" name="PlaceHolder 2"/>
          <p:cNvSpPr>
            <a:spLocks noGrp="1"/>
          </p:cNvSpPr>
          <p:nvPr>
            <p:ph type="body"/>
          </p:nvPr>
        </p:nvSpPr>
        <p:spPr>
          <a:xfrm>
            <a:off x="685800" y="4613040"/>
            <a:ext cx="5486400" cy="43686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ля гордого всадника, поднявшего на дыбы своего коня, обычный парадный пьедестал никак не подходил... Фальконе предложил поискать великий камень для Петра Великого.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газете «Санкт-Петербургские ведомости» было опубликовано обращение к частным лицам. Тому, кто укажет местонахождение подходящего камня, было обещано вознаграждение.</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Такой камень в районе Конной Лахты нашел казенный крестьянин Семен Григорьевич Вишняков, профессиональный плотник, добытчик камня и каменотес, осуществлявший поставки для облицовки Екатерининского канала, реки Невы и многих других сооружений тогдашней столицы. Он сообщил об огромном валуне капитану Ласкари, руководителю поисковых работ в этом проекте </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7AAE40-CA4A-4A50-901D-49865AE334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CFF17E-EF5B-4A76-8EA3-C8C5D82BED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068CAD-0533-4FB0-B213-A57841166A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719F3C-D375-4586-89C9-9C1092182D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CA25E9-27B7-438D-BE27-3980CB0117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698EF5-4304-42EA-AA8B-286AA65543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2A70F-6C6F-4767-8BEC-7DCF64F5FA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7707AB-7B88-4FB6-BCCF-EC166C39D9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35D1F6-61E5-486D-B3C1-5D48A285C2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89DE1-65EB-451A-96EF-C86356175D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AC23B-D6B9-42FF-905A-58B9D1265E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5D859-8B5F-43DE-A724-0008A1D678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70233-C9DE-4897-98FD-6820C9C732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encspb.ru/image.php?file=big%2F2803978952.jpg" TargetMode="External"/><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gradpetra.info/photouser/7029.jpg"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opeterburge.ru/pictures/1762mkbef.jpg" TargetMode="External"/><Relationship Id="rId2" Type="http://schemas.openxmlformats.org/officeDocument/2006/relationships/image" Target="../media/image5.jpeg"/><Relationship Id="rId3" Type="http://schemas.openxmlformats.org/officeDocument/2006/relationships/hyperlink" Target="http://www.peoples.ru/art/sculpture/etien_phalkone/phalkone_775481526_tonnel.jpeg" TargetMode="External"/><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gradpetra.info/photouser/7029.jpg" TargetMode="External"/><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artclassic.edu.ru/attach.asp?a_no=12050" TargetMode="External"/><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rosfoto.ru/photos/big/0072000/072535_563.jpg" TargetMode="External"/><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СЕНАТСКАЯ  ПЛОЩАДЬ</a:t>
            </a:r>
            <a:br>
              <a:rPr sz="4000"/>
            </a:br>
            <a:r>
              <a:rPr b="0" lang="en-US" sz="4000" spc="-1" strike="noStrike">
                <a:solidFill>
                  <a:srgbClr val="000000"/>
                </a:solidFill>
                <a:latin typeface="Arial"/>
              </a:rPr>
              <a:t>(ПЛОЩАДЬ  ДЕКАБРИСТОВ)</a:t>
            </a:r>
            <a:endParaRPr b="0" lang="en-US" sz="4000" spc="-1" strike="noStrike">
              <a:solidFill>
                <a:srgbClr val="000000"/>
              </a:solidFill>
              <a:latin typeface="Arial"/>
            </a:endParaRPr>
          </a:p>
        </p:txBody>
      </p:sp>
      <p:pic>
        <p:nvPicPr>
          <p:cNvPr id="49" name="" descr="Пямятник Петру I - Медный всадник"/>
          <p:cNvPicPr/>
          <p:nvPr/>
        </p:nvPicPr>
        <p:blipFill>
          <a:blip r:embed="rId1"/>
          <a:srcRect l="0" t="0" r="0" b="19532"/>
          <a:stretch/>
        </p:blipFill>
        <p:spPr>
          <a:xfrm>
            <a:off x="76320" y="1711440"/>
            <a:ext cx="6705360" cy="4876560"/>
          </a:xfrm>
          <a:prstGeom prst="rect">
            <a:avLst/>
          </a:prstGeom>
          <a:ln w="0">
            <a:noFill/>
          </a:ln>
        </p:spPr>
      </p:pic>
      <p:sp>
        <p:nvSpPr>
          <p:cNvPr id="50" name=""/>
          <p:cNvSpPr/>
          <p:nvPr/>
        </p:nvSpPr>
        <p:spPr>
          <a:xfrm>
            <a:off x="6705720" y="1523880"/>
            <a:ext cx="2438280" cy="5115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Сенатская площадь, названная так в 1763 году после размещения на ней правительственного учреждения Сената. </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Для нужд государства был приспособлен бывший особняк вице-канцлера Бестужева-Рюмина</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152280" y="228600"/>
            <a:ext cx="6324840" cy="5487840"/>
          </a:xfrm>
          <a:prstGeom prst="rect">
            <a:avLst/>
          </a:prstGeom>
          <a:ln w="0">
            <a:noFill/>
          </a:ln>
        </p:spPr>
      </p:pic>
      <p:sp>
        <p:nvSpPr>
          <p:cNvPr id="71" name=""/>
          <p:cNvSpPr/>
          <p:nvPr/>
        </p:nvSpPr>
        <p:spPr>
          <a:xfrm>
            <a:off x="152280" y="5791320"/>
            <a:ext cx="59436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Фельтен Ю.М. Перевозка Гром-камня в присутствии Екатерины II.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Гравюра И.Ф. Шлея. 1770 </a:t>
            </a:r>
            <a:endParaRPr b="0" lang="en-US" sz="1800" spc="-1" strike="noStrike">
              <a:solidFill>
                <a:srgbClr val="000000"/>
              </a:solidFill>
              <a:latin typeface="Arial"/>
            </a:endParaRPr>
          </a:p>
        </p:txBody>
      </p:sp>
      <p:sp>
        <p:nvSpPr>
          <p:cNvPr id="72" name=""/>
          <p:cNvSpPr/>
          <p:nvPr/>
        </p:nvSpPr>
        <p:spPr>
          <a:xfrm>
            <a:off x="6400800" y="5942160"/>
            <a:ext cx="23623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ерзновению подобно. Генваря, 20. 1770"</a:t>
            </a: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73" name="" descr=""/>
          <p:cNvPicPr/>
          <p:nvPr/>
        </p:nvPicPr>
        <p:blipFill>
          <a:blip r:embed="rId2"/>
          <a:stretch/>
        </p:blipFill>
        <p:spPr>
          <a:xfrm>
            <a:off x="6111720" y="2971800"/>
            <a:ext cx="3032280" cy="3048120"/>
          </a:xfrm>
          <a:prstGeom prst="rect">
            <a:avLst/>
          </a:prstGeom>
          <a:ln w="0">
            <a:noFill/>
          </a:ln>
        </p:spPr>
      </p:pic>
      <p:pic>
        <p:nvPicPr>
          <p:cNvPr id="74" name="" descr=""/>
          <p:cNvPicPr/>
          <p:nvPr/>
        </p:nvPicPr>
        <p:blipFill>
          <a:blip r:embed="rId3"/>
          <a:stretch/>
        </p:blipFill>
        <p:spPr>
          <a:xfrm>
            <a:off x="6095880" y="0"/>
            <a:ext cx="3048120" cy="2957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228600" y="228600"/>
            <a:ext cx="8915400" cy="5819760"/>
          </a:xfrm>
          <a:prstGeom prst="rect">
            <a:avLst/>
          </a:prstGeom>
          <a:ln w="0">
            <a:noFill/>
          </a:ln>
        </p:spPr>
      </p:pic>
      <p:sp>
        <p:nvSpPr>
          <p:cNvPr id="76" name=""/>
          <p:cNvSpPr/>
          <p:nvPr/>
        </p:nvSpPr>
        <p:spPr>
          <a:xfrm>
            <a:off x="0" y="6216480"/>
            <a:ext cx="914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Открытие памятника Петру I на Сенатской площади в Петербурге. Гравюра 1782 г.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7029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Картинка 56 из 1016">
            <a:hlinkClick r:id="rId1"/>
          </p:cNvP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609480" y="-7920"/>
            <a:ext cx="8153640" cy="6800760"/>
          </a:xfrm>
          <a:prstGeom prst="rect">
            <a:avLst/>
          </a:prstGeom>
          <a:ln w="0">
            <a:noFill/>
          </a:ln>
        </p:spPr>
      </p:pic>
      <p:pic>
        <p:nvPicPr>
          <p:cNvPr id="52" name="" descr=""/>
          <p:cNvPicPr/>
          <p:nvPr/>
        </p:nvPicPr>
        <p:blipFill>
          <a:blip r:embed="rId2"/>
          <a:stretch/>
        </p:blipFill>
        <p:spPr>
          <a:xfrm>
            <a:off x="0" y="0"/>
            <a:ext cx="9144000" cy="6800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Картинка 42 из 1016">
            <a:hlinkClick r:id="rId1"/>
          </p:cNvPr>
          <p:cNvPicPr/>
          <p:nvPr/>
        </p:nvPicPr>
        <p:blipFill>
          <a:blip r:embed="rId2"/>
          <a:stretch/>
        </p:blipFill>
        <p:spPr>
          <a:xfrm>
            <a:off x="-1371600" y="0"/>
            <a:ext cx="10515600" cy="6858000"/>
          </a:xfrm>
          <a:prstGeom prst="rect">
            <a:avLst/>
          </a:prstGeom>
          <a:ln w="0">
            <a:noFill/>
          </a:ln>
        </p:spPr>
      </p:pic>
      <p:sp>
        <p:nvSpPr>
          <p:cNvPr id="55" name=""/>
          <p:cNvSpPr/>
          <p:nvPr/>
        </p:nvSpPr>
        <p:spPr>
          <a:xfrm>
            <a:off x="5486400" y="533520"/>
            <a:ext cx="38098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i="1" lang="en-US" sz="2400" spc="-1" strike="noStrike">
                <a:solidFill>
                  <a:srgbClr val="000000"/>
                </a:solidFill>
                <a:latin typeface="Arial"/>
              </a:rPr>
              <a:t>"И прямо в тёмной     вышине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Над ограждённою скалою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Кумир с простёртою рукою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Сидел на бронзовом коне"</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А.С.Пушки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Картинка 3 из 6">
            <a:hlinkClick r:id="rId1"/>
          </p:cNvPr>
          <p:cNvPicPr/>
          <p:nvPr/>
        </p:nvPicPr>
        <p:blipFill>
          <a:blip r:embed="rId2"/>
          <a:stretch/>
        </p:blipFill>
        <p:spPr>
          <a:xfrm>
            <a:off x="152280" y="304920"/>
            <a:ext cx="4267440" cy="5486400"/>
          </a:xfrm>
          <a:prstGeom prst="rect">
            <a:avLst/>
          </a:prstGeom>
          <a:ln w="0">
            <a:noFill/>
          </a:ln>
        </p:spPr>
      </p:pic>
      <p:sp>
        <p:nvSpPr>
          <p:cNvPr id="57" name=""/>
          <p:cNvSpPr/>
          <p:nvPr/>
        </p:nvSpPr>
        <p:spPr>
          <a:xfrm>
            <a:off x="0" y="685800"/>
            <a:ext cx="4114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0" y="5911200"/>
            <a:ext cx="9144000" cy="9471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Этье́н Мори́с Фальконе́</a:t>
            </a:r>
            <a:r>
              <a:rPr b="0" lang="ru-RU" sz="2800" spc="-1" strike="noStrike">
                <a:solidFill>
                  <a:srgbClr val="000000"/>
                </a:solidFill>
                <a:latin typeface="Arial"/>
              </a:rPr>
              <a:t> французский скульптор</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1 декабря 1716 – 24 января 1791. </a:t>
            </a:r>
            <a:r>
              <a:rPr b="0" i="1" lang="ru-RU" sz="2800" spc="-1" strike="noStrike">
                <a:solidFill>
                  <a:srgbClr val="000000"/>
                </a:solidFill>
                <a:latin typeface="Arial"/>
              </a:rPr>
              <a:t>Париж))</a:t>
            </a:r>
            <a:endParaRPr b="0" lang="en-US" sz="2800" spc="-1" strike="noStrike">
              <a:solidFill>
                <a:srgbClr val="000000"/>
              </a:solidFill>
              <a:latin typeface="Arial"/>
            </a:endParaRPr>
          </a:p>
        </p:txBody>
      </p:sp>
      <p:pic>
        <p:nvPicPr>
          <p:cNvPr id="59" name="" descr="Картинка 1 из 6">
            <a:hlinkClick r:id="rId3"/>
          </p:cNvPr>
          <p:cNvPicPr/>
          <p:nvPr/>
        </p:nvPicPr>
        <p:blipFill>
          <a:blip r:embed="rId4"/>
          <a:stretch/>
        </p:blipFill>
        <p:spPr>
          <a:xfrm>
            <a:off x="4648320" y="380880"/>
            <a:ext cx="4343400" cy="5410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4062240" y="2805120"/>
            <a:ext cx="1019520" cy="1247760"/>
          </a:xfrm>
          <a:prstGeom prst="rect">
            <a:avLst/>
          </a:prstGeom>
          <a:ln w="0">
            <a:noFill/>
          </a:ln>
        </p:spPr>
      </p:pic>
      <p:pic>
        <p:nvPicPr>
          <p:cNvPr id="61" name="" descr="Картинка 42 из 1016">
            <a:hlinkClick r:id="rId2"/>
          </p:cNvPr>
          <p:cNvPicPr/>
          <p:nvPr/>
        </p:nvPicPr>
        <p:blipFill>
          <a:blip r:embed="rId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Картинка 84 из 1016">
            <a:hlinkClick r:id="rId1"/>
          </p:cNvP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101520"/>
            <a:ext cx="9144000" cy="6756480"/>
          </a:xfrm>
          <a:prstGeom prst="rect">
            <a:avLst/>
          </a:prstGeom>
          <a:ln w="0">
            <a:noFill/>
          </a:ln>
        </p:spPr>
      </p:pic>
      <p:sp>
        <p:nvSpPr>
          <p:cNvPr id="64" name=""/>
          <p:cNvSpPr/>
          <p:nvPr/>
        </p:nvSpPr>
        <p:spPr>
          <a:xfrm>
            <a:off x="1600200" y="6172200"/>
            <a:ext cx="5715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Змея - символ побежденного зла </a:t>
            </a:r>
            <a:endParaRPr b="0" lang="en-US" sz="2400" spc="-1" strike="noStrike">
              <a:solidFill>
                <a:srgbClr val="000000"/>
              </a:solidFill>
              <a:latin typeface="Arial"/>
            </a:endParaRPr>
          </a:p>
        </p:txBody>
      </p:sp>
      <p:pic>
        <p:nvPicPr>
          <p:cNvPr id="65" name="" descr="Картинка 45 из 1016">
            <a:hlinkClick r:id="rId2"/>
          </p:cNvPr>
          <p:cNvPicPr/>
          <p:nvPr/>
        </p:nvPicPr>
        <p:blipFill>
          <a:blip r:embed="rId3"/>
          <a:stretch/>
        </p:blipFill>
        <p:spPr>
          <a:xfrm>
            <a:off x="6734160" y="228600"/>
            <a:ext cx="2409840" cy="3809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0" y="5867280"/>
            <a:ext cx="655308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Вес - более 1600 тонн, около 13 метров в длину,</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8 метров в высоту и 6 метров в ширину. </a:t>
            </a:r>
            <a:endParaRPr b="0" lang="en-US" sz="2000" spc="-1" strike="noStrike">
              <a:solidFill>
                <a:srgbClr val="000000"/>
              </a:solidFill>
              <a:latin typeface="Arial"/>
            </a:endParaRPr>
          </a:p>
        </p:txBody>
      </p:sp>
      <p:sp>
        <p:nvSpPr>
          <p:cNvPr id="67" name=""/>
          <p:cNvSpPr/>
          <p:nvPr/>
        </p:nvSpPr>
        <p:spPr>
          <a:xfrm>
            <a:off x="4724280" y="152280"/>
            <a:ext cx="426744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Нерукотворная здесь Росская гора,</a:t>
            </a:r>
            <a:br>
              <a:rPr sz="2800"/>
            </a:br>
            <a:r>
              <a:rPr b="1" i="1" lang="ru-RU" sz="2800" spc="-1" strike="noStrike">
                <a:solidFill>
                  <a:srgbClr val="000000"/>
                </a:solidFill>
                <a:latin typeface="Arial"/>
              </a:rPr>
              <a:t>Вняв гласу Божию из уст Екатерины,</a:t>
            </a:r>
            <a:br>
              <a:rPr sz="2800"/>
            </a:br>
            <a:r>
              <a:rPr b="1" i="1" lang="ru-RU" sz="2800" spc="-1" strike="noStrike">
                <a:solidFill>
                  <a:srgbClr val="000000"/>
                </a:solidFill>
                <a:latin typeface="Arial"/>
              </a:rPr>
              <a:t>Прешла во град Петров чрез Невския пучины</a:t>
            </a:r>
            <a:br>
              <a:rPr sz="2800"/>
            </a:br>
            <a:r>
              <a:rPr b="1" i="1" lang="ru-RU" sz="2800" spc="-1" strike="noStrike">
                <a:solidFill>
                  <a:srgbClr val="000000"/>
                </a:solidFill>
                <a:latin typeface="Arial"/>
              </a:rPr>
              <a:t>И пала под стопы Великого Петра.</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
          <p:cNvSpPr/>
          <p:nvPr/>
        </p:nvSpPr>
        <p:spPr>
          <a:xfrm>
            <a:off x="5948640" y="4343400"/>
            <a:ext cx="2887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Василий Рубин</a:t>
            </a:r>
            <a:endParaRPr b="0" lang="en-US" sz="2800" spc="-1" strike="noStrike">
              <a:solidFill>
                <a:srgbClr val="000000"/>
              </a:solidFill>
              <a:latin typeface="Arial"/>
            </a:endParaRPr>
          </a:p>
        </p:txBody>
      </p:sp>
      <p:pic>
        <p:nvPicPr>
          <p:cNvPr id="69" name="" descr=""/>
          <p:cNvPicPr/>
          <p:nvPr/>
        </p:nvPicPr>
        <p:blipFill>
          <a:blip r:embed="rId1"/>
          <a:stretch/>
        </p:blipFill>
        <p:spPr>
          <a:xfrm>
            <a:off x="228600" y="152280"/>
            <a:ext cx="4286160" cy="571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Градова Светлана Сауловна</cp:lastModifiedBy>
  <dcterms:modified xsi:type="dcterms:W3CDTF">2011-02-21T20:33:55Z</dcterms:modified>
  <cp:revision>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