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E904-F69F-4237-92E1-8AC2FC99B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DC56-9CF6-4AA3-AB86-335B91CD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2E93-5549-42B0-938C-0B6A6B0E5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37B0-93C9-4DDF-BDFC-B5E5E0AC1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B7E9-8E8D-4456-A931-5E3F8E44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D5BE-49ED-4FF6-A2D2-9C2C3735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9B3C-2745-40CF-A483-95CEB613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196E-9E0B-4508-8793-3905B6CC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1CD9-40AD-4182-A0D9-3358E810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BE7F-8A1A-461D-8C8B-69BA3DF8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6267-85FF-444D-A72A-AEA7127F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223E-CC7D-4273-BFB7-FCA46370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9A51-CD76-4433-B9F7-879CE07C88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91;&#1096;&#1082;&#1080;&#1085;,_&#1040;&#1083;&#1077;&#1082;&#1089;&#1072;&#1085;&#1076;&#1088;_&#1057;&#1077;&#1088;&#1075;&#1077;&#1077;&#1074;&#1080;&#1095;" TargetMode="External"/><Relationship Id="rId2" Type="http://schemas.openxmlformats.org/officeDocument/2006/relationships/hyperlink" Target="http://ru.wikipedia.org/wiki/&#1040;&#1085;&#1080;&#1082;&#1091;&#1096;&#1080;&#1085;,_&#1052;&#1080;&#1093;&#1072;&#1080;&#1083;_&#1050;&#1086;&#1085;&#1089;&#1090;&#1072;&#1085;&#1090;&#1080;&#1085;&#1086;&#1074;&#1080;&#1095;" TargetMode="External"/><Relationship Id="rId3" Type="http://schemas.openxmlformats.org/officeDocument/2006/relationships/hyperlink" Target="http://ru.wikipedia.org/wiki/&#1055;&#1077;&#1090;&#1088;&#1086;&#1074;,_&#1042;&#1072;&#1089;&#1080;&#1083;&#1080;&#1081;_&#1040;&#1083;&#1077;&#1082;&#1089;&#1072;&#1085;&#1076;&#1088;&#1086;&#1074;&#1080;&#1095;" TargetMode="External"/><Relationship Id="rId4" Type="http://schemas.openxmlformats.org/officeDocument/2006/relationships/hyperlink" Target="http://ru.wikipedia.org/wiki/19_&#1080;&#1102;&#1085;&#1103;" TargetMode="External"/><Relationship Id="rId5" Type="http://schemas.openxmlformats.org/officeDocument/2006/relationships/hyperlink" Target="http://ru.wikipedia.org/wiki/1957_&#1075;&#1086;&#1076;" TargetMode="External"/><Relationship Id="rId6" Type="http://schemas.openxmlformats.org/officeDocument/2006/relationships/hyperlink" Target="http://ru.wikipedia.org/wiki/&#1051;&#1077;&#1085;&#1080;&#1085;&#1075;&#1088;&#1072;&#1076;" TargetMode="External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8568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Горизонтальный свиток 6"/>
          <p:cNvSpPr/>
          <p:nvPr/>
        </p:nvSpPr>
        <p:spPr>
          <a:xfrm>
            <a:off x="0" y="571680"/>
            <a:ext cx="9144000" cy="521460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5" descr=""/>
          <p:cNvPicPr/>
          <p:nvPr/>
        </p:nvPicPr>
        <p:blipFill>
          <a:blip r:embed="rId1"/>
          <a:stretch/>
        </p:blipFill>
        <p:spPr>
          <a:xfrm>
            <a:off x="-60480" y="1500120"/>
            <a:ext cx="10009440" cy="3853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http://spbfoto.spb.ru/foto/data/media/4/DSC_0373.jpg"/>
          <p:cNvPicPr/>
          <p:nvPr/>
        </p:nvPicPr>
        <p:blipFill>
          <a:blip r:embed="rId1"/>
          <a:stretch/>
        </p:blipFill>
        <p:spPr>
          <a:xfrm>
            <a:off x="0" y="0"/>
            <a:ext cx="54943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3"/>
          <p:cNvSpPr/>
          <p:nvPr/>
        </p:nvSpPr>
        <p:spPr>
          <a:xfrm>
            <a:off x="5572080" y="1071720"/>
            <a:ext cx="3571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кульп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берт Романович Бах (1859—1933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кульптор, академик, преподаватель школы Императорского общества поощрения художеств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s.66.ru/new66/collection/a1/c8/2d/5e/a1c82d5e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35796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0" y="6286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мятник Пушкину в Михайловс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www.vsp-mikron.com/images/5262f3fea26c5e788502017882a5b2ae.jpg"/>
          <p:cNvPicPr/>
          <p:nvPr/>
        </p:nvPicPr>
        <p:blipFill>
          <a:blip r:embed="rId1"/>
          <a:stretch/>
        </p:blipFill>
        <p:spPr>
          <a:xfrm>
            <a:off x="0" y="0"/>
            <a:ext cx="9180360" cy="642924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2"/>
          <p:cNvSpPr/>
          <p:nvPr/>
        </p:nvSpPr>
        <p:spPr>
          <a:xfrm>
            <a:off x="0" y="6143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ронеж. Памятник Пушкину А.С. Открыт в Юбилейный год Пушк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img-fotki.yandex.ru/get/3612/el-gribk.d/0_e521_20f642f3_XL"/>
          <p:cNvPicPr/>
          <p:nvPr/>
        </p:nvPicPr>
        <p:blipFill>
          <a:blip r:embed="rId1"/>
          <a:stretch/>
        </p:blipFill>
        <p:spPr>
          <a:xfrm>
            <a:off x="0" y="0"/>
            <a:ext cx="3786120" cy="680724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3786120" y="428760"/>
            <a:ext cx="5357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 Воронеже памятник А.С. Пушк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крыли 6 июня 1999 года. Бронзовый бюст писателя изготовили воронежские скульпторы Иван Павлович Дикунов и Эльза Николаевна Пак и подарили его городу к двухсотлетней годовщине со дня рождения Пушкина. Памятни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ушкин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ронеж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—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мятни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эту, установленный в сквере рядом с Театром оперы и балета, около одноименной улицы Пушкинской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mrcpk.marsu.ru/works_iso/2007-11-12-sovetsky/kudrafceva/doks/__800.jpg"/>
          <p:cNvPicPr/>
          <p:nvPr/>
        </p:nvPicPr>
        <p:blipFill>
          <a:blip r:embed="rId1"/>
          <a:stretch/>
        </p:blipFill>
        <p:spPr>
          <a:xfrm>
            <a:off x="1928880" y="-14400"/>
            <a:ext cx="7215120" cy="68724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2"/>
          <p:cNvSpPr/>
          <p:nvPr/>
        </p:nvSpPr>
        <p:spPr>
          <a:xfrm>
            <a:off x="3203640" y="0"/>
            <a:ext cx="300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libri"/>
              </a:rPr>
              <a:t>Скульпт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libri"/>
              </a:rPr>
              <a:t>А.М. Опекуш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d0d0d"/>
                </a:solidFill>
                <a:latin typeface="Calibri"/>
              </a:rPr>
              <a:t>Мос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http://www.verav.ru/mess/calend/081126012434-l.jpg"/>
          <p:cNvPicPr/>
          <p:nvPr/>
        </p:nvPicPr>
        <p:blipFill>
          <a:blip r:embed="rId2"/>
          <a:stretch/>
        </p:blipFill>
        <p:spPr>
          <a:xfrm>
            <a:off x="0" y="0"/>
            <a:ext cx="3071880" cy="4205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img0.liveinternet.ru/images/attach/c/2/70/743/70743576_8624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850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4643280" y="1700280"/>
            <a:ext cx="407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мят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лександру Пушк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Наталье Гончар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Арба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кульптор — А.Н. Бу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img0.liveinternet.ru/images/attach/b/3/17/153/17153828_11947335_freepushkin.jpg"/>
          <p:cNvPicPr/>
          <p:nvPr/>
        </p:nvPicPr>
        <p:blipFill>
          <a:blip r:embed="rId1"/>
          <a:stretch/>
        </p:blipFill>
        <p:spPr>
          <a:xfrm>
            <a:off x="0" y="0"/>
            <a:ext cx="72439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2"/>
          <p:cNvSpPr/>
          <p:nvPr/>
        </p:nvSpPr>
        <p:spPr>
          <a:xfrm>
            <a:off x="7143840" y="1071720"/>
            <a:ext cx="2000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одном из арбатских двориков не так давно появился Александр Сергеевич 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http://img0.liveinternet.ru/images/attach/c/1/59/975/59975237_13092a0dcede1.jpg"/>
          <p:cNvPicPr/>
          <p:nvPr/>
        </p:nvPicPr>
        <p:blipFill>
          <a:blip r:embed="rId1"/>
          <a:srcRect l="1921" t="2082" r="3112" b="2082"/>
          <a:stretch/>
        </p:blipFill>
        <p:spPr>
          <a:xfrm>
            <a:off x="4572000" y="0"/>
            <a:ext cx="4572000" cy="6896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://img01.chitalnya.ru/upload2/431/9074183986522258.jpg"/>
          <p:cNvPicPr/>
          <p:nvPr/>
        </p:nvPicPr>
        <p:blipFill>
          <a:blip r:embed="rId2"/>
          <a:stretch/>
        </p:blipFill>
        <p:spPr>
          <a:xfrm>
            <a:off x="0" y="0"/>
            <a:ext cx="5143680" cy="6880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news.rin.ru/photos/28069.jpg"/>
          <p:cNvPicPr/>
          <p:nvPr/>
        </p:nvPicPr>
        <p:blipFill>
          <a:blip r:embed="rId1"/>
          <a:stretch/>
        </p:blipFill>
        <p:spPr>
          <a:xfrm>
            <a:off x="-31680" y="500040"/>
            <a:ext cx="9175680" cy="5643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seeandgo.ru/wp-content/uploads/2013/04/%D0%9F%D1%83%D1%88%D0%BA%D0%B8%D0%BD-%D0%BF%D0%B8%D1%82%D0%B5%D1%80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514368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мят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лександру Пушкину на Пушкинской в Санкт - Петербур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4572000" y="114300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мятник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Александру Сергеевичу Пушкину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скульптора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М. К. Аникушин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и архитектора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В. А. Петров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был установлен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19 июн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1957 год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в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Ленинград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на площади Искусств перед зда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осударственного Русского музея. Открытие памятника было приурочено к празднованию 250-летия Ленингр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upload.wikimedia.org/wikipedia/ru/c/cb/Poesjkin-standbeeld.jpg"/>
          <p:cNvPicPr/>
          <p:nvPr/>
        </p:nvPicPr>
        <p:blipFill>
          <a:blip r:embed="rId7"/>
          <a:stretch/>
        </p:blipFill>
        <p:spPr>
          <a:xfrm>
            <a:off x="0" y="0"/>
            <a:ext cx="459252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www.rusoldat.ru/wp-content/uploads/2009/06/pushkin01.jpg"/>
          <p:cNvPicPr/>
          <p:nvPr/>
        </p:nvPicPr>
        <p:blipFill>
          <a:blip r:embed="rId1"/>
          <a:stretch/>
        </p:blipFill>
        <p:spPr>
          <a:xfrm>
            <a:off x="0" y="0"/>
            <a:ext cx="9082080" cy="63579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мятни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ушкин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А.С.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арско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ел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(г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ушкин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2T14:29:07Z</dcterms:created>
  <dc:creator>Admin</dc:creator>
  <dc:description/>
  <dc:language>en-US</dc:language>
  <cp:lastModifiedBy>Admin</cp:lastModifiedBy>
  <dcterms:modified xsi:type="dcterms:W3CDTF">2015-05-05T17:15:49Z</dcterms:modified>
  <cp:revision>14</cp:revision>
  <dc:subject/>
  <dc:title>Слайд 1</dc:title>
</cp:coreProperties>
</file>