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FDB-FF8F-459C-B254-A819D858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AB9-D194-45B7-BC19-70CB3F8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071-C0AD-4BD6-B7CC-E78EFE9E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326-8409-499A-800C-EA53DE0B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449-B6CA-4163-8BC7-FCD4244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FEA-65F7-4C79-A11C-54737C8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490-CC84-4C26-95E6-82A7C4A4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887-C4BA-44DC-BB44-B9D856C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167-BE4C-42A9-83F5-7CC8515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A56-CA2E-4660-B55B-34E15D8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F50-EA07-4C91-9FA2-27C67BF7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156-6ECF-4CF6-9E30-D2711B6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9BB-A8E3-4C30-9538-F01AE3F4A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2" Type="http://schemas.openxmlformats.org/officeDocument/2006/relationships/hyperlink" Target="http://ru.wikipedia.org/wiki/&#1040;&#1085;&#1080;&#1082;&#1091;&#1096;&#1080;&#1085;,_&#1052;&#1080;&#1093;&#1072;&#1080;&#1083;_&#1050;&#1086;&#1085;&#1089;&#1090;&#1072;&#1085;&#1090;&#1080;&#1085;&#1086;&#1074;&#1080;&#1095;" TargetMode="External"/><Relationship Id="rId3" Type="http://schemas.openxmlformats.org/officeDocument/2006/relationships/hyperlink" Target="http://ru.wikipedia.org/wiki/&#1055;&#1077;&#1090;&#1088;&#1086;&#1074;,_&#1042;&#1072;&#1089;&#1080;&#1083;&#1080;&#1081;_&#1040;&#1083;&#1077;&#1082;&#1089;&#1072;&#1085;&#1076;&#1088;&#1086;&#1074;&#1080;&#1095;" TargetMode="External"/><Relationship Id="rId4" Type="http://schemas.openxmlformats.org/officeDocument/2006/relationships/hyperlink" Target="http://ru.wikipedia.org/wiki/19_&#1080;&#1102;&#1085;&#1103;" TargetMode="External"/><Relationship Id="rId5" Type="http://schemas.openxmlformats.org/officeDocument/2006/relationships/hyperlink" Target="http://ru.wikipedia.org/wiki/1957_&#1075;&#1086;&#1076;" TargetMode="External"/><Relationship Id="rId6" Type="http://schemas.openxmlformats.org/officeDocument/2006/relationships/hyperlink" Target="http://ru.wikipedia.org/wiki/&#1051;&#1077;&#1085;&#1080;&#1085;&#1075;&#1088;&#1072;&#1076;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Горизонтальный свиток 6"/>
          <p:cNvSpPr/>
          <p:nvPr/>
        </p:nvSpPr>
        <p:spPr>
          <a:xfrm>
            <a:off x="0" y="571680"/>
            <a:ext cx="9144000" cy="52146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1500120"/>
            <a:ext cx="10009440" cy="385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spbfoto.spb.ru/foto/data/media/4/DSC_0373.jpg"/>
          <p:cNvPicPr/>
          <p:nvPr/>
        </p:nvPicPr>
        <p:blipFill>
          <a:blip r:embed="rId1"/>
          <a:stretch/>
        </p:blipFill>
        <p:spPr>
          <a:xfrm>
            <a:off x="0" y="0"/>
            <a:ext cx="5494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572080" y="1071720"/>
            <a:ext cx="357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берт Романович Бах (1859—1933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, академик, преподаватель школы Императорского общества поощрения художест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s.66.ru/new66/collection/a1/c8/2d/5e/a1c82d5e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3579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Пушкину в Михайло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vsp-mikron.com/images/5262f3fea26c5e788502017882a5b2ae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0" y="614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ронеж. Памятник Пушкину А.С. Открыт в Юбилейный год 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-fotki.yandex.ru/get/3612/el-gribk.d/0_e521_20f642f3_XL"/>
          <p:cNvPicPr/>
          <p:nvPr/>
        </p:nvPicPr>
        <p:blipFill>
          <a:blip r:embed="rId1"/>
          <a:stretch/>
        </p:blipFill>
        <p:spPr>
          <a:xfrm>
            <a:off x="0" y="0"/>
            <a:ext cx="3786120" cy="68072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786120" y="428760"/>
            <a:ext cx="535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 Воронеже памятник А.С. Пушк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ли 6 июня 1999 года. Бронзовый бюст писателя изготовили воронежские скульпторы Иван Павлович Дикунов и Эльза Николаевна Пак и подарили его городу к двухсотлетней годовщине со дня рождения Пушкина. 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роне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эту, установленный в сквере рядом с Театром оперы и балета, около одноименной улицы Пушкинск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mrcpk.marsu.ru/works_iso/2007-11-12-sovetsky/kudrafceva/doks/__800.jpg"/>
          <p:cNvPicPr/>
          <p:nvPr/>
        </p:nvPicPr>
        <p:blipFill>
          <a:blip r:embed="rId1"/>
          <a:stretch/>
        </p:blipFill>
        <p:spPr>
          <a:xfrm>
            <a:off x="1928880" y="-14400"/>
            <a:ext cx="721512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03640" y="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Скульп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А.М. Опекуш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verav.ru/mess/calend/081126012434-l.jpg"/>
          <p:cNvPicPr/>
          <p:nvPr/>
        </p:nvPicPr>
        <p:blipFill>
          <a:blip r:embed="rId2"/>
          <a:stretch/>
        </p:blipFill>
        <p:spPr>
          <a:xfrm>
            <a:off x="0" y="0"/>
            <a:ext cx="3071880" cy="420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img0.liveinternet.ru/images/attach/c/2/70/743/70743576_862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643280" y="170028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у Пушк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талье Гонч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Арб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 — А.Н. Бу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0.liveinternet.ru/images/attach/b/3/17/153/17153828_11947335_freepushkin.jpg"/>
          <p:cNvPicPr/>
          <p:nvPr/>
        </p:nvPicPr>
        <p:blipFill>
          <a:blip r:embed="rId1"/>
          <a:stretch/>
        </p:blipFill>
        <p:spPr>
          <a:xfrm>
            <a:off x="0" y="0"/>
            <a:ext cx="7243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7143840" y="1071720"/>
            <a:ext cx="200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дном из арбатских двориков не так давно появился Александр Сергеевич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img0.liveinternet.ru/images/attach/c/1/59/975/59975237_13092a0dcede1.jpg"/>
          <p:cNvPicPr/>
          <p:nvPr/>
        </p:nvPicPr>
        <p:blipFill>
          <a:blip r:embed="rId1"/>
          <a:srcRect l="1921" t="2082" r="3112" b="2082"/>
          <a:stretch/>
        </p:blipFill>
        <p:spPr>
          <a:xfrm>
            <a:off x="4572000" y="0"/>
            <a:ext cx="4572000" cy="689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01.chitalnya.ru/upload2/431/9074183986522258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8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ws.rin.ru/photos/28069.jpg"/>
          <p:cNvPicPr/>
          <p:nvPr/>
        </p:nvPicPr>
        <p:blipFill>
          <a:blip r:embed="rId1"/>
          <a:stretch/>
        </p:blipFill>
        <p:spPr>
          <a:xfrm>
            <a:off x="-31680" y="500040"/>
            <a:ext cx="9175680" cy="564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eeandgo.ru/wp-content/uploads/2013/04/%D0%9F%D1%83%D1%88%D0%BA%D0%B8%D0%BD-%D0%BF%D0%B8%D1%82%D0%B5%D1%80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514368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у Пушкину на Пушкинской в Санкт - 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57200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лександру Сергеевичу Пушкин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скульптор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. К. Аникуши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и архитектора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. А. Петров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был установлен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9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57 год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в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енинград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на площади Искусств перед зд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енного Русского музея. Открытие памятника было приурочено к празднованию 250-летия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upload.wikimedia.org/wikipedia/ru/c/cb/Poesjkin-standbeeld.jpg"/>
          <p:cNvPicPr/>
          <p:nvPr/>
        </p:nvPicPr>
        <p:blipFill>
          <a:blip r:embed="rId7"/>
          <a:stretch/>
        </p:blipFill>
        <p:spPr>
          <a:xfrm>
            <a:off x="0" y="0"/>
            <a:ext cx="4592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rusoldat.ru/wp-content/uploads/2009/06/pushkin01.jpg"/>
          <p:cNvPicPr/>
          <p:nvPr/>
        </p:nvPicPr>
        <p:blipFill>
          <a:blip r:embed="rId1"/>
          <a:stretch/>
        </p:blipFill>
        <p:spPr>
          <a:xfrm>
            <a:off x="0" y="0"/>
            <a:ext cx="9082080" cy="6357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А.С.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арс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л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9:07Z</dcterms:created>
  <dc:creator>Admin</dc:creator>
  <dc:description/>
  <dc:language>en-US</dc:language>
  <cp:lastModifiedBy>Admin</cp:lastModifiedBy>
  <dcterms:modified xsi:type="dcterms:W3CDTF">2015-05-05T17:15:49Z</dcterms:modified>
  <cp:revision>14</cp:revision>
  <dc:subject/>
  <dc:title>Слайд 1</dc:title>
</cp:coreProperties>
</file>