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5D7-FEEA-4EF5-8BE2-33A30BCE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187-F9C8-4E5E-95DA-435DEDCE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C42-63FB-4EB3-8924-FD357859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074-6A17-4AE6-8EDF-7CCD886F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110-6AC7-4E18-B82A-16E9B96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738-57A1-4A32-A89E-19ABE8C8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ED5-5DEC-4253-ABE6-C006AABF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ABD-5B3A-43C0-9487-99E4E09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840-7D37-4414-BEEF-76EF31B9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7D9-3FC7-40AB-B1A1-51BF61E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78B-AF63-4DAD-A03A-E6C1EA2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87D-97BB-46D7-8FE7-B095BEE4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AD55-5E36-472C-9D73-6229000E1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7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Бюджет  и бюджетна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2420640"/>
            <a:ext cx="669780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C:\Users\Мама\Desktop\pics.1.jpg"/>
          <p:cNvPicPr/>
          <p:nvPr/>
        </p:nvPicPr>
        <p:blipFill>
          <a:blip r:embed="rId2"/>
          <a:stretch/>
        </p:blipFill>
        <p:spPr>
          <a:xfrm>
            <a:off x="3851280" y="2492280"/>
            <a:ext cx="4914720" cy="319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олилиния 22" descr=""/>
          <p:cNvPicPr/>
          <p:nvPr/>
        </p:nvPicPr>
        <p:blipFill>
          <a:blip r:embed="rId2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90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47" descr=""/>
          <p:cNvPicPr/>
          <p:nvPr/>
        </p:nvPicPr>
        <p:blipFill>
          <a:blip r:embed="rId3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0" descr=""/>
          <p:cNvPicPr/>
          <p:nvPr/>
        </p:nvPicPr>
        <p:blipFill>
          <a:blip r:embed="rId4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1" descr=""/>
          <p:cNvPicPr/>
          <p:nvPr/>
        </p:nvPicPr>
        <p:blipFill>
          <a:blip r:embed="rId5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94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9" name="Полилиния 2" descr=""/>
            <p:cNvPicPr/>
            <p:nvPr/>
          </p:nvPicPr>
          <p:blipFill>
            <a:blip r:embed="rId2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extBox 4" descr=""/>
          <p:cNvPicPr/>
          <p:nvPr/>
        </p:nvPicPr>
        <p:blipFill>
          <a:blip r:embed="rId3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5" descr=""/>
          <p:cNvPicPr/>
          <p:nvPr/>
        </p:nvPicPr>
        <p:blipFill>
          <a:blip r:embed="rId4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6" descr=""/>
          <p:cNvPicPr/>
          <p:nvPr/>
        </p:nvPicPr>
        <p:blipFill>
          <a:blip r:embed="rId5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8" descr=""/>
          <p:cNvPicPr/>
          <p:nvPr/>
        </p:nvPicPr>
        <p:blipFill>
          <a:blip r:embed="rId6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9" descr=""/>
          <p:cNvPicPr/>
          <p:nvPr/>
        </p:nvPicPr>
        <p:blipFill>
          <a:blip r:embed="rId7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0" descr=""/>
          <p:cNvPicPr/>
          <p:nvPr/>
        </p:nvPicPr>
        <p:blipFill>
          <a:blip r:embed="rId8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2" descr=""/>
          <p:cNvPicPr/>
          <p:nvPr/>
        </p:nvPicPr>
        <p:blipFill>
          <a:blip r:embed="rId9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13" descr=""/>
          <p:cNvPicPr/>
          <p:nvPr/>
        </p:nvPicPr>
        <p:blipFill>
          <a:blip r:embed="rId10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4" descr=""/>
          <p:cNvPicPr/>
          <p:nvPr/>
        </p:nvPicPr>
        <p:blipFill>
          <a:blip r:embed="rId11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15" descr=""/>
          <p:cNvPicPr/>
          <p:nvPr/>
        </p:nvPicPr>
        <p:blipFill>
          <a:blip r:embed="rId12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73454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475920"/>
            <a:ext cx="7138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3. Анализ исторической спр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зменились ли статьи доходов и расх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ово может быть соотношение доходов и расходов в государственном бюдже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ими причинами могут быть вызваны такие ситуа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483920"/>
            <a:ext cx="713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4. Позитивные и негативные черты влияния бюджетного дефицита на экономику. Работа с текстом и графиком в па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1483920"/>
            <a:ext cx="713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5. Методы применимые для преодоления дефицита государственного бюджета. Работа с незаконченными тек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7139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окращение бюджетных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зыскание дополнительных источников доходов(повышение пенсионного возраста, приватизация, повышение налог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ыпуск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далживани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етоды преодоления бюджетного дефи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71276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48392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6. Решение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ыработка бюджета есть искусство равномерного распределения разочарова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рис Станс, директор Бюджетного бюро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ыработка бюджета есть искусство равномерного распределения разочарова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рис Станс, директор Бюджетного бюро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2920" y="2923920"/>
            <a:ext cx="7139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35280" y="692280"/>
            <a:ext cx="71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Бюджетная политика - это совокупность мероприятий в сфере организации бюджетных отношений с целью обеспечения государства денежными средствами для выполнения возложенных на него функций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9034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7138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концентрация финансовых ресурсов на решении приоритетных вопро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нижение налоговой нагрузки на экономик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порядочение государственных обязательст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оздание эффективной системы межбюджетных отношений и управления государственными финан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4292640"/>
            <a:ext cx="29620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292640"/>
            <a:ext cx="29624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ланс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247840"/>
            <a:ext cx="2962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2276280"/>
            <a:ext cx="29624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е гос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1773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773360"/>
            <a:ext cx="4608720" cy="4248000"/>
          </a:xfrm>
          <a:prstGeom prst="ellipse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378936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2492280"/>
            <a:ext cx="7139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1. Работа по карточкам (сх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10557"/>
          <a:stretch/>
        </p:blipFill>
        <p:spPr>
          <a:xfrm>
            <a:off x="5435640" y="3429000"/>
            <a:ext cx="260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2"/>
          <p:cNvSpPr/>
          <p:nvPr/>
        </p:nvSpPr>
        <p:spPr>
          <a:xfrm>
            <a:off x="1981080" y="838080"/>
            <a:ext cx="5470560" cy="143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агетная рамка 3"/>
          <p:cNvSpPr/>
          <p:nvPr/>
        </p:nvSpPr>
        <p:spPr>
          <a:xfrm>
            <a:off x="1295280" y="2438280"/>
            <a:ext cx="6948720" cy="1782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агетная рамка 5"/>
          <p:cNvSpPr/>
          <p:nvPr/>
        </p:nvSpPr>
        <p:spPr>
          <a:xfrm>
            <a:off x="685800" y="4419720"/>
            <a:ext cx="8062920" cy="224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хема 1. Бюджет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5"/>
          <p:cNvGrpSpPr/>
          <p:nvPr/>
        </p:nvGrpSpPr>
        <p:grpSpPr>
          <a:xfrm>
            <a:off x="3429000" y="5357880"/>
            <a:ext cx="5715000" cy="928800"/>
            <a:chOff x="3429000" y="5357880"/>
            <a:chExt cx="5715000" cy="928800"/>
          </a:xfrm>
        </p:grpSpPr>
        <p:sp>
          <p:nvSpPr>
            <p:cNvPr id="68" name="Выноска со стрелкой вверх 6"/>
            <p:cNvSpPr/>
            <p:nvPr/>
          </p:nvSpPr>
          <p:spPr>
            <a:xfrm>
              <a:off x="3539160" y="5357880"/>
              <a:ext cx="5447880" cy="928800"/>
            </a:xfrm>
            <a:prstGeom prst="upArrowCallout">
              <a:avLst>
                <a:gd name="adj1" fmla="val 26832"/>
                <a:gd name="adj2" fmla="val 26829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Выноска со стрелкой вверх 4" descr=""/>
            <p:cNvPicPr/>
            <p:nvPr/>
          </p:nvPicPr>
          <p:blipFill>
            <a:blip r:embed="rId2"/>
            <a:stretch/>
          </p:blipFill>
          <p:spPr>
            <a:xfrm>
              <a:off x="3429000" y="5553360"/>
              <a:ext cx="5715000" cy="67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Группа 14"/>
          <p:cNvGrpSpPr/>
          <p:nvPr/>
        </p:nvGrpSpPr>
        <p:grpSpPr>
          <a:xfrm>
            <a:off x="3500280" y="4143240"/>
            <a:ext cx="3714840" cy="1000440"/>
            <a:chOff x="3500280" y="4143240"/>
            <a:chExt cx="3714840" cy="1000440"/>
          </a:xfrm>
        </p:grpSpPr>
        <p:sp>
          <p:nvSpPr>
            <p:cNvPr id="71" name="Выноска со стрелкой вверх 15"/>
            <p:cNvSpPr/>
            <p:nvPr/>
          </p:nvSpPr>
          <p:spPr>
            <a:xfrm>
              <a:off x="3650400" y="4143240"/>
              <a:ext cx="3434400" cy="987120"/>
            </a:xfrm>
            <a:prstGeom prst="upArrowCallout">
              <a:avLst>
                <a:gd name="adj1" fmla="val 15916"/>
                <a:gd name="adj2" fmla="val 15914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Выноска со стрелкой вверх 4" descr=""/>
            <p:cNvPicPr/>
            <p:nvPr/>
          </p:nvPicPr>
          <p:blipFill>
            <a:blip r:embed="rId3"/>
            <a:stretch/>
          </p:blipFill>
          <p:spPr>
            <a:xfrm>
              <a:off x="3500280" y="4482000"/>
              <a:ext cx="3714840" cy="66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17"/>
          <p:cNvGrpSpPr/>
          <p:nvPr/>
        </p:nvGrpSpPr>
        <p:grpSpPr>
          <a:xfrm>
            <a:off x="1714680" y="3000240"/>
            <a:ext cx="5429160" cy="1071720"/>
            <a:chOff x="1714680" y="3000240"/>
            <a:chExt cx="5429160" cy="1071720"/>
          </a:xfrm>
        </p:grpSpPr>
        <p:sp>
          <p:nvSpPr>
            <p:cNvPr id="74" name="Выноска со стрелкой вверх 18"/>
            <p:cNvSpPr/>
            <p:nvPr/>
          </p:nvSpPr>
          <p:spPr>
            <a:xfrm>
              <a:off x="1752480" y="3000240"/>
              <a:ext cx="5391360" cy="1071720"/>
            </a:xfrm>
            <a:prstGeom prst="upArrowCallout">
              <a:avLst>
                <a:gd name="adj1" fmla="val 20124"/>
                <a:gd name="adj2" fmla="val 20122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Выноска со стрелкой вверх 4" descr=""/>
            <p:cNvPicPr/>
            <p:nvPr/>
          </p:nvPicPr>
          <p:blipFill>
            <a:blip r:embed="rId4"/>
            <a:stretch/>
          </p:blipFill>
          <p:spPr>
            <a:xfrm>
              <a:off x="1714680" y="3230640"/>
              <a:ext cx="5151600" cy="70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20"/>
          <p:cNvGrpSpPr/>
          <p:nvPr/>
        </p:nvGrpSpPr>
        <p:grpSpPr>
          <a:xfrm>
            <a:off x="1000080" y="1928880"/>
            <a:ext cx="5016600" cy="947520"/>
            <a:chOff x="1000080" y="1928880"/>
            <a:chExt cx="5016600" cy="947520"/>
          </a:xfrm>
        </p:grpSpPr>
        <p:sp>
          <p:nvSpPr>
            <p:cNvPr id="77" name="Выноска со стрелкой вверх 21"/>
            <p:cNvSpPr/>
            <p:nvPr/>
          </p:nvSpPr>
          <p:spPr>
            <a:xfrm>
              <a:off x="1036440" y="1928880"/>
              <a:ext cx="4778640" cy="888840"/>
            </a:xfrm>
            <a:prstGeom prst="upArrowCallout">
              <a:avLst>
                <a:gd name="adj1" fmla="val 24594"/>
                <a:gd name="adj2" fmla="val 24616"/>
                <a:gd name="adj3" fmla="val 25000"/>
                <a:gd name="adj4" fmla="val 70041"/>
              </a:avLst>
            </a:prstGeom>
            <a:solidFill>
              <a:srgbClr val="ffffff"/>
            </a:solidFill>
            <a:ln w="55080">
              <a:solidFill>
                <a:srgbClr val="1057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Выноска со стрелкой вверх 4" descr=""/>
            <p:cNvPicPr/>
            <p:nvPr/>
          </p:nvPicPr>
          <p:blipFill>
            <a:blip r:embed="rId5"/>
            <a:stretch/>
          </p:blipFill>
          <p:spPr>
            <a:xfrm>
              <a:off x="1000080" y="2029320"/>
              <a:ext cx="5016600" cy="84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Группа 40"/>
          <p:cNvGrpSpPr/>
          <p:nvPr/>
        </p:nvGrpSpPr>
        <p:grpSpPr>
          <a:xfrm>
            <a:off x="428760" y="1143000"/>
            <a:ext cx="3214440" cy="719280"/>
            <a:chOff x="428760" y="1143000"/>
            <a:chExt cx="3214440" cy="719280"/>
          </a:xfrm>
        </p:grpSpPr>
        <p:grpSp>
          <p:nvGrpSpPr>
            <p:cNvPr id="80" name="Группа 39"/>
            <p:cNvGrpSpPr/>
            <p:nvPr/>
          </p:nvGrpSpPr>
          <p:grpSpPr>
            <a:xfrm>
              <a:off x="507600" y="1221480"/>
              <a:ext cx="3056400" cy="640800"/>
              <a:chOff x="507600" y="1221480"/>
              <a:chExt cx="3056400" cy="640800"/>
            </a:xfrm>
          </p:grpSpPr>
          <p:sp>
            <p:nvSpPr>
              <p:cNvPr id="81" name="Прямоугольник 36"/>
              <p:cNvSpPr/>
              <p:nvPr/>
            </p:nvSpPr>
            <p:spPr>
              <a:xfrm>
                <a:off x="507600" y="1221480"/>
                <a:ext cx="3056400" cy="640800"/>
              </a:xfrm>
              <a:prstGeom prst="rect">
                <a:avLst/>
              </a:prstGeom>
              <a:noFill/>
              <a:ln w="55080">
                <a:solidFill>
                  <a:srgbClr val="105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Прямоугольник 37"/>
              <p:cNvSpPr/>
              <p:nvPr/>
            </p:nvSpPr>
            <p:spPr>
              <a:xfrm>
                <a:off x="507600" y="1221480"/>
                <a:ext cx="3056400" cy="638280"/>
              </a:xfrm>
              <a:prstGeom prst="rect">
                <a:avLst/>
              </a:prstGeom>
              <a:noFill/>
              <a:ln w="9360">
                <a:solidFill>
                  <a:srgbClr val="105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3760" rIns="113760" tIns="113760" bIns="113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Прямоугольник 38" descr=""/>
            <p:cNvPicPr/>
            <p:nvPr/>
          </p:nvPicPr>
          <p:blipFill>
            <a:blip r:embed="rId6"/>
            <a:stretch/>
          </p:blipFill>
          <p:spPr>
            <a:xfrm>
              <a:off x="428760" y="1143000"/>
              <a:ext cx="3214440" cy="6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75564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хема 2. Формирование бюд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rcRect l="0" t="0" r="0" b="7954"/>
          <a:stretch/>
        </p:blipFill>
        <p:spPr>
          <a:xfrm>
            <a:off x="179280" y="4508640"/>
            <a:ext cx="284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2492280"/>
            <a:ext cx="7139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ние №2. Творческая 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0" b="10557"/>
          <a:stretch/>
        </p:blipFill>
        <p:spPr>
          <a:xfrm>
            <a:off x="5435640" y="3429000"/>
            <a:ext cx="260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1:36:44Z</dcterms:created>
  <dc:creator>User</dc:creator>
  <dc:description/>
  <dc:language>en-US</dc:language>
  <cp:lastModifiedBy>User</cp:lastModifiedBy>
  <dcterms:modified xsi:type="dcterms:W3CDTF">2015-04-06T21:42:24Z</dcterms:modified>
  <cp:revision>9</cp:revision>
  <dc:subject/>
  <dc:title>Слайд 1</dc:title>
</cp:coreProperties>
</file>