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BC8-6E15-418B-91AC-7477A35F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18D-7BD5-4844-9B77-FE77E00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0FE-A61C-4A57-BCB7-4A461AA5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29B-3BDB-4103-8D97-FF349782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BFFB-542D-45BF-A56E-F8F8057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3E5-652A-40B0-A425-44D18DB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8603-3F4B-4ABB-B1C2-5717362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7A09-B508-40B0-B642-A395692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E6C-097C-4D67-97FC-BA30F15A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7CD-37D5-4E03-ABA8-9A3C549B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223D-BA4D-4982-941F-E09541C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BC3-910F-4286-9F3C-D2830EF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370B-C6C6-4CCD-994F-3EA3A749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2F4-BD7F-4B82-9DA6-B93CCD9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A5C8-BA2B-4051-A1B7-F1B65CB9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23F-4048-49F7-8231-5DDD6021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2BFF-EAD1-4C00-A45C-81D33634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472-C5E7-4B1A-9FA1-FA779767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9CC-E956-4D3C-9426-E628969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04B-F3E1-483A-8E9F-491BEB8A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762-82A3-44E8-BEDC-68D6233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23E-F4F4-4EC4-8930-A594DC0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E92-5C60-420A-B1BC-0DCA95E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2A4-F736-4DD8-B4CE-0795254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AD0-B675-4C91-86D1-9DA32C5D292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F7BD-F68F-492C-82B5-1CDD91AF0F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3352680" cy="3479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876560" y="2543040"/>
            <a:ext cx="4259160" cy="34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рточка-консультант для организации индивидуальной работы со слабо успевающими обучающимися  6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ил учитель математики Марадудин В.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2CEF-7374-41BF-8C1E-A90E04D890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И САМОСТОЯТЕЛЬНО ПО ОБРАЗЦ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х+7):3=(2х-3):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0,2(х+3)=0,7:(х-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97C-16AE-4BA7-B69F-8619EB894A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полни самостоятельную работ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 -2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х-13)=-2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 (30-7х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=35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 -2х+16=5х+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х-8)=3х-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 -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х+1)-11=-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)  4,6:(х+4,4)=8,4:(3х+5,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C4A-53D2-4A3C-8EC0-50D7C31E3B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ПОМНИ и ПРАВИЛЬНО ПРИМЕНЯЙ ЭТИ ПРАВИЛ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рни уравнения не изменяются, если обе части уравнения умножить или разделить на одно и то же число, не равное нул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р. Реши уравнение 4 (х+5)=12. Обе части уравнения можно разделить   на 4.  х+5=3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орни уравнения не изменяются, если какое-нибудь слагаемое перенести из одной части уравнения в другую, изменив при этом его знак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Х+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=3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Левая часть уравнения: х+5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Comic Sans MS"/>
              </a:rPr>
              <a:t>Правая часть уравнения:     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ычно в левую часть уравнения собирают слагаемые, содержащие    переменную (букву), а в правую часть слагаемые, не содержащие  переменную. После переноса слагаемых уравнение прим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х=3-5. (Число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+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еренесли через знак = в правую часть  с противоположным знаком  </a:t>
            </a:r>
            <a:r>
              <a:rPr b="0" lang="ru-RU" sz="16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После приведения подобных слагаемых в правой части уравнения имеем: х=-2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AC0F-6EE9-456C-9DE8-A5603DF660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Левая часть ур-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авая часть у-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левую часть уравнения собираем слагаемые, которые содержат переменную (букву), а в правую часть уравнения переносим те слагаемые, которые не содержат переменную (букв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. 8х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+5,9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7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х</a:t>
            </a:r>
            <a:r>
              <a:rPr b="0" lang="ru-RU" sz="2800" spc="-1" strike="noStrike">
                <a:solidFill>
                  <a:srgbClr val="ff33cc"/>
                </a:solidFill>
                <a:latin typeface="Comic Sans MS"/>
              </a:rPr>
              <a:t>-7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=20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-5,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6579-8C6A-4F4D-9C90-5B71B056FD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торой способ решения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  уравнение 4 (х+5) =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кроем скобки: 4х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= 12, перенесём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2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знак = в правую часть уравнения, изменив знак слагаемого на противоположный 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-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учаем уравнение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х=12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-2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 4х=-8; х=-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329-CC68-4156-B76E-AD31E5764CA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тренируйся в переносе слагаемых из одной части уравнения в другу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х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+5,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7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20; 8х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-7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20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-5,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 САМОСТОЯТЕЛЬ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6х-8=-5х-1,6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15у-8=-6у+4,6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-16х+1,7=2х-1 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5F4-3DF4-41F9-AAA4-0AF9DDEF49F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пражнения на закреп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 1. Реши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х+5=17; Перенеси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+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через знак = вправо. 2х=17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Не забудь изменить знак числа на противоположный и в правой части уравнения записать число </a:t>
            </a:r>
            <a:r>
              <a:rPr b="0" lang="ru-RU" sz="2800" spc="-1" strike="noStrike">
                <a:solidFill>
                  <a:srgbClr val="00b0f0"/>
                </a:solidFill>
                <a:latin typeface="Comic Sans MS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х=12; х=6. Ответ: х=6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и самостоятельно по образц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х=2х+6; Ответ: х=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х-12=5х+4.  Ответ: х=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F5D-1BC0-4C64-947A-11DEA130477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ошибки в решении уравн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40 (-7х+5)=-16000; разделим обе части уравнения на число -40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7х+5=40, перенесём число +5 в правую часть уравнения, получаем -7х=40-5, -7х=35, х=5. Ответ: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6AD-8327-4523-AA09-8C08C9F2BA3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САМОСТОЯТЕЛЬНО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(-20-50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=10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2,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4-6у)=-42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2-15х)=-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3EE-DA1B-4541-9DBF-22EF43E6A31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 решении уравнений используй основное свойство пропорции: произведение крайних членов пропорции равно произведению средних членов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Х-3):6=7: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3)=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-9=4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=42+9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=51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51: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17. Ответ: х=1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ножим крайние члены пропорции: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-3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ножим средние члены пропорции:  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оем скоб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ём в правую часть уравнения число -9, в правой части будет записано число с противоположным знаком +9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29C-D7AC-4C4A-9743-A127B106B57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5-05-05T08:40:2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