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D0A-5FC2-41A5-BA3A-E3975F2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239-F3CF-431D-9745-5ED58544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FAC-DD09-4065-803B-CBDF2DFB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EE8-7892-4A36-BEA8-270642A9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F118-B282-4DB8-A2A1-5B584099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3FF5-302E-46DC-8B09-40EC3E3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CFFE-5224-4413-ACD0-FBAE322C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EDFB-6C07-415A-9358-37987251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528-0AC4-4A4B-89BD-685494C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4C7D-6140-4D5F-B442-2E8685A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B43-AC83-4DD8-B261-E30D2DB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D30-EBD4-4650-A979-E05D5DE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4BB0-CDA5-49B4-A022-7194CC6D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316-89AC-4351-ACA3-A45EAE6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AF80-81F7-4A99-8F8B-6A158A3E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35A-F175-474A-80F7-EB06F793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62A-B8E3-4021-B4CC-7E1165A1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529-2467-42CC-A5F4-E57FEB0E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604-6A93-43E5-8B4B-48E2D78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D6F-21FC-4AAF-980A-21B37481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A36-8AAA-4752-A31B-D60088E2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3C3-89F0-44E3-B922-5A1C31E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E9C-FEBE-4F73-BD20-82978F6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3FF-D699-4C6F-8F29-D9D9670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EAC-7B81-4200-93DB-4DDDB494D07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6D49-024A-403B-8807-59974D08702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3352680" cy="3479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876560" y="2543040"/>
            <a:ext cx="4259160" cy="34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рточка-консультант для организации индивидуальной работы со слабо успевающими обучающимися  6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ил учитель математики Марадудин В.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DD8-9995-4D14-A8B8-F6AC0F08418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И САМОСТОЯТЕЛЬНО ПО ОБРАЗЦ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х+7):3=(2х-3):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2(х+3)=0,7:(х-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246F-CA15-4A8B-89FE-CCD9141D3A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полни самостоятельную работ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 -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х-13)=-2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 (30-7х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=35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 -2х+16=5х+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х-8)=3х-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 -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х+1)-11=-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)  4,6:(х+4,4)=8,4:(3х+5,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5A13-DF19-4145-A940-28FD32ACF0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ПОМНИ и ПРАВИЛЬНО ПРИМЕНЯЙ ЭТИ ПРАВИЛ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рни уравнения не изменяются, если обе части уравнения умножить или разделить на одно и то же число, не равное нул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р. Реши уравнение 4 (х+5)=12. Обе части уравнения можно разделить   на 4.  х+5=3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рни уравнения не изменяются, если какое-нибудь слагаемое перенести из одной части уравнения в другую, изменив при этом его знак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Х+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=3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Левая часть уравнения: х+5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Comic Sans MS"/>
              </a:rPr>
              <a:t>Правая часть уравнения:     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ычно в левую часть уравнения собирают слагаемые, содержащие    переменную (букву), а в правую часть слагаемые, не содержащие  переменную. После переноса слагаемых уравнение прим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х=3-5. (Число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+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еренесли через знак = в правую часть  с противоположным знаком  </a:t>
            </a:r>
            <a:r>
              <a:rPr b="0" lang="ru-RU" sz="16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После приведения подобных слагаемых в правой части уравнения имеем: х=-2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C56-1BA1-4642-87D7-1AE1425F1BD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Левая часть ур-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авая часть у-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левую часть уравнения собираем слагаемые, которые содержат переменную (букву), а в правую часть уравнения переносим те слагаемые, которые не содержат переменную (букв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. 8х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+5,9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7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х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-7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0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-5,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1D3-6462-44FF-A747-AD09621617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торой способ решения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  уравнение 4 (х+5) =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оем скобки: 4х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12, перенесём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2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знак = в правую часть уравнения, изменив знак слагаемого на противоположный 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-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учаем уравнение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х=12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-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 4х=-8; х=-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79B4-580B-4E5D-BEBF-DE5A732EB1E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тренируйся в переносе слагаемых из одной части уравнения в другу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х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+5,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7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20; 8х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-7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20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-5,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 САМОСТОЯТЕЛЬ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6х-8=-5х-1,6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15у-8=-6у+4,6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-16х+1,7=2х-1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DE6D-6A4F-4D09-8941-F584EC225E1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я на закреп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 1. Реши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х+5=17; Перенеси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через знак = вправо. 2х=17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Не забудь изменить знак числа на противоположный и в правой части уравнения записать число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х=12; х=6. Ответ: х=6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 самостоятельно по образц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х=2х+6; Ответ: х=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х-12=5х+4.  Ответ: х=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08D7-8494-4738-99E9-EEE43F4EB07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ошибки в решении уравн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40 (-7х+5)=-16000; разделим обе части уравнения на число -40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7х+5=40, перенесём число +5 в правую часть уравнения, получаем -7х=40-5, -7х=35, х=5. Ответ: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7DE2-BF75-41D5-A9E4-EE843E2F32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САМОСТОЯТЕЛЬН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(-20-50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=10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2,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-6у)=-42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-15х)=-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601-AC62-4579-BDC5-70F2642671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 решении уравнений используй основное свойство пропорции: произведение крайних членов пропорции равно произведению средних членов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Х-3):6=7: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3)=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-9=4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=42+9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=51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51: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17. Ответ: х=1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ножим крайние члены пропорции: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3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ножим средние члены пропорции:  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оем скоб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ём в правую часть уравнения число -9, в правой части будет записано число с противоположным знаком +9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E88-4CEE-4E83-92FB-0C8584116C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5-05-05T08:40:2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