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552C-AE4B-4B30-95E6-13DD276BA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759E-9681-43BD-B2C1-B680E6578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A2C9-0178-440C-9DD1-555EC3884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5EDB-283C-4A7D-9F1D-85EB17077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2FA65-30CD-427F-A951-AC9BD0562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62811-0125-49D6-8217-12A2A2578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F8C4A-25AC-45CE-8A4B-F5A9EF44D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22CA3-1E06-42AA-960B-81FC6C0AE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1A2CD-07A7-473F-8F11-A8AE2CA3A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7A74A-9D06-43E3-BDD5-02349D117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BD51C-7DE5-4005-B77C-B99EB39F4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ADA0-97CC-4EEA-B105-4991BF0CF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F9D75-3930-4CF3-995A-BAE64E38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8BCDD-444E-45D9-9E93-A60130164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6D263-CFDA-4FF9-BC83-41C579BEE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BB5D5-E294-4058-9D1C-CF8CF2F6D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F52F7-7439-488C-8818-DEC5CE0D0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98B29-D3D4-48BA-8D86-BD4A6E020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B01C2-5922-4EFC-A793-30A9D013F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4CE5B-C340-45C8-ACE5-345D6FBE8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4DC26-F917-4B5B-9993-6EC99A9F6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7C60C-A77F-4A48-AE0F-4DFCBC406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FAF5-0B58-42FC-8D7D-6BF24F703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1FDEC-DC20-4FEE-8CE2-167AC4B63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DA012-5C66-4D23-BF86-BE42C6AE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3A75A-A736-4BE4-B693-4BE2E90CE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F0D7D-93EE-458A-8F91-8FFE37A7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6C235-DBDE-48B5-8094-BC0C4DB7C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81B65-56F4-4156-B96E-7358721EF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133F6-F92F-4DF5-BF4A-5C8BB3307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0648C-8A3D-44B5-ACBD-FCE730BA9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6B449-C309-4BCF-97F1-22290C8C0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2C6DE-504F-46A8-AC95-90E1DA73E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B40D-7980-4BDC-BE0A-AE1E64F37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45D0E-D5DF-4AB8-8F3F-6815FE3C6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E968F-7E49-46A8-AF5C-D1F2C6176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24717-4933-4C7A-B35C-DBBC95E6E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1BBF8-5931-4F95-BC43-CE45F9721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6264C-F2D4-4D44-B309-F51B3533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67491-984A-4DFD-8A1E-37F93D049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ABEDE-3E81-4E9F-BD24-C04B2F1F3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D3D0D-D3F6-4E8B-AEF2-296FDBBCF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9F6E4-F7EA-401C-BC6E-873925019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A839-1F2C-41BE-8DC7-A9FD9F016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B2C3-5275-40D5-A706-FA91DBA52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D925-2741-4E2A-AAED-50849724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DA83-A39E-4631-92E1-CD76539E7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BEF4-9387-45D9-8EED-54E8A84A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C319C-80E5-40FB-9804-842A97F98DB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BB3F2-288F-440C-9623-A98223727C5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69668-5312-4822-A650-AE75CDAEEA2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C05F3-BB36-48C7-9FBD-BE60337398D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34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3366ff"/>
                </a:solidFill>
                <a:latin typeface="Tahoma"/>
              </a:rPr>
              <a:t>ПРИМЕНЕНИЕ ИНТЕГРАЛОВ ДЛЯ РЕШЕНИЯ ФИЗИЧЕСКИХ ЗАДАЧ</a:t>
            </a:r>
            <a:endParaRPr b="0" lang="en-US" sz="51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Пример 2. Задача о вычислении работы переменной силы.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915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усть тело, рассматриваемое как материальная точка, движется по оси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Verdana"/>
              </a:rPr>
              <a:t>x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од действием силы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(x)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, направленной вдоль оси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Verdana"/>
              </a:rPr>
              <a:t>.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ычислим работу силы при перемещении тела из точки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x=a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в точку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x=b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усть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(x)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– работа данной силы при перемещении тела из  точки а в точку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. При малом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силу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на отрезке можно считать постоянной и равной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 (x)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. Поэтому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 (x + h) – A (x) =F (x)h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, т.е.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 (x + h) – A (x)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                       </a:t>
            </a:r>
            <a:r>
              <a:rPr b="1" lang="en-US" sz="2400" spc="-1" strike="noStrike" baseline="80000">
                <a:solidFill>
                  <a:srgbClr val="000000"/>
                </a:solidFill>
                <a:latin typeface="Verdana"/>
              </a:rPr>
              <a:t>F (x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стремляя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к нулю, получаем, что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’ (x) = F (x)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, т.е.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 (x) –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ервообразная для функции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 (x)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. По формуле Ньютона – Лейбница получаем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                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 (b) =    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 (x)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x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, так как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 (a) = 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Итак, работа силы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 (x)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ри перемещении тела из точки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в точку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b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равна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 (b) =    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 (x)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x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3564000" y="4869000"/>
            <a:ext cx="190440" cy="45720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332000" y="3789360"/>
            <a:ext cx="19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564000" y="3716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564000" y="3789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2"/>
          <a:stretch/>
        </p:blipFill>
        <p:spPr>
          <a:xfrm>
            <a:off x="3564000" y="5877000"/>
            <a:ext cx="1904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Пример 3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755640" y="2492280"/>
            <a:ext cx="1208160" cy="3278160"/>
          </a:xfrm>
          <a:prstGeom prst="rect">
            <a:avLst/>
          </a:prstGeom>
          <a:ln w="0">
            <a:noFill/>
          </a:ln>
        </p:spPr>
      </p:pic>
      <p:pic>
        <p:nvPicPr>
          <p:cNvPr id="523" name="" descr=""/>
          <p:cNvPicPr/>
          <p:nvPr/>
        </p:nvPicPr>
        <p:blipFill>
          <a:blip r:embed="rId2"/>
          <a:stretch/>
        </p:blipFill>
        <p:spPr>
          <a:xfrm>
            <a:off x="2556000" y="2421000"/>
            <a:ext cx="5976720" cy="201600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>
            <a:off x="685800" y="148428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ff"/>
                </a:solidFill>
                <a:latin typeface="Arial"/>
              </a:rPr>
              <a:t>Капля с начальной массой </a:t>
            </a:r>
            <a:r>
              <a:rPr b="0" i="1" lang="en-US" sz="1800" spc="-1" strike="noStrike">
                <a:solidFill>
                  <a:srgbClr val="3366ff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3366ff"/>
                </a:solidFill>
                <a:latin typeface="Arial"/>
              </a:rPr>
              <a:t> падает под действием силы тяжести и равномерно испаряется, теряя массу </a:t>
            </a:r>
            <a:r>
              <a:rPr b="0" i="1" lang="en-US" sz="1800" spc="-1" strike="noStrike">
                <a:solidFill>
                  <a:srgbClr val="3366ff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3366ff"/>
                </a:solidFill>
                <a:latin typeface="Arial"/>
              </a:rPr>
              <a:t>. Какова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366ff"/>
                </a:solidFill>
                <a:latin typeface="Arial"/>
              </a:rPr>
              <a:t> работа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366ff"/>
                </a:solidFill>
                <a:latin typeface="Arial"/>
              </a:rPr>
              <a:t>силы тяжести з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ff"/>
                </a:solidFill>
                <a:latin typeface="Arial"/>
              </a:rPr>
              <a:t>время падения до полного испарения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3"/>
          <a:stretch/>
        </p:blipFill>
        <p:spPr>
          <a:xfrm>
            <a:off x="2627280" y="4581360"/>
            <a:ext cx="590544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Пример 4.Вычисление кинетической энергии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971640" y="1700280"/>
            <a:ext cx="763272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Пример 5.Нахождение силы.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727236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Масса стержн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4788000" y="1700280"/>
            <a:ext cx="3333600" cy="1428840"/>
          </a:xfrm>
          <a:prstGeom prst="rect">
            <a:avLst/>
          </a:prstGeom>
          <a:ln w="0">
            <a:noFill/>
          </a:ln>
        </p:spPr>
      </p:pic>
      <p:pic>
        <p:nvPicPr>
          <p:cNvPr id="532" name="" descr=""/>
          <p:cNvPicPr/>
          <p:nvPr/>
        </p:nvPicPr>
        <p:blipFill>
          <a:blip r:embed="rId2"/>
          <a:stretch/>
        </p:blipFill>
        <p:spPr>
          <a:xfrm>
            <a:off x="1042920" y="3068640"/>
            <a:ext cx="1728720" cy="83196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/>
          <p:nvPr/>
        </p:nvSpPr>
        <p:spPr>
          <a:xfrm>
            <a:off x="468360" y="1773360"/>
            <a:ext cx="475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Tahoma"/>
              </a:rPr>
              <a:t>Пусть плотность ρ ( x ) стержня с </a:t>
            </a:r>
            <a:r>
              <a:rPr b="1" lang="en-US" sz="1600" spc="-1" strike="noStrike">
                <a:solidFill>
                  <a:srgbClr val="3366ff"/>
                </a:solidFill>
                <a:latin typeface="Tahoma"/>
              </a:rPr>
              <a:t>постоянным</a:t>
            </a:r>
            <a:r>
              <a:rPr b="1" lang="en-US" sz="18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66ff"/>
                </a:solidFill>
                <a:latin typeface="Tahoma"/>
              </a:rPr>
              <a:t>сечением S зависит от расстояния до начала стержня. Тогда масса стержня равна: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276720" y="335700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Tahoma"/>
              </a:rPr>
              <a:t>где L – длина стержня, а центр масс стержня находится на расстоянии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3"/>
          <a:stretch/>
        </p:blipFill>
        <p:spPr>
          <a:xfrm>
            <a:off x="4211640" y="4076640"/>
            <a:ext cx="3384720" cy="187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1547640" y="476280"/>
            <a:ext cx="6264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нтегральное исчислени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539640" y="2133720"/>
            <a:ext cx="33624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еопределенный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грал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5796000" y="2133720"/>
            <a:ext cx="28004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пределенный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грал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539640" y="3284640"/>
            <a:ext cx="3133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первообразная)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5724360" y="3213000"/>
            <a:ext cx="313380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площадь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риволинейной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игуры)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2268360" y="1125360"/>
            <a:ext cx="2448000" cy="935280"/>
          </a:xfrm>
          <a:prstGeom prst="line">
            <a:avLst/>
          </a:prstGeom>
          <a:ln w="381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859280" y="1125360"/>
            <a:ext cx="2305080" cy="935280"/>
          </a:xfrm>
          <a:prstGeom prst="line">
            <a:avLst/>
          </a:prstGeom>
          <a:ln w="381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979640" y="3789360"/>
            <a:ext cx="0" cy="576360"/>
          </a:xfrm>
          <a:prstGeom prst="line">
            <a:avLst/>
          </a:prstGeom>
          <a:ln w="381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451640" y="4869000"/>
            <a:ext cx="0" cy="576000"/>
          </a:xfrm>
          <a:prstGeom prst="line">
            <a:avLst/>
          </a:prstGeom>
          <a:ln w="381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1042920" y="4437000"/>
            <a:ext cx="2000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.Ньютон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6300720" y="5589720"/>
            <a:ext cx="2114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.Лейбниц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324000" y="5157720"/>
                <a:ext cx="5760720" cy="12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х</m:t>
                        </m:r>
                      </m:e>
                    </m:d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755640" y="2060640"/>
            <a:ext cx="3370320" cy="460836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684360" y="115920"/>
            <a:ext cx="792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Tahoma"/>
              </a:rPr>
              <a:t>Исаак Ньютон</a:t>
            </a:r>
            <a:br>
              <a:rPr sz="4400"/>
            </a:br>
            <a:r>
              <a:rPr b="0" lang="en-US" sz="4400" spc="-1" strike="noStrike">
                <a:solidFill>
                  <a:srgbClr val="999900"/>
                </a:solidFill>
                <a:latin typeface="Tahoma"/>
              </a:rPr>
              <a:t>(1643-1727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4716360" y="2565360"/>
            <a:ext cx="367344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зумом он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евосходил род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еловеческий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                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укреций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Лейбниц Готфрид Вильгельм</a:t>
            </a:r>
            <a:br>
              <a:rPr sz="4400"/>
            </a:b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(1646-1716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971640" y="1773360"/>
            <a:ext cx="3611520" cy="4579920"/>
            <a:chOff x="971640" y="1773360"/>
            <a:chExt cx="3611520" cy="4579920"/>
          </a:xfrm>
        </p:grpSpPr>
        <p:pic>
          <p:nvPicPr>
            <p:cNvPr id="492" name="" descr=""/>
            <p:cNvPicPr/>
            <p:nvPr/>
          </p:nvPicPr>
          <p:blipFill>
            <a:blip r:embed="rId1"/>
            <a:stretch/>
          </p:blipFill>
          <p:spPr>
            <a:xfrm>
              <a:off x="971640" y="1773360"/>
              <a:ext cx="3611520" cy="457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3" name=""/>
            <p:cNvSpPr txBox="1"/>
            <p:nvPr/>
          </p:nvSpPr>
          <p:spPr>
            <a:xfrm>
              <a:off x="971640" y="1773360"/>
              <a:ext cx="3611520" cy="4579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666600"/>
                </a:buClr>
                <a:buSzPct val="75000"/>
                <a:buFont typeface="Wingdings" charset="2"/>
                <a:buChar char="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6526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« Общее искусство знаков представляет чудесное пособие, так как оно разгружает воображение… Следует заботиться о том, чтобы обозначения были удобны для открытий. Обозначения коротко выражают и отображают сущность вещей. Тогда поразительным образом сокращается работа мысли.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Лейбниц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ff"/>
                </a:solidFill>
                <a:latin typeface="Garamond"/>
              </a:rPr>
              <a:t>Задача о нахождении объёма тел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57200" y="1599840"/>
            <a:ext cx="822168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Verdana"/>
              </a:rPr>
              <a:t>Найдём объём   тела, ограниченного поверхностью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3366ff"/>
                </a:solidFill>
                <a:latin typeface="Verdana"/>
              </a:rPr>
              <a:t>вращения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3366ff"/>
                </a:solidFill>
                <a:latin typeface="Verdana"/>
              </a:rPr>
              <a:t>линии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r>
              <a:rPr b="1" lang="en-US" sz="1600" spc="-1" strike="noStrike">
                <a:solidFill>
                  <a:srgbClr val="3366ff"/>
                </a:solidFill>
                <a:latin typeface="Verdana"/>
              </a:rPr>
              <a:t>вокруг оси        (при               ).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Verdana"/>
              </a:rPr>
              <a:t>Для вычисления объёма тела вращения применим формулу: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1"/>
          <a:stretch/>
        </p:blipFill>
        <p:spPr>
          <a:xfrm>
            <a:off x="1692360" y="1916280"/>
            <a:ext cx="1224000" cy="42696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2"/>
          <a:stretch/>
        </p:blipFill>
        <p:spPr>
          <a:xfrm>
            <a:off x="4427640" y="1916280"/>
            <a:ext cx="434880" cy="21744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3"/>
          <a:stretch/>
        </p:blipFill>
        <p:spPr>
          <a:xfrm>
            <a:off x="5580000" y="1989000"/>
            <a:ext cx="863640" cy="34956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4"/>
          <a:stretch/>
        </p:blipFill>
        <p:spPr>
          <a:xfrm>
            <a:off x="6167520" y="2712960"/>
            <a:ext cx="2469960" cy="193680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5"/>
          <a:stretch/>
        </p:blipFill>
        <p:spPr>
          <a:xfrm>
            <a:off x="1619280" y="2852640"/>
            <a:ext cx="2160720" cy="86040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613080" y="3788640"/>
            <a:ext cx="104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Имеем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6"/>
          <a:stretch/>
        </p:blipFill>
        <p:spPr>
          <a:xfrm>
            <a:off x="611280" y="4653000"/>
            <a:ext cx="6481800" cy="70488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7"/>
          <a:stretch/>
        </p:blipFill>
        <p:spPr>
          <a:xfrm>
            <a:off x="611280" y="5516640"/>
            <a:ext cx="6553080" cy="63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Физические приложения определенного интеграл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А) Вычисление работы движущегося тел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Б) Вычисление перемещения движущегося тел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В) Вычисление массы тел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Г) Вычисление электрического заряда в проводнике с токо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84582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Схема решения физических задач с использованием определенного интеграл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220644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А) сделать чертеж, соответствующий условию задачи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Б) выбрать систему координат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В) выбрать независимую переменную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Г) выбрать формулу классической физики, соответствующую условию задачи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Д) найти дифференциал искомой величины на основании этой формулы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Е) установить промежуток интегрирования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Ж) вычислить интеграл, т.е. найти искомую величин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5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5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5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5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" descr=""/>
          <p:cNvPicPr/>
          <p:nvPr/>
        </p:nvPicPr>
        <p:blipFill>
          <a:blip r:embed="rId1"/>
          <a:stretch/>
        </p:blipFill>
        <p:spPr>
          <a:xfrm>
            <a:off x="755640" y="836640"/>
            <a:ext cx="7986600" cy="49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Пример 1. Нахождение пути по заданной скорости.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7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усть точка движется со скоростью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V(t)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. Нужно найти путь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, пройденный точкой от момента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=a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до момента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=b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. Обозначим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(t)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путь, пройденный точкой за время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от момента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. Тогда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’(t)=V(t)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, т.е.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(t)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– первообразная для функции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V(t)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. Поэтому по формуле Ньютона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Лейбница найдём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=    V(t)dt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апример, если точка движется со скоростью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(t)=2t+1(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/с), то путь, пройденный точкой за первые 10 с, по формуле равен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      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= ∫</a:t>
            </a:r>
            <a:r>
              <a:rPr b="1" lang="en-US" sz="1000" spc="-1" strike="noStrike" baseline="100000">
                <a:solidFill>
                  <a:srgbClr val="000000"/>
                </a:solidFill>
                <a:latin typeface="Verdana"/>
              </a:rPr>
              <a:t>10</a:t>
            </a:r>
            <a:r>
              <a:rPr b="1" lang="en-US" sz="1000" spc="-1" strike="noStrike" baseline="96000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(2t+1)dt = (t</a:t>
            </a:r>
            <a:r>
              <a:rPr b="1" lang="en-US" sz="1200" spc="-1" strike="noStrike" baseline="100000">
                <a:solidFill>
                  <a:srgbClr val="000000"/>
                </a:solidFill>
                <a:latin typeface="Verdana"/>
              </a:rPr>
              <a:t>2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+ t)|</a:t>
            </a:r>
            <a:r>
              <a:rPr b="1" lang="en-US" sz="1000" spc="-1" strike="noStrike" baseline="100000">
                <a:solidFill>
                  <a:srgbClr val="000000"/>
                </a:solidFill>
                <a:latin typeface="Verdana"/>
              </a:rPr>
              <a:t>10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= 110(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м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12" name=""/>
          <p:cNvGraphicFramePr/>
          <p:nvPr/>
        </p:nvGraphicFramePr>
        <p:xfrm>
          <a:off x="2195640" y="2708280"/>
          <a:ext cx="250560" cy="60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2708280"/>
                    <a:ext cx="25056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1T15:36:49Z</dcterms:created>
  <dc:creator>DOM</dc:creator>
  <dc:description/>
  <dc:language>en-US</dc:language>
  <cp:lastModifiedBy>DOM</cp:lastModifiedBy>
  <dcterms:modified xsi:type="dcterms:W3CDTF">2009-02-13T17:33:15Z</dcterms:modified>
  <cp:revision>4</cp:revision>
  <dc:subject/>
  <dc:title>ПРИМЕНЕНИЕ ИНТЕГРАЛОВ ДЛЯ РЕШЕНИЯ ФИЗИЧЕСКИХ ЗАДАЧ</dc:title>
</cp:coreProperties>
</file>