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2FC-1BFB-4CF2-8EEA-93F8E484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D25-4960-4283-A298-87972B27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5FC-FE8A-422B-A497-215D1E3C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5C4-52CA-46CA-9C63-2AAEADD7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BC45-CB6D-4660-A155-FC6013B2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D1A9-FC1B-4F7F-BD87-26F51976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18E5-C5B5-4E93-A846-25E5C55F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E4A9-0C1A-4619-9DC5-32D15D79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1BC1-408E-4A4F-AEB4-38DF4ED7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66CD-E0BC-4346-B085-D91BCC20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CA8C-FE5E-4903-8E5C-0CE48996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C15-8524-44A2-8FE8-42AEEA2F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2DBA-B6D1-4B17-981A-26222AC1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9F2B-4B21-4E93-B637-B2AD7180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3B38-A7A1-4216-BDF8-3242A35D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4C3B-D90E-45E0-9A8E-6C0A0003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3166-338C-4EAC-84E1-F5672067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9214-B9CA-45EE-8795-970A9D98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388C-B3B8-49FB-80EA-5B89BDF9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208B-8136-49B7-8F58-E13FA281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74AD5-7753-4660-9033-28B39712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4F3F-4BE1-46B1-BCF6-8793FBC7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5EC7-FE00-41C8-B0EF-B3F56661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401B-E52B-40E2-BEB9-A870B652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91DD-6A0E-42FC-84FB-9646EBB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2B2F-6A3D-46AC-8590-E7545331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5F108-8E99-4DD5-9C7D-F983CF59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1CAC-4148-434C-A6FE-2A3FE2B8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8AE8-975A-463B-A80D-FBC6EB52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29BC-4DA0-4782-8BC8-B721489B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B1C88-DB9D-4A9D-AF1B-26D72D49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D4B77-A37E-4C96-8A67-D93E4688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4C620-9D91-4984-BFA3-6F2C3FE1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568-F9BC-4015-BBA7-E2F4B909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B567-3234-49EB-B6C7-C869AF0D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E465-F020-40A8-BF49-5FAD3F2C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026B6-D573-4177-A456-3EF58950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D941-215A-442A-A510-92CC352C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95EDE-4C4F-4FE9-89B0-76425D79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9EE5-0D1A-4C46-8848-673B9E80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F0AD-24F8-45F2-82DC-46DDD23E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A4C3-F181-4832-A7E2-9534BD0F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016D4-F889-4BB1-9C2A-08AAEFF9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748-DB40-4B09-97D5-1307C48D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050-BE4D-478C-B680-BEDE3ACD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2CD-15C8-4B19-8AC5-B9278576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D45-FEA0-4B1E-8D39-AE341EEE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A49-76D9-4974-9EE1-AB76E19A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A80B-D83A-4698-8B9C-3CC8A7D929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AFF1-4875-4709-B3F6-5F7F57D2F74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A4B7-6BB4-42FC-946C-74AA2BDB3C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A84D-CF71-4290-B621-4EE232FF8C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34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66ff"/>
                </a:solidFill>
                <a:latin typeface="Tahoma"/>
              </a:rPr>
              <a:t>ПРИМЕНЕНИЕ ИНТЕГРАЛОВ ДЛЯ РЕШЕНИЯ ФИЗИЧЕСКИХ ЗАДАЧ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ример 2. Задача о вычислении работы переменной силы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усть тело, рассматриваемое как материальная точка, движется по оси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x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д действием силы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x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, направленной вдоль оси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ычислим работу силы при перемещении тела из точки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=a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в точку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=b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усть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x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– работа данной силы при перемещении тела из  точки а в точку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При малом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силу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на отрезке можно считать постоянной и равной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 (x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Поэтому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(x + h) – A (x) =F (x)h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, т.е.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(x + h) – A (x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                       </a:t>
            </a:r>
            <a:r>
              <a:rPr b="1" lang="en-US" sz="2400" spc="-1" strike="noStrike" baseline="80000">
                <a:solidFill>
                  <a:srgbClr val="000000"/>
                </a:solidFill>
                <a:latin typeface="Verdana"/>
              </a:rPr>
              <a:t>F 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стремляя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к нулю, получаем, что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’ (x) = F (x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, т.е.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(x) –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вообразная для функции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 (x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По формуле Ньютона – Лейбница получаем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(b) =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 (x)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x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, так как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(a)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так, работа силы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 (x)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 перемещении тела из точки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точку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рав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(b) =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 (x)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564000" y="4869000"/>
            <a:ext cx="190440" cy="457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332000" y="3789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6400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6400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3564000" y="5877000"/>
            <a:ext cx="190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имер 3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1208160" cy="327816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2556000" y="2421000"/>
            <a:ext cx="5976720" cy="2016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85800" y="1484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Капля с начальной массой 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падает под действием силы тяжести и равномерно испаряется, теряя массу </a:t>
            </a:r>
            <a:r>
              <a:rPr b="0" i="1" lang="en-US" sz="1800" spc="-1" strike="noStrike">
                <a:solidFill>
                  <a:srgbClr val="3366ff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. Каков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работ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силы тяжести 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время падения до полного испар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2627280" y="4581360"/>
            <a:ext cx="590544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ример 4.Вычисление кинетической энерг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6327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имер 5.Нахождение силы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27236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Масса стерж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3333600" cy="14288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1042920" y="3068640"/>
            <a:ext cx="1728720" cy="8319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468360" y="1773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Tahoma"/>
              </a:rPr>
              <a:t>Пусть плотность ρ ( x ) стержня с </a:t>
            </a:r>
            <a:r>
              <a:rPr b="1" lang="en-US" sz="1600" spc="-1" strike="noStrike">
                <a:solidFill>
                  <a:srgbClr val="3366ff"/>
                </a:solidFill>
                <a:latin typeface="Tahoma"/>
              </a:rPr>
              <a:t>постоянным</a:t>
            </a: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66ff"/>
                </a:solidFill>
                <a:latin typeface="Tahoma"/>
              </a:rPr>
              <a:t>сечением S зависит от расстояния до начала стержня. Тогда масса стержня равна: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3357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Tahoma"/>
              </a:rPr>
              <a:t>где L – длина стержня, а центр масс стержня находится на расстояни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4211640" y="4076640"/>
            <a:ext cx="338472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547640" y="476280"/>
            <a:ext cx="626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гральное исчис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539640" y="2133720"/>
            <a:ext cx="3362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определенны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гра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796000" y="2133720"/>
            <a:ext cx="2800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н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гра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39640" y="3284640"/>
            <a:ext cx="31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первообразна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724360" y="3213000"/>
            <a:ext cx="3133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площад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иволинейной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гуры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268360" y="1125360"/>
            <a:ext cx="2448000" cy="9352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1125360"/>
            <a:ext cx="2305080" cy="9352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79640" y="3789360"/>
            <a:ext cx="0" cy="57636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451640" y="4869000"/>
            <a:ext cx="0" cy="57600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920" y="4437000"/>
            <a:ext cx="200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.Ньюто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300720" y="5589720"/>
            <a:ext cx="211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Лейбни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24000" y="5157720"/>
                <a:ext cx="576072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</m:e>
                    </m:d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370320" cy="46083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84360" y="1159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Tahoma"/>
              </a:rPr>
              <a:t>Исаак Ньютон</a:t>
            </a:r>
            <a:br>
              <a:rPr sz="4400"/>
            </a:br>
            <a:r>
              <a:rPr b="0" lang="en-US" sz="4400" spc="-1" strike="noStrike">
                <a:solidFill>
                  <a:srgbClr val="999900"/>
                </a:solidFill>
                <a:latin typeface="Tahoma"/>
              </a:rPr>
              <a:t>(1643-1727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716360" y="2565360"/>
            <a:ext cx="3673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умом о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восходил род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ки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крец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Лейбниц Готфрид Вильгельм</a:t>
            </a:r>
            <a:br>
              <a:rPr sz="4400"/>
            </a:b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(1646-17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971640" y="1773360"/>
            <a:ext cx="3611520" cy="4579920"/>
            <a:chOff x="971640" y="1773360"/>
            <a:chExt cx="3611520" cy="4579920"/>
          </a:xfrm>
        </p:grpSpPr>
        <p:pic>
          <p:nvPicPr>
            <p:cNvPr id="492" name="" descr=""/>
            <p:cNvPicPr/>
            <p:nvPr/>
          </p:nvPicPr>
          <p:blipFill>
            <a:blip r:embed="rId1"/>
            <a:stretch/>
          </p:blipFill>
          <p:spPr>
            <a:xfrm>
              <a:off x="971640" y="1773360"/>
              <a:ext cx="3611520" cy="45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 txBox="1"/>
            <p:nvPr/>
          </p:nvSpPr>
          <p:spPr>
            <a:xfrm>
              <a:off x="971640" y="1773360"/>
              <a:ext cx="3611520" cy="457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« Общее искусство знаков представляет чудесное пособие, так как оно разгружает воображение… Следует заботиться о том, чтобы обозначения были удобны для открытий. Обозначения коротко выражают и отображают сущность вещей. Тогда поразительным образом сокращается работа мысли.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Лейбни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Garamond"/>
              </a:rPr>
              <a:t>Задача о нахождении объёма тел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599840"/>
            <a:ext cx="822168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Найдём объём   тела, ограниченного поверхностью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вращения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линии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вокруг оси        (при               )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Verdana"/>
              </a:rPr>
              <a:t>Для вычисления объёма тела вращения применим формулу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1224000" cy="4269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34880" cy="2174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863640" cy="3495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6167520" y="2712960"/>
            <a:ext cx="2469960" cy="19368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>
            <a:off x="1619280" y="2852640"/>
            <a:ext cx="2160720" cy="8604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13080" y="378864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Имеем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6"/>
          <a:stretch/>
        </p:blipFill>
        <p:spPr>
          <a:xfrm>
            <a:off x="611280" y="4653000"/>
            <a:ext cx="6481800" cy="704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7"/>
          <a:stretch/>
        </p:blipFill>
        <p:spPr>
          <a:xfrm>
            <a:off x="611280" y="5516640"/>
            <a:ext cx="65530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Физические приложения определенного интеграл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А) Вычисление работы движущегося тел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Б) Вычисление перемещения движущегося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В) Вычисление массы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Г) Вычисление электрического заряда в проводнике с то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4582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Схема решения физических задач с использованием определенного интеграл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А) сделать чертеж, соответствующий условию задач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Б) выбрать систему координа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В) выбрать независимую переменную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Г) выбрать формулу классической физики, соответствующую условию задач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Д) найти дифференциал искомой величины на основании этой формулы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Е) установить промежуток интегрировани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Ж) вычислить интеграл, т.е. найти искомую величи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98660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ример 1. Нахождение пути по заданной скорост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усть точка движется со скоростью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(t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Нужно найти путь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, пройденный точкой от момента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=a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до момента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=b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Обозначим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(t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путь, пройденный точкой за время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от момента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Тогда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’(t)=V(t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, т.е.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(t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– первообразная для функции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(t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. Поэтому по формуле Ньютон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ейбница найдём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=    V(t)dt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, если точка движется со скоростью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(t)=2t+1(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/с), то путь, пройденный точкой за первые 10 с, по формуле раве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= ∫</a:t>
            </a:r>
            <a:r>
              <a:rPr b="1" lang="en-US" sz="1000" spc="-1" strike="noStrike" baseline="10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1000" spc="-1" strike="noStrike" baseline="96000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2t+1)dt = (t</a:t>
            </a:r>
            <a:r>
              <a:rPr b="1" lang="en-US" sz="1200" spc="-1" strike="noStrike" baseline="100000">
                <a:solidFill>
                  <a:srgbClr val="000000"/>
                </a:solidFill>
                <a:latin typeface="Verdana"/>
              </a:rPr>
              <a:t>2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 t)|</a:t>
            </a:r>
            <a:r>
              <a:rPr b="1" lang="en-US" sz="1000" spc="-1" strike="noStrike" baseline="100000">
                <a:solidFill>
                  <a:srgbClr val="000000"/>
                </a:solidFill>
                <a:latin typeface="Verdana"/>
              </a:rPr>
              <a:t>10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110(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2195640" y="2708280"/>
          <a:ext cx="25056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708280"/>
                    <a:ext cx="2505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5:36:49Z</dcterms:created>
  <dc:creator>DOM</dc:creator>
  <dc:description/>
  <dc:language>en-US</dc:language>
  <cp:lastModifiedBy>DOM</cp:lastModifiedBy>
  <dcterms:modified xsi:type="dcterms:W3CDTF">2009-02-13T17:33:15Z</dcterms:modified>
  <cp:revision>4</cp:revision>
  <dc:subject/>
  <dc:title>ПРИМЕНЕНИЕ ИНТЕГРАЛОВ ДЛЯ РЕШЕНИЯ ФИЗИЧЕСКИХ ЗАДАЧ</dc:title>
</cp:coreProperties>
</file>